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3600" y="3909960"/>
            <a:ext cx="9569880" cy="2946960"/>
            <a:chOff x="-363600" y="3909960"/>
            <a:chExt cx="9569880" cy="2946960"/>
          </a:xfrm>
        </p:grpSpPr>
        <p:sp>
          <p:nvSpPr>
            <p:cNvPr id="1" name=""/>
            <p:cNvSpPr/>
            <p:nvPr/>
          </p:nvSpPr>
          <p:spPr>
            <a:xfrm>
              <a:off x="-360360" y="5084640"/>
              <a:ext cx="9550800" cy="1505160"/>
            </a:xfrm>
            <a:custGeom>
              <a:avLst/>
              <a:gdLst/>
              <a:ahLst/>
              <a:rect l="0" t="0" r="r" b="b"/>
              <a:pathLst>
                <a:path w="26530" h="4181">
                  <a:moveTo>
                    <a:pt x="0" y="61"/>
                  </a:moveTo>
                  <a:lnTo>
                    <a:pt x="26526" y="0"/>
                  </a:lnTo>
                  <a:lnTo>
                    <a:pt x="26530" y="4181"/>
                  </a:lnTo>
                  <a:lnTo>
                    <a:pt x="0" y="418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63600" y="5091120"/>
              <a:ext cx="8499960" cy="140040"/>
            </a:xfrm>
            <a:custGeom>
              <a:avLst/>
              <a:gdLst/>
              <a:ahLst/>
              <a:rect l="0" t="0" r="r" b="b"/>
              <a:pathLst>
                <a:path w="23611" h="389">
                  <a:moveTo>
                    <a:pt x="0" y="8"/>
                  </a:moveTo>
                  <a:lnTo>
                    <a:pt x="23611" y="0"/>
                  </a:lnTo>
                  <a:lnTo>
                    <a:pt x="0" y="38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363600" y="5103720"/>
              <a:ext cx="9569880" cy="411480"/>
            </a:xfrm>
            <a:custGeom>
              <a:avLst/>
              <a:gdLst/>
              <a:ahLst/>
              <a:rect l="0" t="0" r="r" b="b"/>
              <a:pathLst>
                <a:path w="26583" h="1143">
                  <a:moveTo>
                    <a:pt x="0" y="673"/>
                  </a:moveTo>
                  <a:lnTo>
                    <a:pt x="18327" y="168"/>
                  </a:lnTo>
                  <a:lnTo>
                    <a:pt x="26583" y="0"/>
                  </a:lnTo>
                  <a:lnTo>
                    <a:pt x="26583" y="232"/>
                  </a:lnTo>
                  <a:lnTo>
                    <a:pt x="0" y="1143"/>
                  </a:lnTo>
                  <a:lnTo>
                    <a:pt x="0" y="673"/>
                  </a:lnTo>
                  <a:close/>
                </a:path>
              </a:pathLst>
            </a:custGeom>
            <a:solidFill>
              <a:srgbClr val="4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363600" y="5227560"/>
              <a:ext cx="9569880" cy="473400"/>
            </a:xfrm>
            <a:custGeom>
              <a:avLst/>
              <a:gdLst/>
              <a:ahLst/>
              <a:rect l="0" t="0" r="r" b="b"/>
              <a:pathLst>
                <a:path w="26583" h="1315">
                  <a:moveTo>
                    <a:pt x="0" y="1081"/>
                  </a:moveTo>
                  <a:lnTo>
                    <a:pt x="16869" y="371"/>
                  </a:lnTo>
                  <a:lnTo>
                    <a:pt x="26583" y="0"/>
                  </a:lnTo>
                  <a:lnTo>
                    <a:pt x="26583" y="134"/>
                  </a:lnTo>
                  <a:lnTo>
                    <a:pt x="0" y="1315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4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363600" y="5313240"/>
              <a:ext cx="9569880" cy="624240"/>
            </a:xfrm>
            <a:custGeom>
              <a:avLst/>
              <a:gdLst/>
              <a:ahLst/>
              <a:rect l="0" t="0" r="r" b="b"/>
              <a:pathLst>
                <a:path w="26583" h="1734">
                  <a:moveTo>
                    <a:pt x="0" y="1325"/>
                  </a:moveTo>
                  <a:lnTo>
                    <a:pt x="26583" y="0"/>
                  </a:lnTo>
                  <a:lnTo>
                    <a:pt x="26583" y="138"/>
                  </a:lnTo>
                  <a:lnTo>
                    <a:pt x="0" y="1734"/>
                  </a:lnTo>
                  <a:lnTo>
                    <a:pt x="0" y="1325"/>
                  </a:lnTo>
                  <a:close/>
                </a:path>
              </a:pathLst>
            </a:custGeom>
            <a:solidFill>
              <a:srgbClr val="4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18240" y="5118120"/>
              <a:ext cx="427320" cy="1738800"/>
            </a:xfrm>
            <a:custGeom>
              <a:avLst/>
              <a:gdLst/>
              <a:ahLst/>
              <a:rect l="0" t="0" r="r" b="b"/>
              <a:pathLst>
                <a:path w="1187" h="4830">
                  <a:moveTo>
                    <a:pt x="1006" y="3307"/>
                  </a:moveTo>
                  <a:lnTo>
                    <a:pt x="911" y="2939"/>
                  </a:lnTo>
                  <a:lnTo>
                    <a:pt x="794" y="2825"/>
                  </a:lnTo>
                  <a:lnTo>
                    <a:pt x="872" y="2777"/>
                  </a:lnTo>
                  <a:lnTo>
                    <a:pt x="850" y="2724"/>
                  </a:lnTo>
                  <a:lnTo>
                    <a:pt x="712" y="2597"/>
                  </a:lnTo>
                  <a:lnTo>
                    <a:pt x="565" y="2470"/>
                  </a:lnTo>
                  <a:lnTo>
                    <a:pt x="617" y="2456"/>
                  </a:lnTo>
                  <a:lnTo>
                    <a:pt x="643" y="2338"/>
                  </a:lnTo>
                  <a:lnTo>
                    <a:pt x="543" y="2281"/>
                  </a:lnTo>
                  <a:lnTo>
                    <a:pt x="418" y="2031"/>
                  </a:lnTo>
                  <a:lnTo>
                    <a:pt x="586" y="2128"/>
                  </a:lnTo>
                  <a:lnTo>
                    <a:pt x="461" y="1882"/>
                  </a:lnTo>
                  <a:lnTo>
                    <a:pt x="297" y="1562"/>
                  </a:lnTo>
                  <a:lnTo>
                    <a:pt x="526" y="1693"/>
                  </a:lnTo>
                  <a:lnTo>
                    <a:pt x="258" y="1316"/>
                  </a:lnTo>
                  <a:lnTo>
                    <a:pt x="215" y="1157"/>
                  </a:lnTo>
                  <a:lnTo>
                    <a:pt x="211" y="934"/>
                  </a:lnTo>
                  <a:lnTo>
                    <a:pt x="345" y="1013"/>
                  </a:lnTo>
                  <a:lnTo>
                    <a:pt x="185" y="833"/>
                  </a:lnTo>
                  <a:lnTo>
                    <a:pt x="77" y="714"/>
                  </a:lnTo>
                  <a:lnTo>
                    <a:pt x="47" y="618"/>
                  </a:lnTo>
                  <a:lnTo>
                    <a:pt x="99" y="600"/>
                  </a:lnTo>
                  <a:lnTo>
                    <a:pt x="21" y="508"/>
                  </a:lnTo>
                  <a:lnTo>
                    <a:pt x="56" y="442"/>
                  </a:lnTo>
                  <a:lnTo>
                    <a:pt x="0" y="236"/>
                  </a:lnTo>
                  <a:lnTo>
                    <a:pt x="133" y="0"/>
                  </a:lnTo>
                  <a:lnTo>
                    <a:pt x="306" y="548"/>
                  </a:lnTo>
                  <a:lnTo>
                    <a:pt x="358" y="530"/>
                  </a:lnTo>
                  <a:lnTo>
                    <a:pt x="496" y="749"/>
                  </a:lnTo>
                  <a:lnTo>
                    <a:pt x="604" y="942"/>
                  </a:lnTo>
                  <a:lnTo>
                    <a:pt x="669" y="978"/>
                  </a:lnTo>
                  <a:lnTo>
                    <a:pt x="648" y="1321"/>
                  </a:lnTo>
                  <a:lnTo>
                    <a:pt x="695" y="1395"/>
                  </a:lnTo>
                  <a:lnTo>
                    <a:pt x="751" y="1299"/>
                  </a:lnTo>
                  <a:lnTo>
                    <a:pt x="803" y="1588"/>
                  </a:lnTo>
                  <a:lnTo>
                    <a:pt x="781" y="1623"/>
                  </a:lnTo>
                  <a:lnTo>
                    <a:pt x="820" y="2092"/>
                  </a:lnTo>
                  <a:lnTo>
                    <a:pt x="984" y="2272"/>
                  </a:lnTo>
                  <a:lnTo>
                    <a:pt x="1049" y="2623"/>
                  </a:lnTo>
                  <a:lnTo>
                    <a:pt x="1053" y="2759"/>
                  </a:lnTo>
                  <a:lnTo>
                    <a:pt x="997" y="2856"/>
                  </a:lnTo>
                  <a:lnTo>
                    <a:pt x="1066" y="3114"/>
                  </a:lnTo>
                  <a:lnTo>
                    <a:pt x="1131" y="3782"/>
                  </a:lnTo>
                  <a:lnTo>
                    <a:pt x="1174" y="4471"/>
                  </a:lnTo>
                  <a:lnTo>
                    <a:pt x="1187" y="4830"/>
                  </a:lnTo>
                  <a:lnTo>
                    <a:pt x="1118" y="4795"/>
                  </a:lnTo>
                  <a:lnTo>
                    <a:pt x="1070" y="3966"/>
                  </a:lnTo>
                  <a:lnTo>
                    <a:pt x="1023" y="3496"/>
                  </a:lnTo>
                  <a:lnTo>
                    <a:pt x="949" y="3628"/>
                  </a:lnTo>
                  <a:lnTo>
                    <a:pt x="1006" y="3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91640" y="4205160"/>
              <a:ext cx="589320" cy="2438640"/>
            </a:xfrm>
            <a:custGeom>
              <a:avLst/>
              <a:gdLst/>
              <a:ahLst/>
              <a:rect l="0" t="0" r="r" b="b"/>
              <a:pathLst>
                <a:path w="1637" h="6774">
                  <a:moveTo>
                    <a:pt x="0" y="6734"/>
                  </a:moveTo>
                  <a:lnTo>
                    <a:pt x="0" y="4235"/>
                  </a:lnTo>
                  <a:lnTo>
                    <a:pt x="269" y="2885"/>
                  </a:lnTo>
                  <a:lnTo>
                    <a:pt x="269" y="2578"/>
                  </a:lnTo>
                  <a:lnTo>
                    <a:pt x="303" y="2385"/>
                  </a:lnTo>
                  <a:lnTo>
                    <a:pt x="416" y="2538"/>
                  </a:lnTo>
                  <a:lnTo>
                    <a:pt x="416" y="2727"/>
                  </a:lnTo>
                  <a:lnTo>
                    <a:pt x="416" y="2617"/>
                  </a:lnTo>
                  <a:lnTo>
                    <a:pt x="416" y="2117"/>
                  </a:lnTo>
                  <a:lnTo>
                    <a:pt x="455" y="1888"/>
                  </a:lnTo>
                  <a:lnTo>
                    <a:pt x="533" y="2156"/>
                  </a:lnTo>
                  <a:lnTo>
                    <a:pt x="611" y="1919"/>
                  </a:lnTo>
                  <a:lnTo>
                    <a:pt x="611" y="1735"/>
                  </a:lnTo>
                  <a:lnTo>
                    <a:pt x="650" y="1537"/>
                  </a:lnTo>
                  <a:lnTo>
                    <a:pt x="759" y="1735"/>
                  </a:lnTo>
                  <a:lnTo>
                    <a:pt x="759" y="1462"/>
                  </a:lnTo>
                  <a:lnTo>
                    <a:pt x="759" y="1304"/>
                  </a:lnTo>
                  <a:lnTo>
                    <a:pt x="838" y="1155"/>
                  </a:lnTo>
                  <a:lnTo>
                    <a:pt x="838" y="1269"/>
                  </a:lnTo>
                  <a:lnTo>
                    <a:pt x="951" y="1080"/>
                  </a:lnTo>
                  <a:lnTo>
                    <a:pt x="951" y="843"/>
                  </a:lnTo>
                  <a:lnTo>
                    <a:pt x="1068" y="694"/>
                  </a:lnTo>
                  <a:lnTo>
                    <a:pt x="1068" y="773"/>
                  </a:lnTo>
                  <a:lnTo>
                    <a:pt x="1181" y="614"/>
                  </a:lnTo>
                  <a:lnTo>
                    <a:pt x="1181" y="347"/>
                  </a:lnTo>
                  <a:lnTo>
                    <a:pt x="1255" y="461"/>
                  </a:lnTo>
                  <a:lnTo>
                    <a:pt x="1333" y="307"/>
                  </a:lnTo>
                  <a:lnTo>
                    <a:pt x="1407" y="272"/>
                  </a:lnTo>
                  <a:lnTo>
                    <a:pt x="1450" y="39"/>
                  </a:lnTo>
                  <a:lnTo>
                    <a:pt x="1558" y="79"/>
                  </a:lnTo>
                  <a:lnTo>
                    <a:pt x="1637" y="0"/>
                  </a:lnTo>
                  <a:lnTo>
                    <a:pt x="1597" y="232"/>
                  </a:lnTo>
                  <a:lnTo>
                    <a:pt x="1485" y="347"/>
                  </a:lnTo>
                  <a:lnTo>
                    <a:pt x="1637" y="421"/>
                  </a:lnTo>
                  <a:lnTo>
                    <a:pt x="1558" y="654"/>
                  </a:lnTo>
                  <a:lnTo>
                    <a:pt x="1450" y="961"/>
                  </a:lnTo>
                  <a:lnTo>
                    <a:pt x="1255" y="1001"/>
                  </a:lnTo>
                  <a:lnTo>
                    <a:pt x="1372" y="1041"/>
                  </a:lnTo>
                  <a:lnTo>
                    <a:pt x="1255" y="1234"/>
                  </a:lnTo>
                  <a:lnTo>
                    <a:pt x="1181" y="1383"/>
                  </a:lnTo>
                  <a:lnTo>
                    <a:pt x="1029" y="1423"/>
                  </a:lnTo>
                  <a:lnTo>
                    <a:pt x="1216" y="1423"/>
                  </a:lnTo>
                  <a:lnTo>
                    <a:pt x="1068" y="1695"/>
                  </a:lnTo>
                  <a:lnTo>
                    <a:pt x="877" y="1963"/>
                  </a:lnTo>
                  <a:lnTo>
                    <a:pt x="802" y="2077"/>
                  </a:lnTo>
                  <a:lnTo>
                    <a:pt x="951" y="1963"/>
                  </a:lnTo>
                  <a:lnTo>
                    <a:pt x="759" y="2310"/>
                  </a:lnTo>
                  <a:lnTo>
                    <a:pt x="611" y="2503"/>
                  </a:lnTo>
                  <a:lnTo>
                    <a:pt x="802" y="2385"/>
                  </a:lnTo>
                  <a:lnTo>
                    <a:pt x="685" y="2657"/>
                  </a:lnTo>
                  <a:lnTo>
                    <a:pt x="494" y="2925"/>
                  </a:lnTo>
                  <a:lnTo>
                    <a:pt x="303" y="3039"/>
                  </a:lnTo>
                  <a:lnTo>
                    <a:pt x="73" y="4116"/>
                  </a:lnTo>
                  <a:lnTo>
                    <a:pt x="73" y="6774"/>
                  </a:lnTo>
                  <a:lnTo>
                    <a:pt x="73" y="6734"/>
                  </a:lnTo>
                  <a:lnTo>
                    <a:pt x="0" y="67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16920" y="4600440"/>
              <a:ext cx="543240" cy="2030760"/>
            </a:xfrm>
            <a:custGeom>
              <a:avLst/>
              <a:gdLst/>
              <a:ahLst/>
              <a:rect l="0" t="0" r="r" b="b"/>
              <a:pathLst>
                <a:path w="1509" h="5641">
                  <a:moveTo>
                    <a:pt x="342" y="3257"/>
                  </a:moveTo>
                  <a:lnTo>
                    <a:pt x="459" y="2897"/>
                  </a:lnTo>
                  <a:lnTo>
                    <a:pt x="572" y="2787"/>
                  </a:lnTo>
                  <a:lnTo>
                    <a:pt x="507" y="2738"/>
                  </a:lnTo>
                  <a:lnTo>
                    <a:pt x="524" y="2686"/>
                  </a:lnTo>
                  <a:lnTo>
                    <a:pt x="676" y="2563"/>
                  </a:lnTo>
                  <a:lnTo>
                    <a:pt x="824" y="2440"/>
                  </a:lnTo>
                  <a:lnTo>
                    <a:pt x="776" y="2422"/>
                  </a:lnTo>
                  <a:lnTo>
                    <a:pt x="759" y="2308"/>
                  </a:lnTo>
                  <a:lnTo>
                    <a:pt x="859" y="2256"/>
                  </a:lnTo>
                  <a:lnTo>
                    <a:pt x="997" y="2014"/>
                  </a:lnTo>
                  <a:lnTo>
                    <a:pt x="824" y="2102"/>
                  </a:lnTo>
                  <a:lnTo>
                    <a:pt x="954" y="1860"/>
                  </a:lnTo>
                  <a:lnTo>
                    <a:pt x="1140" y="1544"/>
                  </a:lnTo>
                  <a:lnTo>
                    <a:pt x="906" y="1667"/>
                  </a:lnTo>
                  <a:lnTo>
                    <a:pt x="1192" y="1307"/>
                  </a:lnTo>
                  <a:lnTo>
                    <a:pt x="1244" y="1149"/>
                  </a:lnTo>
                  <a:lnTo>
                    <a:pt x="1257" y="930"/>
                  </a:lnTo>
                  <a:lnTo>
                    <a:pt x="1123" y="1000"/>
                  </a:lnTo>
                  <a:lnTo>
                    <a:pt x="1288" y="825"/>
                  </a:lnTo>
                  <a:lnTo>
                    <a:pt x="1409" y="719"/>
                  </a:lnTo>
                  <a:lnTo>
                    <a:pt x="1444" y="618"/>
                  </a:lnTo>
                  <a:lnTo>
                    <a:pt x="1387" y="605"/>
                  </a:lnTo>
                  <a:lnTo>
                    <a:pt x="1474" y="517"/>
                  </a:lnTo>
                  <a:lnTo>
                    <a:pt x="1444" y="447"/>
                  </a:lnTo>
                  <a:lnTo>
                    <a:pt x="1509" y="237"/>
                  </a:lnTo>
                  <a:lnTo>
                    <a:pt x="1387" y="0"/>
                  </a:lnTo>
                  <a:lnTo>
                    <a:pt x="1188" y="535"/>
                  </a:lnTo>
                  <a:lnTo>
                    <a:pt x="1132" y="517"/>
                  </a:lnTo>
                  <a:lnTo>
                    <a:pt x="984" y="724"/>
                  </a:lnTo>
                  <a:lnTo>
                    <a:pt x="867" y="912"/>
                  </a:lnTo>
                  <a:lnTo>
                    <a:pt x="802" y="948"/>
                  </a:lnTo>
                  <a:lnTo>
                    <a:pt x="802" y="1290"/>
                  </a:lnTo>
                  <a:lnTo>
                    <a:pt x="749" y="1360"/>
                  </a:lnTo>
                  <a:lnTo>
                    <a:pt x="697" y="1259"/>
                  </a:lnTo>
                  <a:lnTo>
                    <a:pt x="632" y="1549"/>
                  </a:lnTo>
                  <a:lnTo>
                    <a:pt x="650" y="1584"/>
                  </a:lnTo>
                  <a:lnTo>
                    <a:pt x="589" y="2049"/>
                  </a:lnTo>
                  <a:lnTo>
                    <a:pt x="416" y="2225"/>
                  </a:lnTo>
                  <a:lnTo>
                    <a:pt x="333" y="2567"/>
                  </a:lnTo>
                  <a:lnTo>
                    <a:pt x="320" y="2703"/>
                  </a:lnTo>
                  <a:lnTo>
                    <a:pt x="372" y="2804"/>
                  </a:lnTo>
                  <a:lnTo>
                    <a:pt x="286" y="3064"/>
                  </a:lnTo>
                  <a:lnTo>
                    <a:pt x="190" y="3722"/>
                  </a:lnTo>
                  <a:lnTo>
                    <a:pt x="108" y="4407"/>
                  </a:lnTo>
                  <a:lnTo>
                    <a:pt x="0" y="5641"/>
                  </a:lnTo>
                  <a:lnTo>
                    <a:pt x="147" y="4736"/>
                  </a:lnTo>
                  <a:lnTo>
                    <a:pt x="242" y="3907"/>
                  </a:lnTo>
                  <a:lnTo>
                    <a:pt x="307" y="3446"/>
                  </a:lnTo>
                  <a:lnTo>
                    <a:pt x="377" y="3582"/>
                  </a:lnTo>
                  <a:lnTo>
                    <a:pt x="342" y="3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54760" y="3927600"/>
              <a:ext cx="273240" cy="2730960"/>
            </a:xfrm>
            <a:custGeom>
              <a:avLst/>
              <a:gdLst/>
              <a:ahLst/>
              <a:rect l="0" t="0" r="r" b="b"/>
              <a:pathLst>
                <a:path w="759" h="7586">
                  <a:moveTo>
                    <a:pt x="34" y="7586"/>
                  </a:moveTo>
                  <a:lnTo>
                    <a:pt x="393" y="4729"/>
                  </a:lnTo>
                  <a:lnTo>
                    <a:pt x="614" y="3186"/>
                  </a:lnTo>
                  <a:lnTo>
                    <a:pt x="712" y="2892"/>
                  </a:lnTo>
                  <a:lnTo>
                    <a:pt x="738" y="2699"/>
                  </a:lnTo>
                  <a:lnTo>
                    <a:pt x="584" y="2804"/>
                  </a:lnTo>
                  <a:lnTo>
                    <a:pt x="525" y="2989"/>
                  </a:lnTo>
                  <a:lnTo>
                    <a:pt x="559" y="2879"/>
                  </a:lnTo>
                  <a:lnTo>
                    <a:pt x="721" y="2409"/>
                  </a:lnTo>
                  <a:lnTo>
                    <a:pt x="759" y="2176"/>
                  </a:lnTo>
                  <a:lnTo>
                    <a:pt x="601" y="2409"/>
                  </a:lnTo>
                  <a:lnTo>
                    <a:pt x="610" y="2163"/>
                  </a:lnTo>
                  <a:lnTo>
                    <a:pt x="665" y="1978"/>
                  </a:lnTo>
                  <a:lnTo>
                    <a:pt x="695" y="1784"/>
                  </a:lnTo>
                  <a:lnTo>
                    <a:pt x="529" y="1925"/>
                  </a:lnTo>
                  <a:lnTo>
                    <a:pt x="614" y="1678"/>
                  </a:lnTo>
                  <a:lnTo>
                    <a:pt x="665" y="1529"/>
                  </a:lnTo>
                  <a:lnTo>
                    <a:pt x="640" y="1353"/>
                  </a:lnTo>
                  <a:lnTo>
                    <a:pt x="606" y="1467"/>
                  </a:lnTo>
                  <a:lnTo>
                    <a:pt x="559" y="1248"/>
                  </a:lnTo>
                  <a:lnTo>
                    <a:pt x="635" y="1028"/>
                  </a:lnTo>
                  <a:lnTo>
                    <a:pt x="580" y="848"/>
                  </a:lnTo>
                  <a:lnTo>
                    <a:pt x="554" y="914"/>
                  </a:lnTo>
                  <a:lnTo>
                    <a:pt x="499" y="733"/>
                  </a:lnTo>
                  <a:lnTo>
                    <a:pt x="584" y="478"/>
                  </a:lnTo>
                  <a:lnTo>
                    <a:pt x="478" y="566"/>
                  </a:lnTo>
                  <a:lnTo>
                    <a:pt x="452" y="391"/>
                  </a:lnTo>
                  <a:lnTo>
                    <a:pt x="401" y="329"/>
                  </a:lnTo>
                  <a:lnTo>
                    <a:pt x="435" y="101"/>
                  </a:lnTo>
                  <a:lnTo>
                    <a:pt x="319" y="101"/>
                  </a:lnTo>
                  <a:lnTo>
                    <a:pt x="276" y="0"/>
                  </a:lnTo>
                  <a:lnTo>
                    <a:pt x="234" y="228"/>
                  </a:lnTo>
                  <a:lnTo>
                    <a:pt x="298" y="377"/>
                  </a:lnTo>
                  <a:lnTo>
                    <a:pt x="136" y="399"/>
                  </a:lnTo>
                  <a:lnTo>
                    <a:pt x="132" y="645"/>
                  </a:lnTo>
                  <a:lnTo>
                    <a:pt x="136" y="971"/>
                  </a:lnTo>
                  <a:lnTo>
                    <a:pt x="302" y="1072"/>
                  </a:lnTo>
                  <a:lnTo>
                    <a:pt x="187" y="1072"/>
                  </a:lnTo>
                  <a:lnTo>
                    <a:pt x="230" y="1291"/>
                  </a:lnTo>
                  <a:lnTo>
                    <a:pt x="251" y="1463"/>
                  </a:lnTo>
                  <a:lnTo>
                    <a:pt x="374" y="1551"/>
                  </a:lnTo>
                  <a:lnTo>
                    <a:pt x="204" y="1485"/>
                  </a:lnTo>
                  <a:lnTo>
                    <a:pt x="255" y="1792"/>
                  </a:lnTo>
                  <a:lnTo>
                    <a:pt x="345" y="2110"/>
                  </a:lnTo>
                  <a:lnTo>
                    <a:pt x="374" y="2246"/>
                  </a:lnTo>
                  <a:lnTo>
                    <a:pt x="276" y="2079"/>
                  </a:lnTo>
                  <a:lnTo>
                    <a:pt x="340" y="2475"/>
                  </a:lnTo>
                  <a:lnTo>
                    <a:pt x="418" y="2707"/>
                  </a:lnTo>
                  <a:lnTo>
                    <a:pt x="276" y="2536"/>
                  </a:lnTo>
                  <a:lnTo>
                    <a:pt x="298" y="2826"/>
                  </a:lnTo>
                  <a:lnTo>
                    <a:pt x="388" y="3142"/>
                  </a:lnTo>
                  <a:lnTo>
                    <a:pt x="486" y="3323"/>
                  </a:lnTo>
                  <a:lnTo>
                    <a:pt x="393" y="4408"/>
                  </a:lnTo>
                  <a:lnTo>
                    <a:pt x="0" y="7547"/>
                  </a:lnTo>
                  <a:lnTo>
                    <a:pt x="34" y="7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91240" y="5100480"/>
              <a:ext cx="427320" cy="1738800"/>
            </a:xfrm>
            <a:custGeom>
              <a:avLst/>
              <a:gdLst/>
              <a:ahLst/>
              <a:rect l="0" t="0" r="r" b="b"/>
              <a:pathLst>
                <a:path w="1187" h="4830">
                  <a:moveTo>
                    <a:pt x="1001" y="3303"/>
                  </a:moveTo>
                  <a:lnTo>
                    <a:pt x="911" y="2939"/>
                  </a:lnTo>
                  <a:lnTo>
                    <a:pt x="794" y="2821"/>
                  </a:lnTo>
                  <a:lnTo>
                    <a:pt x="868" y="2777"/>
                  </a:lnTo>
                  <a:lnTo>
                    <a:pt x="850" y="2724"/>
                  </a:lnTo>
                  <a:lnTo>
                    <a:pt x="708" y="2597"/>
                  </a:lnTo>
                  <a:lnTo>
                    <a:pt x="565" y="2470"/>
                  </a:lnTo>
                  <a:lnTo>
                    <a:pt x="617" y="2452"/>
                  </a:lnTo>
                  <a:lnTo>
                    <a:pt x="639" y="2338"/>
                  </a:lnTo>
                  <a:lnTo>
                    <a:pt x="539" y="2277"/>
                  </a:lnTo>
                  <a:lnTo>
                    <a:pt x="418" y="2027"/>
                  </a:lnTo>
                  <a:lnTo>
                    <a:pt x="582" y="2128"/>
                  </a:lnTo>
                  <a:lnTo>
                    <a:pt x="461" y="1878"/>
                  </a:lnTo>
                  <a:lnTo>
                    <a:pt x="297" y="1557"/>
                  </a:lnTo>
                  <a:lnTo>
                    <a:pt x="526" y="1689"/>
                  </a:lnTo>
                  <a:lnTo>
                    <a:pt x="258" y="1316"/>
                  </a:lnTo>
                  <a:lnTo>
                    <a:pt x="219" y="1157"/>
                  </a:lnTo>
                  <a:lnTo>
                    <a:pt x="215" y="934"/>
                  </a:lnTo>
                  <a:lnTo>
                    <a:pt x="345" y="1013"/>
                  </a:lnTo>
                  <a:lnTo>
                    <a:pt x="185" y="824"/>
                  </a:lnTo>
                  <a:lnTo>
                    <a:pt x="73" y="714"/>
                  </a:lnTo>
                  <a:lnTo>
                    <a:pt x="51" y="613"/>
                  </a:lnTo>
                  <a:lnTo>
                    <a:pt x="99" y="600"/>
                  </a:lnTo>
                  <a:lnTo>
                    <a:pt x="21" y="508"/>
                  </a:lnTo>
                  <a:lnTo>
                    <a:pt x="56" y="442"/>
                  </a:lnTo>
                  <a:lnTo>
                    <a:pt x="0" y="228"/>
                  </a:lnTo>
                  <a:lnTo>
                    <a:pt x="133" y="0"/>
                  </a:lnTo>
                  <a:lnTo>
                    <a:pt x="306" y="543"/>
                  </a:lnTo>
                  <a:lnTo>
                    <a:pt x="353" y="530"/>
                  </a:lnTo>
                  <a:lnTo>
                    <a:pt x="496" y="741"/>
                  </a:lnTo>
                  <a:lnTo>
                    <a:pt x="604" y="938"/>
                  </a:lnTo>
                  <a:lnTo>
                    <a:pt x="665" y="978"/>
                  </a:lnTo>
                  <a:lnTo>
                    <a:pt x="648" y="1321"/>
                  </a:lnTo>
                  <a:lnTo>
                    <a:pt x="695" y="1395"/>
                  </a:lnTo>
                  <a:lnTo>
                    <a:pt x="751" y="1294"/>
                  </a:lnTo>
                  <a:lnTo>
                    <a:pt x="803" y="1584"/>
                  </a:lnTo>
                  <a:lnTo>
                    <a:pt x="786" y="1619"/>
                  </a:lnTo>
                  <a:lnTo>
                    <a:pt x="824" y="2084"/>
                  </a:lnTo>
                  <a:lnTo>
                    <a:pt x="980" y="2272"/>
                  </a:lnTo>
                  <a:lnTo>
                    <a:pt x="1044" y="2614"/>
                  </a:lnTo>
                  <a:lnTo>
                    <a:pt x="1053" y="2755"/>
                  </a:lnTo>
                  <a:lnTo>
                    <a:pt x="997" y="2856"/>
                  </a:lnTo>
                  <a:lnTo>
                    <a:pt x="1066" y="3114"/>
                  </a:lnTo>
                  <a:lnTo>
                    <a:pt x="1131" y="3778"/>
                  </a:lnTo>
                  <a:lnTo>
                    <a:pt x="1169" y="4466"/>
                  </a:lnTo>
                  <a:lnTo>
                    <a:pt x="1187" y="4830"/>
                  </a:lnTo>
                  <a:lnTo>
                    <a:pt x="1118" y="4791"/>
                  </a:lnTo>
                  <a:lnTo>
                    <a:pt x="1066" y="3962"/>
                  </a:lnTo>
                  <a:lnTo>
                    <a:pt x="1023" y="3492"/>
                  </a:lnTo>
                  <a:lnTo>
                    <a:pt x="954" y="3628"/>
                  </a:lnTo>
                  <a:lnTo>
                    <a:pt x="1001" y="330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4640" y="4186080"/>
              <a:ext cx="589320" cy="2438640"/>
            </a:xfrm>
            <a:custGeom>
              <a:avLst/>
              <a:gdLst/>
              <a:ahLst/>
              <a:rect l="0" t="0" r="r" b="b"/>
              <a:pathLst>
                <a:path w="1637" h="6774">
                  <a:moveTo>
                    <a:pt x="0" y="6734"/>
                  </a:moveTo>
                  <a:lnTo>
                    <a:pt x="0" y="4235"/>
                  </a:lnTo>
                  <a:lnTo>
                    <a:pt x="264" y="2890"/>
                  </a:lnTo>
                  <a:lnTo>
                    <a:pt x="264" y="2578"/>
                  </a:lnTo>
                  <a:lnTo>
                    <a:pt x="303" y="2389"/>
                  </a:lnTo>
                  <a:lnTo>
                    <a:pt x="420" y="2538"/>
                  </a:lnTo>
                  <a:lnTo>
                    <a:pt x="420" y="2732"/>
                  </a:lnTo>
                  <a:lnTo>
                    <a:pt x="420" y="2617"/>
                  </a:lnTo>
                  <a:lnTo>
                    <a:pt x="420" y="2117"/>
                  </a:lnTo>
                  <a:lnTo>
                    <a:pt x="455" y="1888"/>
                  </a:lnTo>
                  <a:lnTo>
                    <a:pt x="529" y="2156"/>
                  </a:lnTo>
                  <a:lnTo>
                    <a:pt x="607" y="1923"/>
                  </a:lnTo>
                  <a:lnTo>
                    <a:pt x="607" y="1730"/>
                  </a:lnTo>
                  <a:lnTo>
                    <a:pt x="646" y="1537"/>
                  </a:lnTo>
                  <a:lnTo>
                    <a:pt x="763" y="1730"/>
                  </a:lnTo>
                  <a:lnTo>
                    <a:pt x="763" y="1467"/>
                  </a:lnTo>
                  <a:lnTo>
                    <a:pt x="763" y="1313"/>
                  </a:lnTo>
                  <a:lnTo>
                    <a:pt x="838" y="1155"/>
                  </a:lnTo>
                  <a:lnTo>
                    <a:pt x="838" y="1269"/>
                  </a:lnTo>
                  <a:lnTo>
                    <a:pt x="951" y="1080"/>
                  </a:lnTo>
                  <a:lnTo>
                    <a:pt x="951" y="847"/>
                  </a:lnTo>
                  <a:lnTo>
                    <a:pt x="1064" y="698"/>
                  </a:lnTo>
                  <a:lnTo>
                    <a:pt x="1064" y="768"/>
                  </a:lnTo>
                  <a:lnTo>
                    <a:pt x="1181" y="614"/>
                  </a:lnTo>
                  <a:lnTo>
                    <a:pt x="1181" y="351"/>
                  </a:lnTo>
                  <a:lnTo>
                    <a:pt x="1255" y="461"/>
                  </a:lnTo>
                  <a:lnTo>
                    <a:pt x="1333" y="307"/>
                  </a:lnTo>
                  <a:lnTo>
                    <a:pt x="1407" y="272"/>
                  </a:lnTo>
                  <a:lnTo>
                    <a:pt x="1446" y="35"/>
                  </a:lnTo>
                  <a:lnTo>
                    <a:pt x="1563" y="79"/>
                  </a:lnTo>
                  <a:lnTo>
                    <a:pt x="1637" y="0"/>
                  </a:lnTo>
                  <a:lnTo>
                    <a:pt x="1597" y="232"/>
                  </a:lnTo>
                  <a:lnTo>
                    <a:pt x="1485" y="351"/>
                  </a:lnTo>
                  <a:lnTo>
                    <a:pt x="1637" y="426"/>
                  </a:lnTo>
                  <a:lnTo>
                    <a:pt x="1563" y="658"/>
                  </a:lnTo>
                  <a:lnTo>
                    <a:pt x="1446" y="966"/>
                  </a:lnTo>
                  <a:lnTo>
                    <a:pt x="1255" y="1001"/>
                  </a:lnTo>
                  <a:lnTo>
                    <a:pt x="1372" y="1041"/>
                  </a:lnTo>
                  <a:lnTo>
                    <a:pt x="1255" y="1229"/>
                  </a:lnTo>
                  <a:lnTo>
                    <a:pt x="1181" y="1383"/>
                  </a:lnTo>
                  <a:lnTo>
                    <a:pt x="1025" y="1427"/>
                  </a:lnTo>
                  <a:lnTo>
                    <a:pt x="1220" y="1427"/>
                  </a:lnTo>
                  <a:lnTo>
                    <a:pt x="1064" y="1695"/>
                  </a:lnTo>
                  <a:lnTo>
                    <a:pt x="877" y="1959"/>
                  </a:lnTo>
                  <a:lnTo>
                    <a:pt x="798" y="2086"/>
                  </a:lnTo>
                  <a:lnTo>
                    <a:pt x="951" y="1959"/>
                  </a:lnTo>
                  <a:lnTo>
                    <a:pt x="763" y="2310"/>
                  </a:lnTo>
                  <a:lnTo>
                    <a:pt x="607" y="2499"/>
                  </a:lnTo>
                  <a:lnTo>
                    <a:pt x="798" y="2389"/>
                  </a:lnTo>
                  <a:lnTo>
                    <a:pt x="685" y="2657"/>
                  </a:lnTo>
                  <a:lnTo>
                    <a:pt x="494" y="2925"/>
                  </a:lnTo>
                  <a:lnTo>
                    <a:pt x="303" y="3044"/>
                  </a:lnTo>
                  <a:lnTo>
                    <a:pt x="73" y="4116"/>
                  </a:lnTo>
                  <a:lnTo>
                    <a:pt x="73" y="6774"/>
                  </a:lnTo>
                  <a:lnTo>
                    <a:pt x="73" y="6734"/>
                  </a:lnTo>
                  <a:lnTo>
                    <a:pt x="0" y="6734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89920" y="4583160"/>
              <a:ext cx="543240" cy="2029320"/>
            </a:xfrm>
            <a:custGeom>
              <a:avLst/>
              <a:gdLst/>
              <a:ahLst/>
              <a:rect l="0" t="0" r="r" b="b"/>
              <a:pathLst>
                <a:path w="1509" h="5637">
                  <a:moveTo>
                    <a:pt x="342" y="3253"/>
                  </a:moveTo>
                  <a:lnTo>
                    <a:pt x="455" y="2889"/>
                  </a:lnTo>
                  <a:lnTo>
                    <a:pt x="572" y="2788"/>
                  </a:lnTo>
                  <a:lnTo>
                    <a:pt x="507" y="2731"/>
                  </a:lnTo>
                  <a:lnTo>
                    <a:pt x="524" y="2687"/>
                  </a:lnTo>
                  <a:lnTo>
                    <a:pt x="676" y="2559"/>
                  </a:lnTo>
                  <a:lnTo>
                    <a:pt x="824" y="2441"/>
                  </a:lnTo>
                  <a:lnTo>
                    <a:pt x="772" y="2428"/>
                  </a:lnTo>
                  <a:lnTo>
                    <a:pt x="755" y="2309"/>
                  </a:lnTo>
                  <a:lnTo>
                    <a:pt x="859" y="2252"/>
                  </a:lnTo>
                  <a:lnTo>
                    <a:pt x="997" y="2015"/>
                  </a:lnTo>
                  <a:lnTo>
                    <a:pt x="824" y="2103"/>
                  </a:lnTo>
                  <a:lnTo>
                    <a:pt x="958" y="1857"/>
                  </a:lnTo>
                  <a:lnTo>
                    <a:pt x="1140" y="1545"/>
                  </a:lnTo>
                  <a:lnTo>
                    <a:pt x="906" y="1668"/>
                  </a:lnTo>
                  <a:lnTo>
                    <a:pt x="1192" y="1307"/>
                  </a:lnTo>
                  <a:lnTo>
                    <a:pt x="1244" y="1149"/>
                  </a:lnTo>
                  <a:lnTo>
                    <a:pt x="1257" y="926"/>
                  </a:lnTo>
                  <a:lnTo>
                    <a:pt x="1123" y="996"/>
                  </a:lnTo>
                  <a:lnTo>
                    <a:pt x="1288" y="820"/>
                  </a:lnTo>
                  <a:lnTo>
                    <a:pt x="1409" y="719"/>
                  </a:lnTo>
                  <a:lnTo>
                    <a:pt x="1439" y="614"/>
                  </a:lnTo>
                  <a:lnTo>
                    <a:pt x="1392" y="596"/>
                  </a:lnTo>
                  <a:lnTo>
                    <a:pt x="1474" y="513"/>
                  </a:lnTo>
                  <a:lnTo>
                    <a:pt x="1439" y="438"/>
                  </a:lnTo>
                  <a:lnTo>
                    <a:pt x="1509" y="237"/>
                  </a:lnTo>
                  <a:lnTo>
                    <a:pt x="1387" y="0"/>
                  </a:lnTo>
                  <a:lnTo>
                    <a:pt x="1188" y="531"/>
                  </a:lnTo>
                  <a:lnTo>
                    <a:pt x="1136" y="513"/>
                  </a:lnTo>
                  <a:lnTo>
                    <a:pt x="984" y="719"/>
                  </a:lnTo>
                  <a:lnTo>
                    <a:pt x="867" y="912"/>
                  </a:lnTo>
                  <a:lnTo>
                    <a:pt x="798" y="948"/>
                  </a:lnTo>
                  <a:lnTo>
                    <a:pt x="802" y="1290"/>
                  </a:lnTo>
                  <a:lnTo>
                    <a:pt x="749" y="1356"/>
                  </a:lnTo>
                  <a:lnTo>
                    <a:pt x="697" y="1255"/>
                  </a:lnTo>
                  <a:lnTo>
                    <a:pt x="628" y="1550"/>
                  </a:lnTo>
                  <a:lnTo>
                    <a:pt x="645" y="1581"/>
                  </a:lnTo>
                  <a:lnTo>
                    <a:pt x="585" y="2050"/>
                  </a:lnTo>
                  <a:lnTo>
                    <a:pt x="420" y="2226"/>
                  </a:lnTo>
                  <a:lnTo>
                    <a:pt x="338" y="2568"/>
                  </a:lnTo>
                  <a:lnTo>
                    <a:pt x="316" y="2700"/>
                  </a:lnTo>
                  <a:lnTo>
                    <a:pt x="368" y="2805"/>
                  </a:lnTo>
                  <a:lnTo>
                    <a:pt x="286" y="3060"/>
                  </a:lnTo>
                  <a:lnTo>
                    <a:pt x="190" y="3714"/>
                  </a:lnTo>
                  <a:lnTo>
                    <a:pt x="108" y="4408"/>
                  </a:lnTo>
                  <a:lnTo>
                    <a:pt x="0" y="5637"/>
                  </a:lnTo>
                  <a:lnTo>
                    <a:pt x="147" y="4733"/>
                  </a:lnTo>
                  <a:lnTo>
                    <a:pt x="242" y="3907"/>
                  </a:lnTo>
                  <a:lnTo>
                    <a:pt x="307" y="3442"/>
                  </a:lnTo>
                  <a:lnTo>
                    <a:pt x="377" y="3578"/>
                  </a:lnTo>
                  <a:lnTo>
                    <a:pt x="342" y="325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26320" y="3909960"/>
              <a:ext cx="275040" cy="2729160"/>
            </a:xfrm>
            <a:custGeom>
              <a:avLst/>
              <a:gdLst/>
              <a:ahLst/>
              <a:rect l="0" t="0" r="r" b="b"/>
              <a:pathLst>
                <a:path w="764" h="7581">
                  <a:moveTo>
                    <a:pt x="38" y="7581"/>
                  </a:moveTo>
                  <a:lnTo>
                    <a:pt x="397" y="4720"/>
                  </a:lnTo>
                  <a:lnTo>
                    <a:pt x="619" y="3181"/>
                  </a:lnTo>
                  <a:lnTo>
                    <a:pt x="718" y="2891"/>
                  </a:lnTo>
                  <a:lnTo>
                    <a:pt x="743" y="2693"/>
                  </a:lnTo>
                  <a:lnTo>
                    <a:pt x="590" y="2803"/>
                  </a:lnTo>
                  <a:lnTo>
                    <a:pt x="520" y="2983"/>
                  </a:lnTo>
                  <a:lnTo>
                    <a:pt x="563" y="2873"/>
                  </a:lnTo>
                  <a:lnTo>
                    <a:pt x="726" y="2403"/>
                  </a:lnTo>
                  <a:lnTo>
                    <a:pt x="764" y="2175"/>
                  </a:lnTo>
                  <a:lnTo>
                    <a:pt x="607" y="2399"/>
                  </a:lnTo>
                  <a:lnTo>
                    <a:pt x="607" y="2157"/>
                  </a:lnTo>
                  <a:lnTo>
                    <a:pt x="675" y="1973"/>
                  </a:lnTo>
                  <a:lnTo>
                    <a:pt x="696" y="1779"/>
                  </a:lnTo>
                  <a:lnTo>
                    <a:pt x="529" y="1924"/>
                  </a:lnTo>
                  <a:lnTo>
                    <a:pt x="619" y="1674"/>
                  </a:lnTo>
                  <a:lnTo>
                    <a:pt x="671" y="1524"/>
                  </a:lnTo>
                  <a:lnTo>
                    <a:pt x="645" y="1353"/>
                  </a:lnTo>
                  <a:lnTo>
                    <a:pt x="607" y="1463"/>
                  </a:lnTo>
                  <a:lnTo>
                    <a:pt x="563" y="1248"/>
                  </a:lnTo>
                  <a:lnTo>
                    <a:pt x="641" y="1028"/>
                  </a:lnTo>
                  <a:lnTo>
                    <a:pt x="585" y="843"/>
                  </a:lnTo>
                  <a:lnTo>
                    <a:pt x="563" y="918"/>
                  </a:lnTo>
                  <a:lnTo>
                    <a:pt x="503" y="733"/>
                  </a:lnTo>
                  <a:lnTo>
                    <a:pt x="590" y="478"/>
                  </a:lnTo>
                  <a:lnTo>
                    <a:pt x="482" y="562"/>
                  </a:lnTo>
                  <a:lnTo>
                    <a:pt x="457" y="391"/>
                  </a:lnTo>
                  <a:lnTo>
                    <a:pt x="401" y="329"/>
                  </a:lnTo>
                  <a:lnTo>
                    <a:pt x="439" y="96"/>
                  </a:lnTo>
                  <a:lnTo>
                    <a:pt x="320" y="96"/>
                  </a:lnTo>
                  <a:lnTo>
                    <a:pt x="278" y="0"/>
                  </a:lnTo>
                  <a:lnTo>
                    <a:pt x="239" y="228"/>
                  </a:lnTo>
                  <a:lnTo>
                    <a:pt x="307" y="373"/>
                  </a:lnTo>
                  <a:lnTo>
                    <a:pt x="140" y="395"/>
                  </a:lnTo>
                  <a:lnTo>
                    <a:pt x="136" y="641"/>
                  </a:lnTo>
                  <a:lnTo>
                    <a:pt x="144" y="966"/>
                  </a:lnTo>
                  <a:lnTo>
                    <a:pt x="307" y="1067"/>
                  </a:lnTo>
                  <a:lnTo>
                    <a:pt x="187" y="1067"/>
                  </a:lnTo>
                  <a:lnTo>
                    <a:pt x="231" y="1291"/>
                  </a:lnTo>
                  <a:lnTo>
                    <a:pt x="252" y="1458"/>
                  </a:lnTo>
                  <a:lnTo>
                    <a:pt x="380" y="1546"/>
                  </a:lnTo>
                  <a:lnTo>
                    <a:pt x="205" y="1480"/>
                  </a:lnTo>
                  <a:lnTo>
                    <a:pt x="260" y="1788"/>
                  </a:lnTo>
                  <a:lnTo>
                    <a:pt x="354" y="2104"/>
                  </a:lnTo>
                  <a:lnTo>
                    <a:pt x="380" y="2241"/>
                  </a:lnTo>
                  <a:lnTo>
                    <a:pt x="282" y="2078"/>
                  </a:lnTo>
                  <a:lnTo>
                    <a:pt x="341" y="2469"/>
                  </a:lnTo>
                  <a:lnTo>
                    <a:pt x="422" y="2702"/>
                  </a:lnTo>
                  <a:lnTo>
                    <a:pt x="282" y="2531"/>
                  </a:lnTo>
                  <a:lnTo>
                    <a:pt x="303" y="2825"/>
                  </a:lnTo>
                  <a:lnTo>
                    <a:pt x="393" y="3137"/>
                  </a:lnTo>
                  <a:lnTo>
                    <a:pt x="495" y="3317"/>
                  </a:lnTo>
                  <a:lnTo>
                    <a:pt x="397" y="4404"/>
                  </a:lnTo>
                  <a:lnTo>
                    <a:pt x="0" y="7541"/>
                  </a:lnTo>
                  <a:lnTo>
                    <a:pt x="38" y="7581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