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428760"/>
            <a:ext cx="8486640" cy="600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297240" y="6504120"/>
            <a:ext cx="8497800" cy="6793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316320" y="6418440"/>
            <a:ext cx="8547120" cy="84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2938320" y="6399360"/>
            <a:ext cx="2290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700" spc="-1" strike="noStrike">
                <a:solidFill>
                  <a:srgbClr val="919191"/>
                </a:solidFill>
                <a:latin typeface="Becker"/>
                <a:ea typeface="Becker"/>
              </a:rPr>
              <a:t>Propos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61800" y="276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