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90480" y="3349800"/>
            <a:ext cx="3857760" cy="3659400"/>
            <a:chOff x="-690480" y="3349800"/>
            <a:chExt cx="3857760" cy="3659400"/>
          </a:xfrm>
        </p:grpSpPr>
        <p:sp>
          <p:nvSpPr>
            <p:cNvPr id="1" name=""/>
            <p:cNvSpPr/>
            <p:nvPr/>
          </p:nvSpPr>
          <p:spPr>
            <a:xfrm>
              <a:off x="-689040" y="3349800"/>
              <a:ext cx="3856320" cy="3646800"/>
            </a:xfrm>
            <a:custGeom>
              <a:avLst/>
              <a:gdLst/>
              <a:ahLst/>
              <a:rect l="0" t="0" r="r" b="b"/>
              <a:pathLst>
                <a:path w="10712" h="10130">
                  <a:moveTo>
                    <a:pt x="6498" y="8489"/>
                  </a:moveTo>
                  <a:lnTo>
                    <a:pt x="9388" y="9518"/>
                  </a:lnTo>
                  <a:lnTo>
                    <a:pt x="9806" y="9655"/>
                  </a:lnTo>
                  <a:lnTo>
                    <a:pt x="6568" y="7807"/>
                  </a:lnTo>
                  <a:lnTo>
                    <a:pt x="6546" y="7807"/>
                  </a:lnTo>
                  <a:lnTo>
                    <a:pt x="6471" y="7649"/>
                  </a:lnTo>
                  <a:lnTo>
                    <a:pt x="6594" y="7491"/>
                  </a:lnTo>
                  <a:lnTo>
                    <a:pt x="6740" y="6985"/>
                  </a:lnTo>
                  <a:lnTo>
                    <a:pt x="6740" y="6831"/>
                  </a:lnTo>
                  <a:lnTo>
                    <a:pt x="10712" y="6730"/>
                  </a:lnTo>
                  <a:lnTo>
                    <a:pt x="6740" y="6145"/>
                  </a:lnTo>
                  <a:lnTo>
                    <a:pt x="6740" y="5714"/>
                  </a:lnTo>
                  <a:lnTo>
                    <a:pt x="6665" y="5327"/>
                  </a:lnTo>
                  <a:lnTo>
                    <a:pt x="6594" y="5120"/>
                  </a:lnTo>
                  <a:lnTo>
                    <a:pt x="10004" y="3012"/>
                  </a:lnTo>
                  <a:lnTo>
                    <a:pt x="6229" y="4547"/>
                  </a:lnTo>
                  <a:lnTo>
                    <a:pt x="5811" y="4138"/>
                  </a:lnTo>
                  <a:lnTo>
                    <a:pt x="5376" y="3866"/>
                  </a:lnTo>
                  <a:lnTo>
                    <a:pt x="6572" y="360"/>
                  </a:lnTo>
                  <a:lnTo>
                    <a:pt x="4719" y="3571"/>
                  </a:lnTo>
                  <a:lnTo>
                    <a:pt x="4183" y="3479"/>
                  </a:lnTo>
                  <a:lnTo>
                    <a:pt x="3527" y="3479"/>
                  </a:lnTo>
                  <a:lnTo>
                    <a:pt x="2164" y="0"/>
                  </a:lnTo>
                  <a:lnTo>
                    <a:pt x="2771" y="3641"/>
                  </a:lnTo>
                  <a:lnTo>
                    <a:pt x="2287" y="3914"/>
                  </a:lnTo>
                  <a:lnTo>
                    <a:pt x="1821" y="4187"/>
                  </a:lnTo>
                  <a:lnTo>
                    <a:pt x="1280" y="3879"/>
                  </a:lnTo>
                  <a:lnTo>
                    <a:pt x="1046" y="3685"/>
                  </a:lnTo>
                  <a:lnTo>
                    <a:pt x="800" y="3597"/>
                  </a:lnTo>
                  <a:lnTo>
                    <a:pt x="4" y="4024"/>
                  </a:lnTo>
                  <a:lnTo>
                    <a:pt x="0" y="10077"/>
                  </a:lnTo>
                  <a:lnTo>
                    <a:pt x="5666" y="10130"/>
                  </a:lnTo>
                  <a:lnTo>
                    <a:pt x="5596" y="9927"/>
                  </a:lnTo>
                  <a:lnTo>
                    <a:pt x="5693" y="9743"/>
                  </a:lnTo>
                  <a:lnTo>
                    <a:pt x="5719" y="9290"/>
                  </a:lnTo>
                  <a:lnTo>
                    <a:pt x="5741" y="9175"/>
                  </a:lnTo>
                  <a:lnTo>
                    <a:pt x="6009" y="9197"/>
                  </a:lnTo>
                  <a:lnTo>
                    <a:pt x="6304" y="9149"/>
                  </a:lnTo>
                  <a:lnTo>
                    <a:pt x="6427" y="9030"/>
                  </a:lnTo>
                  <a:lnTo>
                    <a:pt x="6471" y="8766"/>
                  </a:lnTo>
                  <a:lnTo>
                    <a:pt x="6471" y="8467"/>
                  </a:lnTo>
                  <a:lnTo>
                    <a:pt x="6498" y="8489"/>
                  </a:lnTo>
                  <a:close/>
                </a:path>
              </a:pathLst>
            </a:custGeom>
            <a:solidFill>
              <a:srgbClr val="006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85840" y="5280120"/>
              <a:ext cx="1387800" cy="862200"/>
            </a:xfrm>
            <a:custGeom>
              <a:avLst/>
              <a:gdLst/>
              <a:ahLst/>
              <a:rect l="0" t="0" r="r" b="b"/>
              <a:pathLst>
                <a:path w="3855" h="2395">
                  <a:moveTo>
                    <a:pt x="3828" y="0"/>
                  </a:moveTo>
                  <a:lnTo>
                    <a:pt x="3079" y="17"/>
                  </a:lnTo>
                  <a:lnTo>
                    <a:pt x="2401" y="17"/>
                  </a:lnTo>
                  <a:lnTo>
                    <a:pt x="1602" y="204"/>
                  </a:lnTo>
                  <a:lnTo>
                    <a:pt x="1169" y="318"/>
                  </a:lnTo>
                  <a:lnTo>
                    <a:pt x="963" y="396"/>
                  </a:lnTo>
                  <a:lnTo>
                    <a:pt x="875" y="492"/>
                  </a:lnTo>
                  <a:lnTo>
                    <a:pt x="1033" y="553"/>
                  </a:lnTo>
                  <a:lnTo>
                    <a:pt x="1213" y="632"/>
                  </a:lnTo>
                  <a:lnTo>
                    <a:pt x="1151" y="771"/>
                  </a:lnTo>
                  <a:lnTo>
                    <a:pt x="1016" y="902"/>
                  </a:lnTo>
                  <a:lnTo>
                    <a:pt x="529" y="1239"/>
                  </a:lnTo>
                  <a:lnTo>
                    <a:pt x="240" y="1422"/>
                  </a:lnTo>
                  <a:lnTo>
                    <a:pt x="0" y="1492"/>
                  </a:lnTo>
                  <a:lnTo>
                    <a:pt x="26" y="1606"/>
                  </a:lnTo>
                  <a:lnTo>
                    <a:pt x="96" y="1649"/>
                  </a:lnTo>
                  <a:lnTo>
                    <a:pt x="170" y="1806"/>
                  </a:lnTo>
                  <a:lnTo>
                    <a:pt x="363" y="1893"/>
                  </a:lnTo>
                  <a:lnTo>
                    <a:pt x="459" y="2190"/>
                  </a:lnTo>
                  <a:lnTo>
                    <a:pt x="459" y="2282"/>
                  </a:lnTo>
                  <a:lnTo>
                    <a:pt x="560" y="2395"/>
                  </a:lnTo>
                  <a:lnTo>
                    <a:pt x="630" y="2395"/>
                  </a:lnTo>
                  <a:lnTo>
                    <a:pt x="630" y="2351"/>
                  </a:lnTo>
                  <a:lnTo>
                    <a:pt x="529" y="2260"/>
                  </a:lnTo>
                  <a:lnTo>
                    <a:pt x="529" y="2125"/>
                  </a:lnTo>
                  <a:lnTo>
                    <a:pt x="560" y="2011"/>
                  </a:lnTo>
                  <a:lnTo>
                    <a:pt x="582" y="2151"/>
                  </a:lnTo>
                  <a:lnTo>
                    <a:pt x="630" y="2190"/>
                  </a:lnTo>
                  <a:lnTo>
                    <a:pt x="731" y="2238"/>
                  </a:lnTo>
                  <a:lnTo>
                    <a:pt x="753" y="2325"/>
                  </a:lnTo>
                  <a:lnTo>
                    <a:pt x="946" y="2168"/>
                  </a:lnTo>
                  <a:lnTo>
                    <a:pt x="972" y="2055"/>
                  </a:lnTo>
                  <a:lnTo>
                    <a:pt x="972" y="1989"/>
                  </a:lnTo>
                  <a:lnTo>
                    <a:pt x="875" y="2055"/>
                  </a:lnTo>
                  <a:lnTo>
                    <a:pt x="731" y="1989"/>
                  </a:lnTo>
                  <a:lnTo>
                    <a:pt x="700" y="1780"/>
                  </a:lnTo>
                  <a:lnTo>
                    <a:pt x="801" y="1671"/>
                  </a:lnTo>
                  <a:lnTo>
                    <a:pt x="875" y="1715"/>
                  </a:lnTo>
                  <a:lnTo>
                    <a:pt x="801" y="1763"/>
                  </a:lnTo>
                  <a:lnTo>
                    <a:pt x="849" y="1893"/>
                  </a:lnTo>
                  <a:lnTo>
                    <a:pt x="972" y="1854"/>
                  </a:lnTo>
                  <a:lnTo>
                    <a:pt x="1068" y="1806"/>
                  </a:lnTo>
                  <a:lnTo>
                    <a:pt x="994" y="1715"/>
                  </a:lnTo>
                  <a:lnTo>
                    <a:pt x="946" y="1606"/>
                  </a:lnTo>
                  <a:lnTo>
                    <a:pt x="1046" y="1401"/>
                  </a:lnTo>
                  <a:lnTo>
                    <a:pt x="1068" y="1331"/>
                  </a:lnTo>
                  <a:lnTo>
                    <a:pt x="1046" y="1222"/>
                  </a:lnTo>
                  <a:lnTo>
                    <a:pt x="1143" y="1222"/>
                  </a:lnTo>
                  <a:lnTo>
                    <a:pt x="1068" y="1103"/>
                  </a:lnTo>
                  <a:lnTo>
                    <a:pt x="1213" y="1103"/>
                  </a:lnTo>
                  <a:lnTo>
                    <a:pt x="1335" y="1016"/>
                  </a:lnTo>
                  <a:lnTo>
                    <a:pt x="1379" y="946"/>
                  </a:lnTo>
                  <a:lnTo>
                    <a:pt x="1528" y="946"/>
                  </a:lnTo>
                  <a:lnTo>
                    <a:pt x="1554" y="1016"/>
                  </a:lnTo>
                  <a:lnTo>
                    <a:pt x="1576" y="1129"/>
                  </a:lnTo>
                  <a:lnTo>
                    <a:pt x="1673" y="1016"/>
                  </a:lnTo>
                  <a:lnTo>
                    <a:pt x="1747" y="837"/>
                  </a:lnTo>
                  <a:lnTo>
                    <a:pt x="1963" y="566"/>
                  </a:lnTo>
                  <a:lnTo>
                    <a:pt x="2497" y="314"/>
                  </a:lnTo>
                  <a:lnTo>
                    <a:pt x="3180" y="65"/>
                  </a:lnTo>
                  <a:lnTo>
                    <a:pt x="3684" y="17"/>
                  </a:lnTo>
                  <a:lnTo>
                    <a:pt x="3855" y="0"/>
                  </a:lnTo>
                  <a:lnTo>
                    <a:pt x="3828" y="0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0600" y="5541840"/>
              <a:ext cx="587880" cy="163800"/>
            </a:xfrm>
            <a:custGeom>
              <a:avLst/>
              <a:gdLst/>
              <a:ahLst/>
              <a:rect l="0" t="0" r="r" b="b"/>
              <a:pathLst>
                <a:path w="1633" h="455">
                  <a:moveTo>
                    <a:pt x="95" y="392"/>
                  </a:moveTo>
                  <a:lnTo>
                    <a:pt x="73" y="392"/>
                  </a:lnTo>
                  <a:lnTo>
                    <a:pt x="0" y="284"/>
                  </a:lnTo>
                  <a:lnTo>
                    <a:pt x="0" y="195"/>
                  </a:lnTo>
                  <a:lnTo>
                    <a:pt x="73" y="305"/>
                  </a:lnTo>
                  <a:lnTo>
                    <a:pt x="95" y="154"/>
                  </a:lnTo>
                  <a:lnTo>
                    <a:pt x="169" y="242"/>
                  </a:lnTo>
                  <a:lnTo>
                    <a:pt x="286" y="216"/>
                  </a:lnTo>
                  <a:lnTo>
                    <a:pt x="316" y="133"/>
                  </a:lnTo>
                  <a:lnTo>
                    <a:pt x="407" y="87"/>
                  </a:lnTo>
                  <a:lnTo>
                    <a:pt x="530" y="112"/>
                  </a:lnTo>
                  <a:lnTo>
                    <a:pt x="625" y="45"/>
                  </a:lnTo>
                  <a:lnTo>
                    <a:pt x="721" y="0"/>
                  </a:lnTo>
                  <a:lnTo>
                    <a:pt x="721" y="66"/>
                  </a:lnTo>
                  <a:lnTo>
                    <a:pt x="864" y="25"/>
                  </a:lnTo>
                  <a:lnTo>
                    <a:pt x="1230" y="25"/>
                  </a:lnTo>
                  <a:lnTo>
                    <a:pt x="1273" y="66"/>
                  </a:lnTo>
                  <a:lnTo>
                    <a:pt x="1633" y="0"/>
                  </a:lnTo>
                  <a:lnTo>
                    <a:pt x="1633" y="175"/>
                  </a:lnTo>
                  <a:lnTo>
                    <a:pt x="1559" y="326"/>
                  </a:lnTo>
                  <a:lnTo>
                    <a:pt x="1490" y="455"/>
                  </a:lnTo>
                  <a:lnTo>
                    <a:pt x="1373" y="413"/>
                  </a:lnTo>
                  <a:lnTo>
                    <a:pt x="1230" y="326"/>
                  </a:lnTo>
                  <a:lnTo>
                    <a:pt x="1133" y="195"/>
                  </a:lnTo>
                  <a:lnTo>
                    <a:pt x="695" y="195"/>
                  </a:lnTo>
                  <a:lnTo>
                    <a:pt x="482" y="326"/>
                  </a:lnTo>
                  <a:lnTo>
                    <a:pt x="316" y="413"/>
                  </a:lnTo>
                  <a:lnTo>
                    <a:pt x="169" y="413"/>
                  </a:lnTo>
                  <a:lnTo>
                    <a:pt x="95" y="392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58920" y="5691240"/>
              <a:ext cx="246600" cy="402120"/>
            </a:xfrm>
            <a:custGeom>
              <a:avLst/>
              <a:gdLst/>
              <a:ahLst/>
              <a:rect l="0" t="0" r="r" b="b"/>
              <a:pathLst>
                <a:path w="685" h="1117">
                  <a:moveTo>
                    <a:pt x="0" y="21"/>
                  </a:moveTo>
                  <a:lnTo>
                    <a:pt x="144" y="0"/>
                  </a:lnTo>
                  <a:lnTo>
                    <a:pt x="332" y="64"/>
                  </a:lnTo>
                  <a:lnTo>
                    <a:pt x="472" y="176"/>
                  </a:lnTo>
                  <a:lnTo>
                    <a:pt x="592" y="380"/>
                  </a:lnTo>
                  <a:lnTo>
                    <a:pt x="685" y="716"/>
                  </a:lnTo>
                  <a:lnTo>
                    <a:pt x="685" y="941"/>
                  </a:lnTo>
                  <a:lnTo>
                    <a:pt x="638" y="1117"/>
                  </a:lnTo>
                  <a:lnTo>
                    <a:pt x="545" y="1117"/>
                  </a:lnTo>
                  <a:lnTo>
                    <a:pt x="493" y="1048"/>
                  </a:lnTo>
                  <a:lnTo>
                    <a:pt x="493" y="897"/>
                  </a:lnTo>
                  <a:lnTo>
                    <a:pt x="592" y="754"/>
                  </a:lnTo>
                  <a:lnTo>
                    <a:pt x="545" y="694"/>
                  </a:lnTo>
                  <a:lnTo>
                    <a:pt x="524" y="535"/>
                  </a:lnTo>
                  <a:lnTo>
                    <a:pt x="446" y="401"/>
                  </a:lnTo>
                  <a:lnTo>
                    <a:pt x="353" y="267"/>
                  </a:lnTo>
                  <a:lnTo>
                    <a:pt x="213" y="245"/>
                  </a:lnTo>
                  <a:lnTo>
                    <a:pt x="97" y="155"/>
                  </a:lnTo>
                  <a:lnTo>
                    <a:pt x="0" y="47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28800" y="6004080"/>
              <a:ext cx="39960" cy="30600"/>
            </a:xfrm>
            <a:custGeom>
              <a:avLst/>
              <a:gdLst/>
              <a:ahLst/>
              <a:rect l="0" t="0" r="r" b="b"/>
              <a:pathLst>
                <a:path w="111" h="85">
                  <a:moveTo>
                    <a:pt x="0" y="0"/>
                  </a:moveTo>
                  <a:lnTo>
                    <a:pt x="0" y="51"/>
                  </a:lnTo>
                  <a:lnTo>
                    <a:pt x="21" y="72"/>
                  </a:lnTo>
                  <a:lnTo>
                    <a:pt x="72" y="85"/>
                  </a:lnTo>
                  <a:lnTo>
                    <a:pt x="111" y="85"/>
                  </a:lnTo>
                  <a:lnTo>
                    <a:pt x="111" y="57"/>
                  </a:lnTo>
                  <a:lnTo>
                    <a:pt x="49" y="44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96840" y="5925960"/>
              <a:ext cx="267120" cy="151200"/>
            </a:xfrm>
            <a:custGeom>
              <a:avLst/>
              <a:gdLst/>
              <a:ahLst/>
              <a:rect l="0" t="0" r="r" b="b"/>
              <a:pathLst>
                <a:path w="742" h="420">
                  <a:moveTo>
                    <a:pt x="34" y="195"/>
                  </a:moveTo>
                  <a:lnTo>
                    <a:pt x="0" y="146"/>
                  </a:lnTo>
                  <a:lnTo>
                    <a:pt x="34" y="66"/>
                  </a:lnTo>
                  <a:lnTo>
                    <a:pt x="140" y="37"/>
                  </a:lnTo>
                  <a:lnTo>
                    <a:pt x="209" y="0"/>
                  </a:lnTo>
                  <a:lnTo>
                    <a:pt x="333" y="53"/>
                  </a:lnTo>
                  <a:lnTo>
                    <a:pt x="405" y="87"/>
                  </a:lnTo>
                  <a:lnTo>
                    <a:pt x="456" y="87"/>
                  </a:lnTo>
                  <a:lnTo>
                    <a:pt x="545" y="162"/>
                  </a:lnTo>
                  <a:lnTo>
                    <a:pt x="545" y="224"/>
                  </a:lnTo>
                  <a:lnTo>
                    <a:pt x="636" y="162"/>
                  </a:lnTo>
                  <a:lnTo>
                    <a:pt x="704" y="216"/>
                  </a:lnTo>
                  <a:lnTo>
                    <a:pt x="742" y="278"/>
                  </a:lnTo>
                  <a:lnTo>
                    <a:pt x="725" y="391"/>
                  </a:lnTo>
                  <a:lnTo>
                    <a:pt x="653" y="420"/>
                  </a:lnTo>
                  <a:lnTo>
                    <a:pt x="585" y="375"/>
                  </a:lnTo>
                  <a:lnTo>
                    <a:pt x="533" y="346"/>
                  </a:lnTo>
                  <a:lnTo>
                    <a:pt x="477" y="307"/>
                  </a:lnTo>
                  <a:lnTo>
                    <a:pt x="477" y="358"/>
                  </a:lnTo>
                  <a:lnTo>
                    <a:pt x="405" y="391"/>
                  </a:lnTo>
                  <a:lnTo>
                    <a:pt x="333" y="346"/>
                  </a:lnTo>
                  <a:lnTo>
                    <a:pt x="333" y="291"/>
                  </a:lnTo>
                  <a:lnTo>
                    <a:pt x="439" y="258"/>
                  </a:lnTo>
                  <a:lnTo>
                    <a:pt x="477" y="179"/>
                  </a:lnTo>
                  <a:lnTo>
                    <a:pt x="405" y="146"/>
                  </a:lnTo>
                  <a:lnTo>
                    <a:pt x="333" y="129"/>
                  </a:lnTo>
                  <a:lnTo>
                    <a:pt x="282" y="179"/>
                  </a:lnTo>
                  <a:lnTo>
                    <a:pt x="209" y="216"/>
                  </a:lnTo>
                  <a:lnTo>
                    <a:pt x="123" y="216"/>
                  </a:lnTo>
                  <a:lnTo>
                    <a:pt x="51" y="216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7640" y="5699160"/>
              <a:ext cx="152640" cy="43200"/>
            </a:xfrm>
            <a:custGeom>
              <a:avLst/>
              <a:gdLst/>
              <a:ahLst/>
              <a:rect l="0" t="0" r="r" b="b"/>
              <a:pathLst>
                <a:path w="424" h="120">
                  <a:moveTo>
                    <a:pt x="17" y="35"/>
                  </a:moveTo>
                  <a:lnTo>
                    <a:pt x="239" y="120"/>
                  </a:lnTo>
                  <a:lnTo>
                    <a:pt x="424" y="80"/>
                  </a:lnTo>
                  <a:lnTo>
                    <a:pt x="314" y="0"/>
                  </a:lnTo>
                  <a:lnTo>
                    <a:pt x="180" y="0"/>
                  </a:lnTo>
                  <a:lnTo>
                    <a:pt x="0" y="17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2920" y="5865840"/>
              <a:ext cx="113040" cy="109800"/>
            </a:xfrm>
            <a:custGeom>
              <a:avLst/>
              <a:gdLst/>
              <a:ahLst/>
              <a:rect l="0" t="0" r="r" b="b"/>
              <a:pathLst>
                <a:path w="314" h="305">
                  <a:moveTo>
                    <a:pt x="57" y="0"/>
                  </a:moveTo>
                  <a:lnTo>
                    <a:pt x="199" y="66"/>
                  </a:lnTo>
                  <a:lnTo>
                    <a:pt x="314" y="186"/>
                  </a:lnTo>
                  <a:lnTo>
                    <a:pt x="181" y="186"/>
                  </a:lnTo>
                  <a:lnTo>
                    <a:pt x="292" y="305"/>
                  </a:lnTo>
                  <a:lnTo>
                    <a:pt x="181" y="261"/>
                  </a:lnTo>
                  <a:lnTo>
                    <a:pt x="0" y="155"/>
                  </a:lnTo>
                  <a:lnTo>
                    <a:pt x="127" y="119"/>
                  </a:lnTo>
                  <a:lnTo>
                    <a:pt x="17" y="1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7520" y="5303880"/>
              <a:ext cx="935280" cy="665640"/>
            </a:xfrm>
            <a:custGeom>
              <a:avLst/>
              <a:gdLst/>
              <a:ahLst/>
              <a:rect l="0" t="0" r="r" b="b"/>
              <a:pathLst>
                <a:path w="2598" h="1849">
                  <a:moveTo>
                    <a:pt x="35" y="396"/>
                  </a:moveTo>
                  <a:lnTo>
                    <a:pt x="480" y="207"/>
                  </a:lnTo>
                  <a:lnTo>
                    <a:pt x="846" y="101"/>
                  </a:lnTo>
                  <a:lnTo>
                    <a:pt x="1225" y="88"/>
                  </a:lnTo>
                  <a:lnTo>
                    <a:pt x="1557" y="0"/>
                  </a:lnTo>
                  <a:lnTo>
                    <a:pt x="1998" y="326"/>
                  </a:lnTo>
                  <a:lnTo>
                    <a:pt x="2329" y="737"/>
                  </a:lnTo>
                  <a:lnTo>
                    <a:pt x="2598" y="1178"/>
                  </a:lnTo>
                  <a:lnTo>
                    <a:pt x="2377" y="1081"/>
                  </a:lnTo>
                  <a:lnTo>
                    <a:pt x="2161" y="891"/>
                  </a:lnTo>
                  <a:lnTo>
                    <a:pt x="1998" y="860"/>
                  </a:lnTo>
                  <a:lnTo>
                    <a:pt x="1835" y="860"/>
                  </a:lnTo>
                  <a:lnTo>
                    <a:pt x="1795" y="940"/>
                  </a:lnTo>
                  <a:lnTo>
                    <a:pt x="1813" y="1372"/>
                  </a:lnTo>
                  <a:lnTo>
                    <a:pt x="1928" y="1748"/>
                  </a:lnTo>
                  <a:lnTo>
                    <a:pt x="1928" y="1801"/>
                  </a:lnTo>
                  <a:lnTo>
                    <a:pt x="1795" y="1730"/>
                  </a:lnTo>
                  <a:lnTo>
                    <a:pt x="1465" y="1646"/>
                  </a:lnTo>
                  <a:lnTo>
                    <a:pt x="1208" y="1717"/>
                  </a:lnTo>
                  <a:lnTo>
                    <a:pt x="1027" y="1801"/>
                  </a:lnTo>
                  <a:lnTo>
                    <a:pt x="970" y="1849"/>
                  </a:lnTo>
                  <a:lnTo>
                    <a:pt x="1005" y="1730"/>
                  </a:lnTo>
                  <a:lnTo>
                    <a:pt x="1190" y="1629"/>
                  </a:lnTo>
                  <a:lnTo>
                    <a:pt x="1354" y="1545"/>
                  </a:lnTo>
                  <a:lnTo>
                    <a:pt x="1447" y="1426"/>
                  </a:lnTo>
                  <a:lnTo>
                    <a:pt x="1412" y="1235"/>
                  </a:lnTo>
                  <a:lnTo>
                    <a:pt x="1354" y="891"/>
                  </a:lnTo>
                  <a:lnTo>
                    <a:pt x="1337" y="688"/>
                  </a:lnTo>
                  <a:lnTo>
                    <a:pt x="1225" y="583"/>
                  </a:lnTo>
                  <a:lnTo>
                    <a:pt x="881" y="481"/>
                  </a:lnTo>
                  <a:lnTo>
                    <a:pt x="440" y="396"/>
                  </a:lnTo>
                  <a:lnTo>
                    <a:pt x="167" y="396"/>
                  </a:lnTo>
                  <a:lnTo>
                    <a:pt x="0" y="410"/>
                  </a:lnTo>
                  <a:lnTo>
                    <a:pt x="35" y="396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360" y="5699160"/>
              <a:ext cx="1037160" cy="690840"/>
            </a:xfrm>
            <a:custGeom>
              <a:avLst/>
              <a:gdLst/>
              <a:ahLst/>
              <a:rect l="0" t="0" r="r" b="b"/>
              <a:pathLst>
                <a:path w="2881" h="1919">
                  <a:moveTo>
                    <a:pt x="1544" y="136"/>
                  </a:moveTo>
                  <a:lnTo>
                    <a:pt x="1178" y="273"/>
                  </a:lnTo>
                  <a:lnTo>
                    <a:pt x="790" y="273"/>
                  </a:lnTo>
                  <a:lnTo>
                    <a:pt x="463" y="207"/>
                  </a:lnTo>
                  <a:lnTo>
                    <a:pt x="295" y="136"/>
                  </a:lnTo>
                  <a:lnTo>
                    <a:pt x="185" y="207"/>
                  </a:lnTo>
                  <a:lnTo>
                    <a:pt x="97" y="167"/>
                  </a:lnTo>
                  <a:lnTo>
                    <a:pt x="0" y="70"/>
                  </a:lnTo>
                  <a:lnTo>
                    <a:pt x="39" y="207"/>
                  </a:lnTo>
                  <a:lnTo>
                    <a:pt x="224" y="361"/>
                  </a:lnTo>
                  <a:lnTo>
                    <a:pt x="352" y="493"/>
                  </a:lnTo>
                  <a:lnTo>
                    <a:pt x="537" y="723"/>
                  </a:lnTo>
                  <a:lnTo>
                    <a:pt x="643" y="837"/>
                  </a:lnTo>
                  <a:lnTo>
                    <a:pt x="918" y="1028"/>
                  </a:lnTo>
                  <a:lnTo>
                    <a:pt x="1218" y="1028"/>
                  </a:lnTo>
                  <a:lnTo>
                    <a:pt x="1301" y="1028"/>
                  </a:lnTo>
                  <a:lnTo>
                    <a:pt x="1231" y="1147"/>
                  </a:lnTo>
                  <a:lnTo>
                    <a:pt x="1191" y="1231"/>
                  </a:lnTo>
                  <a:lnTo>
                    <a:pt x="1121" y="1301"/>
                  </a:lnTo>
                  <a:lnTo>
                    <a:pt x="1341" y="1200"/>
                  </a:lnTo>
                  <a:lnTo>
                    <a:pt x="1579" y="1147"/>
                  </a:lnTo>
                  <a:lnTo>
                    <a:pt x="1760" y="1129"/>
                  </a:lnTo>
                  <a:lnTo>
                    <a:pt x="1906" y="1200"/>
                  </a:lnTo>
                  <a:lnTo>
                    <a:pt x="2095" y="1231"/>
                  </a:lnTo>
                  <a:lnTo>
                    <a:pt x="2242" y="1385"/>
                  </a:lnTo>
                  <a:lnTo>
                    <a:pt x="2370" y="1764"/>
                  </a:lnTo>
                  <a:lnTo>
                    <a:pt x="2422" y="1919"/>
                  </a:lnTo>
                  <a:lnTo>
                    <a:pt x="2493" y="1575"/>
                  </a:lnTo>
                  <a:lnTo>
                    <a:pt x="2603" y="1337"/>
                  </a:lnTo>
                  <a:lnTo>
                    <a:pt x="2696" y="1284"/>
                  </a:lnTo>
                  <a:lnTo>
                    <a:pt x="2806" y="1354"/>
                  </a:lnTo>
                  <a:lnTo>
                    <a:pt x="2881" y="1504"/>
                  </a:lnTo>
                  <a:lnTo>
                    <a:pt x="2841" y="1165"/>
                  </a:lnTo>
                  <a:lnTo>
                    <a:pt x="2661" y="926"/>
                  </a:lnTo>
                  <a:lnTo>
                    <a:pt x="2422" y="701"/>
                  </a:lnTo>
                  <a:lnTo>
                    <a:pt x="2347" y="630"/>
                  </a:lnTo>
                  <a:lnTo>
                    <a:pt x="2370" y="926"/>
                  </a:lnTo>
                  <a:lnTo>
                    <a:pt x="2334" y="1129"/>
                  </a:lnTo>
                  <a:lnTo>
                    <a:pt x="2259" y="1231"/>
                  </a:lnTo>
                  <a:lnTo>
                    <a:pt x="2167" y="1231"/>
                  </a:lnTo>
                  <a:lnTo>
                    <a:pt x="2073" y="1147"/>
                  </a:lnTo>
                  <a:lnTo>
                    <a:pt x="1963" y="1165"/>
                  </a:lnTo>
                  <a:lnTo>
                    <a:pt x="1778" y="1076"/>
                  </a:lnTo>
                  <a:lnTo>
                    <a:pt x="1579" y="1046"/>
                  </a:lnTo>
                  <a:lnTo>
                    <a:pt x="1451" y="1028"/>
                  </a:lnTo>
                  <a:lnTo>
                    <a:pt x="1288" y="903"/>
                  </a:lnTo>
                  <a:lnTo>
                    <a:pt x="1231" y="723"/>
                  </a:lnTo>
                  <a:lnTo>
                    <a:pt x="1363" y="493"/>
                  </a:lnTo>
                  <a:lnTo>
                    <a:pt x="1509" y="291"/>
                  </a:lnTo>
                  <a:lnTo>
                    <a:pt x="1632" y="70"/>
                  </a:lnTo>
                  <a:lnTo>
                    <a:pt x="1632" y="0"/>
                  </a:lnTo>
                  <a:lnTo>
                    <a:pt x="1544" y="136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09720" y="6167520"/>
              <a:ext cx="349560" cy="190800"/>
            </a:xfrm>
            <a:custGeom>
              <a:avLst/>
              <a:gdLst/>
              <a:ahLst/>
              <a:rect l="0" t="0" r="r" b="b"/>
              <a:pathLst>
                <a:path w="971" h="530">
                  <a:moveTo>
                    <a:pt x="39" y="66"/>
                  </a:moveTo>
                  <a:lnTo>
                    <a:pt x="295" y="0"/>
                  </a:lnTo>
                  <a:lnTo>
                    <a:pt x="370" y="17"/>
                  </a:lnTo>
                  <a:lnTo>
                    <a:pt x="552" y="119"/>
                  </a:lnTo>
                  <a:lnTo>
                    <a:pt x="662" y="119"/>
                  </a:lnTo>
                  <a:lnTo>
                    <a:pt x="794" y="194"/>
                  </a:lnTo>
                  <a:lnTo>
                    <a:pt x="957" y="411"/>
                  </a:lnTo>
                  <a:lnTo>
                    <a:pt x="971" y="530"/>
                  </a:lnTo>
                  <a:lnTo>
                    <a:pt x="825" y="375"/>
                  </a:lnTo>
                  <a:lnTo>
                    <a:pt x="715" y="274"/>
                  </a:lnTo>
                  <a:lnTo>
                    <a:pt x="680" y="238"/>
                  </a:lnTo>
                  <a:lnTo>
                    <a:pt x="534" y="238"/>
                  </a:lnTo>
                  <a:lnTo>
                    <a:pt x="440" y="171"/>
                  </a:lnTo>
                  <a:lnTo>
                    <a:pt x="313" y="119"/>
                  </a:lnTo>
                  <a:lnTo>
                    <a:pt x="167" y="83"/>
                  </a:lnTo>
                  <a:lnTo>
                    <a:pt x="0" y="83"/>
                  </a:lnTo>
                  <a:lnTo>
                    <a:pt x="39" y="66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5000" y="6240600"/>
              <a:ext cx="520920" cy="254520"/>
            </a:xfrm>
            <a:custGeom>
              <a:avLst/>
              <a:gdLst/>
              <a:ahLst/>
              <a:rect l="0" t="0" r="r" b="b"/>
              <a:pathLst>
                <a:path w="1447" h="707">
                  <a:moveTo>
                    <a:pt x="110" y="22"/>
                  </a:moveTo>
                  <a:lnTo>
                    <a:pt x="185" y="22"/>
                  </a:lnTo>
                  <a:lnTo>
                    <a:pt x="352" y="101"/>
                  </a:lnTo>
                  <a:lnTo>
                    <a:pt x="551" y="141"/>
                  </a:lnTo>
                  <a:lnTo>
                    <a:pt x="860" y="208"/>
                  </a:lnTo>
                  <a:lnTo>
                    <a:pt x="1116" y="327"/>
                  </a:lnTo>
                  <a:lnTo>
                    <a:pt x="1319" y="464"/>
                  </a:lnTo>
                  <a:lnTo>
                    <a:pt x="1394" y="397"/>
                  </a:lnTo>
                  <a:lnTo>
                    <a:pt x="1394" y="349"/>
                  </a:lnTo>
                  <a:lnTo>
                    <a:pt x="1447" y="516"/>
                  </a:lnTo>
                  <a:lnTo>
                    <a:pt x="1447" y="659"/>
                  </a:lnTo>
                  <a:lnTo>
                    <a:pt x="1359" y="707"/>
                  </a:lnTo>
                  <a:lnTo>
                    <a:pt x="1138" y="601"/>
                  </a:lnTo>
                  <a:lnTo>
                    <a:pt x="988" y="570"/>
                  </a:lnTo>
                  <a:lnTo>
                    <a:pt x="878" y="481"/>
                  </a:lnTo>
                  <a:lnTo>
                    <a:pt x="733" y="397"/>
                  </a:lnTo>
                  <a:lnTo>
                    <a:pt x="661" y="327"/>
                  </a:lnTo>
                  <a:lnTo>
                    <a:pt x="388" y="327"/>
                  </a:lnTo>
                  <a:lnTo>
                    <a:pt x="277" y="261"/>
                  </a:lnTo>
                  <a:lnTo>
                    <a:pt x="167" y="261"/>
                  </a:lnTo>
                  <a:lnTo>
                    <a:pt x="57" y="171"/>
                  </a:lnTo>
                  <a:lnTo>
                    <a:pt x="0" y="70"/>
                  </a:lnTo>
                  <a:lnTo>
                    <a:pt x="57" y="0"/>
                  </a:lnTo>
                  <a:lnTo>
                    <a:pt x="207" y="0"/>
                  </a:lnTo>
                  <a:lnTo>
                    <a:pt x="317" y="52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179360" y="5211720"/>
              <a:ext cx="519480" cy="884520"/>
            </a:xfrm>
            <a:custGeom>
              <a:avLst/>
              <a:gdLst/>
              <a:ahLst/>
              <a:rect l="0" t="0" r="r" b="b"/>
              <a:pathLst>
                <a:path w="1443" h="2457">
                  <a:moveTo>
                    <a:pt x="975" y="2457"/>
                  </a:moveTo>
                  <a:lnTo>
                    <a:pt x="1192" y="2404"/>
                  </a:lnTo>
                  <a:lnTo>
                    <a:pt x="1392" y="2169"/>
                  </a:lnTo>
                  <a:lnTo>
                    <a:pt x="1443" y="1881"/>
                  </a:lnTo>
                  <a:lnTo>
                    <a:pt x="1301" y="1410"/>
                  </a:lnTo>
                  <a:lnTo>
                    <a:pt x="1061" y="1204"/>
                  </a:lnTo>
                  <a:lnTo>
                    <a:pt x="884" y="1103"/>
                  </a:lnTo>
                  <a:lnTo>
                    <a:pt x="776" y="999"/>
                  </a:lnTo>
                  <a:lnTo>
                    <a:pt x="576" y="658"/>
                  </a:lnTo>
                  <a:lnTo>
                    <a:pt x="542" y="392"/>
                  </a:lnTo>
                  <a:lnTo>
                    <a:pt x="507" y="628"/>
                  </a:lnTo>
                  <a:lnTo>
                    <a:pt x="421" y="558"/>
                  </a:lnTo>
                  <a:lnTo>
                    <a:pt x="421" y="444"/>
                  </a:lnTo>
                  <a:lnTo>
                    <a:pt x="364" y="444"/>
                  </a:lnTo>
                  <a:lnTo>
                    <a:pt x="364" y="322"/>
                  </a:lnTo>
                  <a:lnTo>
                    <a:pt x="290" y="353"/>
                  </a:lnTo>
                  <a:lnTo>
                    <a:pt x="238" y="205"/>
                  </a:lnTo>
                  <a:lnTo>
                    <a:pt x="186" y="270"/>
                  </a:lnTo>
                  <a:lnTo>
                    <a:pt x="147" y="270"/>
                  </a:lnTo>
                  <a:lnTo>
                    <a:pt x="147" y="205"/>
                  </a:lnTo>
                  <a:lnTo>
                    <a:pt x="73" y="170"/>
                  </a:lnTo>
                  <a:lnTo>
                    <a:pt x="43" y="65"/>
                  </a:lnTo>
                  <a:lnTo>
                    <a:pt x="43" y="0"/>
                  </a:lnTo>
                  <a:lnTo>
                    <a:pt x="0" y="100"/>
                  </a:lnTo>
                  <a:lnTo>
                    <a:pt x="56" y="205"/>
                  </a:lnTo>
                  <a:lnTo>
                    <a:pt x="134" y="340"/>
                  </a:lnTo>
                  <a:lnTo>
                    <a:pt x="399" y="575"/>
                  </a:lnTo>
                  <a:lnTo>
                    <a:pt x="672" y="898"/>
                  </a:lnTo>
                  <a:lnTo>
                    <a:pt x="884" y="1235"/>
                  </a:lnTo>
                  <a:lnTo>
                    <a:pt x="1027" y="1506"/>
                  </a:lnTo>
                  <a:lnTo>
                    <a:pt x="1079" y="1850"/>
                  </a:lnTo>
                  <a:lnTo>
                    <a:pt x="1027" y="2256"/>
                  </a:lnTo>
                  <a:lnTo>
                    <a:pt x="975" y="2457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90680" y="6167520"/>
              <a:ext cx="240120" cy="491040"/>
            </a:xfrm>
            <a:custGeom>
              <a:avLst/>
              <a:gdLst/>
              <a:ahLst/>
              <a:rect l="0" t="0" r="r" b="b"/>
              <a:pathLst>
                <a:path w="667" h="1364">
                  <a:moveTo>
                    <a:pt x="268" y="134"/>
                  </a:moveTo>
                  <a:lnTo>
                    <a:pt x="268" y="390"/>
                  </a:lnTo>
                  <a:lnTo>
                    <a:pt x="161" y="788"/>
                  </a:lnTo>
                  <a:lnTo>
                    <a:pt x="0" y="1347"/>
                  </a:lnTo>
                  <a:lnTo>
                    <a:pt x="391" y="1364"/>
                  </a:lnTo>
                  <a:lnTo>
                    <a:pt x="583" y="1342"/>
                  </a:lnTo>
                  <a:lnTo>
                    <a:pt x="659" y="1195"/>
                  </a:lnTo>
                  <a:lnTo>
                    <a:pt x="667" y="1061"/>
                  </a:lnTo>
                  <a:lnTo>
                    <a:pt x="638" y="1178"/>
                  </a:lnTo>
                  <a:lnTo>
                    <a:pt x="459" y="1213"/>
                  </a:lnTo>
                  <a:lnTo>
                    <a:pt x="319" y="1139"/>
                  </a:lnTo>
                  <a:lnTo>
                    <a:pt x="319" y="1027"/>
                  </a:lnTo>
                  <a:lnTo>
                    <a:pt x="319" y="1008"/>
                  </a:lnTo>
                  <a:lnTo>
                    <a:pt x="408" y="1061"/>
                  </a:lnTo>
                  <a:lnTo>
                    <a:pt x="515" y="1074"/>
                  </a:lnTo>
                  <a:lnTo>
                    <a:pt x="408" y="1008"/>
                  </a:lnTo>
                  <a:lnTo>
                    <a:pt x="353" y="892"/>
                  </a:lnTo>
                  <a:lnTo>
                    <a:pt x="391" y="844"/>
                  </a:lnTo>
                  <a:lnTo>
                    <a:pt x="425" y="809"/>
                  </a:lnTo>
                  <a:lnTo>
                    <a:pt x="425" y="641"/>
                  </a:lnTo>
                  <a:lnTo>
                    <a:pt x="425" y="472"/>
                  </a:lnTo>
                  <a:lnTo>
                    <a:pt x="353" y="390"/>
                  </a:lnTo>
                  <a:lnTo>
                    <a:pt x="336" y="268"/>
                  </a:lnTo>
                  <a:lnTo>
                    <a:pt x="336" y="134"/>
                  </a:lnTo>
                  <a:lnTo>
                    <a:pt x="268" y="0"/>
                  </a:lnTo>
                  <a:lnTo>
                    <a:pt x="268" y="250"/>
                  </a:lnTo>
                  <a:lnTo>
                    <a:pt x="268" y="134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46280" y="6110280"/>
              <a:ext cx="678240" cy="528840"/>
            </a:xfrm>
            <a:custGeom>
              <a:avLst/>
              <a:gdLst/>
              <a:ahLst/>
              <a:rect l="0" t="0" r="r" b="b"/>
              <a:pathLst>
                <a:path w="1884" h="1469">
                  <a:moveTo>
                    <a:pt x="43" y="811"/>
                  </a:moveTo>
                  <a:lnTo>
                    <a:pt x="1828" y="1469"/>
                  </a:lnTo>
                  <a:lnTo>
                    <a:pt x="727" y="1001"/>
                  </a:lnTo>
                  <a:lnTo>
                    <a:pt x="509" y="897"/>
                  </a:lnTo>
                  <a:lnTo>
                    <a:pt x="365" y="780"/>
                  </a:lnTo>
                  <a:lnTo>
                    <a:pt x="221" y="628"/>
                  </a:lnTo>
                  <a:lnTo>
                    <a:pt x="152" y="493"/>
                  </a:lnTo>
                  <a:lnTo>
                    <a:pt x="152" y="355"/>
                  </a:lnTo>
                  <a:lnTo>
                    <a:pt x="152" y="220"/>
                  </a:lnTo>
                  <a:lnTo>
                    <a:pt x="1537" y="1001"/>
                  </a:lnTo>
                  <a:lnTo>
                    <a:pt x="1884" y="1183"/>
                  </a:lnTo>
                  <a:lnTo>
                    <a:pt x="117" y="138"/>
                  </a:lnTo>
                  <a:lnTo>
                    <a:pt x="0" y="0"/>
                  </a:lnTo>
                  <a:lnTo>
                    <a:pt x="73" y="220"/>
                  </a:lnTo>
                  <a:lnTo>
                    <a:pt x="117" y="558"/>
                  </a:lnTo>
                  <a:lnTo>
                    <a:pt x="73" y="763"/>
                  </a:lnTo>
                  <a:lnTo>
                    <a:pt x="60" y="798"/>
                  </a:lnTo>
                  <a:lnTo>
                    <a:pt x="43" y="811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747800" y="5581800"/>
              <a:ext cx="714960" cy="225720"/>
            </a:xfrm>
            <a:custGeom>
              <a:avLst/>
              <a:gdLst/>
              <a:ahLst/>
              <a:rect l="0" t="0" r="r" b="b"/>
              <a:pathLst>
                <a:path w="1986" h="627">
                  <a:moveTo>
                    <a:pt x="34" y="627"/>
                  </a:moveTo>
                  <a:lnTo>
                    <a:pt x="1986" y="496"/>
                  </a:lnTo>
                  <a:lnTo>
                    <a:pt x="862" y="563"/>
                  </a:lnTo>
                  <a:lnTo>
                    <a:pt x="523" y="563"/>
                  </a:lnTo>
                  <a:lnTo>
                    <a:pt x="396" y="512"/>
                  </a:lnTo>
                  <a:lnTo>
                    <a:pt x="339" y="347"/>
                  </a:lnTo>
                  <a:lnTo>
                    <a:pt x="361" y="249"/>
                  </a:lnTo>
                  <a:lnTo>
                    <a:pt x="448" y="160"/>
                  </a:lnTo>
                  <a:lnTo>
                    <a:pt x="793" y="160"/>
                  </a:lnTo>
                  <a:lnTo>
                    <a:pt x="1245" y="160"/>
                  </a:lnTo>
                  <a:lnTo>
                    <a:pt x="1620" y="211"/>
                  </a:lnTo>
                  <a:lnTo>
                    <a:pt x="34" y="0"/>
                  </a:lnTo>
                  <a:lnTo>
                    <a:pt x="0" y="198"/>
                  </a:lnTo>
                  <a:lnTo>
                    <a:pt x="0" y="331"/>
                  </a:lnTo>
                  <a:lnTo>
                    <a:pt x="34" y="512"/>
                  </a:lnTo>
                  <a:lnTo>
                    <a:pt x="34" y="627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74640" y="4719600"/>
              <a:ext cx="697320" cy="470160"/>
            </a:xfrm>
            <a:custGeom>
              <a:avLst/>
              <a:gdLst/>
              <a:ahLst/>
              <a:rect l="0" t="0" r="r" b="b"/>
              <a:pathLst>
                <a:path w="1937" h="1306">
                  <a:moveTo>
                    <a:pt x="330" y="1306"/>
                  </a:moveTo>
                  <a:lnTo>
                    <a:pt x="1733" y="449"/>
                  </a:lnTo>
                  <a:lnTo>
                    <a:pt x="562" y="1142"/>
                  </a:lnTo>
                  <a:lnTo>
                    <a:pt x="836" y="518"/>
                  </a:lnTo>
                  <a:lnTo>
                    <a:pt x="1937" y="0"/>
                  </a:lnTo>
                  <a:lnTo>
                    <a:pt x="0" y="770"/>
                  </a:lnTo>
                  <a:lnTo>
                    <a:pt x="169" y="1021"/>
                  </a:lnTo>
                  <a:lnTo>
                    <a:pt x="313" y="1306"/>
                  </a:lnTo>
                  <a:lnTo>
                    <a:pt x="330" y="1306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162000" y="4719600"/>
              <a:ext cx="484560" cy="551160"/>
            </a:xfrm>
            <a:custGeom>
              <a:avLst/>
              <a:gdLst/>
              <a:ahLst/>
              <a:rect l="0" t="0" r="r" b="b"/>
              <a:pathLst>
                <a:path w="1346" h="1531">
                  <a:moveTo>
                    <a:pt x="519" y="1531"/>
                  </a:moveTo>
                  <a:lnTo>
                    <a:pt x="142" y="1175"/>
                  </a:lnTo>
                  <a:lnTo>
                    <a:pt x="51" y="1058"/>
                  </a:lnTo>
                  <a:lnTo>
                    <a:pt x="0" y="958"/>
                  </a:lnTo>
                  <a:lnTo>
                    <a:pt x="394" y="567"/>
                  </a:lnTo>
                  <a:lnTo>
                    <a:pt x="844" y="229"/>
                  </a:lnTo>
                  <a:lnTo>
                    <a:pt x="1346" y="0"/>
                  </a:lnTo>
                  <a:lnTo>
                    <a:pt x="935" y="216"/>
                  </a:lnTo>
                  <a:lnTo>
                    <a:pt x="861" y="303"/>
                  </a:lnTo>
                  <a:lnTo>
                    <a:pt x="844" y="385"/>
                  </a:lnTo>
                  <a:lnTo>
                    <a:pt x="805" y="472"/>
                  </a:lnTo>
                  <a:lnTo>
                    <a:pt x="1165" y="1058"/>
                  </a:lnTo>
                  <a:lnTo>
                    <a:pt x="878" y="1227"/>
                  </a:lnTo>
                  <a:lnTo>
                    <a:pt x="446" y="684"/>
                  </a:lnTo>
                  <a:lnTo>
                    <a:pt x="355" y="772"/>
                  </a:lnTo>
                  <a:lnTo>
                    <a:pt x="770" y="1292"/>
                  </a:lnTo>
                  <a:lnTo>
                    <a:pt x="519" y="1513"/>
                  </a:lnTo>
                  <a:lnTo>
                    <a:pt x="519" y="1531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93680" y="4775040"/>
              <a:ext cx="233640" cy="329040"/>
            </a:xfrm>
            <a:custGeom>
              <a:avLst/>
              <a:gdLst/>
              <a:ahLst/>
              <a:rect l="0" t="0" r="r" b="b"/>
              <a:pathLst>
                <a:path w="649" h="914">
                  <a:moveTo>
                    <a:pt x="649" y="660"/>
                  </a:moveTo>
                  <a:lnTo>
                    <a:pt x="420" y="115"/>
                  </a:lnTo>
                  <a:lnTo>
                    <a:pt x="331" y="34"/>
                  </a:lnTo>
                  <a:lnTo>
                    <a:pt x="211" y="0"/>
                  </a:lnTo>
                  <a:lnTo>
                    <a:pt x="72" y="77"/>
                  </a:lnTo>
                  <a:lnTo>
                    <a:pt x="0" y="279"/>
                  </a:lnTo>
                  <a:lnTo>
                    <a:pt x="173" y="626"/>
                  </a:lnTo>
                  <a:lnTo>
                    <a:pt x="279" y="811"/>
                  </a:lnTo>
                  <a:lnTo>
                    <a:pt x="313" y="914"/>
                  </a:lnTo>
                  <a:lnTo>
                    <a:pt x="348" y="811"/>
                  </a:lnTo>
                  <a:lnTo>
                    <a:pt x="649" y="682"/>
                  </a:lnTo>
                  <a:lnTo>
                    <a:pt x="649" y="660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82680" y="4711680"/>
              <a:ext cx="236880" cy="275040"/>
            </a:xfrm>
            <a:custGeom>
              <a:avLst/>
              <a:gdLst/>
              <a:ahLst/>
              <a:rect l="0" t="0" r="r" b="b"/>
              <a:pathLst>
                <a:path w="658" h="764">
                  <a:moveTo>
                    <a:pt x="658" y="735"/>
                  </a:moveTo>
                  <a:lnTo>
                    <a:pt x="530" y="248"/>
                  </a:lnTo>
                  <a:lnTo>
                    <a:pt x="518" y="80"/>
                  </a:lnTo>
                  <a:lnTo>
                    <a:pt x="429" y="0"/>
                  </a:lnTo>
                  <a:lnTo>
                    <a:pt x="216" y="21"/>
                  </a:lnTo>
                  <a:lnTo>
                    <a:pt x="42" y="80"/>
                  </a:lnTo>
                  <a:lnTo>
                    <a:pt x="0" y="170"/>
                  </a:lnTo>
                  <a:lnTo>
                    <a:pt x="194" y="637"/>
                  </a:lnTo>
                  <a:lnTo>
                    <a:pt x="335" y="486"/>
                  </a:lnTo>
                  <a:lnTo>
                    <a:pt x="475" y="431"/>
                  </a:lnTo>
                  <a:lnTo>
                    <a:pt x="581" y="713"/>
                  </a:lnTo>
                  <a:lnTo>
                    <a:pt x="602" y="764"/>
                  </a:lnTo>
                  <a:lnTo>
                    <a:pt x="641" y="735"/>
                  </a:lnTo>
                  <a:lnTo>
                    <a:pt x="658" y="735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6280" y="4630680"/>
              <a:ext cx="1275120" cy="1020960"/>
            </a:xfrm>
            <a:custGeom>
              <a:avLst/>
              <a:gdLst/>
              <a:ahLst/>
              <a:rect l="0" t="0" r="r" b="b"/>
              <a:pathLst>
                <a:path w="3542" h="2836">
                  <a:moveTo>
                    <a:pt x="962" y="952"/>
                  </a:moveTo>
                  <a:lnTo>
                    <a:pt x="892" y="515"/>
                  </a:lnTo>
                  <a:lnTo>
                    <a:pt x="892" y="257"/>
                  </a:lnTo>
                  <a:lnTo>
                    <a:pt x="866" y="122"/>
                  </a:lnTo>
                  <a:lnTo>
                    <a:pt x="1015" y="109"/>
                  </a:lnTo>
                  <a:lnTo>
                    <a:pt x="1072" y="152"/>
                  </a:lnTo>
                  <a:lnTo>
                    <a:pt x="1072" y="515"/>
                  </a:lnTo>
                  <a:lnTo>
                    <a:pt x="1111" y="834"/>
                  </a:lnTo>
                  <a:lnTo>
                    <a:pt x="1111" y="987"/>
                  </a:lnTo>
                  <a:lnTo>
                    <a:pt x="1343" y="1004"/>
                  </a:lnTo>
                  <a:lnTo>
                    <a:pt x="1545" y="1057"/>
                  </a:lnTo>
                  <a:lnTo>
                    <a:pt x="1505" y="209"/>
                  </a:lnTo>
                  <a:lnTo>
                    <a:pt x="1724" y="209"/>
                  </a:lnTo>
                  <a:lnTo>
                    <a:pt x="1869" y="305"/>
                  </a:lnTo>
                  <a:lnTo>
                    <a:pt x="1707" y="340"/>
                  </a:lnTo>
                  <a:lnTo>
                    <a:pt x="1650" y="493"/>
                  </a:lnTo>
                  <a:lnTo>
                    <a:pt x="1667" y="934"/>
                  </a:lnTo>
                  <a:lnTo>
                    <a:pt x="1834" y="987"/>
                  </a:lnTo>
                  <a:lnTo>
                    <a:pt x="1926" y="1192"/>
                  </a:lnTo>
                  <a:lnTo>
                    <a:pt x="2036" y="1223"/>
                  </a:lnTo>
                  <a:lnTo>
                    <a:pt x="2036" y="851"/>
                  </a:lnTo>
                  <a:lnTo>
                    <a:pt x="2106" y="515"/>
                  </a:lnTo>
                  <a:lnTo>
                    <a:pt x="2145" y="397"/>
                  </a:lnTo>
                  <a:lnTo>
                    <a:pt x="2290" y="493"/>
                  </a:lnTo>
                  <a:lnTo>
                    <a:pt x="2307" y="563"/>
                  </a:lnTo>
                  <a:lnTo>
                    <a:pt x="2180" y="917"/>
                  </a:lnTo>
                  <a:lnTo>
                    <a:pt x="2158" y="1258"/>
                  </a:lnTo>
                  <a:lnTo>
                    <a:pt x="2474" y="1398"/>
                  </a:lnTo>
                  <a:lnTo>
                    <a:pt x="2487" y="1192"/>
                  </a:lnTo>
                  <a:lnTo>
                    <a:pt x="2596" y="917"/>
                  </a:lnTo>
                  <a:lnTo>
                    <a:pt x="2618" y="747"/>
                  </a:lnTo>
                  <a:lnTo>
                    <a:pt x="2705" y="851"/>
                  </a:lnTo>
                  <a:lnTo>
                    <a:pt x="2885" y="987"/>
                  </a:lnTo>
                  <a:lnTo>
                    <a:pt x="2885" y="1057"/>
                  </a:lnTo>
                  <a:lnTo>
                    <a:pt x="2741" y="1057"/>
                  </a:lnTo>
                  <a:lnTo>
                    <a:pt x="2653" y="1157"/>
                  </a:lnTo>
                  <a:lnTo>
                    <a:pt x="2618" y="1482"/>
                  </a:lnTo>
                  <a:lnTo>
                    <a:pt x="2832" y="1634"/>
                  </a:lnTo>
                  <a:lnTo>
                    <a:pt x="2959" y="1464"/>
                  </a:lnTo>
                  <a:lnTo>
                    <a:pt x="3051" y="1376"/>
                  </a:lnTo>
                  <a:lnTo>
                    <a:pt x="3143" y="1411"/>
                  </a:lnTo>
                  <a:lnTo>
                    <a:pt x="3156" y="1464"/>
                  </a:lnTo>
                  <a:lnTo>
                    <a:pt x="3231" y="1512"/>
                  </a:lnTo>
                  <a:lnTo>
                    <a:pt x="3064" y="1530"/>
                  </a:lnTo>
                  <a:lnTo>
                    <a:pt x="2924" y="1700"/>
                  </a:lnTo>
                  <a:lnTo>
                    <a:pt x="3051" y="1870"/>
                  </a:lnTo>
                  <a:lnTo>
                    <a:pt x="3143" y="1971"/>
                  </a:lnTo>
                  <a:lnTo>
                    <a:pt x="3301" y="1888"/>
                  </a:lnTo>
                  <a:lnTo>
                    <a:pt x="3415" y="1888"/>
                  </a:lnTo>
                  <a:lnTo>
                    <a:pt x="3432" y="2045"/>
                  </a:lnTo>
                  <a:lnTo>
                    <a:pt x="3467" y="2211"/>
                  </a:lnTo>
                  <a:lnTo>
                    <a:pt x="3362" y="2076"/>
                  </a:lnTo>
                  <a:lnTo>
                    <a:pt x="3231" y="2128"/>
                  </a:lnTo>
                  <a:lnTo>
                    <a:pt x="3362" y="2395"/>
                  </a:lnTo>
                  <a:lnTo>
                    <a:pt x="3380" y="2482"/>
                  </a:lnTo>
                  <a:lnTo>
                    <a:pt x="3485" y="2447"/>
                  </a:lnTo>
                  <a:lnTo>
                    <a:pt x="3485" y="2583"/>
                  </a:lnTo>
                  <a:lnTo>
                    <a:pt x="3450" y="2600"/>
                  </a:lnTo>
                  <a:lnTo>
                    <a:pt x="3506" y="2836"/>
                  </a:lnTo>
                  <a:lnTo>
                    <a:pt x="3542" y="2347"/>
                  </a:lnTo>
                  <a:lnTo>
                    <a:pt x="3467" y="1905"/>
                  </a:lnTo>
                  <a:lnTo>
                    <a:pt x="3270" y="1411"/>
                  </a:lnTo>
                  <a:lnTo>
                    <a:pt x="3029" y="1004"/>
                  </a:lnTo>
                  <a:lnTo>
                    <a:pt x="2653" y="633"/>
                  </a:lnTo>
                  <a:lnTo>
                    <a:pt x="2220" y="327"/>
                  </a:lnTo>
                  <a:lnTo>
                    <a:pt x="1759" y="174"/>
                  </a:lnTo>
                  <a:lnTo>
                    <a:pt x="1181" y="21"/>
                  </a:lnTo>
                  <a:lnTo>
                    <a:pt x="617" y="0"/>
                  </a:lnTo>
                  <a:lnTo>
                    <a:pt x="231" y="39"/>
                  </a:lnTo>
                  <a:lnTo>
                    <a:pt x="0" y="91"/>
                  </a:lnTo>
                  <a:lnTo>
                    <a:pt x="253" y="91"/>
                  </a:lnTo>
                  <a:lnTo>
                    <a:pt x="363" y="152"/>
                  </a:lnTo>
                  <a:lnTo>
                    <a:pt x="402" y="292"/>
                  </a:lnTo>
                  <a:lnTo>
                    <a:pt x="490" y="664"/>
                  </a:lnTo>
                  <a:lnTo>
                    <a:pt x="783" y="681"/>
                  </a:lnTo>
                  <a:lnTo>
                    <a:pt x="866" y="987"/>
                  </a:lnTo>
                  <a:lnTo>
                    <a:pt x="962" y="952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-23760" y="5006880"/>
              <a:ext cx="1744920" cy="581400"/>
            </a:xfrm>
            <a:custGeom>
              <a:avLst/>
              <a:gdLst/>
              <a:ahLst/>
              <a:rect l="0" t="0" r="r" b="b"/>
              <a:pathLst>
                <a:path w="4847" h="1615">
                  <a:moveTo>
                    <a:pt x="0" y="1223"/>
                  </a:moveTo>
                  <a:lnTo>
                    <a:pt x="127" y="979"/>
                  </a:lnTo>
                  <a:lnTo>
                    <a:pt x="308" y="759"/>
                  </a:lnTo>
                  <a:lnTo>
                    <a:pt x="273" y="913"/>
                  </a:lnTo>
                  <a:lnTo>
                    <a:pt x="679" y="433"/>
                  </a:lnTo>
                  <a:lnTo>
                    <a:pt x="493" y="777"/>
                  </a:lnTo>
                  <a:lnTo>
                    <a:pt x="621" y="741"/>
                  </a:lnTo>
                  <a:lnTo>
                    <a:pt x="842" y="415"/>
                  </a:lnTo>
                  <a:lnTo>
                    <a:pt x="1292" y="158"/>
                  </a:lnTo>
                  <a:lnTo>
                    <a:pt x="1918" y="0"/>
                  </a:lnTo>
                  <a:lnTo>
                    <a:pt x="2633" y="22"/>
                  </a:lnTo>
                  <a:lnTo>
                    <a:pt x="3255" y="176"/>
                  </a:lnTo>
                  <a:lnTo>
                    <a:pt x="3784" y="379"/>
                  </a:lnTo>
                  <a:lnTo>
                    <a:pt x="4260" y="688"/>
                  </a:lnTo>
                  <a:lnTo>
                    <a:pt x="4569" y="1068"/>
                  </a:lnTo>
                  <a:lnTo>
                    <a:pt x="4847" y="1615"/>
                  </a:lnTo>
                  <a:lnTo>
                    <a:pt x="4569" y="1204"/>
                  </a:lnTo>
                  <a:lnTo>
                    <a:pt x="4476" y="1081"/>
                  </a:lnTo>
                  <a:lnTo>
                    <a:pt x="4423" y="927"/>
                  </a:lnTo>
                  <a:lnTo>
                    <a:pt x="4423" y="1068"/>
                  </a:lnTo>
                  <a:lnTo>
                    <a:pt x="4388" y="1151"/>
                  </a:lnTo>
                  <a:lnTo>
                    <a:pt x="4278" y="1019"/>
                  </a:lnTo>
                  <a:lnTo>
                    <a:pt x="4260" y="812"/>
                  </a:lnTo>
                  <a:lnTo>
                    <a:pt x="4185" y="688"/>
                  </a:lnTo>
                  <a:lnTo>
                    <a:pt x="4185" y="878"/>
                  </a:lnTo>
                  <a:lnTo>
                    <a:pt x="4075" y="896"/>
                  </a:lnTo>
                  <a:lnTo>
                    <a:pt x="4005" y="896"/>
                  </a:lnTo>
                  <a:lnTo>
                    <a:pt x="3987" y="777"/>
                  </a:lnTo>
                  <a:lnTo>
                    <a:pt x="3930" y="605"/>
                  </a:lnTo>
                  <a:lnTo>
                    <a:pt x="3859" y="724"/>
                  </a:lnTo>
                  <a:lnTo>
                    <a:pt x="3749" y="658"/>
                  </a:lnTo>
                  <a:lnTo>
                    <a:pt x="3731" y="481"/>
                  </a:lnTo>
                  <a:lnTo>
                    <a:pt x="3661" y="396"/>
                  </a:lnTo>
                  <a:lnTo>
                    <a:pt x="3661" y="605"/>
                  </a:lnTo>
                  <a:lnTo>
                    <a:pt x="3564" y="468"/>
                  </a:lnTo>
                  <a:lnTo>
                    <a:pt x="3533" y="366"/>
                  </a:lnTo>
                  <a:lnTo>
                    <a:pt x="3511" y="552"/>
                  </a:lnTo>
                  <a:lnTo>
                    <a:pt x="3440" y="481"/>
                  </a:lnTo>
                  <a:lnTo>
                    <a:pt x="3440" y="396"/>
                  </a:lnTo>
                  <a:lnTo>
                    <a:pt x="3290" y="552"/>
                  </a:lnTo>
                  <a:lnTo>
                    <a:pt x="3290" y="343"/>
                  </a:lnTo>
                  <a:lnTo>
                    <a:pt x="3290" y="211"/>
                  </a:lnTo>
                  <a:lnTo>
                    <a:pt x="3127" y="379"/>
                  </a:lnTo>
                  <a:lnTo>
                    <a:pt x="3052" y="481"/>
                  </a:lnTo>
                  <a:lnTo>
                    <a:pt x="3052" y="295"/>
                  </a:lnTo>
                  <a:lnTo>
                    <a:pt x="2946" y="499"/>
                  </a:lnTo>
                  <a:lnTo>
                    <a:pt x="2836" y="468"/>
                  </a:lnTo>
                  <a:lnTo>
                    <a:pt x="2779" y="330"/>
                  </a:lnTo>
                  <a:lnTo>
                    <a:pt x="2779" y="415"/>
                  </a:lnTo>
                  <a:lnTo>
                    <a:pt x="2633" y="450"/>
                  </a:lnTo>
                  <a:lnTo>
                    <a:pt x="2655" y="295"/>
                  </a:lnTo>
                  <a:lnTo>
                    <a:pt x="2580" y="481"/>
                  </a:lnTo>
                  <a:lnTo>
                    <a:pt x="2359" y="481"/>
                  </a:lnTo>
                  <a:lnTo>
                    <a:pt x="2448" y="313"/>
                  </a:lnTo>
                  <a:lnTo>
                    <a:pt x="2301" y="468"/>
                  </a:lnTo>
                  <a:lnTo>
                    <a:pt x="2178" y="499"/>
                  </a:lnTo>
                  <a:lnTo>
                    <a:pt x="2262" y="343"/>
                  </a:lnTo>
                  <a:lnTo>
                    <a:pt x="2046" y="499"/>
                  </a:lnTo>
                  <a:lnTo>
                    <a:pt x="1865" y="534"/>
                  </a:lnTo>
                  <a:lnTo>
                    <a:pt x="1935" y="330"/>
                  </a:lnTo>
                  <a:lnTo>
                    <a:pt x="1697" y="569"/>
                  </a:lnTo>
                  <a:lnTo>
                    <a:pt x="1464" y="658"/>
                  </a:lnTo>
                  <a:lnTo>
                    <a:pt x="1208" y="658"/>
                  </a:lnTo>
                  <a:lnTo>
                    <a:pt x="1278" y="516"/>
                  </a:lnTo>
                  <a:lnTo>
                    <a:pt x="1080" y="706"/>
                  </a:lnTo>
                  <a:lnTo>
                    <a:pt x="895" y="777"/>
                  </a:lnTo>
                  <a:lnTo>
                    <a:pt x="895" y="605"/>
                  </a:lnTo>
                  <a:lnTo>
                    <a:pt x="767" y="777"/>
                  </a:lnTo>
                  <a:lnTo>
                    <a:pt x="493" y="878"/>
                  </a:lnTo>
                  <a:lnTo>
                    <a:pt x="361" y="979"/>
                  </a:lnTo>
                  <a:lnTo>
                    <a:pt x="163" y="1019"/>
                  </a:lnTo>
                  <a:lnTo>
                    <a:pt x="0" y="1236"/>
                  </a:lnTo>
                  <a:lnTo>
                    <a:pt x="0" y="1223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-681120" y="4654440"/>
              <a:ext cx="538560" cy="871920"/>
            </a:xfrm>
            <a:custGeom>
              <a:avLst/>
              <a:gdLst/>
              <a:ahLst/>
              <a:rect l="0" t="0" r="r" b="b"/>
              <a:pathLst>
                <a:path w="1496" h="2422">
                  <a:moveTo>
                    <a:pt x="70" y="432"/>
                  </a:moveTo>
                  <a:lnTo>
                    <a:pt x="361" y="401"/>
                  </a:lnTo>
                  <a:lnTo>
                    <a:pt x="600" y="242"/>
                  </a:lnTo>
                  <a:lnTo>
                    <a:pt x="799" y="0"/>
                  </a:lnTo>
                  <a:lnTo>
                    <a:pt x="799" y="211"/>
                  </a:lnTo>
                  <a:lnTo>
                    <a:pt x="635" y="454"/>
                  </a:lnTo>
                  <a:lnTo>
                    <a:pt x="326" y="777"/>
                  </a:lnTo>
                  <a:lnTo>
                    <a:pt x="508" y="662"/>
                  </a:lnTo>
                  <a:lnTo>
                    <a:pt x="710" y="471"/>
                  </a:lnTo>
                  <a:lnTo>
                    <a:pt x="909" y="194"/>
                  </a:lnTo>
                  <a:lnTo>
                    <a:pt x="922" y="35"/>
                  </a:lnTo>
                  <a:lnTo>
                    <a:pt x="1112" y="127"/>
                  </a:lnTo>
                  <a:lnTo>
                    <a:pt x="1148" y="242"/>
                  </a:lnTo>
                  <a:lnTo>
                    <a:pt x="1130" y="348"/>
                  </a:lnTo>
                  <a:lnTo>
                    <a:pt x="838" y="688"/>
                  </a:lnTo>
                  <a:lnTo>
                    <a:pt x="618" y="918"/>
                  </a:lnTo>
                  <a:lnTo>
                    <a:pt x="361" y="1156"/>
                  </a:lnTo>
                  <a:lnTo>
                    <a:pt x="710" y="979"/>
                  </a:lnTo>
                  <a:lnTo>
                    <a:pt x="909" y="794"/>
                  </a:lnTo>
                  <a:lnTo>
                    <a:pt x="1130" y="586"/>
                  </a:lnTo>
                  <a:lnTo>
                    <a:pt x="1170" y="471"/>
                  </a:lnTo>
                  <a:lnTo>
                    <a:pt x="1205" y="622"/>
                  </a:lnTo>
                  <a:lnTo>
                    <a:pt x="1338" y="622"/>
                  </a:lnTo>
                  <a:lnTo>
                    <a:pt x="1426" y="675"/>
                  </a:lnTo>
                  <a:lnTo>
                    <a:pt x="1426" y="710"/>
                  </a:lnTo>
                  <a:lnTo>
                    <a:pt x="1294" y="777"/>
                  </a:lnTo>
                  <a:lnTo>
                    <a:pt x="1496" y="794"/>
                  </a:lnTo>
                  <a:lnTo>
                    <a:pt x="1496" y="896"/>
                  </a:lnTo>
                  <a:lnTo>
                    <a:pt x="1373" y="966"/>
                  </a:lnTo>
                  <a:lnTo>
                    <a:pt x="1245" y="1050"/>
                  </a:lnTo>
                  <a:lnTo>
                    <a:pt x="1205" y="1204"/>
                  </a:lnTo>
                  <a:lnTo>
                    <a:pt x="1316" y="1156"/>
                  </a:lnTo>
                  <a:lnTo>
                    <a:pt x="1408" y="1169"/>
                  </a:lnTo>
                  <a:lnTo>
                    <a:pt x="1479" y="1275"/>
                  </a:lnTo>
                  <a:lnTo>
                    <a:pt x="1479" y="1345"/>
                  </a:lnTo>
                  <a:lnTo>
                    <a:pt x="1373" y="1548"/>
                  </a:lnTo>
                  <a:lnTo>
                    <a:pt x="874" y="1946"/>
                  </a:lnTo>
                  <a:lnTo>
                    <a:pt x="508" y="2202"/>
                  </a:lnTo>
                  <a:lnTo>
                    <a:pt x="123" y="2303"/>
                  </a:lnTo>
                  <a:lnTo>
                    <a:pt x="0" y="2422"/>
                  </a:lnTo>
                  <a:lnTo>
                    <a:pt x="30" y="2167"/>
                  </a:lnTo>
                  <a:lnTo>
                    <a:pt x="123" y="2167"/>
                  </a:lnTo>
                  <a:lnTo>
                    <a:pt x="326" y="2101"/>
                  </a:lnTo>
                  <a:lnTo>
                    <a:pt x="561" y="1999"/>
                  </a:lnTo>
                  <a:lnTo>
                    <a:pt x="583" y="1924"/>
                  </a:lnTo>
                  <a:lnTo>
                    <a:pt x="490" y="1924"/>
                  </a:lnTo>
                  <a:lnTo>
                    <a:pt x="291" y="2030"/>
                  </a:lnTo>
                  <a:lnTo>
                    <a:pt x="70" y="2149"/>
                  </a:lnTo>
                  <a:lnTo>
                    <a:pt x="255" y="2012"/>
                  </a:lnTo>
                  <a:lnTo>
                    <a:pt x="472" y="1876"/>
                  </a:lnTo>
                  <a:lnTo>
                    <a:pt x="635" y="1791"/>
                  </a:lnTo>
                  <a:lnTo>
                    <a:pt x="816" y="1601"/>
                  </a:lnTo>
                  <a:lnTo>
                    <a:pt x="547" y="1769"/>
                  </a:lnTo>
                  <a:lnTo>
                    <a:pt x="455" y="1791"/>
                  </a:lnTo>
                  <a:lnTo>
                    <a:pt x="600" y="1667"/>
                  </a:lnTo>
                  <a:lnTo>
                    <a:pt x="799" y="1460"/>
                  </a:lnTo>
                  <a:lnTo>
                    <a:pt x="949" y="1240"/>
                  </a:lnTo>
                  <a:lnTo>
                    <a:pt x="1019" y="1050"/>
                  </a:lnTo>
                  <a:lnTo>
                    <a:pt x="710" y="1478"/>
                  </a:lnTo>
                  <a:lnTo>
                    <a:pt x="490" y="1685"/>
                  </a:lnTo>
                  <a:lnTo>
                    <a:pt x="198" y="1823"/>
                  </a:lnTo>
                  <a:lnTo>
                    <a:pt x="30" y="1893"/>
                  </a:lnTo>
                  <a:lnTo>
                    <a:pt x="30" y="1804"/>
                  </a:lnTo>
                  <a:lnTo>
                    <a:pt x="455" y="1566"/>
                  </a:lnTo>
                  <a:lnTo>
                    <a:pt x="675" y="1394"/>
                  </a:lnTo>
                  <a:lnTo>
                    <a:pt x="838" y="1191"/>
                  </a:lnTo>
                  <a:lnTo>
                    <a:pt x="927" y="1050"/>
                  </a:lnTo>
                  <a:lnTo>
                    <a:pt x="675" y="1204"/>
                  </a:lnTo>
                  <a:lnTo>
                    <a:pt x="455" y="1429"/>
                  </a:lnTo>
                  <a:lnTo>
                    <a:pt x="180" y="1637"/>
                  </a:lnTo>
                  <a:lnTo>
                    <a:pt x="13" y="1720"/>
                  </a:lnTo>
                  <a:lnTo>
                    <a:pt x="13" y="454"/>
                  </a:lnTo>
                  <a:lnTo>
                    <a:pt x="70" y="432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-681120" y="5365800"/>
              <a:ext cx="491040" cy="352800"/>
            </a:xfrm>
            <a:custGeom>
              <a:avLst/>
              <a:gdLst/>
              <a:ahLst/>
              <a:rect l="0" t="0" r="r" b="b"/>
              <a:pathLst>
                <a:path w="1364" h="980">
                  <a:moveTo>
                    <a:pt x="12" y="584"/>
                  </a:moveTo>
                  <a:lnTo>
                    <a:pt x="250" y="469"/>
                  </a:lnTo>
                  <a:lnTo>
                    <a:pt x="446" y="387"/>
                  </a:lnTo>
                  <a:lnTo>
                    <a:pt x="697" y="218"/>
                  </a:lnTo>
                  <a:lnTo>
                    <a:pt x="801" y="150"/>
                  </a:lnTo>
                  <a:lnTo>
                    <a:pt x="783" y="218"/>
                  </a:lnTo>
                  <a:lnTo>
                    <a:pt x="680" y="254"/>
                  </a:lnTo>
                  <a:lnTo>
                    <a:pt x="498" y="387"/>
                  </a:lnTo>
                  <a:lnTo>
                    <a:pt x="407" y="434"/>
                  </a:lnTo>
                  <a:lnTo>
                    <a:pt x="589" y="387"/>
                  </a:lnTo>
                  <a:lnTo>
                    <a:pt x="732" y="284"/>
                  </a:lnTo>
                  <a:lnTo>
                    <a:pt x="1000" y="150"/>
                  </a:lnTo>
                  <a:lnTo>
                    <a:pt x="1126" y="81"/>
                  </a:lnTo>
                  <a:lnTo>
                    <a:pt x="1364" y="0"/>
                  </a:lnTo>
                  <a:lnTo>
                    <a:pt x="1221" y="103"/>
                  </a:lnTo>
                  <a:lnTo>
                    <a:pt x="1074" y="184"/>
                  </a:lnTo>
                  <a:lnTo>
                    <a:pt x="931" y="301"/>
                  </a:lnTo>
                  <a:lnTo>
                    <a:pt x="714" y="387"/>
                  </a:lnTo>
                  <a:lnTo>
                    <a:pt x="589" y="503"/>
                  </a:lnTo>
                  <a:lnTo>
                    <a:pt x="429" y="636"/>
                  </a:lnTo>
                  <a:lnTo>
                    <a:pt x="320" y="718"/>
                  </a:lnTo>
                  <a:lnTo>
                    <a:pt x="229" y="873"/>
                  </a:lnTo>
                  <a:lnTo>
                    <a:pt x="108" y="980"/>
                  </a:lnTo>
                  <a:lnTo>
                    <a:pt x="194" y="822"/>
                  </a:lnTo>
                  <a:lnTo>
                    <a:pt x="194" y="736"/>
                  </a:lnTo>
                  <a:lnTo>
                    <a:pt x="86" y="873"/>
                  </a:lnTo>
                  <a:lnTo>
                    <a:pt x="0" y="938"/>
                  </a:lnTo>
                  <a:lnTo>
                    <a:pt x="12" y="873"/>
                  </a:lnTo>
                  <a:lnTo>
                    <a:pt x="177" y="718"/>
                  </a:lnTo>
                  <a:lnTo>
                    <a:pt x="250" y="636"/>
                  </a:lnTo>
                  <a:lnTo>
                    <a:pt x="47" y="700"/>
                  </a:lnTo>
                  <a:lnTo>
                    <a:pt x="0" y="700"/>
                  </a:lnTo>
                  <a:lnTo>
                    <a:pt x="12" y="584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-690480" y="5568840"/>
              <a:ext cx="400320" cy="644760"/>
            </a:xfrm>
            <a:custGeom>
              <a:avLst/>
              <a:gdLst/>
              <a:ahLst/>
              <a:rect l="0" t="0" r="r" b="b"/>
              <a:pathLst>
                <a:path w="1112" h="1791">
                  <a:moveTo>
                    <a:pt x="25" y="777"/>
                  </a:moveTo>
                  <a:lnTo>
                    <a:pt x="25" y="764"/>
                  </a:lnTo>
                  <a:lnTo>
                    <a:pt x="133" y="677"/>
                  </a:lnTo>
                  <a:lnTo>
                    <a:pt x="236" y="643"/>
                  </a:lnTo>
                  <a:lnTo>
                    <a:pt x="275" y="577"/>
                  </a:lnTo>
                  <a:lnTo>
                    <a:pt x="344" y="560"/>
                  </a:lnTo>
                  <a:lnTo>
                    <a:pt x="469" y="504"/>
                  </a:lnTo>
                  <a:lnTo>
                    <a:pt x="469" y="460"/>
                  </a:lnTo>
                  <a:lnTo>
                    <a:pt x="573" y="425"/>
                  </a:lnTo>
                  <a:lnTo>
                    <a:pt x="612" y="373"/>
                  </a:lnTo>
                  <a:lnTo>
                    <a:pt x="720" y="356"/>
                  </a:lnTo>
                  <a:lnTo>
                    <a:pt x="823" y="304"/>
                  </a:lnTo>
                  <a:lnTo>
                    <a:pt x="952" y="104"/>
                  </a:lnTo>
                  <a:lnTo>
                    <a:pt x="1077" y="0"/>
                  </a:lnTo>
                  <a:lnTo>
                    <a:pt x="879" y="252"/>
                  </a:lnTo>
                  <a:lnTo>
                    <a:pt x="862" y="338"/>
                  </a:lnTo>
                  <a:lnTo>
                    <a:pt x="845" y="560"/>
                  </a:lnTo>
                  <a:lnTo>
                    <a:pt x="896" y="747"/>
                  </a:lnTo>
                  <a:lnTo>
                    <a:pt x="896" y="843"/>
                  </a:lnTo>
                  <a:lnTo>
                    <a:pt x="896" y="913"/>
                  </a:lnTo>
                  <a:lnTo>
                    <a:pt x="823" y="996"/>
                  </a:lnTo>
                  <a:lnTo>
                    <a:pt x="823" y="1069"/>
                  </a:lnTo>
                  <a:lnTo>
                    <a:pt x="845" y="1130"/>
                  </a:lnTo>
                  <a:lnTo>
                    <a:pt x="914" y="1148"/>
                  </a:lnTo>
                  <a:lnTo>
                    <a:pt x="965" y="1113"/>
                  </a:lnTo>
                  <a:lnTo>
                    <a:pt x="965" y="1048"/>
                  </a:lnTo>
                  <a:lnTo>
                    <a:pt x="1043" y="1048"/>
                  </a:lnTo>
                  <a:lnTo>
                    <a:pt x="1095" y="1069"/>
                  </a:lnTo>
                  <a:lnTo>
                    <a:pt x="1112" y="1096"/>
                  </a:lnTo>
                  <a:lnTo>
                    <a:pt x="1112" y="1148"/>
                  </a:lnTo>
                  <a:lnTo>
                    <a:pt x="1004" y="1204"/>
                  </a:lnTo>
                  <a:lnTo>
                    <a:pt x="965" y="1204"/>
                  </a:lnTo>
                  <a:lnTo>
                    <a:pt x="879" y="1182"/>
                  </a:lnTo>
                  <a:lnTo>
                    <a:pt x="862" y="1269"/>
                  </a:lnTo>
                  <a:lnTo>
                    <a:pt x="862" y="1387"/>
                  </a:lnTo>
                  <a:lnTo>
                    <a:pt x="806" y="1248"/>
                  </a:lnTo>
                  <a:lnTo>
                    <a:pt x="806" y="1182"/>
                  </a:lnTo>
                  <a:lnTo>
                    <a:pt x="720" y="1113"/>
                  </a:lnTo>
                  <a:lnTo>
                    <a:pt x="703" y="978"/>
                  </a:lnTo>
                  <a:lnTo>
                    <a:pt x="647" y="864"/>
                  </a:lnTo>
                  <a:lnTo>
                    <a:pt x="664" y="625"/>
                  </a:lnTo>
                  <a:lnTo>
                    <a:pt x="664" y="521"/>
                  </a:lnTo>
                  <a:lnTo>
                    <a:pt x="595" y="690"/>
                  </a:lnTo>
                  <a:lnTo>
                    <a:pt x="396" y="965"/>
                  </a:lnTo>
                  <a:lnTo>
                    <a:pt x="288" y="1182"/>
                  </a:lnTo>
                  <a:lnTo>
                    <a:pt x="185" y="1456"/>
                  </a:lnTo>
                  <a:lnTo>
                    <a:pt x="94" y="1791"/>
                  </a:lnTo>
                  <a:lnTo>
                    <a:pt x="133" y="1456"/>
                  </a:lnTo>
                  <a:lnTo>
                    <a:pt x="0" y="1469"/>
                  </a:lnTo>
                  <a:lnTo>
                    <a:pt x="25" y="1317"/>
                  </a:lnTo>
                  <a:lnTo>
                    <a:pt x="94" y="1248"/>
                  </a:lnTo>
                  <a:lnTo>
                    <a:pt x="94" y="1165"/>
                  </a:lnTo>
                  <a:lnTo>
                    <a:pt x="94" y="1069"/>
                  </a:lnTo>
                  <a:lnTo>
                    <a:pt x="202" y="913"/>
                  </a:lnTo>
                  <a:lnTo>
                    <a:pt x="327" y="690"/>
                  </a:lnTo>
                  <a:lnTo>
                    <a:pt x="146" y="843"/>
                  </a:lnTo>
                  <a:lnTo>
                    <a:pt x="25" y="930"/>
                  </a:lnTo>
                  <a:lnTo>
                    <a:pt x="25" y="777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-372960" y="6154560"/>
              <a:ext cx="214560" cy="170280"/>
            </a:xfrm>
            <a:custGeom>
              <a:avLst/>
              <a:gdLst/>
              <a:ahLst/>
              <a:rect l="0" t="0" r="r" b="b"/>
              <a:pathLst>
                <a:path w="596" h="473">
                  <a:moveTo>
                    <a:pt x="16" y="411"/>
                  </a:moveTo>
                  <a:lnTo>
                    <a:pt x="211" y="293"/>
                  </a:lnTo>
                  <a:lnTo>
                    <a:pt x="261" y="197"/>
                  </a:lnTo>
                  <a:lnTo>
                    <a:pt x="418" y="112"/>
                  </a:lnTo>
                  <a:lnTo>
                    <a:pt x="596" y="0"/>
                  </a:lnTo>
                  <a:lnTo>
                    <a:pt x="494" y="226"/>
                  </a:lnTo>
                  <a:lnTo>
                    <a:pt x="372" y="473"/>
                  </a:lnTo>
                  <a:lnTo>
                    <a:pt x="372" y="373"/>
                  </a:lnTo>
                  <a:lnTo>
                    <a:pt x="418" y="226"/>
                  </a:lnTo>
                  <a:lnTo>
                    <a:pt x="418" y="197"/>
                  </a:lnTo>
                  <a:lnTo>
                    <a:pt x="334" y="259"/>
                  </a:lnTo>
                  <a:lnTo>
                    <a:pt x="244" y="343"/>
                  </a:lnTo>
                  <a:lnTo>
                    <a:pt x="0" y="423"/>
                  </a:lnTo>
                  <a:lnTo>
                    <a:pt x="16" y="411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676440" y="5489640"/>
              <a:ext cx="370080" cy="270360"/>
            </a:xfrm>
            <a:custGeom>
              <a:avLst/>
              <a:gdLst/>
              <a:ahLst/>
              <a:rect l="0" t="0" r="r" b="b"/>
              <a:pathLst>
                <a:path w="1028" h="751">
                  <a:moveTo>
                    <a:pt x="1028" y="17"/>
                  </a:moveTo>
                  <a:lnTo>
                    <a:pt x="803" y="136"/>
                  </a:lnTo>
                  <a:lnTo>
                    <a:pt x="750" y="221"/>
                  </a:lnTo>
                  <a:lnTo>
                    <a:pt x="803" y="221"/>
                  </a:lnTo>
                  <a:lnTo>
                    <a:pt x="697" y="375"/>
                  </a:lnTo>
                  <a:lnTo>
                    <a:pt x="534" y="499"/>
                  </a:lnTo>
                  <a:lnTo>
                    <a:pt x="401" y="552"/>
                  </a:lnTo>
                  <a:lnTo>
                    <a:pt x="167" y="654"/>
                  </a:lnTo>
                  <a:lnTo>
                    <a:pt x="0" y="751"/>
                  </a:lnTo>
                  <a:lnTo>
                    <a:pt x="149" y="720"/>
                  </a:lnTo>
                  <a:lnTo>
                    <a:pt x="330" y="637"/>
                  </a:lnTo>
                  <a:lnTo>
                    <a:pt x="476" y="637"/>
                  </a:lnTo>
                  <a:lnTo>
                    <a:pt x="605" y="530"/>
                  </a:lnTo>
                  <a:lnTo>
                    <a:pt x="825" y="309"/>
                  </a:lnTo>
                  <a:lnTo>
                    <a:pt x="988" y="119"/>
                  </a:lnTo>
                  <a:lnTo>
                    <a:pt x="1006" y="0"/>
                  </a:lnTo>
                  <a:lnTo>
                    <a:pt x="1028" y="17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-681120" y="5500800"/>
              <a:ext cx="538560" cy="938520"/>
            </a:xfrm>
            <a:custGeom>
              <a:avLst/>
              <a:gdLst/>
              <a:ahLst/>
              <a:rect l="0" t="0" r="r" b="b"/>
              <a:pathLst>
                <a:path w="1496" h="2607">
                  <a:moveTo>
                    <a:pt x="1148" y="1283"/>
                  </a:moveTo>
                  <a:lnTo>
                    <a:pt x="949" y="978"/>
                  </a:lnTo>
                  <a:lnTo>
                    <a:pt x="962" y="908"/>
                  </a:lnTo>
                  <a:lnTo>
                    <a:pt x="949" y="824"/>
                  </a:lnTo>
                  <a:lnTo>
                    <a:pt x="949" y="1045"/>
                  </a:lnTo>
                  <a:lnTo>
                    <a:pt x="1112" y="1287"/>
                  </a:lnTo>
                  <a:lnTo>
                    <a:pt x="1316" y="1412"/>
                  </a:lnTo>
                  <a:lnTo>
                    <a:pt x="1408" y="1491"/>
                  </a:lnTo>
                  <a:lnTo>
                    <a:pt x="1294" y="1526"/>
                  </a:lnTo>
                  <a:lnTo>
                    <a:pt x="1294" y="1698"/>
                  </a:lnTo>
                  <a:lnTo>
                    <a:pt x="1148" y="1853"/>
                  </a:lnTo>
                  <a:lnTo>
                    <a:pt x="874" y="1972"/>
                  </a:lnTo>
                  <a:lnTo>
                    <a:pt x="600" y="2025"/>
                  </a:lnTo>
                  <a:lnTo>
                    <a:pt x="455" y="1835"/>
                  </a:lnTo>
                  <a:lnTo>
                    <a:pt x="455" y="1650"/>
                  </a:lnTo>
                  <a:lnTo>
                    <a:pt x="561" y="1199"/>
                  </a:lnTo>
                  <a:lnTo>
                    <a:pt x="402" y="1509"/>
                  </a:lnTo>
                  <a:lnTo>
                    <a:pt x="291" y="1716"/>
                  </a:lnTo>
                  <a:lnTo>
                    <a:pt x="216" y="1906"/>
                  </a:lnTo>
                  <a:lnTo>
                    <a:pt x="163" y="2197"/>
                  </a:lnTo>
                  <a:lnTo>
                    <a:pt x="48" y="2417"/>
                  </a:lnTo>
                  <a:lnTo>
                    <a:pt x="0" y="2518"/>
                  </a:lnTo>
                  <a:lnTo>
                    <a:pt x="0" y="2607"/>
                  </a:lnTo>
                  <a:lnTo>
                    <a:pt x="88" y="2505"/>
                  </a:lnTo>
                  <a:lnTo>
                    <a:pt x="180" y="2333"/>
                  </a:lnTo>
                  <a:lnTo>
                    <a:pt x="233" y="2227"/>
                  </a:lnTo>
                  <a:lnTo>
                    <a:pt x="361" y="2369"/>
                  </a:lnTo>
                  <a:lnTo>
                    <a:pt x="635" y="2435"/>
                  </a:lnTo>
                  <a:lnTo>
                    <a:pt x="891" y="2382"/>
                  </a:lnTo>
                  <a:lnTo>
                    <a:pt x="1130" y="2227"/>
                  </a:lnTo>
                  <a:lnTo>
                    <a:pt x="728" y="2369"/>
                  </a:lnTo>
                  <a:lnTo>
                    <a:pt x="455" y="2280"/>
                  </a:lnTo>
                  <a:lnTo>
                    <a:pt x="361" y="2091"/>
                  </a:lnTo>
                  <a:lnTo>
                    <a:pt x="361" y="1954"/>
                  </a:lnTo>
                  <a:lnTo>
                    <a:pt x="361" y="1906"/>
                  </a:lnTo>
                  <a:lnTo>
                    <a:pt x="437" y="2047"/>
                  </a:lnTo>
                  <a:lnTo>
                    <a:pt x="583" y="2144"/>
                  </a:lnTo>
                  <a:lnTo>
                    <a:pt x="874" y="2108"/>
                  </a:lnTo>
                  <a:lnTo>
                    <a:pt x="1170" y="1972"/>
                  </a:lnTo>
                  <a:lnTo>
                    <a:pt x="1443" y="1782"/>
                  </a:lnTo>
                  <a:lnTo>
                    <a:pt x="1496" y="1614"/>
                  </a:lnTo>
                  <a:lnTo>
                    <a:pt x="1496" y="1447"/>
                  </a:lnTo>
                  <a:lnTo>
                    <a:pt x="1408" y="1319"/>
                  </a:lnTo>
                  <a:lnTo>
                    <a:pt x="1280" y="1239"/>
                  </a:lnTo>
                  <a:lnTo>
                    <a:pt x="1205" y="1168"/>
                  </a:lnTo>
                  <a:lnTo>
                    <a:pt x="1188" y="1098"/>
                  </a:lnTo>
                  <a:lnTo>
                    <a:pt x="1112" y="1045"/>
                  </a:lnTo>
                  <a:lnTo>
                    <a:pt x="1112" y="948"/>
                  </a:lnTo>
                  <a:lnTo>
                    <a:pt x="1130" y="842"/>
                  </a:lnTo>
                  <a:lnTo>
                    <a:pt x="1130" y="586"/>
                  </a:lnTo>
                  <a:lnTo>
                    <a:pt x="1188" y="414"/>
                  </a:lnTo>
                  <a:lnTo>
                    <a:pt x="1205" y="0"/>
                  </a:lnTo>
                  <a:lnTo>
                    <a:pt x="1112" y="330"/>
                  </a:lnTo>
                  <a:lnTo>
                    <a:pt x="1054" y="520"/>
                  </a:lnTo>
                  <a:lnTo>
                    <a:pt x="1028" y="599"/>
                  </a:lnTo>
                  <a:lnTo>
                    <a:pt x="1019" y="740"/>
                  </a:lnTo>
                  <a:lnTo>
                    <a:pt x="909" y="630"/>
                  </a:lnTo>
                  <a:lnTo>
                    <a:pt x="909" y="568"/>
                  </a:lnTo>
                  <a:lnTo>
                    <a:pt x="909" y="842"/>
                  </a:lnTo>
                  <a:lnTo>
                    <a:pt x="1041" y="1150"/>
                  </a:lnTo>
                  <a:lnTo>
                    <a:pt x="1188" y="1319"/>
                  </a:lnTo>
                  <a:lnTo>
                    <a:pt x="1258" y="1372"/>
                  </a:lnTo>
                  <a:lnTo>
                    <a:pt x="1148" y="1283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6237360"/>
              <a:ext cx="1275120" cy="771840"/>
            </a:xfrm>
            <a:custGeom>
              <a:avLst/>
              <a:gdLst/>
              <a:ahLst/>
              <a:rect l="0" t="0" r="r" b="b"/>
              <a:pathLst>
                <a:path w="3542" h="2144">
                  <a:moveTo>
                    <a:pt x="35" y="8"/>
                  </a:moveTo>
                  <a:lnTo>
                    <a:pt x="218" y="200"/>
                  </a:lnTo>
                  <a:lnTo>
                    <a:pt x="385" y="453"/>
                  </a:lnTo>
                  <a:lnTo>
                    <a:pt x="547" y="553"/>
                  </a:lnTo>
                  <a:lnTo>
                    <a:pt x="888" y="588"/>
                  </a:lnTo>
                  <a:lnTo>
                    <a:pt x="1251" y="601"/>
                  </a:lnTo>
                  <a:lnTo>
                    <a:pt x="1689" y="601"/>
                  </a:lnTo>
                  <a:lnTo>
                    <a:pt x="1926" y="635"/>
                  </a:lnTo>
                  <a:lnTo>
                    <a:pt x="2325" y="635"/>
                  </a:lnTo>
                  <a:lnTo>
                    <a:pt x="2635" y="657"/>
                  </a:lnTo>
                  <a:lnTo>
                    <a:pt x="3016" y="805"/>
                  </a:lnTo>
                  <a:lnTo>
                    <a:pt x="3270" y="927"/>
                  </a:lnTo>
                  <a:lnTo>
                    <a:pt x="3506" y="1329"/>
                  </a:lnTo>
                  <a:lnTo>
                    <a:pt x="3542" y="1617"/>
                  </a:lnTo>
                  <a:lnTo>
                    <a:pt x="3305" y="2043"/>
                  </a:lnTo>
                  <a:lnTo>
                    <a:pt x="3178" y="2144"/>
                  </a:lnTo>
                  <a:lnTo>
                    <a:pt x="2565" y="1978"/>
                  </a:lnTo>
                  <a:lnTo>
                    <a:pt x="2325" y="1874"/>
                  </a:lnTo>
                  <a:lnTo>
                    <a:pt x="2176" y="1891"/>
                  </a:lnTo>
                  <a:lnTo>
                    <a:pt x="2176" y="2091"/>
                  </a:lnTo>
                  <a:lnTo>
                    <a:pt x="2093" y="1921"/>
                  </a:lnTo>
                  <a:lnTo>
                    <a:pt x="2031" y="1791"/>
                  </a:lnTo>
                  <a:lnTo>
                    <a:pt x="1834" y="1686"/>
                  </a:lnTo>
                  <a:lnTo>
                    <a:pt x="1019" y="1329"/>
                  </a:lnTo>
                  <a:lnTo>
                    <a:pt x="748" y="1181"/>
                  </a:lnTo>
                  <a:lnTo>
                    <a:pt x="604" y="1146"/>
                  </a:lnTo>
                  <a:lnTo>
                    <a:pt x="569" y="1198"/>
                  </a:lnTo>
                  <a:lnTo>
                    <a:pt x="547" y="927"/>
                  </a:lnTo>
                  <a:lnTo>
                    <a:pt x="420" y="657"/>
                  </a:lnTo>
                  <a:lnTo>
                    <a:pt x="218" y="300"/>
                  </a:lnTo>
                  <a:lnTo>
                    <a:pt x="74" y="148"/>
                  </a:lnTo>
                  <a:lnTo>
                    <a:pt x="0" y="78"/>
                  </a:lnTo>
                  <a:lnTo>
                    <a:pt x="21" y="0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-690480" y="6111720"/>
              <a:ext cx="1008360" cy="825840"/>
            </a:xfrm>
            <a:custGeom>
              <a:avLst/>
              <a:gdLst/>
              <a:ahLst/>
              <a:rect l="0" t="0" r="r" b="b"/>
              <a:pathLst>
                <a:path w="2801" h="2294">
                  <a:moveTo>
                    <a:pt x="0" y="1478"/>
                  </a:moveTo>
                  <a:lnTo>
                    <a:pt x="57" y="1592"/>
                  </a:lnTo>
                  <a:lnTo>
                    <a:pt x="167" y="1562"/>
                  </a:lnTo>
                  <a:lnTo>
                    <a:pt x="754" y="1182"/>
                  </a:lnTo>
                  <a:lnTo>
                    <a:pt x="1212" y="837"/>
                  </a:lnTo>
                  <a:lnTo>
                    <a:pt x="1416" y="458"/>
                  </a:lnTo>
                  <a:lnTo>
                    <a:pt x="1504" y="326"/>
                  </a:lnTo>
                  <a:lnTo>
                    <a:pt x="1562" y="70"/>
                  </a:lnTo>
                  <a:lnTo>
                    <a:pt x="1597" y="0"/>
                  </a:lnTo>
                  <a:lnTo>
                    <a:pt x="1923" y="480"/>
                  </a:lnTo>
                  <a:lnTo>
                    <a:pt x="2161" y="718"/>
                  </a:lnTo>
                  <a:lnTo>
                    <a:pt x="2386" y="1165"/>
                  </a:lnTo>
                  <a:lnTo>
                    <a:pt x="2399" y="1562"/>
                  </a:lnTo>
                  <a:lnTo>
                    <a:pt x="2532" y="1817"/>
                  </a:lnTo>
                  <a:lnTo>
                    <a:pt x="2638" y="2007"/>
                  </a:lnTo>
                  <a:lnTo>
                    <a:pt x="2801" y="2126"/>
                  </a:lnTo>
                  <a:lnTo>
                    <a:pt x="1375" y="2161"/>
                  </a:lnTo>
                  <a:lnTo>
                    <a:pt x="1650" y="1645"/>
                  </a:lnTo>
                  <a:lnTo>
                    <a:pt x="1831" y="1271"/>
                  </a:lnTo>
                  <a:lnTo>
                    <a:pt x="1923" y="1151"/>
                  </a:lnTo>
                  <a:lnTo>
                    <a:pt x="1650" y="1526"/>
                  </a:lnTo>
                  <a:lnTo>
                    <a:pt x="1487" y="1734"/>
                  </a:lnTo>
                  <a:lnTo>
                    <a:pt x="1434" y="1795"/>
                  </a:lnTo>
                  <a:lnTo>
                    <a:pt x="1469" y="1592"/>
                  </a:lnTo>
                  <a:lnTo>
                    <a:pt x="1469" y="1407"/>
                  </a:lnTo>
                  <a:lnTo>
                    <a:pt x="1579" y="1165"/>
                  </a:lnTo>
                  <a:lnTo>
                    <a:pt x="1451" y="1425"/>
                  </a:lnTo>
                  <a:lnTo>
                    <a:pt x="1252" y="1817"/>
                  </a:lnTo>
                  <a:lnTo>
                    <a:pt x="1434" y="1372"/>
                  </a:lnTo>
                  <a:lnTo>
                    <a:pt x="1137" y="1782"/>
                  </a:lnTo>
                  <a:lnTo>
                    <a:pt x="1252" y="1495"/>
                  </a:lnTo>
                  <a:lnTo>
                    <a:pt x="1451" y="1098"/>
                  </a:lnTo>
                  <a:lnTo>
                    <a:pt x="1562" y="820"/>
                  </a:lnTo>
                  <a:lnTo>
                    <a:pt x="1614" y="529"/>
                  </a:lnTo>
                  <a:lnTo>
                    <a:pt x="1632" y="348"/>
                  </a:lnTo>
                  <a:lnTo>
                    <a:pt x="1469" y="771"/>
                  </a:lnTo>
                  <a:lnTo>
                    <a:pt x="1270" y="1133"/>
                  </a:lnTo>
                  <a:lnTo>
                    <a:pt x="1102" y="1301"/>
                  </a:lnTo>
                  <a:lnTo>
                    <a:pt x="899" y="1509"/>
                  </a:lnTo>
                  <a:lnTo>
                    <a:pt x="427" y="1936"/>
                  </a:lnTo>
                  <a:lnTo>
                    <a:pt x="57" y="2232"/>
                  </a:lnTo>
                  <a:lnTo>
                    <a:pt x="0" y="2294"/>
                  </a:lnTo>
                  <a:lnTo>
                    <a:pt x="0" y="1478"/>
                  </a:lnTo>
                  <a:close/>
                </a:path>
              </a:pathLst>
            </a:custGeom>
            <a:solidFill>
              <a:srgbClr val="008050"/>
            </a:solidFill>
            <a:ln w="12600">
              <a:solidFill>
                <a:srgbClr val="008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41360" y="1758960"/>
            <a:ext cx="7994520" cy="82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61800" y="419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