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511200" y="-789120"/>
            <a:ext cx="9860400" cy="7939440"/>
            <a:chOff x="-511200" y="-789120"/>
            <a:chExt cx="9860400" cy="7939440"/>
          </a:xfrm>
        </p:grpSpPr>
        <p:sp>
          <p:nvSpPr>
            <p:cNvPr id="1" name=""/>
            <p:cNvSpPr/>
            <p:nvPr/>
          </p:nvSpPr>
          <p:spPr>
            <a:xfrm>
              <a:off x="-511200" y="-789120"/>
              <a:ext cx="9860400" cy="7939440"/>
            </a:xfrm>
            <a:custGeom>
              <a:avLst/>
              <a:gdLst/>
              <a:ahLst/>
              <a:rect l="0" t="0" r="r" b="b"/>
              <a:pathLst>
                <a:path w="27390" h="22054">
                  <a:moveTo>
                    <a:pt x="1449" y="16588"/>
                  </a:moveTo>
                  <a:lnTo>
                    <a:pt x="2625" y="12809"/>
                  </a:lnTo>
                  <a:lnTo>
                    <a:pt x="2489" y="12809"/>
                  </a:lnTo>
                  <a:lnTo>
                    <a:pt x="2550" y="12676"/>
                  </a:lnTo>
                  <a:lnTo>
                    <a:pt x="2489" y="12615"/>
                  </a:lnTo>
                  <a:lnTo>
                    <a:pt x="2625" y="12359"/>
                  </a:lnTo>
                  <a:lnTo>
                    <a:pt x="2489" y="12166"/>
                  </a:lnTo>
                  <a:lnTo>
                    <a:pt x="2696" y="11465"/>
                  </a:lnTo>
                  <a:lnTo>
                    <a:pt x="1947" y="10949"/>
                  </a:lnTo>
                  <a:lnTo>
                    <a:pt x="1947" y="10632"/>
                  </a:lnTo>
                  <a:lnTo>
                    <a:pt x="1881" y="10632"/>
                  </a:lnTo>
                  <a:lnTo>
                    <a:pt x="1947" y="10561"/>
                  </a:lnTo>
                  <a:lnTo>
                    <a:pt x="1810" y="10438"/>
                  </a:lnTo>
                  <a:lnTo>
                    <a:pt x="1881" y="10178"/>
                  </a:lnTo>
                  <a:lnTo>
                    <a:pt x="3493" y="9473"/>
                  </a:lnTo>
                  <a:lnTo>
                    <a:pt x="3700" y="8769"/>
                  </a:lnTo>
                  <a:lnTo>
                    <a:pt x="3427" y="8575"/>
                  </a:lnTo>
                  <a:lnTo>
                    <a:pt x="3564" y="8443"/>
                  </a:lnTo>
                  <a:lnTo>
                    <a:pt x="3295" y="8390"/>
                  </a:lnTo>
                  <a:lnTo>
                    <a:pt x="22760" y="0"/>
                  </a:lnTo>
                  <a:lnTo>
                    <a:pt x="23165" y="695"/>
                  </a:lnTo>
                  <a:lnTo>
                    <a:pt x="23038" y="889"/>
                  </a:lnTo>
                  <a:lnTo>
                    <a:pt x="23372" y="1215"/>
                  </a:lnTo>
                  <a:lnTo>
                    <a:pt x="24447" y="889"/>
                  </a:lnTo>
                  <a:lnTo>
                    <a:pt x="24584" y="1149"/>
                  </a:lnTo>
                  <a:lnTo>
                    <a:pt x="24518" y="1215"/>
                  </a:lnTo>
                  <a:lnTo>
                    <a:pt x="24729" y="1598"/>
                  </a:lnTo>
                  <a:lnTo>
                    <a:pt x="24729" y="1660"/>
                  </a:lnTo>
                  <a:lnTo>
                    <a:pt x="24791" y="1849"/>
                  </a:lnTo>
                  <a:lnTo>
                    <a:pt x="25796" y="7496"/>
                  </a:lnTo>
                  <a:lnTo>
                    <a:pt x="26553" y="9161"/>
                  </a:lnTo>
                  <a:lnTo>
                    <a:pt x="27285" y="8914"/>
                  </a:lnTo>
                  <a:lnTo>
                    <a:pt x="27390" y="22054"/>
                  </a:lnTo>
                  <a:lnTo>
                    <a:pt x="16715" y="22054"/>
                  </a:lnTo>
                  <a:lnTo>
                    <a:pt x="16173" y="15601"/>
                  </a:lnTo>
                  <a:lnTo>
                    <a:pt x="15913" y="15623"/>
                  </a:lnTo>
                  <a:lnTo>
                    <a:pt x="15160" y="16072"/>
                  </a:lnTo>
                  <a:lnTo>
                    <a:pt x="14635" y="16539"/>
                  </a:lnTo>
                  <a:lnTo>
                    <a:pt x="14283" y="16975"/>
                  </a:lnTo>
                  <a:lnTo>
                    <a:pt x="14036" y="17358"/>
                  </a:lnTo>
                  <a:lnTo>
                    <a:pt x="13878" y="17724"/>
                  </a:lnTo>
                  <a:lnTo>
                    <a:pt x="13750" y="18169"/>
                  </a:lnTo>
                  <a:lnTo>
                    <a:pt x="13644" y="18702"/>
                  </a:lnTo>
                  <a:lnTo>
                    <a:pt x="14111" y="18953"/>
                  </a:lnTo>
                  <a:lnTo>
                    <a:pt x="14014" y="19098"/>
                  </a:lnTo>
                  <a:lnTo>
                    <a:pt x="14111" y="19270"/>
                  </a:lnTo>
                  <a:lnTo>
                    <a:pt x="13732" y="19318"/>
                  </a:lnTo>
                  <a:lnTo>
                    <a:pt x="13644" y="19917"/>
                  </a:lnTo>
                  <a:lnTo>
                    <a:pt x="13838" y="19917"/>
                  </a:lnTo>
                  <a:lnTo>
                    <a:pt x="13644" y="20045"/>
                  </a:lnTo>
                  <a:lnTo>
                    <a:pt x="13591" y="22001"/>
                  </a:lnTo>
                  <a:lnTo>
                    <a:pt x="0" y="22001"/>
                  </a:lnTo>
                  <a:lnTo>
                    <a:pt x="1392" y="17838"/>
                  </a:lnTo>
                  <a:lnTo>
                    <a:pt x="1449" y="16588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14200" y="4405320"/>
              <a:ext cx="1526040" cy="543240"/>
            </a:xfrm>
            <a:custGeom>
              <a:avLst/>
              <a:gdLst/>
              <a:ahLst/>
              <a:rect l="0" t="0" r="r" b="b"/>
              <a:pathLst>
                <a:path w="4239" h="1509">
                  <a:moveTo>
                    <a:pt x="0" y="1509"/>
                  </a:moveTo>
                  <a:lnTo>
                    <a:pt x="4239" y="182"/>
                  </a:lnTo>
                  <a:lnTo>
                    <a:pt x="4174" y="0"/>
                  </a:lnTo>
                  <a:lnTo>
                    <a:pt x="56" y="1257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07960" y="3479760"/>
              <a:ext cx="1378440" cy="590760"/>
            </a:xfrm>
            <a:custGeom>
              <a:avLst/>
              <a:gdLst/>
              <a:ahLst/>
              <a:rect l="0" t="0" r="r" b="b"/>
              <a:pathLst>
                <a:path w="3829" h="1641">
                  <a:moveTo>
                    <a:pt x="3829" y="0"/>
                  </a:moveTo>
                  <a:lnTo>
                    <a:pt x="0" y="1389"/>
                  </a:lnTo>
                  <a:lnTo>
                    <a:pt x="0" y="1580"/>
                  </a:lnTo>
                  <a:lnTo>
                    <a:pt x="197" y="1641"/>
                  </a:lnTo>
                  <a:lnTo>
                    <a:pt x="3759" y="386"/>
                  </a:lnTo>
                  <a:lnTo>
                    <a:pt x="3829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7880" y="4264200"/>
              <a:ext cx="1233720" cy="452880"/>
            </a:xfrm>
            <a:custGeom>
              <a:avLst/>
              <a:gdLst/>
              <a:ahLst/>
              <a:rect l="0" t="0" r="r" b="b"/>
              <a:pathLst>
                <a:path w="3427" h="1258">
                  <a:moveTo>
                    <a:pt x="0" y="1258"/>
                  </a:moveTo>
                  <a:lnTo>
                    <a:pt x="3427" y="194"/>
                  </a:lnTo>
                  <a:lnTo>
                    <a:pt x="3427" y="0"/>
                  </a:lnTo>
                  <a:lnTo>
                    <a:pt x="0" y="1073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3360" y="3687840"/>
              <a:ext cx="1157760" cy="590760"/>
            </a:xfrm>
            <a:custGeom>
              <a:avLst/>
              <a:gdLst/>
              <a:ahLst/>
              <a:rect l="0" t="0" r="r" b="b"/>
              <a:pathLst>
                <a:path w="3216" h="1641">
                  <a:moveTo>
                    <a:pt x="3216" y="0"/>
                  </a:moveTo>
                  <a:lnTo>
                    <a:pt x="2687" y="251"/>
                  </a:lnTo>
                  <a:lnTo>
                    <a:pt x="2621" y="381"/>
                  </a:lnTo>
                  <a:lnTo>
                    <a:pt x="2345" y="381"/>
                  </a:lnTo>
                  <a:lnTo>
                    <a:pt x="2345" y="321"/>
                  </a:lnTo>
                  <a:lnTo>
                    <a:pt x="201" y="1012"/>
                  </a:lnTo>
                  <a:lnTo>
                    <a:pt x="139" y="1072"/>
                  </a:lnTo>
                  <a:lnTo>
                    <a:pt x="0" y="1012"/>
                  </a:lnTo>
                  <a:lnTo>
                    <a:pt x="0" y="1394"/>
                  </a:lnTo>
                  <a:lnTo>
                    <a:pt x="201" y="1459"/>
                  </a:lnTo>
                  <a:lnTo>
                    <a:pt x="139" y="1641"/>
                  </a:lnTo>
                  <a:lnTo>
                    <a:pt x="201" y="1641"/>
                  </a:lnTo>
                  <a:lnTo>
                    <a:pt x="332" y="1459"/>
                  </a:lnTo>
                  <a:lnTo>
                    <a:pt x="533" y="1142"/>
                  </a:lnTo>
                  <a:lnTo>
                    <a:pt x="673" y="1203"/>
                  </a:lnTo>
                  <a:lnTo>
                    <a:pt x="739" y="1072"/>
                  </a:lnTo>
                  <a:lnTo>
                    <a:pt x="936" y="1072"/>
                  </a:lnTo>
                  <a:lnTo>
                    <a:pt x="1072" y="951"/>
                  </a:lnTo>
                  <a:lnTo>
                    <a:pt x="1339" y="951"/>
                  </a:lnTo>
                  <a:lnTo>
                    <a:pt x="1544" y="886"/>
                  </a:lnTo>
                  <a:lnTo>
                    <a:pt x="1741" y="694"/>
                  </a:lnTo>
                  <a:lnTo>
                    <a:pt x="1947" y="755"/>
                  </a:lnTo>
                  <a:lnTo>
                    <a:pt x="2148" y="694"/>
                  </a:lnTo>
                  <a:lnTo>
                    <a:pt x="2148" y="507"/>
                  </a:lnTo>
                  <a:lnTo>
                    <a:pt x="2420" y="507"/>
                  </a:lnTo>
                  <a:lnTo>
                    <a:pt x="2753" y="442"/>
                  </a:lnTo>
                  <a:lnTo>
                    <a:pt x="3028" y="321"/>
                  </a:lnTo>
                  <a:lnTo>
                    <a:pt x="3159" y="507"/>
                  </a:lnTo>
                  <a:lnTo>
                    <a:pt x="321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27000" y="5672160"/>
              <a:ext cx="1062360" cy="1168920"/>
            </a:xfrm>
            <a:custGeom>
              <a:avLst/>
              <a:gdLst/>
              <a:ahLst/>
              <a:rect l="0" t="0" r="r" b="b"/>
              <a:pathLst>
                <a:path w="2951" h="3247">
                  <a:moveTo>
                    <a:pt x="0" y="3186"/>
                  </a:moveTo>
                  <a:lnTo>
                    <a:pt x="0" y="3063"/>
                  </a:lnTo>
                  <a:lnTo>
                    <a:pt x="131" y="2871"/>
                  </a:lnTo>
                  <a:lnTo>
                    <a:pt x="463" y="2810"/>
                  </a:lnTo>
                  <a:lnTo>
                    <a:pt x="257" y="2608"/>
                  </a:lnTo>
                  <a:lnTo>
                    <a:pt x="131" y="2552"/>
                  </a:lnTo>
                  <a:lnTo>
                    <a:pt x="131" y="2419"/>
                  </a:lnTo>
                  <a:lnTo>
                    <a:pt x="327" y="2419"/>
                  </a:lnTo>
                  <a:lnTo>
                    <a:pt x="257" y="2170"/>
                  </a:lnTo>
                  <a:lnTo>
                    <a:pt x="393" y="1851"/>
                  </a:lnTo>
                  <a:lnTo>
                    <a:pt x="664" y="1724"/>
                  </a:lnTo>
                  <a:lnTo>
                    <a:pt x="598" y="1531"/>
                  </a:lnTo>
                  <a:lnTo>
                    <a:pt x="598" y="1461"/>
                  </a:lnTo>
                  <a:lnTo>
                    <a:pt x="865" y="1400"/>
                  </a:lnTo>
                  <a:lnTo>
                    <a:pt x="795" y="1278"/>
                  </a:lnTo>
                  <a:lnTo>
                    <a:pt x="598" y="1400"/>
                  </a:lnTo>
                  <a:lnTo>
                    <a:pt x="598" y="1151"/>
                  </a:lnTo>
                  <a:lnTo>
                    <a:pt x="721" y="897"/>
                  </a:lnTo>
                  <a:lnTo>
                    <a:pt x="865" y="1151"/>
                  </a:lnTo>
                  <a:lnTo>
                    <a:pt x="865" y="958"/>
                  </a:lnTo>
                  <a:lnTo>
                    <a:pt x="865" y="769"/>
                  </a:lnTo>
                  <a:lnTo>
                    <a:pt x="1066" y="708"/>
                  </a:lnTo>
                  <a:lnTo>
                    <a:pt x="1271" y="642"/>
                  </a:lnTo>
                  <a:lnTo>
                    <a:pt x="996" y="450"/>
                  </a:lnTo>
                  <a:lnTo>
                    <a:pt x="1341" y="389"/>
                  </a:lnTo>
                  <a:lnTo>
                    <a:pt x="1472" y="389"/>
                  </a:lnTo>
                  <a:lnTo>
                    <a:pt x="1341" y="319"/>
                  </a:lnTo>
                  <a:lnTo>
                    <a:pt x="1341" y="192"/>
                  </a:lnTo>
                  <a:lnTo>
                    <a:pt x="1066" y="65"/>
                  </a:lnTo>
                  <a:lnTo>
                    <a:pt x="1472" y="0"/>
                  </a:lnTo>
                  <a:lnTo>
                    <a:pt x="1543" y="65"/>
                  </a:lnTo>
                  <a:lnTo>
                    <a:pt x="1736" y="389"/>
                  </a:lnTo>
                  <a:lnTo>
                    <a:pt x="1472" y="577"/>
                  </a:lnTo>
                  <a:lnTo>
                    <a:pt x="1472" y="769"/>
                  </a:lnTo>
                  <a:lnTo>
                    <a:pt x="1197" y="827"/>
                  </a:lnTo>
                  <a:lnTo>
                    <a:pt x="1197" y="1085"/>
                  </a:lnTo>
                  <a:lnTo>
                    <a:pt x="1271" y="1216"/>
                  </a:lnTo>
                  <a:lnTo>
                    <a:pt x="1543" y="1216"/>
                  </a:lnTo>
                  <a:lnTo>
                    <a:pt x="1472" y="2104"/>
                  </a:lnTo>
                  <a:lnTo>
                    <a:pt x="1543" y="1978"/>
                  </a:lnTo>
                  <a:lnTo>
                    <a:pt x="1806" y="1978"/>
                  </a:lnTo>
                  <a:lnTo>
                    <a:pt x="1806" y="2104"/>
                  </a:lnTo>
                  <a:lnTo>
                    <a:pt x="2068" y="2170"/>
                  </a:lnTo>
                  <a:lnTo>
                    <a:pt x="2203" y="2288"/>
                  </a:lnTo>
                  <a:lnTo>
                    <a:pt x="2203" y="2552"/>
                  </a:lnTo>
                  <a:lnTo>
                    <a:pt x="2133" y="2552"/>
                  </a:lnTo>
                  <a:lnTo>
                    <a:pt x="2133" y="2871"/>
                  </a:lnTo>
                  <a:lnTo>
                    <a:pt x="2007" y="3002"/>
                  </a:lnTo>
                  <a:lnTo>
                    <a:pt x="2269" y="3063"/>
                  </a:lnTo>
                  <a:lnTo>
                    <a:pt x="2544" y="2871"/>
                  </a:lnTo>
                  <a:lnTo>
                    <a:pt x="2544" y="2608"/>
                  </a:lnTo>
                  <a:lnTo>
                    <a:pt x="2885" y="2419"/>
                  </a:lnTo>
                  <a:lnTo>
                    <a:pt x="2951" y="2170"/>
                  </a:lnTo>
                  <a:lnTo>
                    <a:pt x="2951" y="2810"/>
                  </a:lnTo>
                  <a:lnTo>
                    <a:pt x="2741" y="2740"/>
                  </a:lnTo>
                  <a:lnTo>
                    <a:pt x="2474" y="3129"/>
                  </a:lnTo>
                  <a:lnTo>
                    <a:pt x="2133" y="3247"/>
                  </a:lnTo>
                  <a:lnTo>
                    <a:pt x="1806" y="3247"/>
                  </a:lnTo>
                  <a:lnTo>
                    <a:pt x="1806" y="3002"/>
                  </a:lnTo>
                  <a:lnTo>
                    <a:pt x="1806" y="2740"/>
                  </a:lnTo>
                  <a:lnTo>
                    <a:pt x="1402" y="2740"/>
                  </a:lnTo>
                  <a:lnTo>
                    <a:pt x="926" y="3063"/>
                  </a:lnTo>
                  <a:lnTo>
                    <a:pt x="664" y="3186"/>
                  </a:lnTo>
                  <a:lnTo>
                    <a:pt x="996" y="2740"/>
                  </a:lnTo>
                  <a:lnTo>
                    <a:pt x="1341" y="2608"/>
                  </a:lnTo>
                  <a:lnTo>
                    <a:pt x="1136" y="2482"/>
                  </a:lnTo>
                  <a:lnTo>
                    <a:pt x="865" y="2419"/>
                  </a:lnTo>
                  <a:lnTo>
                    <a:pt x="865" y="2043"/>
                  </a:lnTo>
                  <a:lnTo>
                    <a:pt x="996" y="1667"/>
                  </a:lnTo>
                  <a:lnTo>
                    <a:pt x="598" y="2104"/>
                  </a:lnTo>
                  <a:lnTo>
                    <a:pt x="393" y="2419"/>
                  </a:lnTo>
                  <a:lnTo>
                    <a:pt x="463" y="2608"/>
                  </a:lnTo>
                  <a:lnTo>
                    <a:pt x="463" y="3063"/>
                  </a:lnTo>
                  <a:lnTo>
                    <a:pt x="795" y="3129"/>
                  </a:lnTo>
                  <a:lnTo>
                    <a:pt x="664" y="3247"/>
                  </a:lnTo>
                  <a:lnTo>
                    <a:pt x="0" y="318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-27000" y="2602080"/>
            <a:ext cx="9336600" cy="4239000"/>
          </a:xfrm>
          <a:custGeom>
            <a:avLst/>
            <a:gdLst/>
            <a:ahLst/>
            <a:rect l="0" t="0" r="r" b="b"/>
            <a:pathLst>
              <a:path w="25935" h="11775">
                <a:moveTo>
                  <a:pt x="7970" y="11775"/>
                </a:moveTo>
                <a:lnTo>
                  <a:pt x="8243" y="8325"/>
                </a:lnTo>
                <a:lnTo>
                  <a:pt x="7833" y="7810"/>
                </a:lnTo>
                <a:lnTo>
                  <a:pt x="7899" y="7485"/>
                </a:lnTo>
                <a:lnTo>
                  <a:pt x="6815" y="6723"/>
                </a:lnTo>
                <a:lnTo>
                  <a:pt x="6352" y="6468"/>
                </a:lnTo>
                <a:lnTo>
                  <a:pt x="6008" y="6723"/>
                </a:lnTo>
                <a:lnTo>
                  <a:pt x="5599" y="6851"/>
                </a:lnTo>
                <a:lnTo>
                  <a:pt x="6409" y="6851"/>
                </a:lnTo>
                <a:lnTo>
                  <a:pt x="7763" y="7617"/>
                </a:lnTo>
                <a:lnTo>
                  <a:pt x="7763" y="7810"/>
                </a:lnTo>
                <a:lnTo>
                  <a:pt x="6281" y="6921"/>
                </a:lnTo>
                <a:lnTo>
                  <a:pt x="5599" y="7168"/>
                </a:lnTo>
                <a:lnTo>
                  <a:pt x="5334" y="6983"/>
                </a:lnTo>
                <a:lnTo>
                  <a:pt x="5132" y="7040"/>
                </a:lnTo>
                <a:lnTo>
                  <a:pt x="0" y="8382"/>
                </a:lnTo>
                <a:lnTo>
                  <a:pt x="0" y="7485"/>
                </a:lnTo>
                <a:lnTo>
                  <a:pt x="5462" y="5958"/>
                </a:lnTo>
                <a:lnTo>
                  <a:pt x="5801" y="6077"/>
                </a:lnTo>
                <a:lnTo>
                  <a:pt x="6480" y="5887"/>
                </a:lnTo>
                <a:lnTo>
                  <a:pt x="8102" y="6851"/>
                </a:lnTo>
                <a:lnTo>
                  <a:pt x="8102" y="6723"/>
                </a:lnTo>
                <a:lnTo>
                  <a:pt x="8040" y="6657"/>
                </a:lnTo>
                <a:lnTo>
                  <a:pt x="7899" y="6657"/>
                </a:lnTo>
                <a:lnTo>
                  <a:pt x="7899" y="6530"/>
                </a:lnTo>
                <a:lnTo>
                  <a:pt x="7564" y="6398"/>
                </a:lnTo>
                <a:lnTo>
                  <a:pt x="7503" y="6398"/>
                </a:lnTo>
                <a:lnTo>
                  <a:pt x="7423" y="6275"/>
                </a:lnTo>
                <a:lnTo>
                  <a:pt x="6754" y="5769"/>
                </a:lnTo>
                <a:lnTo>
                  <a:pt x="6547" y="5698"/>
                </a:lnTo>
                <a:lnTo>
                  <a:pt x="6211" y="5826"/>
                </a:lnTo>
                <a:lnTo>
                  <a:pt x="5942" y="5826"/>
                </a:lnTo>
                <a:lnTo>
                  <a:pt x="5532" y="5769"/>
                </a:lnTo>
                <a:lnTo>
                  <a:pt x="4929" y="5887"/>
                </a:lnTo>
                <a:lnTo>
                  <a:pt x="4797" y="6077"/>
                </a:lnTo>
                <a:lnTo>
                  <a:pt x="4797" y="6143"/>
                </a:lnTo>
                <a:lnTo>
                  <a:pt x="4590" y="6143"/>
                </a:lnTo>
                <a:lnTo>
                  <a:pt x="4590" y="5958"/>
                </a:lnTo>
                <a:lnTo>
                  <a:pt x="4387" y="6077"/>
                </a:lnTo>
                <a:lnTo>
                  <a:pt x="4387" y="6209"/>
                </a:lnTo>
                <a:lnTo>
                  <a:pt x="4184" y="6336"/>
                </a:lnTo>
                <a:lnTo>
                  <a:pt x="4184" y="6209"/>
                </a:lnTo>
                <a:lnTo>
                  <a:pt x="4039" y="6209"/>
                </a:lnTo>
                <a:lnTo>
                  <a:pt x="3502" y="6336"/>
                </a:lnTo>
                <a:lnTo>
                  <a:pt x="3572" y="6398"/>
                </a:lnTo>
                <a:lnTo>
                  <a:pt x="3572" y="6468"/>
                </a:lnTo>
                <a:lnTo>
                  <a:pt x="3303" y="6398"/>
                </a:lnTo>
                <a:lnTo>
                  <a:pt x="3035" y="6530"/>
                </a:lnTo>
                <a:lnTo>
                  <a:pt x="2973" y="6596"/>
                </a:lnTo>
                <a:lnTo>
                  <a:pt x="2629" y="6723"/>
                </a:lnTo>
                <a:lnTo>
                  <a:pt x="2356" y="6657"/>
                </a:lnTo>
                <a:lnTo>
                  <a:pt x="1682" y="6851"/>
                </a:lnTo>
                <a:lnTo>
                  <a:pt x="1484" y="6983"/>
                </a:lnTo>
                <a:lnTo>
                  <a:pt x="1074" y="6983"/>
                </a:lnTo>
                <a:lnTo>
                  <a:pt x="1004" y="7106"/>
                </a:lnTo>
                <a:lnTo>
                  <a:pt x="669" y="7106"/>
                </a:lnTo>
                <a:lnTo>
                  <a:pt x="0" y="7361"/>
                </a:lnTo>
                <a:lnTo>
                  <a:pt x="0" y="7229"/>
                </a:lnTo>
                <a:lnTo>
                  <a:pt x="1555" y="6789"/>
                </a:lnTo>
                <a:lnTo>
                  <a:pt x="3779" y="6077"/>
                </a:lnTo>
                <a:lnTo>
                  <a:pt x="4519" y="5826"/>
                </a:lnTo>
                <a:lnTo>
                  <a:pt x="5532" y="5637"/>
                </a:lnTo>
                <a:lnTo>
                  <a:pt x="5942" y="5698"/>
                </a:lnTo>
                <a:lnTo>
                  <a:pt x="6547" y="5566"/>
                </a:lnTo>
                <a:lnTo>
                  <a:pt x="8577" y="6789"/>
                </a:lnTo>
                <a:lnTo>
                  <a:pt x="6815" y="5381"/>
                </a:lnTo>
                <a:lnTo>
                  <a:pt x="6886" y="5320"/>
                </a:lnTo>
                <a:lnTo>
                  <a:pt x="6952" y="5113"/>
                </a:lnTo>
                <a:lnTo>
                  <a:pt x="7089" y="4928"/>
                </a:lnTo>
                <a:lnTo>
                  <a:pt x="6886" y="4673"/>
                </a:lnTo>
                <a:lnTo>
                  <a:pt x="6886" y="4356"/>
                </a:lnTo>
                <a:lnTo>
                  <a:pt x="7155" y="4097"/>
                </a:lnTo>
                <a:lnTo>
                  <a:pt x="7503" y="3336"/>
                </a:lnTo>
                <a:lnTo>
                  <a:pt x="7833" y="3138"/>
                </a:lnTo>
                <a:lnTo>
                  <a:pt x="8370" y="2565"/>
                </a:lnTo>
                <a:lnTo>
                  <a:pt x="9044" y="1861"/>
                </a:lnTo>
                <a:lnTo>
                  <a:pt x="9661" y="1539"/>
                </a:lnTo>
                <a:lnTo>
                  <a:pt x="9322" y="1539"/>
                </a:lnTo>
                <a:lnTo>
                  <a:pt x="9115" y="1539"/>
                </a:lnTo>
                <a:lnTo>
                  <a:pt x="8705" y="1922"/>
                </a:lnTo>
                <a:lnTo>
                  <a:pt x="8445" y="1922"/>
                </a:lnTo>
                <a:lnTo>
                  <a:pt x="8300" y="2177"/>
                </a:lnTo>
                <a:lnTo>
                  <a:pt x="8040" y="2243"/>
                </a:lnTo>
                <a:lnTo>
                  <a:pt x="8040" y="2565"/>
                </a:lnTo>
                <a:lnTo>
                  <a:pt x="7635" y="2626"/>
                </a:lnTo>
                <a:lnTo>
                  <a:pt x="7357" y="2948"/>
                </a:lnTo>
                <a:lnTo>
                  <a:pt x="6886" y="3336"/>
                </a:lnTo>
                <a:lnTo>
                  <a:pt x="6754" y="3714"/>
                </a:lnTo>
                <a:lnTo>
                  <a:pt x="6352" y="4295"/>
                </a:lnTo>
                <a:lnTo>
                  <a:pt x="6281" y="4097"/>
                </a:lnTo>
                <a:lnTo>
                  <a:pt x="6754" y="3072"/>
                </a:lnTo>
                <a:lnTo>
                  <a:pt x="7296" y="2565"/>
                </a:lnTo>
                <a:lnTo>
                  <a:pt x="8370" y="1601"/>
                </a:lnTo>
                <a:lnTo>
                  <a:pt x="9247" y="963"/>
                </a:lnTo>
                <a:lnTo>
                  <a:pt x="9723" y="708"/>
                </a:lnTo>
                <a:lnTo>
                  <a:pt x="10670" y="259"/>
                </a:lnTo>
                <a:lnTo>
                  <a:pt x="12022" y="131"/>
                </a:lnTo>
                <a:lnTo>
                  <a:pt x="13503" y="523"/>
                </a:lnTo>
                <a:lnTo>
                  <a:pt x="14463" y="1091"/>
                </a:lnTo>
                <a:lnTo>
                  <a:pt x="15194" y="2314"/>
                </a:lnTo>
                <a:lnTo>
                  <a:pt x="15265" y="2565"/>
                </a:lnTo>
                <a:lnTo>
                  <a:pt x="15000" y="2626"/>
                </a:lnTo>
                <a:lnTo>
                  <a:pt x="14657" y="1922"/>
                </a:lnTo>
                <a:lnTo>
                  <a:pt x="13912" y="1223"/>
                </a:lnTo>
                <a:lnTo>
                  <a:pt x="13304" y="906"/>
                </a:lnTo>
                <a:lnTo>
                  <a:pt x="12560" y="708"/>
                </a:lnTo>
                <a:lnTo>
                  <a:pt x="12560" y="844"/>
                </a:lnTo>
                <a:lnTo>
                  <a:pt x="12903" y="906"/>
                </a:lnTo>
                <a:lnTo>
                  <a:pt x="12630" y="963"/>
                </a:lnTo>
                <a:lnTo>
                  <a:pt x="12494" y="1152"/>
                </a:lnTo>
                <a:lnTo>
                  <a:pt x="12300" y="963"/>
                </a:lnTo>
                <a:lnTo>
                  <a:pt x="12300" y="844"/>
                </a:lnTo>
                <a:lnTo>
                  <a:pt x="12300" y="708"/>
                </a:lnTo>
                <a:lnTo>
                  <a:pt x="12300" y="637"/>
                </a:lnTo>
                <a:lnTo>
                  <a:pt x="11282" y="637"/>
                </a:lnTo>
                <a:lnTo>
                  <a:pt x="11282" y="963"/>
                </a:lnTo>
                <a:lnTo>
                  <a:pt x="11075" y="963"/>
                </a:lnTo>
                <a:lnTo>
                  <a:pt x="10947" y="844"/>
                </a:lnTo>
                <a:lnTo>
                  <a:pt x="10670" y="844"/>
                </a:lnTo>
                <a:lnTo>
                  <a:pt x="10538" y="637"/>
                </a:lnTo>
                <a:lnTo>
                  <a:pt x="9789" y="1029"/>
                </a:lnTo>
                <a:lnTo>
                  <a:pt x="9789" y="1091"/>
                </a:lnTo>
                <a:lnTo>
                  <a:pt x="10740" y="906"/>
                </a:lnTo>
                <a:lnTo>
                  <a:pt x="10740" y="1029"/>
                </a:lnTo>
                <a:lnTo>
                  <a:pt x="11414" y="1029"/>
                </a:lnTo>
                <a:lnTo>
                  <a:pt x="12229" y="1029"/>
                </a:lnTo>
                <a:lnTo>
                  <a:pt x="12560" y="1152"/>
                </a:lnTo>
                <a:lnTo>
                  <a:pt x="12767" y="1152"/>
                </a:lnTo>
                <a:lnTo>
                  <a:pt x="13503" y="1539"/>
                </a:lnTo>
                <a:lnTo>
                  <a:pt x="14119" y="2177"/>
                </a:lnTo>
                <a:lnTo>
                  <a:pt x="14392" y="2243"/>
                </a:lnTo>
                <a:lnTo>
                  <a:pt x="14392" y="2499"/>
                </a:lnTo>
                <a:lnTo>
                  <a:pt x="14463" y="3138"/>
                </a:lnTo>
                <a:lnTo>
                  <a:pt x="13780" y="3397"/>
                </a:lnTo>
                <a:lnTo>
                  <a:pt x="13912" y="3459"/>
                </a:lnTo>
                <a:lnTo>
                  <a:pt x="14798" y="3138"/>
                </a:lnTo>
                <a:lnTo>
                  <a:pt x="14864" y="3265"/>
                </a:lnTo>
                <a:lnTo>
                  <a:pt x="14864" y="3397"/>
                </a:lnTo>
                <a:lnTo>
                  <a:pt x="14049" y="3525"/>
                </a:lnTo>
                <a:lnTo>
                  <a:pt x="14119" y="3714"/>
                </a:lnTo>
                <a:lnTo>
                  <a:pt x="14657" y="3586"/>
                </a:lnTo>
                <a:lnTo>
                  <a:pt x="15000" y="3265"/>
                </a:lnTo>
                <a:lnTo>
                  <a:pt x="15877" y="3010"/>
                </a:lnTo>
                <a:lnTo>
                  <a:pt x="16890" y="2824"/>
                </a:lnTo>
                <a:lnTo>
                  <a:pt x="17366" y="2499"/>
                </a:lnTo>
                <a:lnTo>
                  <a:pt x="18176" y="2243"/>
                </a:lnTo>
                <a:lnTo>
                  <a:pt x="23041" y="844"/>
                </a:lnTo>
                <a:lnTo>
                  <a:pt x="23305" y="576"/>
                </a:lnTo>
                <a:lnTo>
                  <a:pt x="23583" y="708"/>
                </a:lnTo>
                <a:lnTo>
                  <a:pt x="25935" y="0"/>
                </a:lnTo>
                <a:lnTo>
                  <a:pt x="25935" y="1152"/>
                </a:lnTo>
                <a:lnTo>
                  <a:pt x="25208" y="1473"/>
                </a:lnTo>
                <a:lnTo>
                  <a:pt x="25882" y="1407"/>
                </a:lnTo>
                <a:lnTo>
                  <a:pt x="25340" y="1539"/>
                </a:lnTo>
                <a:lnTo>
                  <a:pt x="24327" y="1795"/>
                </a:lnTo>
                <a:lnTo>
                  <a:pt x="23856" y="2054"/>
                </a:lnTo>
                <a:lnTo>
                  <a:pt x="23512" y="2054"/>
                </a:lnTo>
                <a:lnTo>
                  <a:pt x="22768" y="2314"/>
                </a:lnTo>
                <a:lnTo>
                  <a:pt x="21966" y="2499"/>
                </a:lnTo>
                <a:lnTo>
                  <a:pt x="21415" y="2626"/>
                </a:lnTo>
                <a:lnTo>
                  <a:pt x="19525" y="3204"/>
                </a:lnTo>
                <a:lnTo>
                  <a:pt x="18040" y="3525"/>
                </a:lnTo>
                <a:lnTo>
                  <a:pt x="16547" y="4035"/>
                </a:lnTo>
                <a:lnTo>
                  <a:pt x="15943" y="4097"/>
                </a:lnTo>
                <a:lnTo>
                  <a:pt x="15542" y="4550"/>
                </a:lnTo>
                <a:lnTo>
                  <a:pt x="16339" y="11775"/>
                </a:lnTo>
                <a:lnTo>
                  <a:pt x="16080" y="11775"/>
                </a:lnTo>
                <a:lnTo>
                  <a:pt x="15401" y="5184"/>
                </a:lnTo>
                <a:lnTo>
                  <a:pt x="15194" y="4735"/>
                </a:lnTo>
                <a:lnTo>
                  <a:pt x="14657" y="4999"/>
                </a:lnTo>
                <a:lnTo>
                  <a:pt x="7970" y="11775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0600" y="-808200"/>
            <a:ext cx="8674560" cy="4486680"/>
          </a:xfrm>
          <a:custGeom>
            <a:avLst/>
            <a:gdLst/>
            <a:ahLst/>
            <a:rect l="0" t="0" r="r" b="b"/>
            <a:pathLst>
              <a:path w="24096" h="12463">
                <a:moveTo>
                  <a:pt x="127" y="10928"/>
                </a:moveTo>
                <a:lnTo>
                  <a:pt x="1211" y="10483"/>
                </a:lnTo>
                <a:lnTo>
                  <a:pt x="1541" y="10224"/>
                </a:lnTo>
                <a:lnTo>
                  <a:pt x="2153" y="10092"/>
                </a:lnTo>
                <a:lnTo>
                  <a:pt x="4722" y="9074"/>
                </a:lnTo>
                <a:lnTo>
                  <a:pt x="5329" y="8748"/>
                </a:lnTo>
                <a:lnTo>
                  <a:pt x="5329" y="8687"/>
                </a:lnTo>
                <a:lnTo>
                  <a:pt x="5122" y="8687"/>
                </a:lnTo>
                <a:lnTo>
                  <a:pt x="5669" y="8436"/>
                </a:lnTo>
                <a:lnTo>
                  <a:pt x="5669" y="8621"/>
                </a:lnTo>
                <a:lnTo>
                  <a:pt x="5669" y="8687"/>
                </a:lnTo>
                <a:lnTo>
                  <a:pt x="6744" y="8242"/>
                </a:lnTo>
                <a:lnTo>
                  <a:pt x="8295" y="7543"/>
                </a:lnTo>
                <a:lnTo>
                  <a:pt x="9251" y="7217"/>
                </a:lnTo>
                <a:lnTo>
                  <a:pt x="9251" y="7032"/>
                </a:lnTo>
                <a:lnTo>
                  <a:pt x="9312" y="6900"/>
                </a:lnTo>
                <a:lnTo>
                  <a:pt x="10057" y="6900"/>
                </a:lnTo>
                <a:lnTo>
                  <a:pt x="13171" y="5615"/>
                </a:lnTo>
                <a:lnTo>
                  <a:pt x="13242" y="5558"/>
                </a:lnTo>
                <a:lnTo>
                  <a:pt x="13092" y="5431"/>
                </a:lnTo>
                <a:lnTo>
                  <a:pt x="13431" y="5294"/>
                </a:lnTo>
                <a:lnTo>
                  <a:pt x="13779" y="5039"/>
                </a:lnTo>
                <a:lnTo>
                  <a:pt x="14184" y="4977"/>
                </a:lnTo>
                <a:lnTo>
                  <a:pt x="13982" y="5228"/>
                </a:lnTo>
                <a:lnTo>
                  <a:pt x="14109" y="5294"/>
                </a:lnTo>
                <a:lnTo>
                  <a:pt x="22762" y="1900"/>
                </a:lnTo>
                <a:lnTo>
                  <a:pt x="22629" y="1711"/>
                </a:lnTo>
                <a:lnTo>
                  <a:pt x="21951" y="1971"/>
                </a:lnTo>
                <a:lnTo>
                  <a:pt x="21484" y="2037"/>
                </a:lnTo>
                <a:lnTo>
                  <a:pt x="21484" y="2349"/>
                </a:lnTo>
                <a:lnTo>
                  <a:pt x="21211" y="2424"/>
                </a:lnTo>
                <a:lnTo>
                  <a:pt x="20934" y="2226"/>
                </a:lnTo>
                <a:lnTo>
                  <a:pt x="19788" y="2737"/>
                </a:lnTo>
                <a:lnTo>
                  <a:pt x="19321" y="3058"/>
                </a:lnTo>
                <a:lnTo>
                  <a:pt x="18912" y="3244"/>
                </a:lnTo>
                <a:lnTo>
                  <a:pt x="18025" y="3503"/>
                </a:lnTo>
                <a:lnTo>
                  <a:pt x="17091" y="3952"/>
                </a:lnTo>
                <a:lnTo>
                  <a:pt x="16545" y="4084"/>
                </a:lnTo>
                <a:lnTo>
                  <a:pt x="14656" y="4845"/>
                </a:lnTo>
                <a:lnTo>
                  <a:pt x="14052" y="4916"/>
                </a:lnTo>
                <a:lnTo>
                  <a:pt x="13982" y="5294"/>
                </a:lnTo>
                <a:lnTo>
                  <a:pt x="13303" y="5294"/>
                </a:lnTo>
                <a:lnTo>
                  <a:pt x="12563" y="5615"/>
                </a:lnTo>
                <a:lnTo>
                  <a:pt x="11339" y="6187"/>
                </a:lnTo>
                <a:lnTo>
                  <a:pt x="10731" y="6385"/>
                </a:lnTo>
                <a:lnTo>
                  <a:pt x="10057" y="6707"/>
                </a:lnTo>
                <a:lnTo>
                  <a:pt x="9718" y="6834"/>
                </a:lnTo>
                <a:lnTo>
                  <a:pt x="8634" y="7217"/>
                </a:lnTo>
                <a:lnTo>
                  <a:pt x="8295" y="7472"/>
                </a:lnTo>
                <a:lnTo>
                  <a:pt x="7762" y="7472"/>
                </a:lnTo>
                <a:lnTo>
                  <a:pt x="7013" y="7926"/>
                </a:lnTo>
                <a:lnTo>
                  <a:pt x="6947" y="8110"/>
                </a:lnTo>
                <a:lnTo>
                  <a:pt x="6678" y="7992"/>
                </a:lnTo>
                <a:lnTo>
                  <a:pt x="6070" y="8181"/>
                </a:lnTo>
                <a:lnTo>
                  <a:pt x="5669" y="8436"/>
                </a:lnTo>
                <a:lnTo>
                  <a:pt x="5598" y="8621"/>
                </a:lnTo>
                <a:lnTo>
                  <a:pt x="5329" y="8621"/>
                </a:lnTo>
                <a:lnTo>
                  <a:pt x="5259" y="8621"/>
                </a:lnTo>
                <a:lnTo>
                  <a:pt x="3977" y="9206"/>
                </a:lnTo>
                <a:lnTo>
                  <a:pt x="3700" y="9206"/>
                </a:lnTo>
                <a:lnTo>
                  <a:pt x="2894" y="9652"/>
                </a:lnTo>
                <a:lnTo>
                  <a:pt x="2761" y="9713"/>
                </a:lnTo>
                <a:lnTo>
                  <a:pt x="2418" y="9713"/>
                </a:lnTo>
                <a:lnTo>
                  <a:pt x="665" y="10483"/>
                </a:lnTo>
                <a:lnTo>
                  <a:pt x="317" y="10677"/>
                </a:lnTo>
                <a:lnTo>
                  <a:pt x="48" y="10681"/>
                </a:lnTo>
                <a:lnTo>
                  <a:pt x="0" y="10483"/>
                </a:lnTo>
                <a:lnTo>
                  <a:pt x="48" y="10386"/>
                </a:lnTo>
                <a:lnTo>
                  <a:pt x="110" y="10193"/>
                </a:lnTo>
                <a:lnTo>
                  <a:pt x="2418" y="9206"/>
                </a:lnTo>
                <a:lnTo>
                  <a:pt x="2563" y="9012"/>
                </a:lnTo>
                <a:lnTo>
                  <a:pt x="3034" y="9012"/>
                </a:lnTo>
                <a:lnTo>
                  <a:pt x="3836" y="8687"/>
                </a:lnTo>
                <a:lnTo>
                  <a:pt x="3836" y="8489"/>
                </a:lnTo>
                <a:lnTo>
                  <a:pt x="4180" y="8374"/>
                </a:lnTo>
                <a:lnTo>
                  <a:pt x="4453" y="8374"/>
                </a:lnTo>
                <a:lnTo>
                  <a:pt x="5188" y="8110"/>
                </a:lnTo>
                <a:lnTo>
                  <a:pt x="5188" y="7926"/>
                </a:lnTo>
                <a:lnTo>
                  <a:pt x="5188" y="7789"/>
                </a:lnTo>
                <a:lnTo>
                  <a:pt x="5532" y="7789"/>
                </a:lnTo>
                <a:lnTo>
                  <a:pt x="5801" y="7789"/>
                </a:lnTo>
                <a:lnTo>
                  <a:pt x="6744" y="7472"/>
                </a:lnTo>
                <a:lnTo>
                  <a:pt x="6744" y="7217"/>
                </a:lnTo>
                <a:lnTo>
                  <a:pt x="6885" y="7217"/>
                </a:lnTo>
                <a:lnTo>
                  <a:pt x="7225" y="7283"/>
                </a:lnTo>
                <a:lnTo>
                  <a:pt x="8097" y="6834"/>
                </a:lnTo>
                <a:lnTo>
                  <a:pt x="8167" y="6513"/>
                </a:lnTo>
                <a:lnTo>
                  <a:pt x="8431" y="6513"/>
                </a:lnTo>
                <a:lnTo>
                  <a:pt x="8634" y="6641"/>
                </a:lnTo>
                <a:lnTo>
                  <a:pt x="9652" y="6187"/>
                </a:lnTo>
                <a:lnTo>
                  <a:pt x="9718" y="5941"/>
                </a:lnTo>
                <a:lnTo>
                  <a:pt x="9779" y="5941"/>
                </a:lnTo>
                <a:lnTo>
                  <a:pt x="10330" y="5941"/>
                </a:lnTo>
                <a:lnTo>
                  <a:pt x="11409" y="5431"/>
                </a:lnTo>
                <a:lnTo>
                  <a:pt x="11480" y="5365"/>
                </a:lnTo>
                <a:lnTo>
                  <a:pt x="11748" y="5228"/>
                </a:lnTo>
                <a:lnTo>
                  <a:pt x="11951" y="5228"/>
                </a:lnTo>
                <a:lnTo>
                  <a:pt x="13369" y="4661"/>
                </a:lnTo>
                <a:lnTo>
                  <a:pt x="13171" y="4528"/>
                </a:lnTo>
                <a:lnTo>
                  <a:pt x="13369" y="4405"/>
                </a:lnTo>
                <a:lnTo>
                  <a:pt x="13638" y="4405"/>
                </a:lnTo>
                <a:lnTo>
                  <a:pt x="13982" y="4405"/>
                </a:lnTo>
                <a:lnTo>
                  <a:pt x="15131" y="3886"/>
                </a:lnTo>
                <a:lnTo>
                  <a:pt x="15131" y="3635"/>
                </a:lnTo>
                <a:lnTo>
                  <a:pt x="15325" y="3635"/>
                </a:lnTo>
                <a:lnTo>
                  <a:pt x="15801" y="3635"/>
                </a:lnTo>
                <a:lnTo>
                  <a:pt x="17294" y="3058"/>
                </a:lnTo>
                <a:lnTo>
                  <a:pt x="17224" y="2860"/>
                </a:lnTo>
                <a:lnTo>
                  <a:pt x="17422" y="2737"/>
                </a:lnTo>
                <a:lnTo>
                  <a:pt x="17765" y="2737"/>
                </a:lnTo>
                <a:lnTo>
                  <a:pt x="18097" y="2737"/>
                </a:lnTo>
                <a:lnTo>
                  <a:pt x="19379" y="2226"/>
                </a:lnTo>
                <a:lnTo>
                  <a:pt x="19379" y="2037"/>
                </a:lnTo>
                <a:lnTo>
                  <a:pt x="19656" y="1900"/>
                </a:lnTo>
                <a:lnTo>
                  <a:pt x="20061" y="1900"/>
                </a:lnTo>
                <a:lnTo>
                  <a:pt x="21282" y="1394"/>
                </a:lnTo>
                <a:lnTo>
                  <a:pt x="20934" y="880"/>
                </a:lnTo>
                <a:lnTo>
                  <a:pt x="20669" y="1073"/>
                </a:lnTo>
                <a:lnTo>
                  <a:pt x="20202" y="1201"/>
                </a:lnTo>
                <a:lnTo>
                  <a:pt x="20202" y="1394"/>
                </a:lnTo>
                <a:lnTo>
                  <a:pt x="20202" y="1526"/>
                </a:lnTo>
                <a:lnTo>
                  <a:pt x="19929" y="1526"/>
                </a:lnTo>
                <a:lnTo>
                  <a:pt x="19251" y="1782"/>
                </a:lnTo>
                <a:lnTo>
                  <a:pt x="19044" y="1843"/>
                </a:lnTo>
                <a:lnTo>
                  <a:pt x="18713" y="1971"/>
                </a:lnTo>
                <a:lnTo>
                  <a:pt x="18233" y="2037"/>
                </a:lnTo>
                <a:lnTo>
                  <a:pt x="17968" y="2226"/>
                </a:lnTo>
                <a:lnTo>
                  <a:pt x="17968" y="2613"/>
                </a:lnTo>
                <a:lnTo>
                  <a:pt x="17294" y="2613"/>
                </a:lnTo>
                <a:lnTo>
                  <a:pt x="16545" y="2803"/>
                </a:lnTo>
                <a:lnTo>
                  <a:pt x="16136" y="2803"/>
                </a:lnTo>
                <a:lnTo>
                  <a:pt x="15871" y="3129"/>
                </a:lnTo>
                <a:lnTo>
                  <a:pt x="15263" y="3314"/>
                </a:lnTo>
                <a:lnTo>
                  <a:pt x="14990" y="3574"/>
                </a:lnTo>
                <a:lnTo>
                  <a:pt x="14515" y="3574"/>
                </a:lnTo>
                <a:lnTo>
                  <a:pt x="13982" y="3824"/>
                </a:lnTo>
                <a:lnTo>
                  <a:pt x="13982" y="4084"/>
                </a:lnTo>
                <a:lnTo>
                  <a:pt x="13431" y="4084"/>
                </a:lnTo>
                <a:lnTo>
                  <a:pt x="13035" y="4339"/>
                </a:lnTo>
                <a:lnTo>
                  <a:pt x="12832" y="4207"/>
                </a:lnTo>
                <a:lnTo>
                  <a:pt x="12427" y="4528"/>
                </a:lnTo>
                <a:lnTo>
                  <a:pt x="12149" y="4528"/>
                </a:lnTo>
                <a:lnTo>
                  <a:pt x="12149" y="4845"/>
                </a:lnTo>
                <a:lnTo>
                  <a:pt x="11682" y="4845"/>
                </a:lnTo>
                <a:lnTo>
                  <a:pt x="11273" y="5039"/>
                </a:lnTo>
                <a:lnTo>
                  <a:pt x="11074" y="5039"/>
                </a:lnTo>
                <a:lnTo>
                  <a:pt x="10603" y="5294"/>
                </a:lnTo>
                <a:lnTo>
                  <a:pt x="10330" y="5365"/>
                </a:lnTo>
                <a:lnTo>
                  <a:pt x="9929" y="5558"/>
                </a:lnTo>
                <a:lnTo>
                  <a:pt x="9449" y="5809"/>
                </a:lnTo>
                <a:lnTo>
                  <a:pt x="9379" y="5747"/>
                </a:lnTo>
                <a:lnTo>
                  <a:pt x="8837" y="6069"/>
                </a:lnTo>
                <a:lnTo>
                  <a:pt x="8097" y="6385"/>
                </a:lnTo>
                <a:lnTo>
                  <a:pt x="7559" y="6447"/>
                </a:lnTo>
                <a:lnTo>
                  <a:pt x="7154" y="6773"/>
                </a:lnTo>
                <a:lnTo>
                  <a:pt x="6744" y="7032"/>
                </a:lnTo>
                <a:lnTo>
                  <a:pt x="6137" y="7094"/>
                </a:lnTo>
                <a:lnTo>
                  <a:pt x="5669" y="7283"/>
                </a:lnTo>
                <a:lnTo>
                  <a:pt x="5122" y="7657"/>
                </a:lnTo>
                <a:lnTo>
                  <a:pt x="4316" y="8110"/>
                </a:lnTo>
                <a:lnTo>
                  <a:pt x="3629" y="8110"/>
                </a:lnTo>
                <a:lnTo>
                  <a:pt x="3501" y="8374"/>
                </a:lnTo>
                <a:lnTo>
                  <a:pt x="2497" y="8687"/>
                </a:lnTo>
                <a:lnTo>
                  <a:pt x="2017" y="8880"/>
                </a:lnTo>
                <a:lnTo>
                  <a:pt x="1713" y="8709"/>
                </a:lnTo>
                <a:lnTo>
                  <a:pt x="21211" y="369"/>
                </a:lnTo>
                <a:lnTo>
                  <a:pt x="21141" y="242"/>
                </a:lnTo>
                <a:lnTo>
                  <a:pt x="1713" y="8515"/>
                </a:lnTo>
                <a:lnTo>
                  <a:pt x="1435" y="8436"/>
                </a:lnTo>
                <a:lnTo>
                  <a:pt x="21030" y="0"/>
                </a:lnTo>
                <a:lnTo>
                  <a:pt x="21462" y="748"/>
                </a:lnTo>
                <a:lnTo>
                  <a:pt x="21339" y="959"/>
                </a:lnTo>
                <a:lnTo>
                  <a:pt x="21682" y="1201"/>
                </a:lnTo>
                <a:lnTo>
                  <a:pt x="22713" y="884"/>
                </a:lnTo>
                <a:lnTo>
                  <a:pt x="22889" y="1201"/>
                </a:lnTo>
                <a:lnTo>
                  <a:pt x="23171" y="2037"/>
                </a:lnTo>
                <a:lnTo>
                  <a:pt x="24096" y="7679"/>
                </a:lnTo>
                <a:lnTo>
                  <a:pt x="22828" y="5039"/>
                </a:lnTo>
                <a:lnTo>
                  <a:pt x="22691" y="4727"/>
                </a:lnTo>
                <a:lnTo>
                  <a:pt x="22691" y="4467"/>
                </a:lnTo>
                <a:lnTo>
                  <a:pt x="22559" y="4467"/>
                </a:lnTo>
                <a:lnTo>
                  <a:pt x="872" y="12463"/>
                </a:lnTo>
                <a:lnTo>
                  <a:pt x="594" y="12147"/>
                </a:lnTo>
                <a:lnTo>
                  <a:pt x="22493" y="4014"/>
                </a:lnTo>
                <a:lnTo>
                  <a:pt x="22427" y="3952"/>
                </a:lnTo>
                <a:lnTo>
                  <a:pt x="665" y="11966"/>
                </a:lnTo>
                <a:lnTo>
                  <a:pt x="894" y="11535"/>
                </a:lnTo>
                <a:lnTo>
                  <a:pt x="149" y="11033"/>
                </a:lnTo>
                <a:lnTo>
                  <a:pt x="127" y="1092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07880" y="965160"/>
            <a:ext cx="7953840" cy="2831040"/>
          </a:xfrm>
          <a:custGeom>
            <a:avLst/>
            <a:gdLst/>
            <a:ahLst/>
            <a:rect l="0" t="0" r="r" b="b"/>
            <a:pathLst>
              <a:path w="22094" h="7864">
                <a:moveTo>
                  <a:pt x="0" y="7864"/>
                </a:moveTo>
                <a:lnTo>
                  <a:pt x="15544" y="2299"/>
                </a:lnTo>
                <a:lnTo>
                  <a:pt x="21962" y="0"/>
                </a:lnTo>
                <a:lnTo>
                  <a:pt x="22094" y="123"/>
                </a:lnTo>
                <a:lnTo>
                  <a:pt x="15945" y="2299"/>
                </a:lnTo>
                <a:lnTo>
                  <a:pt x="10073" y="4343"/>
                </a:lnTo>
                <a:lnTo>
                  <a:pt x="4461" y="6392"/>
                </a:lnTo>
                <a:lnTo>
                  <a:pt x="0" y="7864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07880" y="849240"/>
            <a:ext cx="7905960" cy="2899080"/>
          </a:xfrm>
          <a:custGeom>
            <a:avLst/>
            <a:gdLst/>
            <a:ahLst/>
            <a:rect l="0" t="0" r="r" b="b"/>
            <a:pathLst>
              <a:path w="21961" h="8053">
                <a:moveTo>
                  <a:pt x="0" y="8053"/>
                </a:moveTo>
                <a:lnTo>
                  <a:pt x="15544" y="2360"/>
                </a:lnTo>
                <a:lnTo>
                  <a:pt x="21961" y="0"/>
                </a:lnTo>
                <a:lnTo>
                  <a:pt x="21961" y="188"/>
                </a:lnTo>
                <a:lnTo>
                  <a:pt x="15944" y="2303"/>
                </a:lnTo>
                <a:lnTo>
                  <a:pt x="10072" y="4470"/>
                </a:lnTo>
                <a:lnTo>
                  <a:pt x="4461" y="6453"/>
                </a:lnTo>
                <a:lnTo>
                  <a:pt x="0" y="8053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73280" y="1401840"/>
            <a:ext cx="8537760" cy="5710680"/>
            <a:chOff x="773280" y="1401840"/>
            <a:chExt cx="8537760" cy="5710680"/>
          </a:xfrm>
        </p:grpSpPr>
        <p:sp>
          <p:nvSpPr>
            <p:cNvPr id="12" name=""/>
            <p:cNvSpPr/>
            <p:nvPr/>
          </p:nvSpPr>
          <p:spPr>
            <a:xfrm>
              <a:off x="5280120" y="2416320"/>
              <a:ext cx="4030920" cy="1262520"/>
            </a:xfrm>
            <a:custGeom>
              <a:avLst/>
              <a:gdLst/>
              <a:ahLst/>
              <a:rect l="0" t="0" r="r" b="b"/>
              <a:pathLst>
                <a:path w="11197" h="3507">
                  <a:moveTo>
                    <a:pt x="0" y="3446"/>
                  </a:moveTo>
                  <a:lnTo>
                    <a:pt x="2903" y="2556"/>
                  </a:lnTo>
                  <a:lnTo>
                    <a:pt x="4390" y="2106"/>
                  </a:lnTo>
                  <a:lnTo>
                    <a:pt x="4861" y="2044"/>
                  </a:lnTo>
                  <a:lnTo>
                    <a:pt x="7765" y="1086"/>
                  </a:lnTo>
                  <a:lnTo>
                    <a:pt x="9046" y="770"/>
                  </a:lnTo>
                  <a:lnTo>
                    <a:pt x="10532" y="205"/>
                  </a:lnTo>
                  <a:lnTo>
                    <a:pt x="11003" y="35"/>
                  </a:lnTo>
                  <a:lnTo>
                    <a:pt x="11197" y="0"/>
                  </a:lnTo>
                  <a:lnTo>
                    <a:pt x="11197" y="393"/>
                  </a:lnTo>
                  <a:lnTo>
                    <a:pt x="9653" y="770"/>
                  </a:lnTo>
                  <a:lnTo>
                    <a:pt x="8566" y="1033"/>
                  </a:lnTo>
                  <a:lnTo>
                    <a:pt x="7013" y="1537"/>
                  </a:lnTo>
                  <a:lnTo>
                    <a:pt x="5534" y="1979"/>
                  </a:lnTo>
                  <a:lnTo>
                    <a:pt x="4658" y="2237"/>
                  </a:lnTo>
                  <a:lnTo>
                    <a:pt x="4658" y="2425"/>
                  </a:lnTo>
                  <a:lnTo>
                    <a:pt x="4254" y="2495"/>
                  </a:lnTo>
                  <a:lnTo>
                    <a:pt x="3911" y="2495"/>
                  </a:lnTo>
                  <a:lnTo>
                    <a:pt x="3576" y="2495"/>
                  </a:lnTo>
                  <a:lnTo>
                    <a:pt x="3369" y="2746"/>
                  </a:lnTo>
                  <a:lnTo>
                    <a:pt x="3101" y="2680"/>
                  </a:lnTo>
                  <a:lnTo>
                    <a:pt x="2424" y="2873"/>
                  </a:lnTo>
                  <a:lnTo>
                    <a:pt x="2424" y="3000"/>
                  </a:lnTo>
                  <a:lnTo>
                    <a:pt x="2089" y="3192"/>
                  </a:lnTo>
                  <a:lnTo>
                    <a:pt x="1816" y="3323"/>
                  </a:lnTo>
                  <a:lnTo>
                    <a:pt x="2160" y="3000"/>
                  </a:lnTo>
                  <a:lnTo>
                    <a:pt x="1887" y="3000"/>
                  </a:lnTo>
                  <a:lnTo>
                    <a:pt x="1350" y="3065"/>
                  </a:lnTo>
                  <a:lnTo>
                    <a:pt x="1420" y="3323"/>
                  </a:lnTo>
                  <a:lnTo>
                    <a:pt x="1350" y="3323"/>
                  </a:lnTo>
                  <a:lnTo>
                    <a:pt x="1214" y="3192"/>
                  </a:lnTo>
                  <a:lnTo>
                    <a:pt x="945" y="3323"/>
                  </a:lnTo>
                  <a:lnTo>
                    <a:pt x="945" y="3507"/>
                  </a:lnTo>
                  <a:lnTo>
                    <a:pt x="813" y="3507"/>
                  </a:lnTo>
                  <a:lnTo>
                    <a:pt x="813" y="3253"/>
                  </a:lnTo>
                  <a:lnTo>
                    <a:pt x="0" y="3507"/>
                  </a:lnTo>
                  <a:lnTo>
                    <a:pt x="1214" y="3065"/>
                  </a:lnTo>
                  <a:lnTo>
                    <a:pt x="2023" y="2873"/>
                  </a:lnTo>
                  <a:lnTo>
                    <a:pt x="2701" y="2618"/>
                  </a:lnTo>
                  <a:lnTo>
                    <a:pt x="4720" y="1979"/>
                  </a:lnTo>
                  <a:lnTo>
                    <a:pt x="0" y="344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11480" y="2075040"/>
              <a:ext cx="3278520" cy="1973520"/>
            </a:xfrm>
            <a:custGeom>
              <a:avLst/>
              <a:gdLst/>
              <a:ahLst/>
              <a:rect l="0" t="0" r="r" b="b"/>
              <a:pathLst>
                <a:path w="9107" h="5482">
                  <a:moveTo>
                    <a:pt x="140" y="2993"/>
                  </a:moveTo>
                  <a:lnTo>
                    <a:pt x="70" y="3823"/>
                  </a:lnTo>
                  <a:lnTo>
                    <a:pt x="70" y="4077"/>
                  </a:lnTo>
                  <a:lnTo>
                    <a:pt x="602" y="3630"/>
                  </a:lnTo>
                  <a:lnTo>
                    <a:pt x="940" y="3507"/>
                  </a:lnTo>
                  <a:lnTo>
                    <a:pt x="1011" y="3187"/>
                  </a:lnTo>
                  <a:lnTo>
                    <a:pt x="1349" y="3187"/>
                  </a:lnTo>
                  <a:lnTo>
                    <a:pt x="1349" y="3507"/>
                  </a:lnTo>
                  <a:lnTo>
                    <a:pt x="738" y="3696"/>
                  </a:lnTo>
                  <a:lnTo>
                    <a:pt x="268" y="3884"/>
                  </a:lnTo>
                  <a:lnTo>
                    <a:pt x="404" y="4077"/>
                  </a:lnTo>
                  <a:lnTo>
                    <a:pt x="602" y="3950"/>
                  </a:lnTo>
                  <a:lnTo>
                    <a:pt x="809" y="3696"/>
                  </a:lnTo>
                  <a:lnTo>
                    <a:pt x="1011" y="3696"/>
                  </a:lnTo>
                  <a:lnTo>
                    <a:pt x="809" y="4077"/>
                  </a:lnTo>
                  <a:lnTo>
                    <a:pt x="404" y="4275"/>
                  </a:lnTo>
                  <a:lnTo>
                    <a:pt x="140" y="4398"/>
                  </a:lnTo>
                  <a:lnTo>
                    <a:pt x="70" y="4714"/>
                  </a:lnTo>
                  <a:lnTo>
                    <a:pt x="70" y="5161"/>
                  </a:lnTo>
                  <a:lnTo>
                    <a:pt x="0" y="5482"/>
                  </a:lnTo>
                  <a:lnTo>
                    <a:pt x="197" y="4784"/>
                  </a:lnTo>
                  <a:lnTo>
                    <a:pt x="672" y="4143"/>
                  </a:lnTo>
                  <a:lnTo>
                    <a:pt x="1824" y="3055"/>
                  </a:lnTo>
                  <a:lnTo>
                    <a:pt x="3104" y="2299"/>
                  </a:lnTo>
                  <a:lnTo>
                    <a:pt x="3711" y="1979"/>
                  </a:lnTo>
                  <a:lnTo>
                    <a:pt x="3711" y="1777"/>
                  </a:lnTo>
                  <a:lnTo>
                    <a:pt x="4247" y="1522"/>
                  </a:lnTo>
                  <a:lnTo>
                    <a:pt x="4247" y="1715"/>
                  </a:lnTo>
                  <a:lnTo>
                    <a:pt x="6139" y="1456"/>
                  </a:lnTo>
                  <a:lnTo>
                    <a:pt x="7220" y="1715"/>
                  </a:lnTo>
                  <a:lnTo>
                    <a:pt x="8500" y="2606"/>
                  </a:lnTo>
                  <a:lnTo>
                    <a:pt x="8904" y="3248"/>
                  </a:lnTo>
                  <a:lnTo>
                    <a:pt x="9107" y="3766"/>
                  </a:lnTo>
                  <a:lnTo>
                    <a:pt x="8698" y="0"/>
                  </a:lnTo>
                  <a:lnTo>
                    <a:pt x="140" y="299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13040" y="4405320"/>
              <a:ext cx="2507040" cy="2707200"/>
            </a:xfrm>
            <a:custGeom>
              <a:avLst/>
              <a:gdLst/>
              <a:ahLst/>
              <a:rect l="0" t="0" r="r" b="b"/>
              <a:pathLst>
                <a:path w="6964" h="7520">
                  <a:moveTo>
                    <a:pt x="6758" y="0"/>
                  </a:moveTo>
                  <a:lnTo>
                    <a:pt x="6964" y="1274"/>
                  </a:lnTo>
                  <a:lnTo>
                    <a:pt x="6424" y="1529"/>
                  </a:lnTo>
                  <a:lnTo>
                    <a:pt x="5510" y="2167"/>
                  </a:lnTo>
                  <a:lnTo>
                    <a:pt x="4943" y="3068"/>
                  </a:lnTo>
                  <a:lnTo>
                    <a:pt x="4538" y="4329"/>
                  </a:lnTo>
                  <a:lnTo>
                    <a:pt x="5009" y="4553"/>
                  </a:lnTo>
                  <a:lnTo>
                    <a:pt x="4842" y="4729"/>
                  </a:lnTo>
                  <a:lnTo>
                    <a:pt x="4912" y="4790"/>
                  </a:lnTo>
                  <a:lnTo>
                    <a:pt x="4912" y="4913"/>
                  </a:lnTo>
                  <a:lnTo>
                    <a:pt x="4538" y="5080"/>
                  </a:lnTo>
                  <a:lnTo>
                    <a:pt x="4538" y="5463"/>
                  </a:lnTo>
                  <a:lnTo>
                    <a:pt x="4736" y="5493"/>
                  </a:lnTo>
                  <a:lnTo>
                    <a:pt x="4468" y="5877"/>
                  </a:lnTo>
                  <a:lnTo>
                    <a:pt x="4279" y="7520"/>
                  </a:lnTo>
                  <a:lnTo>
                    <a:pt x="0" y="7520"/>
                  </a:lnTo>
                  <a:lnTo>
                    <a:pt x="219" y="5688"/>
                  </a:lnTo>
                  <a:lnTo>
                    <a:pt x="67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251840" y="5835600"/>
              <a:ext cx="1695960" cy="1005120"/>
            </a:xfrm>
            <a:custGeom>
              <a:avLst/>
              <a:gdLst/>
              <a:ahLst/>
              <a:rect l="0" t="0" r="r" b="b"/>
              <a:pathLst>
                <a:path w="4711" h="2792">
                  <a:moveTo>
                    <a:pt x="4580" y="2731"/>
                  </a:moveTo>
                  <a:lnTo>
                    <a:pt x="4308" y="2547"/>
                  </a:lnTo>
                  <a:lnTo>
                    <a:pt x="4176" y="2224"/>
                  </a:lnTo>
                  <a:lnTo>
                    <a:pt x="4308" y="2154"/>
                  </a:lnTo>
                  <a:lnTo>
                    <a:pt x="4580" y="2224"/>
                  </a:lnTo>
                  <a:lnTo>
                    <a:pt x="4580" y="1966"/>
                  </a:lnTo>
                  <a:lnTo>
                    <a:pt x="4580" y="1835"/>
                  </a:lnTo>
                  <a:lnTo>
                    <a:pt x="4711" y="1717"/>
                  </a:lnTo>
                  <a:lnTo>
                    <a:pt x="4369" y="1591"/>
                  </a:lnTo>
                  <a:lnTo>
                    <a:pt x="4308" y="1717"/>
                  </a:lnTo>
                  <a:lnTo>
                    <a:pt x="4233" y="1966"/>
                  </a:lnTo>
                  <a:lnTo>
                    <a:pt x="4036" y="1905"/>
                  </a:lnTo>
                  <a:lnTo>
                    <a:pt x="3707" y="2154"/>
                  </a:lnTo>
                  <a:lnTo>
                    <a:pt x="3707" y="2608"/>
                  </a:lnTo>
                  <a:lnTo>
                    <a:pt x="3777" y="2792"/>
                  </a:lnTo>
                  <a:lnTo>
                    <a:pt x="811" y="2792"/>
                  </a:lnTo>
                  <a:lnTo>
                    <a:pt x="1008" y="2608"/>
                  </a:lnTo>
                  <a:lnTo>
                    <a:pt x="1140" y="2416"/>
                  </a:lnTo>
                  <a:lnTo>
                    <a:pt x="1078" y="2224"/>
                  </a:lnTo>
                  <a:lnTo>
                    <a:pt x="1008" y="2224"/>
                  </a:lnTo>
                  <a:lnTo>
                    <a:pt x="938" y="2154"/>
                  </a:lnTo>
                  <a:lnTo>
                    <a:pt x="811" y="2097"/>
                  </a:lnTo>
                  <a:lnTo>
                    <a:pt x="543" y="2097"/>
                  </a:lnTo>
                  <a:lnTo>
                    <a:pt x="605" y="2355"/>
                  </a:lnTo>
                  <a:lnTo>
                    <a:pt x="605" y="2608"/>
                  </a:lnTo>
                  <a:lnTo>
                    <a:pt x="477" y="2608"/>
                  </a:lnTo>
                  <a:lnTo>
                    <a:pt x="271" y="2355"/>
                  </a:lnTo>
                  <a:lnTo>
                    <a:pt x="0" y="2224"/>
                  </a:lnTo>
                  <a:lnTo>
                    <a:pt x="342" y="2224"/>
                  </a:lnTo>
                  <a:lnTo>
                    <a:pt x="342" y="1966"/>
                  </a:lnTo>
                  <a:lnTo>
                    <a:pt x="271" y="1835"/>
                  </a:lnTo>
                  <a:lnTo>
                    <a:pt x="70" y="1835"/>
                  </a:lnTo>
                  <a:lnTo>
                    <a:pt x="342" y="1460"/>
                  </a:lnTo>
                  <a:lnTo>
                    <a:pt x="271" y="1144"/>
                  </a:lnTo>
                  <a:lnTo>
                    <a:pt x="0" y="947"/>
                  </a:lnTo>
                  <a:lnTo>
                    <a:pt x="342" y="947"/>
                  </a:lnTo>
                  <a:lnTo>
                    <a:pt x="605" y="1144"/>
                  </a:lnTo>
                  <a:lnTo>
                    <a:pt x="877" y="1332"/>
                  </a:lnTo>
                  <a:lnTo>
                    <a:pt x="1211" y="1398"/>
                  </a:lnTo>
                  <a:lnTo>
                    <a:pt x="1544" y="1398"/>
                  </a:lnTo>
                  <a:lnTo>
                    <a:pt x="1614" y="1332"/>
                  </a:lnTo>
                  <a:lnTo>
                    <a:pt x="1614" y="1078"/>
                  </a:lnTo>
                  <a:lnTo>
                    <a:pt x="1347" y="1078"/>
                  </a:lnTo>
                  <a:lnTo>
                    <a:pt x="1689" y="947"/>
                  </a:lnTo>
                  <a:lnTo>
                    <a:pt x="1689" y="825"/>
                  </a:lnTo>
                  <a:lnTo>
                    <a:pt x="1487" y="698"/>
                  </a:lnTo>
                  <a:lnTo>
                    <a:pt x="2022" y="825"/>
                  </a:lnTo>
                  <a:lnTo>
                    <a:pt x="2294" y="1009"/>
                  </a:lnTo>
                  <a:lnTo>
                    <a:pt x="2557" y="1460"/>
                  </a:lnTo>
                  <a:lnTo>
                    <a:pt x="2759" y="1835"/>
                  </a:lnTo>
                  <a:lnTo>
                    <a:pt x="3438" y="2608"/>
                  </a:lnTo>
                  <a:lnTo>
                    <a:pt x="3298" y="2224"/>
                  </a:lnTo>
                  <a:lnTo>
                    <a:pt x="3026" y="1835"/>
                  </a:lnTo>
                  <a:lnTo>
                    <a:pt x="2693" y="1214"/>
                  </a:lnTo>
                  <a:lnTo>
                    <a:pt x="2759" y="633"/>
                  </a:lnTo>
                  <a:lnTo>
                    <a:pt x="2425" y="52"/>
                  </a:lnTo>
                  <a:lnTo>
                    <a:pt x="2693" y="0"/>
                  </a:lnTo>
                  <a:lnTo>
                    <a:pt x="2759" y="192"/>
                  </a:lnTo>
                  <a:lnTo>
                    <a:pt x="2890" y="318"/>
                  </a:lnTo>
                  <a:lnTo>
                    <a:pt x="3171" y="445"/>
                  </a:lnTo>
                  <a:lnTo>
                    <a:pt x="3232" y="318"/>
                  </a:lnTo>
                  <a:lnTo>
                    <a:pt x="3232" y="192"/>
                  </a:lnTo>
                  <a:lnTo>
                    <a:pt x="3438" y="318"/>
                  </a:lnTo>
                  <a:lnTo>
                    <a:pt x="3500" y="567"/>
                  </a:lnTo>
                  <a:lnTo>
                    <a:pt x="3707" y="633"/>
                  </a:lnTo>
                  <a:lnTo>
                    <a:pt x="4036" y="825"/>
                  </a:lnTo>
                  <a:lnTo>
                    <a:pt x="4233" y="882"/>
                  </a:lnTo>
                  <a:lnTo>
                    <a:pt x="4233" y="1144"/>
                  </a:lnTo>
                  <a:lnTo>
                    <a:pt x="3974" y="1214"/>
                  </a:lnTo>
                  <a:lnTo>
                    <a:pt x="3974" y="882"/>
                  </a:lnTo>
                  <a:lnTo>
                    <a:pt x="3707" y="825"/>
                  </a:lnTo>
                  <a:lnTo>
                    <a:pt x="3500" y="947"/>
                  </a:lnTo>
                  <a:lnTo>
                    <a:pt x="4580" y="273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15160" y="3827520"/>
              <a:ext cx="2475360" cy="2277000"/>
            </a:xfrm>
            <a:custGeom>
              <a:avLst/>
              <a:gdLst/>
              <a:ahLst/>
              <a:rect l="0" t="0" r="r" b="b"/>
              <a:pathLst>
                <a:path w="6876" h="6325">
                  <a:moveTo>
                    <a:pt x="136" y="3127"/>
                  </a:moveTo>
                  <a:lnTo>
                    <a:pt x="136" y="2995"/>
                  </a:lnTo>
                  <a:lnTo>
                    <a:pt x="263" y="2807"/>
                  </a:lnTo>
                  <a:lnTo>
                    <a:pt x="0" y="2741"/>
                  </a:lnTo>
                  <a:lnTo>
                    <a:pt x="0" y="2367"/>
                  </a:lnTo>
                  <a:lnTo>
                    <a:pt x="136" y="2236"/>
                  </a:lnTo>
                  <a:lnTo>
                    <a:pt x="136" y="1981"/>
                  </a:lnTo>
                  <a:lnTo>
                    <a:pt x="202" y="1981"/>
                  </a:lnTo>
                  <a:lnTo>
                    <a:pt x="136" y="1783"/>
                  </a:lnTo>
                  <a:lnTo>
                    <a:pt x="672" y="1713"/>
                  </a:lnTo>
                  <a:lnTo>
                    <a:pt x="333" y="1528"/>
                  </a:lnTo>
                  <a:lnTo>
                    <a:pt x="535" y="1334"/>
                  </a:lnTo>
                  <a:lnTo>
                    <a:pt x="535" y="1150"/>
                  </a:lnTo>
                  <a:lnTo>
                    <a:pt x="742" y="957"/>
                  </a:lnTo>
                  <a:lnTo>
                    <a:pt x="742" y="636"/>
                  </a:lnTo>
                  <a:lnTo>
                    <a:pt x="799" y="509"/>
                  </a:lnTo>
                  <a:lnTo>
                    <a:pt x="1076" y="636"/>
                  </a:lnTo>
                  <a:lnTo>
                    <a:pt x="1208" y="698"/>
                  </a:lnTo>
                  <a:lnTo>
                    <a:pt x="1278" y="957"/>
                  </a:lnTo>
                  <a:lnTo>
                    <a:pt x="1278" y="1023"/>
                  </a:lnTo>
                  <a:lnTo>
                    <a:pt x="1686" y="829"/>
                  </a:lnTo>
                  <a:lnTo>
                    <a:pt x="1620" y="636"/>
                  </a:lnTo>
                  <a:lnTo>
                    <a:pt x="1418" y="443"/>
                  </a:lnTo>
                  <a:lnTo>
                    <a:pt x="1348" y="443"/>
                  </a:lnTo>
                  <a:lnTo>
                    <a:pt x="1348" y="316"/>
                  </a:lnTo>
                  <a:lnTo>
                    <a:pt x="1418" y="188"/>
                  </a:lnTo>
                  <a:lnTo>
                    <a:pt x="1550" y="188"/>
                  </a:lnTo>
                  <a:lnTo>
                    <a:pt x="1753" y="259"/>
                  </a:lnTo>
                  <a:lnTo>
                    <a:pt x="1753" y="443"/>
                  </a:lnTo>
                  <a:lnTo>
                    <a:pt x="1815" y="768"/>
                  </a:lnTo>
                  <a:lnTo>
                    <a:pt x="1955" y="829"/>
                  </a:lnTo>
                  <a:lnTo>
                    <a:pt x="1550" y="1089"/>
                  </a:lnTo>
                  <a:lnTo>
                    <a:pt x="1480" y="1273"/>
                  </a:lnTo>
                  <a:lnTo>
                    <a:pt x="1620" y="1405"/>
                  </a:lnTo>
                  <a:lnTo>
                    <a:pt x="1815" y="1273"/>
                  </a:lnTo>
                  <a:lnTo>
                    <a:pt x="1885" y="1089"/>
                  </a:lnTo>
                  <a:lnTo>
                    <a:pt x="2149" y="1273"/>
                  </a:lnTo>
                  <a:lnTo>
                    <a:pt x="2219" y="1023"/>
                  </a:lnTo>
                  <a:lnTo>
                    <a:pt x="2421" y="895"/>
                  </a:lnTo>
                  <a:lnTo>
                    <a:pt x="2351" y="1273"/>
                  </a:lnTo>
                  <a:lnTo>
                    <a:pt x="2557" y="1528"/>
                  </a:lnTo>
                  <a:lnTo>
                    <a:pt x="2557" y="1920"/>
                  </a:lnTo>
                  <a:lnTo>
                    <a:pt x="2351" y="2165"/>
                  </a:lnTo>
                  <a:lnTo>
                    <a:pt x="2149" y="2165"/>
                  </a:lnTo>
                  <a:lnTo>
                    <a:pt x="1815" y="2104"/>
                  </a:lnTo>
                  <a:lnTo>
                    <a:pt x="2149" y="2367"/>
                  </a:lnTo>
                  <a:lnTo>
                    <a:pt x="2421" y="2486"/>
                  </a:lnTo>
                  <a:lnTo>
                    <a:pt x="2900" y="2425"/>
                  </a:lnTo>
                  <a:lnTo>
                    <a:pt x="2900" y="2165"/>
                  </a:lnTo>
                  <a:lnTo>
                    <a:pt x="2755" y="1273"/>
                  </a:lnTo>
                  <a:lnTo>
                    <a:pt x="2970" y="1334"/>
                  </a:lnTo>
                  <a:lnTo>
                    <a:pt x="2825" y="895"/>
                  </a:lnTo>
                  <a:lnTo>
                    <a:pt x="2825" y="61"/>
                  </a:lnTo>
                  <a:lnTo>
                    <a:pt x="2970" y="0"/>
                  </a:lnTo>
                  <a:lnTo>
                    <a:pt x="3506" y="316"/>
                  </a:lnTo>
                  <a:lnTo>
                    <a:pt x="3972" y="698"/>
                  </a:lnTo>
                  <a:lnTo>
                    <a:pt x="4240" y="1150"/>
                  </a:lnTo>
                  <a:lnTo>
                    <a:pt x="4305" y="1528"/>
                  </a:lnTo>
                  <a:lnTo>
                    <a:pt x="3972" y="1783"/>
                  </a:lnTo>
                  <a:lnTo>
                    <a:pt x="3304" y="1783"/>
                  </a:lnTo>
                  <a:lnTo>
                    <a:pt x="3304" y="2038"/>
                  </a:lnTo>
                  <a:lnTo>
                    <a:pt x="3506" y="2367"/>
                  </a:lnTo>
                  <a:lnTo>
                    <a:pt x="3638" y="2741"/>
                  </a:lnTo>
                  <a:lnTo>
                    <a:pt x="3365" y="2934"/>
                  </a:lnTo>
                  <a:lnTo>
                    <a:pt x="3365" y="3127"/>
                  </a:lnTo>
                  <a:lnTo>
                    <a:pt x="3097" y="3254"/>
                  </a:lnTo>
                  <a:lnTo>
                    <a:pt x="3440" y="3320"/>
                  </a:lnTo>
                  <a:lnTo>
                    <a:pt x="3440" y="3386"/>
                  </a:lnTo>
                  <a:lnTo>
                    <a:pt x="3563" y="3386"/>
                  </a:lnTo>
                  <a:lnTo>
                    <a:pt x="3699" y="3579"/>
                  </a:lnTo>
                  <a:lnTo>
                    <a:pt x="3906" y="3518"/>
                  </a:lnTo>
                  <a:lnTo>
                    <a:pt x="3906" y="3320"/>
                  </a:lnTo>
                  <a:lnTo>
                    <a:pt x="4784" y="3320"/>
                  </a:lnTo>
                  <a:lnTo>
                    <a:pt x="4855" y="3320"/>
                  </a:lnTo>
                  <a:lnTo>
                    <a:pt x="4920" y="3579"/>
                  </a:lnTo>
                  <a:lnTo>
                    <a:pt x="5189" y="3764"/>
                  </a:lnTo>
                  <a:lnTo>
                    <a:pt x="5326" y="3764"/>
                  </a:lnTo>
                  <a:lnTo>
                    <a:pt x="5927" y="4594"/>
                  </a:lnTo>
                  <a:lnTo>
                    <a:pt x="6134" y="4664"/>
                  </a:lnTo>
                  <a:lnTo>
                    <a:pt x="6406" y="4594"/>
                  </a:lnTo>
                  <a:lnTo>
                    <a:pt x="6270" y="4788"/>
                  </a:lnTo>
                  <a:lnTo>
                    <a:pt x="6336" y="4920"/>
                  </a:lnTo>
                  <a:lnTo>
                    <a:pt x="6336" y="5297"/>
                  </a:lnTo>
                  <a:lnTo>
                    <a:pt x="6270" y="5425"/>
                  </a:lnTo>
                  <a:lnTo>
                    <a:pt x="6406" y="5363"/>
                  </a:lnTo>
                  <a:lnTo>
                    <a:pt x="6670" y="5297"/>
                  </a:lnTo>
                  <a:lnTo>
                    <a:pt x="6740" y="5425"/>
                  </a:lnTo>
                  <a:lnTo>
                    <a:pt x="6740" y="5684"/>
                  </a:lnTo>
                  <a:lnTo>
                    <a:pt x="6876" y="5816"/>
                  </a:lnTo>
                  <a:lnTo>
                    <a:pt x="6806" y="6259"/>
                  </a:lnTo>
                  <a:lnTo>
                    <a:pt x="6270" y="6193"/>
                  </a:lnTo>
                  <a:lnTo>
                    <a:pt x="6064" y="6325"/>
                  </a:lnTo>
                  <a:lnTo>
                    <a:pt x="5796" y="6066"/>
                  </a:lnTo>
                  <a:lnTo>
                    <a:pt x="6002" y="5877"/>
                  </a:lnTo>
                  <a:lnTo>
                    <a:pt x="5857" y="5425"/>
                  </a:lnTo>
                  <a:lnTo>
                    <a:pt x="5585" y="5043"/>
                  </a:lnTo>
                  <a:lnTo>
                    <a:pt x="4920" y="4664"/>
                  </a:lnTo>
                  <a:lnTo>
                    <a:pt x="4240" y="4664"/>
                  </a:lnTo>
                  <a:lnTo>
                    <a:pt x="4042" y="4788"/>
                  </a:lnTo>
                  <a:lnTo>
                    <a:pt x="4103" y="4467"/>
                  </a:lnTo>
                  <a:lnTo>
                    <a:pt x="4042" y="4014"/>
                  </a:lnTo>
                  <a:lnTo>
                    <a:pt x="4042" y="3702"/>
                  </a:lnTo>
                  <a:lnTo>
                    <a:pt x="3638" y="3825"/>
                  </a:lnTo>
                  <a:lnTo>
                    <a:pt x="3097" y="3825"/>
                  </a:lnTo>
                  <a:lnTo>
                    <a:pt x="3032" y="3579"/>
                  </a:lnTo>
                  <a:lnTo>
                    <a:pt x="2755" y="3320"/>
                  </a:lnTo>
                  <a:lnTo>
                    <a:pt x="2149" y="3448"/>
                  </a:lnTo>
                  <a:lnTo>
                    <a:pt x="2149" y="3702"/>
                  </a:lnTo>
                  <a:lnTo>
                    <a:pt x="1620" y="3193"/>
                  </a:lnTo>
                  <a:lnTo>
                    <a:pt x="1885" y="3193"/>
                  </a:lnTo>
                  <a:lnTo>
                    <a:pt x="2087" y="2934"/>
                  </a:lnTo>
                  <a:lnTo>
                    <a:pt x="1753" y="2872"/>
                  </a:lnTo>
                  <a:lnTo>
                    <a:pt x="1753" y="2741"/>
                  </a:lnTo>
                  <a:lnTo>
                    <a:pt x="1278" y="2675"/>
                  </a:lnTo>
                  <a:lnTo>
                    <a:pt x="742" y="2872"/>
                  </a:lnTo>
                  <a:lnTo>
                    <a:pt x="742" y="2741"/>
                  </a:lnTo>
                  <a:lnTo>
                    <a:pt x="940" y="2486"/>
                  </a:lnTo>
                  <a:lnTo>
                    <a:pt x="940" y="2165"/>
                  </a:lnTo>
                  <a:lnTo>
                    <a:pt x="465" y="2297"/>
                  </a:lnTo>
                  <a:lnTo>
                    <a:pt x="404" y="2556"/>
                  </a:lnTo>
                  <a:lnTo>
                    <a:pt x="465" y="2807"/>
                  </a:lnTo>
                  <a:lnTo>
                    <a:pt x="404" y="2934"/>
                  </a:lnTo>
                  <a:lnTo>
                    <a:pt x="136" y="312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595920" y="5073480"/>
              <a:ext cx="795600" cy="613080"/>
            </a:xfrm>
            <a:custGeom>
              <a:avLst/>
              <a:gdLst/>
              <a:ahLst/>
              <a:rect l="0" t="0" r="r" b="b"/>
              <a:pathLst>
                <a:path w="2210" h="1703">
                  <a:moveTo>
                    <a:pt x="0" y="1455"/>
                  </a:moveTo>
                  <a:lnTo>
                    <a:pt x="396" y="947"/>
                  </a:lnTo>
                  <a:lnTo>
                    <a:pt x="396" y="503"/>
                  </a:lnTo>
                  <a:lnTo>
                    <a:pt x="396" y="251"/>
                  </a:lnTo>
                  <a:lnTo>
                    <a:pt x="801" y="251"/>
                  </a:lnTo>
                  <a:lnTo>
                    <a:pt x="932" y="251"/>
                  </a:lnTo>
                  <a:lnTo>
                    <a:pt x="801" y="503"/>
                  </a:lnTo>
                  <a:lnTo>
                    <a:pt x="1203" y="312"/>
                  </a:lnTo>
                  <a:lnTo>
                    <a:pt x="1269" y="251"/>
                  </a:lnTo>
                  <a:lnTo>
                    <a:pt x="1595" y="442"/>
                  </a:lnTo>
                  <a:lnTo>
                    <a:pt x="1669" y="312"/>
                  </a:lnTo>
                  <a:lnTo>
                    <a:pt x="1669" y="0"/>
                  </a:lnTo>
                  <a:lnTo>
                    <a:pt x="1800" y="442"/>
                  </a:lnTo>
                  <a:lnTo>
                    <a:pt x="1669" y="690"/>
                  </a:lnTo>
                  <a:lnTo>
                    <a:pt x="1735" y="947"/>
                  </a:lnTo>
                  <a:lnTo>
                    <a:pt x="2210" y="755"/>
                  </a:lnTo>
                  <a:lnTo>
                    <a:pt x="1595" y="1134"/>
                  </a:lnTo>
                  <a:lnTo>
                    <a:pt x="1669" y="1455"/>
                  </a:lnTo>
                  <a:lnTo>
                    <a:pt x="1338" y="1325"/>
                  </a:lnTo>
                  <a:lnTo>
                    <a:pt x="1002" y="1264"/>
                  </a:lnTo>
                  <a:lnTo>
                    <a:pt x="671" y="1455"/>
                  </a:lnTo>
                  <a:lnTo>
                    <a:pt x="470" y="1703"/>
                  </a:lnTo>
                  <a:lnTo>
                    <a:pt x="335" y="1577"/>
                  </a:lnTo>
                  <a:lnTo>
                    <a:pt x="196" y="1325"/>
                  </a:lnTo>
                  <a:lnTo>
                    <a:pt x="126" y="1455"/>
                  </a:lnTo>
                  <a:lnTo>
                    <a:pt x="0" y="145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718320" y="6343560"/>
              <a:ext cx="330480" cy="497160"/>
            </a:xfrm>
            <a:custGeom>
              <a:avLst/>
              <a:gdLst/>
              <a:ahLst/>
              <a:rect l="0" t="0" r="r" b="b"/>
              <a:pathLst>
                <a:path w="918" h="1381">
                  <a:moveTo>
                    <a:pt x="330" y="1381"/>
                  </a:moveTo>
                  <a:lnTo>
                    <a:pt x="394" y="1320"/>
                  </a:lnTo>
                  <a:lnTo>
                    <a:pt x="519" y="1065"/>
                  </a:lnTo>
                  <a:lnTo>
                    <a:pt x="918" y="0"/>
                  </a:lnTo>
                  <a:lnTo>
                    <a:pt x="261" y="1009"/>
                  </a:lnTo>
                  <a:lnTo>
                    <a:pt x="60" y="1009"/>
                  </a:lnTo>
                  <a:lnTo>
                    <a:pt x="0" y="1264"/>
                  </a:lnTo>
                  <a:lnTo>
                    <a:pt x="0" y="1381"/>
                  </a:lnTo>
                  <a:lnTo>
                    <a:pt x="330" y="13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742000" y="2301840"/>
              <a:ext cx="2694240" cy="891000"/>
            </a:xfrm>
            <a:custGeom>
              <a:avLst/>
              <a:gdLst/>
              <a:ahLst/>
              <a:rect l="0" t="0" r="r" b="b"/>
              <a:pathLst>
                <a:path w="7484" h="2475">
                  <a:moveTo>
                    <a:pt x="272" y="2475"/>
                  </a:moveTo>
                  <a:lnTo>
                    <a:pt x="7484" y="318"/>
                  </a:lnTo>
                  <a:lnTo>
                    <a:pt x="7484" y="0"/>
                  </a:lnTo>
                  <a:lnTo>
                    <a:pt x="272" y="2288"/>
                  </a:lnTo>
                  <a:lnTo>
                    <a:pt x="0" y="1589"/>
                  </a:lnTo>
                  <a:lnTo>
                    <a:pt x="272" y="247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94480" y="1401840"/>
              <a:ext cx="2696040" cy="1238760"/>
            </a:xfrm>
            <a:custGeom>
              <a:avLst/>
              <a:gdLst/>
              <a:ahLst/>
              <a:rect l="0" t="0" r="r" b="b"/>
              <a:pathLst>
                <a:path w="7489" h="3441">
                  <a:moveTo>
                    <a:pt x="7489" y="2420"/>
                  </a:moveTo>
                  <a:lnTo>
                    <a:pt x="7146" y="2420"/>
                  </a:lnTo>
                  <a:lnTo>
                    <a:pt x="6268" y="319"/>
                  </a:lnTo>
                  <a:lnTo>
                    <a:pt x="6004" y="319"/>
                  </a:lnTo>
                  <a:lnTo>
                    <a:pt x="6004" y="643"/>
                  </a:lnTo>
                  <a:lnTo>
                    <a:pt x="6610" y="2105"/>
                  </a:lnTo>
                  <a:lnTo>
                    <a:pt x="6268" y="1913"/>
                  </a:lnTo>
                  <a:lnTo>
                    <a:pt x="5929" y="1655"/>
                  </a:lnTo>
                  <a:lnTo>
                    <a:pt x="5732" y="1790"/>
                  </a:lnTo>
                  <a:lnTo>
                    <a:pt x="5732" y="1856"/>
                  </a:lnTo>
                  <a:lnTo>
                    <a:pt x="5454" y="1856"/>
                  </a:lnTo>
                  <a:lnTo>
                    <a:pt x="5392" y="2044"/>
                  </a:lnTo>
                  <a:lnTo>
                    <a:pt x="5859" y="2482"/>
                  </a:lnTo>
                  <a:lnTo>
                    <a:pt x="5454" y="2420"/>
                  </a:lnTo>
                  <a:lnTo>
                    <a:pt x="4988" y="1790"/>
                  </a:lnTo>
                  <a:lnTo>
                    <a:pt x="4724" y="1729"/>
                  </a:lnTo>
                  <a:lnTo>
                    <a:pt x="4654" y="1523"/>
                  </a:lnTo>
                  <a:lnTo>
                    <a:pt x="4452" y="1523"/>
                  </a:lnTo>
                  <a:lnTo>
                    <a:pt x="4382" y="1410"/>
                  </a:lnTo>
                  <a:lnTo>
                    <a:pt x="4105" y="1655"/>
                  </a:lnTo>
                  <a:lnTo>
                    <a:pt x="4584" y="1790"/>
                  </a:lnTo>
                  <a:lnTo>
                    <a:pt x="4856" y="1856"/>
                  </a:lnTo>
                  <a:lnTo>
                    <a:pt x="4584" y="1913"/>
                  </a:lnTo>
                  <a:lnTo>
                    <a:pt x="4790" y="2105"/>
                  </a:lnTo>
                  <a:lnTo>
                    <a:pt x="5190" y="2298"/>
                  </a:lnTo>
                  <a:lnTo>
                    <a:pt x="5392" y="2610"/>
                  </a:lnTo>
                  <a:lnTo>
                    <a:pt x="4790" y="2350"/>
                  </a:lnTo>
                  <a:lnTo>
                    <a:pt x="4105" y="2167"/>
                  </a:lnTo>
                  <a:lnTo>
                    <a:pt x="3709" y="1974"/>
                  </a:lnTo>
                  <a:lnTo>
                    <a:pt x="3032" y="1790"/>
                  </a:lnTo>
                  <a:lnTo>
                    <a:pt x="3639" y="2237"/>
                  </a:lnTo>
                  <a:lnTo>
                    <a:pt x="3973" y="2482"/>
                  </a:lnTo>
                  <a:lnTo>
                    <a:pt x="3507" y="2675"/>
                  </a:lnTo>
                  <a:lnTo>
                    <a:pt x="3173" y="2802"/>
                  </a:lnTo>
                  <a:lnTo>
                    <a:pt x="2835" y="3065"/>
                  </a:lnTo>
                  <a:lnTo>
                    <a:pt x="2496" y="3065"/>
                  </a:lnTo>
                  <a:lnTo>
                    <a:pt x="1823" y="3441"/>
                  </a:lnTo>
                  <a:lnTo>
                    <a:pt x="940" y="3441"/>
                  </a:lnTo>
                  <a:lnTo>
                    <a:pt x="1076" y="3192"/>
                  </a:lnTo>
                  <a:lnTo>
                    <a:pt x="2088" y="2933"/>
                  </a:lnTo>
                  <a:lnTo>
                    <a:pt x="2426" y="2802"/>
                  </a:lnTo>
                  <a:lnTo>
                    <a:pt x="2294" y="2610"/>
                  </a:lnTo>
                  <a:lnTo>
                    <a:pt x="874" y="3122"/>
                  </a:lnTo>
                  <a:lnTo>
                    <a:pt x="738" y="2872"/>
                  </a:lnTo>
                  <a:lnTo>
                    <a:pt x="667" y="2547"/>
                  </a:lnTo>
                  <a:lnTo>
                    <a:pt x="404" y="2420"/>
                  </a:lnTo>
                  <a:lnTo>
                    <a:pt x="131" y="2482"/>
                  </a:lnTo>
                  <a:lnTo>
                    <a:pt x="0" y="2420"/>
                  </a:lnTo>
                  <a:lnTo>
                    <a:pt x="0" y="2105"/>
                  </a:lnTo>
                  <a:lnTo>
                    <a:pt x="5322" y="258"/>
                  </a:lnTo>
                  <a:lnTo>
                    <a:pt x="5524" y="319"/>
                  </a:lnTo>
                  <a:lnTo>
                    <a:pt x="6408" y="0"/>
                  </a:lnTo>
                  <a:lnTo>
                    <a:pt x="7489" y="2350"/>
                  </a:lnTo>
                  <a:lnTo>
                    <a:pt x="7489" y="242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010200" y="2212920"/>
              <a:ext cx="2083320" cy="795600"/>
            </a:xfrm>
            <a:custGeom>
              <a:avLst/>
              <a:gdLst/>
              <a:ahLst/>
              <a:rect l="0" t="0" r="r" b="b"/>
              <a:pathLst>
                <a:path w="5787" h="2210">
                  <a:moveTo>
                    <a:pt x="0" y="1831"/>
                  </a:moveTo>
                  <a:lnTo>
                    <a:pt x="5787" y="0"/>
                  </a:lnTo>
                  <a:lnTo>
                    <a:pt x="5787" y="244"/>
                  </a:lnTo>
                  <a:lnTo>
                    <a:pt x="201" y="2210"/>
                  </a:lnTo>
                  <a:lnTo>
                    <a:pt x="0" y="183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73280" y="4057560"/>
              <a:ext cx="238320" cy="429120"/>
            </a:xfrm>
            <a:custGeom>
              <a:avLst/>
              <a:gdLst/>
              <a:ahLst/>
              <a:rect l="0" t="0" r="r" b="b"/>
              <a:pathLst>
                <a:path w="662" h="1192">
                  <a:moveTo>
                    <a:pt x="0" y="1192"/>
                  </a:moveTo>
                  <a:lnTo>
                    <a:pt x="0" y="755"/>
                  </a:lnTo>
                  <a:lnTo>
                    <a:pt x="131" y="445"/>
                  </a:lnTo>
                  <a:lnTo>
                    <a:pt x="199" y="380"/>
                  </a:lnTo>
                  <a:lnTo>
                    <a:pt x="199" y="254"/>
                  </a:lnTo>
                  <a:lnTo>
                    <a:pt x="395" y="254"/>
                  </a:lnTo>
                  <a:lnTo>
                    <a:pt x="454" y="60"/>
                  </a:lnTo>
                  <a:lnTo>
                    <a:pt x="522" y="0"/>
                  </a:lnTo>
                  <a:lnTo>
                    <a:pt x="522" y="445"/>
                  </a:lnTo>
                  <a:lnTo>
                    <a:pt x="662" y="946"/>
                  </a:lnTo>
                  <a:lnTo>
                    <a:pt x="586" y="998"/>
                  </a:lnTo>
                  <a:lnTo>
                    <a:pt x="522" y="946"/>
                  </a:lnTo>
                  <a:lnTo>
                    <a:pt x="0" y="946"/>
                  </a:lnTo>
                  <a:lnTo>
                    <a:pt x="199" y="816"/>
                  </a:lnTo>
                  <a:lnTo>
                    <a:pt x="454" y="626"/>
                  </a:lnTo>
                  <a:lnTo>
                    <a:pt x="330" y="505"/>
                  </a:lnTo>
                  <a:lnTo>
                    <a:pt x="0" y="686"/>
                  </a:lnTo>
                  <a:lnTo>
                    <a:pt x="0" y="119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20600" y="4105440"/>
              <a:ext cx="378360" cy="265320"/>
            </a:xfrm>
            <a:custGeom>
              <a:avLst/>
              <a:gdLst/>
              <a:ahLst/>
              <a:rect l="0" t="0" r="r" b="b"/>
              <a:pathLst>
                <a:path w="1051" h="737">
                  <a:moveTo>
                    <a:pt x="0" y="371"/>
                  </a:moveTo>
                  <a:lnTo>
                    <a:pt x="184" y="371"/>
                  </a:lnTo>
                  <a:lnTo>
                    <a:pt x="258" y="246"/>
                  </a:lnTo>
                  <a:lnTo>
                    <a:pt x="184" y="183"/>
                  </a:lnTo>
                  <a:lnTo>
                    <a:pt x="184" y="123"/>
                  </a:lnTo>
                  <a:lnTo>
                    <a:pt x="581" y="123"/>
                  </a:lnTo>
                  <a:lnTo>
                    <a:pt x="853" y="0"/>
                  </a:lnTo>
                  <a:lnTo>
                    <a:pt x="853" y="246"/>
                  </a:lnTo>
                  <a:lnTo>
                    <a:pt x="525" y="246"/>
                  </a:lnTo>
                  <a:lnTo>
                    <a:pt x="327" y="246"/>
                  </a:lnTo>
                  <a:lnTo>
                    <a:pt x="388" y="310"/>
                  </a:lnTo>
                  <a:lnTo>
                    <a:pt x="715" y="310"/>
                  </a:lnTo>
                  <a:lnTo>
                    <a:pt x="853" y="490"/>
                  </a:lnTo>
                  <a:lnTo>
                    <a:pt x="1051" y="371"/>
                  </a:lnTo>
                  <a:lnTo>
                    <a:pt x="1051" y="490"/>
                  </a:lnTo>
                  <a:lnTo>
                    <a:pt x="456" y="737"/>
                  </a:lnTo>
                  <a:lnTo>
                    <a:pt x="388" y="618"/>
                  </a:lnTo>
                  <a:lnTo>
                    <a:pt x="650" y="550"/>
                  </a:lnTo>
                  <a:lnTo>
                    <a:pt x="456" y="426"/>
                  </a:lnTo>
                  <a:lnTo>
                    <a:pt x="456" y="371"/>
                  </a:lnTo>
                  <a:lnTo>
                    <a:pt x="124" y="550"/>
                  </a:lnTo>
                  <a:lnTo>
                    <a:pt x="0" y="426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284120" y="3849840"/>
              <a:ext cx="408240" cy="314640"/>
            </a:xfrm>
            <a:custGeom>
              <a:avLst/>
              <a:gdLst/>
              <a:ahLst/>
              <a:rect l="0" t="0" r="r" b="b"/>
              <a:pathLst>
                <a:path w="1134" h="874">
                  <a:moveTo>
                    <a:pt x="1134" y="0"/>
                  </a:moveTo>
                  <a:lnTo>
                    <a:pt x="862" y="0"/>
                  </a:lnTo>
                  <a:lnTo>
                    <a:pt x="862" y="124"/>
                  </a:lnTo>
                  <a:lnTo>
                    <a:pt x="534" y="248"/>
                  </a:lnTo>
                  <a:lnTo>
                    <a:pt x="534" y="372"/>
                  </a:lnTo>
                  <a:lnTo>
                    <a:pt x="392" y="372"/>
                  </a:lnTo>
                  <a:lnTo>
                    <a:pt x="267" y="192"/>
                  </a:lnTo>
                  <a:lnTo>
                    <a:pt x="137" y="124"/>
                  </a:lnTo>
                  <a:lnTo>
                    <a:pt x="0" y="124"/>
                  </a:lnTo>
                  <a:lnTo>
                    <a:pt x="267" y="372"/>
                  </a:lnTo>
                  <a:lnTo>
                    <a:pt x="137" y="621"/>
                  </a:lnTo>
                  <a:lnTo>
                    <a:pt x="137" y="874"/>
                  </a:lnTo>
                  <a:lnTo>
                    <a:pt x="267" y="621"/>
                  </a:lnTo>
                  <a:lnTo>
                    <a:pt x="336" y="436"/>
                  </a:lnTo>
                  <a:lnTo>
                    <a:pt x="461" y="436"/>
                  </a:lnTo>
                  <a:lnTo>
                    <a:pt x="534" y="874"/>
                  </a:lnTo>
                  <a:lnTo>
                    <a:pt x="733" y="621"/>
                  </a:lnTo>
                  <a:lnTo>
                    <a:pt x="931" y="561"/>
                  </a:lnTo>
                  <a:lnTo>
                    <a:pt x="931" y="690"/>
                  </a:lnTo>
                  <a:lnTo>
                    <a:pt x="996" y="501"/>
                  </a:lnTo>
                  <a:lnTo>
                    <a:pt x="996" y="248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844640" y="5121360"/>
              <a:ext cx="209880" cy="1259280"/>
            </a:xfrm>
            <a:custGeom>
              <a:avLst/>
              <a:gdLst/>
              <a:ahLst/>
              <a:rect l="0" t="0" r="r" b="b"/>
              <a:pathLst>
                <a:path w="583" h="3498">
                  <a:moveTo>
                    <a:pt x="325" y="56"/>
                  </a:moveTo>
                  <a:lnTo>
                    <a:pt x="0" y="3498"/>
                  </a:lnTo>
                  <a:lnTo>
                    <a:pt x="389" y="761"/>
                  </a:lnTo>
                  <a:lnTo>
                    <a:pt x="524" y="122"/>
                  </a:lnTo>
                  <a:lnTo>
                    <a:pt x="583" y="0"/>
                  </a:lnTo>
                  <a:lnTo>
                    <a:pt x="325" y="5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" name=""/>
            <p:cNvGrpSpPr/>
            <p:nvPr/>
          </p:nvGrpSpPr>
          <p:grpSpPr>
            <a:xfrm>
              <a:off x="7273800" y="4124160"/>
              <a:ext cx="1800720" cy="2318040"/>
              <a:chOff x="7273800" y="4124160"/>
              <a:chExt cx="1800720" cy="2318040"/>
            </a:xfrm>
          </p:grpSpPr>
          <p:sp>
            <p:nvSpPr>
              <p:cNvPr id="27" name=""/>
              <p:cNvSpPr/>
              <p:nvPr/>
            </p:nvSpPr>
            <p:spPr>
              <a:xfrm>
                <a:off x="8255160" y="4724280"/>
                <a:ext cx="819360" cy="705240"/>
              </a:xfrm>
              <a:custGeom>
                <a:avLst/>
                <a:gdLst/>
                <a:ahLst/>
                <a:rect l="0" t="0" r="r" b="b"/>
                <a:pathLst>
                  <a:path w="2276" h="1959">
                    <a:moveTo>
                      <a:pt x="876" y="130"/>
                    </a:moveTo>
                    <a:lnTo>
                      <a:pt x="605" y="0"/>
                    </a:lnTo>
                    <a:lnTo>
                      <a:pt x="0" y="69"/>
                    </a:lnTo>
                    <a:lnTo>
                      <a:pt x="0" y="252"/>
                    </a:lnTo>
                    <a:lnTo>
                      <a:pt x="340" y="514"/>
                    </a:lnTo>
                    <a:lnTo>
                      <a:pt x="815" y="762"/>
                    </a:lnTo>
                    <a:lnTo>
                      <a:pt x="815" y="1014"/>
                    </a:lnTo>
                    <a:lnTo>
                      <a:pt x="1282" y="1014"/>
                    </a:lnTo>
                    <a:lnTo>
                      <a:pt x="1417" y="1206"/>
                    </a:lnTo>
                    <a:lnTo>
                      <a:pt x="1544" y="1267"/>
                    </a:lnTo>
                    <a:lnTo>
                      <a:pt x="1871" y="1585"/>
                    </a:lnTo>
                    <a:lnTo>
                      <a:pt x="1945" y="1585"/>
                    </a:lnTo>
                    <a:lnTo>
                      <a:pt x="2276" y="1959"/>
                    </a:lnTo>
                    <a:lnTo>
                      <a:pt x="2006" y="1393"/>
                    </a:lnTo>
                    <a:lnTo>
                      <a:pt x="2006" y="1267"/>
                    </a:lnTo>
                    <a:lnTo>
                      <a:pt x="1544" y="949"/>
                    </a:lnTo>
                    <a:lnTo>
                      <a:pt x="1081" y="884"/>
                    </a:lnTo>
                    <a:lnTo>
                      <a:pt x="876" y="701"/>
                    </a:lnTo>
                    <a:lnTo>
                      <a:pt x="671" y="443"/>
                    </a:lnTo>
                    <a:lnTo>
                      <a:pt x="1011" y="443"/>
                    </a:lnTo>
                    <a:lnTo>
                      <a:pt x="1347" y="382"/>
                    </a:lnTo>
                    <a:lnTo>
                      <a:pt x="941" y="252"/>
                    </a:lnTo>
                    <a:lnTo>
                      <a:pt x="876" y="13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345440" y="4281480"/>
                <a:ext cx="1347840" cy="2160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18440" y="4222800"/>
                <a:ext cx="1317600" cy="217188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273800" y="4124160"/>
                <a:ext cx="1302120" cy="2203920"/>
              </a:xfrm>
              <a:custGeom>
                <a:avLst/>
                <a:gdLst/>
                <a:ahLst/>
                <a:rect l="0" t="0" r="r" b="b"/>
                <a:pathLst>
                  <a:path w="3617" h="6122">
                    <a:moveTo>
                      <a:pt x="0" y="4783"/>
                    </a:moveTo>
                    <a:lnTo>
                      <a:pt x="188" y="4365"/>
                    </a:lnTo>
                    <a:lnTo>
                      <a:pt x="144" y="4330"/>
                    </a:lnTo>
                    <a:lnTo>
                      <a:pt x="262" y="4097"/>
                    </a:lnTo>
                    <a:lnTo>
                      <a:pt x="218" y="4066"/>
                    </a:lnTo>
                    <a:lnTo>
                      <a:pt x="920" y="3346"/>
                    </a:lnTo>
                    <a:lnTo>
                      <a:pt x="1274" y="2613"/>
                    </a:lnTo>
                    <a:lnTo>
                      <a:pt x="1196" y="2490"/>
                    </a:lnTo>
                    <a:lnTo>
                      <a:pt x="1450" y="2187"/>
                    </a:lnTo>
                    <a:lnTo>
                      <a:pt x="1686" y="1488"/>
                    </a:lnTo>
                    <a:lnTo>
                      <a:pt x="1791" y="1023"/>
                    </a:lnTo>
                    <a:lnTo>
                      <a:pt x="1900" y="355"/>
                    </a:lnTo>
                    <a:lnTo>
                      <a:pt x="1870" y="307"/>
                    </a:lnTo>
                    <a:lnTo>
                      <a:pt x="1870" y="184"/>
                    </a:lnTo>
                    <a:lnTo>
                      <a:pt x="2023" y="0"/>
                    </a:lnTo>
                    <a:lnTo>
                      <a:pt x="2181" y="184"/>
                    </a:lnTo>
                    <a:lnTo>
                      <a:pt x="2167" y="307"/>
                    </a:lnTo>
                    <a:lnTo>
                      <a:pt x="2154" y="307"/>
                    </a:lnTo>
                    <a:lnTo>
                      <a:pt x="2137" y="939"/>
                    </a:lnTo>
                    <a:lnTo>
                      <a:pt x="2430" y="2235"/>
                    </a:lnTo>
                    <a:lnTo>
                      <a:pt x="2680" y="2508"/>
                    </a:lnTo>
                    <a:lnTo>
                      <a:pt x="2544" y="2543"/>
                    </a:lnTo>
                    <a:lnTo>
                      <a:pt x="2970" y="3601"/>
                    </a:lnTo>
                    <a:lnTo>
                      <a:pt x="3617" y="4027"/>
                    </a:lnTo>
                    <a:lnTo>
                      <a:pt x="3617" y="5872"/>
                    </a:lnTo>
                    <a:lnTo>
                      <a:pt x="3455" y="5652"/>
                    </a:lnTo>
                    <a:lnTo>
                      <a:pt x="3114" y="5437"/>
                    </a:lnTo>
                    <a:lnTo>
                      <a:pt x="2935" y="5407"/>
                    </a:lnTo>
                    <a:lnTo>
                      <a:pt x="2834" y="5402"/>
                    </a:lnTo>
                    <a:lnTo>
                      <a:pt x="2751" y="5424"/>
                    </a:lnTo>
                    <a:lnTo>
                      <a:pt x="2553" y="5587"/>
                    </a:lnTo>
                    <a:lnTo>
                      <a:pt x="2386" y="5815"/>
                    </a:lnTo>
                    <a:lnTo>
                      <a:pt x="2308" y="6122"/>
                    </a:lnTo>
                    <a:lnTo>
                      <a:pt x="2237" y="6122"/>
                    </a:lnTo>
                    <a:lnTo>
                      <a:pt x="0" y="6122"/>
                    </a:lnTo>
                    <a:lnTo>
                      <a:pt x="0" y="47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804080" y="4157640"/>
                <a:ext cx="437040" cy="864000"/>
              </a:xfrm>
              <a:custGeom>
                <a:avLst/>
                <a:gdLst/>
                <a:ahLst/>
                <a:rect l="0" t="0" r="r" b="b"/>
                <a:pathLst>
                  <a:path w="1214" h="2400">
                    <a:moveTo>
                      <a:pt x="596" y="148"/>
                    </a:moveTo>
                    <a:lnTo>
                      <a:pt x="562" y="183"/>
                    </a:lnTo>
                    <a:lnTo>
                      <a:pt x="531" y="694"/>
                    </a:lnTo>
                    <a:lnTo>
                      <a:pt x="458" y="1405"/>
                    </a:lnTo>
                    <a:lnTo>
                      <a:pt x="432" y="1688"/>
                    </a:lnTo>
                    <a:lnTo>
                      <a:pt x="402" y="1649"/>
                    </a:lnTo>
                    <a:lnTo>
                      <a:pt x="0" y="2082"/>
                    </a:lnTo>
                    <a:lnTo>
                      <a:pt x="146" y="1986"/>
                    </a:lnTo>
                    <a:lnTo>
                      <a:pt x="402" y="1758"/>
                    </a:lnTo>
                    <a:lnTo>
                      <a:pt x="665" y="1942"/>
                    </a:lnTo>
                    <a:lnTo>
                      <a:pt x="704" y="1942"/>
                    </a:lnTo>
                    <a:lnTo>
                      <a:pt x="881" y="2082"/>
                    </a:lnTo>
                    <a:lnTo>
                      <a:pt x="881" y="2174"/>
                    </a:lnTo>
                    <a:lnTo>
                      <a:pt x="1214" y="2400"/>
                    </a:lnTo>
                    <a:lnTo>
                      <a:pt x="1214" y="2291"/>
                    </a:lnTo>
                    <a:lnTo>
                      <a:pt x="1037" y="2174"/>
                    </a:lnTo>
                    <a:lnTo>
                      <a:pt x="868" y="1545"/>
                    </a:lnTo>
                    <a:lnTo>
                      <a:pt x="747" y="925"/>
                    </a:lnTo>
                    <a:lnTo>
                      <a:pt x="695" y="431"/>
                    </a:lnTo>
                    <a:lnTo>
                      <a:pt x="695" y="235"/>
                    </a:lnTo>
                    <a:lnTo>
                      <a:pt x="704" y="213"/>
                    </a:lnTo>
                    <a:lnTo>
                      <a:pt x="721" y="126"/>
                    </a:lnTo>
                    <a:lnTo>
                      <a:pt x="596" y="0"/>
                    </a:lnTo>
                    <a:lnTo>
                      <a:pt x="596" y="148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026560" y="4462560"/>
                <a:ext cx="78120" cy="390960"/>
              </a:xfrm>
              <a:custGeom>
                <a:avLst/>
                <a:gdLst/>
                <a:ahLst/>
                <a:rect l="0" t="0" r="r" b="b"/>
                <a:pathLst>
                  <a:path w="217" h="1086">
                    <a:moveTo>
                      <a:pt x="15" y="0"/>
                    </a:moveTo>
                    <a:lnTo>
                      <a:pt x="0" y="927"/>
                    </a:lnTo>
                    <a:lnTo>
                      <a:pt x="217" y="1086"/>
                    </a:lnTo>
                    <a:lnTo>
                      <a:pt x="106" y="612"/>
                    </a:lnTo>
                    <a:lnTo>
                      <a:pt x="47" y="15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53360" y="4849920"/>
                <a:ext cx="1222560" cy="735480"/>
              </a:xfrm>
              <a:custGeom>
                <a:avLst/>
                <a:gdLst/>
                <a:ahLst/>
                <a:rect l="0" t="0" r="r" b="b"/>
                <a:pathLst>
                  <a:path w="3396" h="2043">
                    <a:moveTo>
                      <a:pt x="1662" y="0"/>
                    </a:moveTo>
                    <a:lnTo>
                      <a:pt x="1649" y="0"/>
                    </a:lnTo>
                    <a:lnTo>
                      <a:pt x="1891" y="178"/>
                    </a:lnTo>
                    <a:lnTo>
                      <a:pt x="1935" y="1024"/>
                    </a:lnTo>
                    <a:lnTo>
                      <a:pt x="2578" y="1441"/>
                    </a:lnTo>
                    <a:lnTo>
                      <a:pt x="2180" y="404"/>
                    </a:lnTo>
                    <a:lnTo>
                      <a:pt x="2385" y="545"/>
                    </a:lnTo>
                    <a:lnTo>
                      <a:pt x="2578" y="1050"/>
                    </a:lnTo>
                    <a:lnTo>
                      <a:pt x="2910" y="1647"/>
                    </a:lnTo>
                    <a:lnTo>
                      <a:pt x="3396" y="1969"/>
                    </a:lnTo>
                    <a:lnTo>
                      <a:pt x="3396" y="2043"/>
                    </a:lnTo>
                    <a:lnTo>
                      <a:pt x="1373" y="762"/>
                    </a:lnTo>
                    <a:lnTo>
                      <a:pt x="0" y="2034"/>
                    </a:lnTo>
                    <a:lnTo>
                      <a:pt x="1373" y="658"/>
                    </a:lnTo>
                    <a:lnTo>
                      <a:pt x="1509" y="728"/>
                    </a:lnTo>
                    <a:lnTo>
                      <a:pt x="1662" y="0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432560" y="5334120"/>
                <a:ext cx="557640" cy="993960"/>
              </a:xfrm>
              <a:custGeom>
                <a:avLst/>
                <a:gdLst/>
                <a:ahLst/>
                <a:rect l="0" t="0" r="r" b="b"/>
                <a:pathLst>
                  <a:path w="1549" h="2761">
                    <a:moveTo>
                      <a:pt x="1102" y="0"/>
                    </a:moveTo>
                    <a:lnTo>
                      <a:pt x="0" y="2761"/>
                    </a:lnTo>
                    <a:lnTo>
                      <a:pt x="725" y="2761"/>
                    </a:lnTo>
                    <a:lnTo>
                      <a:pt x="1549" y="1407"/>
                    </a:lnTo>
                    <a:lnTo>
                      <a:pt x="1549" y="253"/>
                    </a:lnTo>
                    <a:lnTo>
                      <a:pt x="1102" y="0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166240" y="5721480"/>
                <a:ext cx="410040" cy="203400"/>
              </a:xfrm>
              <a:custGeom>
                <a:avLst/>
                <a:gdLst/>
                <a:ahLst/>
                <a:rect l="0" t="0" r="r" b="b"/>
                <a:pathLst>
                  <a:path w="1139" h="565">
                    <a:moveTo>
                      <a:pt x="0" y="54"/>
                    </a:moveTo>
                    <a:lnTo>
                      <a:pt x="168" y="8"/>
                    </a:lnTo>
                    <a:lnTo>
                      <a:pt x="254" y="0"/>
                    </a:lnTo>
                    <a:lnTo>
                      <a:pt x="341" y="4"/>
                    </a:lnTo>
                    <a:lnTo>
                      <a:pt x="677" y="122"/>
                    </a:lnTo>
                    <a:lnTo>
                      <a:pt x="958" y="333"/>
                    </a:lnTo>
                    <a:lnTo>
                      <a:pt x="1139" y="565"/>
                    </a:lnTo>
                    <a:lnTo>
                      <a:pt x="889" y="354"/>
                    </a:lnTo>
                    <a:lnTo>
                      <a:pt x="608" y="189"/>
                    </a:lnTo>
                    <a:lnTo>
                      <a:pt x="311" y="9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345440" y="5186520"/>
                <a:ext cx="1038600" cy="481320"/>
              </a:xfrm>
              <a:custGeom>
                <a:avLst/>
                <a:gdLst/>
                <a:ahLst/>
                <a:rect l="0" t="0" r="r" b="b"/>
                <a:pathLst>
                  <a:path w="2885" h="1337">
                    <a:moveTo>
                      <a:pt x="0" y="1337"/>
                    </a:moveTo>
                    <a:lnTo>
                      <a:pt x="1386" y="0"/>
                    </a:lnTo>
                    <a:lnTo>
                      <a:pt x="2885" y="943"/>
                    </a:lnTo>
                    <a:lnTo>
                      <a:pt x="2006" y="454"/>
                    </a:lnTo>
                    <a:lnTo>
                      <a:pt x="2006" y="514"/>
                    </a:lnTo>
                    <a:lnTo>
                      <a:pt x="1386" y="125"/>
                    </a:lnTo>
                    <a:lnTo>
                      <a:pt x="0" y="1337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109000" y="6068880"/>
                <a:ext cx="240120" cy="251280"/>
              </a:xfrm>
              <a:custGeom>
                <a:avLst/>
                <a:gdLst/>
                <a:ahLst/>
                <a:rect l="0" t="0" r="r" b="b"/>
                <a:pathLst>
                  <a:path w="667" h="698">
                    <a:moveTo>
                      <a:pt x="0" y="698"/>
                    </a:moveTo>
                    <a:lnTo>
                      <a:pt x="93" y="336"/>
                    </a:lnTo>
                    <a:lnTo>
                      <a:pt x="230" y="110"/>
                    </a:lnTo>
                    <a:lnTo>
                      <a:pt x="420" y="12"/>
                    </a:lnTo>
                    <a:lnTo>
                      <a:pt x="536" y="0"/>
                    </a:lnTo>
                    <a:lnTo>
                      <a:pt x="667" y="12"/>
                    </a:lnTo>
                    <a:lnTo>
                      <a:pt x="446" y="80"/>
                    </a:lnTo>
                    <a:lnTo>
                      <a:pt x="246" y="226"/>
                    </a:lnTo>
                    <a:lnTo>
                      <a:pt x="97" y="434"/>
                    </a:lnTo>
                    <a:lnTo>
                      <a:pt x="0" y="69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14440" y="4190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068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