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068040" cy="6782040"/>
            <a:chOff x="0" y="0"/>
            <a:chExt cx="9068040" cy="6782040"/>
          </a:xfrm>
        </p:grpSpPr>
        <p:sp>
          <p:nvSpPr>
            <p:cNvPr id="1" name=""/>
            <p:cNvSpPr/>
            <p:nvPr/>
          </p:nvSpPr>
          <p:spPr>
            <a:xfrm>
              <a:off x="3503520" y="2421000"/>
              <a:ext cx="1337040" cy="2065680"/>
            </a:xfrm>
            <a:custGeom>
              <a:avLst/>
              <a:gdLst/>
              <a:ahLst/>
              <a:rect l="0" t="0" r="r" b="b"/>
              <a:pathLst>
                <a:path w="3714" h="5738">
                  <a:moveTo>
                    <a:pt x="679" y="5738"/>
                  </a:moveTo>
                  <a:lnTo>
                    <a:pt x="828" y="5738"/>
                  </a:lnTo>
                  <a:lnTo>
                    <a:pt x="981" y="5730"/>
                  </a:lnTo>
                  <a:lnTo>
                    <a:pt x="1279" y="5693"/>
                  </a:lnTo>
                  <a:lnTo>
                    <a:pt x="1844" y="5537"/>
                  </a:lnTo>
                  <a:lnTo>
                    <a:pt x="2351" y="5281"/>
                  </a:lnTo>
                  <a:lnTo>
                    <a:pt x="2802" y="4937"/>
                  </a:lnTo>
                  <a:lnTo>
                    <a:pt x="3173" y="4521"/>
                  </a:lnTo>
                  <a:lnTo>
                    <a:pt x="3459" y="4035"/>
                  </a:lnTo>
                  <a:lnTo>
                    <a:pt x="3642" y="3494"/>
                  </a:lnTo>
                  <a:lnTo>
                    <a:pt x="3714" y="2912"/>
                  </a:lnTo>
                  <a:lnTo>
                    <a:pt x="3714" y="2766"/>
                  </a:lnTo>
                  <a:lnTo>
                    <a:pt x="3703" y="2618"/>
                  </a:lnTo>
                  <a:lnTo>
                    <a:pt x="3661" y="2328"/>
                  </a:lnTo>
                  <a:lnTo>
                    <a:pt x="3493" y="1783"/>
                  </a:lnTo>
                  <a:lnTo>
                    <a:pt x="3226" y="1290"/>
                  </a:lnTo>
                  <a:lnTo>
                    <a:pt x="2867" y="860"/>
                  </a:lnTo>
                  <a:lnTo>
                    <a:pt x="2427" y="508"/>
                  </a:lnTo>
                  <a:lnTo>
                    <a:pt x="1924" y="233"/>
                  </a:lnTo>
                  <a:lnTo>
                    <a:pt x="1367" y="63"/>
                  </a:lnTo>
                  <a:lnTo>
                    <a:pt x="767" y="0"/>
                  </a:lnTo>
                  <a:lnTo>
                    <a:pt x="595" y="118"/>
                  </a:lnTo>
                  <a:lnTo>
                    <a:pt x="446" y="333"/>
                  </a:lnTo>
                  <a:lnTo>
                    <a:pt x="209" y="997"/>
                  </a:lnTo>
                  <a:lnTo>
                    <a:pt x="61" y="1869"/>
                  </a:lnTo>
                  <a:lnTo>
                    <a:pt x="0" y="2855"/>
                  </a:lnTo>
                  <a:lnTo>
                    <a:pt x="0" y="3105"/>
                  </a:lnTo>
                  <a:lnTo>
                    <a:pt x="0" y="3353"/>
                  </a:lnTo>
                  <a:lnTo>
                    <a:pt x="26" y="3843"/>
                  </a:lnTo>
                  <a:lnTo>
                    <a:pt x="148" y="4721"/>
                  </a:lnTo>
                  <a:lnTo>
                    <a:pt x="366" y="5389"/>
                  </a:lnTo>
                  <a:lnTo>
                    <a:pt x="507" y="5608"/>
                  </a:lnTo>
                  <a:lnTo>
                    <a:pt x="679" y="573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0480" y="0"/>
              <a:ext cx="3764160" cy="6737760"/>
            </a:xfrm>
            <a:custGeom>
              <a:avLst/>
              <a:gdLst/>
              <a:ahLst/>
              <a:rect l="0" t="0" r="r" b="b"/>
              <a:pathLst>
                <a:path w="10456" h="18716">
                  <a:moveTo>
                    <a:pt x="8756" y="17961"/>
                  </a:moveTo>
                  <a:lnTo>
                    <a:pt x="8752" y="18716"/>
                  </a:lnTo>
                  <a:lnTo>
                    <a:pt x="10138" y="18716"/>
                  </a:lnTo>
                  <a:lnTo>
                    <a:pt x="10138" y="14890"/>
                  </a:lnTo>
                  <a:lnTo>
                    <a:pt x="10157" y="14730"/>
                  </a:lnTo>
                  <a:lnTo>
                    <a:pt x="10153" y="14656"/>
                  </a:lnTo>
                  <a:lnTo>
                    <a:pt x="10138" y="14577"/>
                  </a:lnTo>
                  <a:lnTo>
                    <a:pt x="10000" y="14298"/>
                  </a:lnTo>
                  <a:lnTo>
                    <a:pt x="9770" y="14108"/>
                  </a:lnTo>
                  <a:lnTo>
                    <a:pt x="9629" y="14060"/>
                  </a:lnTo>
                  <a:lnTo>
                    <a:pt x="9556" y="14049"/>
                  </a:lnTo>
                  <a:lnTo>
                    <a:pt x="9472" y="14049"/>
                  </a:lnTo>
                  <a:lnTo>
                    <a:pt x="8993" y="14160"/>
                  </a:lnTo>
                  <a:lnTo>
                    <a:pt x="8851" y="14257"/>
                  </a:lnTo>
                  <a:lnTo>
                    <a:pt x="8759" y="14376"/>
                  </a:lnTo>
                  <a:lnTo>
                    <a:pt x="8698" y="14659"/>
                  </a:lnTo>
                  <a:lnTo>
                    <a:pt x="8736" y="14976"/>
                  </a:lnTo>
                  <a:lnTo>
                    <a:pt x="7158" y="15043"/>
                  </a:lnTo>
                  <a:lnTo>
                    <a:pt x="7044" y="15046"/>
                  </a:lnTo>
                  <a:lnTo>
                    <a:pt x="6936" y="15031"/>
                  </a:lnTo>
                  <a:lnTo>
                    <a:pt x="6749" y="14957"/>
                  </a:lnTo>
                  <a:lnTo>
                    <a:pt x="6595" y="14827"/>
                  </a:lnTo>
                  <a:lnTo>
                    <a:pt x="6477" y="14648"/>
                  </a:lnTo>
                  <a:lnTo>
                    <a:pt x="6327" y="14194"/>
                  </a:lnTo>
                  <a:lnTo>
                    <a:pt x="6281" y="13679"/>
                  </a:lnTo>
                  <a:lnTo>
                    <a:pt x="6281" y="6470"/>
                  </a:lnTo>
                  <a:lnTo>
                    <a:pt x="6358" y="5993"/>
                  </a:lnTo>
                  <a:lnTo>
                    <a:pt x="6584" y="5613"/>
                  </a:lnTo>
                  <a:lnTo>
                    <a:pt x="6745" y="5476"/>
                  </a:lnTo>
                  <a:lnTo>
                    <a:pt x="6933" y="5375"/>
                  </a:lnTo>
                  <a:lnTo>
                    <a:pt x="7143" y="5323"/>
                  </a:lnTo>
                  <a:lnTo>
                    <a:pt x="7258" y="5316"/>
                  </a:lnTo>
                  <a:lnTo>
                    <a:pt x="7315" y="5316"/>
                  </a:lnTo>
                  <a:lnTo>
                    <a:pt x="7377" y="5319"/>
                  </a:lnTo>
                  <a:lnTo>
                    <a:pt x="8970" y="5338"/>
                  </a:lnTo>
                  <a:lnTo>
                    <a:pt x="8936" y="5684"/>
                  </a:lnTo>
                  <a:lnTo>
                    <a:pt x="8943" y="5863"/>
                  </a:lnTo>
                  <a:lnTo>
                    <a:pt x="8993" y="6038"/>
                  </a:lnTo>
                  <a:lnTo>
                    <a:pt x="9081" y="6190"/>
                  </a:lnTo>
                  <a:lnTo>
                    <a:pt x="9230" y="6313"/>
                  </a:lnTo>
                  <a:lnTo>
                    <a:pt x="9449" y="6391"/>
                  </a:lnTo>
                  <a:lnTo>
                    <a:pt x="9747" y="6421"/>
                  </a:lnTo>
                  <a:lnTo>
                    <a:pt x="10042" y="6365"/>
                  </a:lnTo>
                  <a:lnTo>
                    <a:pt x="10284" y="6205"/>
                  </a:lnTo>
                  <a:lnTo>
                    <a:pt x="10433" y="5967"/>
                  </a:lnTo>
                  <a:lnTo>
                    <a:pt x="10456" y="5826"/>
                  </a:lnTo>
                  <a:lnTo>
                    <a:pt x="10452" y="5751"/>
                  </a:lnTo>
                  <a:lnTo>
                    <a:pt x="10441" y="5669"/>
                  </a:lnTo>
                  <a:lnTo>
                    <a:pt x="10441" y="1842"/>
                  </a:lnTo>
                  <a:lnTo>
                    <a:pt x="9054" y="1842"/>
                  </a:lnTo>
                  <a:lnTo>
                    <a:pt x="9058" y="2679"/>
                  </a:lnTo>
                  <a:lnTo>
                    <a:pt x="8365" y="2743"/>
                  </a:lnTo>
                  <a:lnTo>
                    <a:pt x="8070" y="2754"/>
                  </a:lnTo>
                  <a:lnTo>
                    <a:pt x="7936" y="2758"/>
                  </a:lnTo>
                  <a:lnTo>
                    <a:pt x="7806" y="2758"/>
                  </a:lnTo>
                  <a:lnTo>
                    <a:pt x="7365" y="2720"/>
                  </a:lnTo>
                  <a:lnTo>
                    <a:pt x="7013" y="2631"/>
                  </a:lnTo>
                  <a:lnTo>
                    <a:pt x="6722" y="2490"/>
                  </a:lnTo>
                  <a:lnTo>
                    <a:pt x="6465" y="2300"/>
                  </a:lnTo>
                  <a:lnTo>
                    <a:pt x="5960" y="1771"/>
                  </a:lnTo>
                  <a:lnTo>
                    <a:pt x="5749" y="1369"/>
                  </a:lnTo>
                  <a:lnTo>
                    <a:pt x="5485" y="1012"/>
                  </a:lnTo>
                  <a:lnTo>
                    <a:pt x="5177" y="703"/>
                  </a:lnTo>
                  <a:lnTo>
                    <a:pt x="4829" y="442"/>
                  </a:lnTo>
                  <a:lnTo>
                    <a:pt x="4454" y="241"/>
                  </a:lnTo>
                  <a:lnTo>
                    <a:pt x="4044" y="96"/>
                  </a:lnTo>
                  <a:lnTo>
                    <a:pt x="3619" y="14"/>
                  </a:lnTo>
                  <a:lnTo>
                    <a:pt x="3400" y="3"/>
                  </a:lnTo>
                  <a:lnTo>
                    <a:pt x="3289" y="0"/>
                  </a:lnTo>
                  <a:lnTo>
                    <a:pt x="3178" y="3"/>
                  </a:lnTo>
                  <a:lnTo>
                    <a:pt x="3109" y="14"/>
                  </a:lnTo>
                  <a:lnTo>
                    <a:pt x="15" y="3"/>
                  </a:lnTo>
                  <a:lnTo>
                    <a:pt x="15" y="2728"/>
                  </a:lnTo>
                  <a:lnTo>
                    <a:pt x="0" y="2627"/>
                  </a:lnTo>
                  <a:lnTo>
                    <a:pt x="1317" y="2635"/>
                  </a:lnTo>
                  <a:lnTo>
                    <a:pt x="1443" y="2631"/>
                  </a:lnTo>
                  <a:lnTo>
                    <a:pt x="1505" y="2631"/>
                  </a:lnTo>
                  <a:lnTo>
                    <a:pt x="1574" y="2635"/>
                  </a:lnTo>
                  <a:lnTo>
                    <a:pt x="1823" y="2702"/>
                  </a:lnTo>
                  <a:lnTo>
                    <a:pt x="2056" y="2821"/>
                  </a:lnTo>
                  <a:lnTo>
                    <a:pt x="2267" y="2988"/>
                  </a:lnTo>
                  <a:lnTo>
                    <a:pt x="2443" y="3197"/>
                  </a:lnTo>
                  <a:lnTo>
                    <a:pt x="2581" y="3446"/>
                  </a:lnTo>
                  <a:lnTo>
                    <a:pt x="2673" y="3722"/>
                  </a:lnTo>
                  <a:lnTo>
                    <a:pt x="2707" y="4023"/>
                  </a:lnTo>
                  <a:lnTo>
                    <a:pt x="2700" y="12756"/>
                  </a:lnTo>
                  <a:lnTo>
                    <a:pt x="2700" y="12827"/>
                  </a:lnTo>
                  <a:lnTo>
                    <a:pt x="2696" y="12901"/>
                  </a:lnTo>
                  <a:lnTo>
                    <a:pt x="2680" y="13047"/>
                  </a:lnTo>
                  <a:lnTo>
                    <a:pt x="2627" y="13322"/>
                  </a:lnTo>
                  <a:lnTo>
                    <a:pt x="2408" y="13776"/>
                  </a:lnTo>
                  <a:lnTo>
                    <a:pt x="2251" y="13944"/>
                  </a:lnTo>
                  <a:lnTo>
                    <a:pt x="2060" y="14067"/>
                  </a:lnTo>
                  <a:lnTo>
                    <a:pt x="1842" y="14131"/>
                  </a:lnTo>
                  <a:lnTo>
                    <a:pt x="1723" y="14138"/>
                  </a:lnTo>
                  <a:lnTo>
                    <a:pt x="1662" y="14138"/>
                  </a:lnTo>
                  <a:lnTo>
                    <a:pt x="1593" y="14134"/>
                  </a:lnTo>
                  <a:lnTo>
                    <a:pt x="57" y="14134"/>
                  </a:lnTo>
                  <a:lnTo>
                    <a:pt x="145" y="14164"/>
                  </a:lnTo>
                  <a:lnTo>
                    <a:pt x="145" y="17760"/>
                  </a:lnTo>
                  <a:lnTo>
                    <a:pt x="8863" y="17752"/>
                  </a:lnTo>
                  <a:lnTo>
                    <a:pt x="8756" y="1796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197000" y="3463920"/>
              <a:ext cx="2560680" cy="11268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2840"/>
              <a:ext cx="3764160" cy="6739200"/>
            </a:xfrm>
            <a:custGeom>
              <a:avLst/>
              <a:gdLst/>
              <a:ahLst/>
              <a:rect l="0" t="0" r="r" b="b"/>
              <a:pathLst>
                <a:path w="10456" h="18720">
                  <a:moveTo>
                    <a:pt x="8756" y="17960"/>
                  </a:moveTo>
                  <a:lnTo>
                    <a:pt x="8752" y="18720"/>
                  </a:lnTo>
                  <a:lnTo>
                    <a:pt x="10138" y="18720"/>
                  </a:lnTo>
                  <a:lnTo>
                    <a:pt x="10134" y="14890"/>
                  </a:lnTo>
                  <a:lnTo>
                    <a:pt x="10153" y="14733"/>
                  </a:lnTo>
                  <a:lnTo>
                    <a:pt x="10153" y="14655"/>
                  </a:lnTo>
                  <a:lnTo>
                    <a:pt x="10134" y="14577"/>
                  </a:lnTo>
                  <a:lnTo>
                    <a:pt x="10000" y="14301"/>
                  </a:lnTo>
                  <a:lnTo>
                    <a:pt x="9770" y="14112"/>
                  </a:lnTo>
                  <a:lnTo>
                    <a:pt x="9629" y="14063"/>
                  </a:lnTo>
                  <a:lnTo>
                    <a:pt x="9552" y="14052"/>
                  </a:lnTo>
                  <a:lnTo>
                    <a:pt x="9472" y="14052"/>
                  </a:lnTo>
                  <a:lnTo>
                    <a:pt x="8989" y="14164"/>
                  </a:lnTo>
                  <a:lnTo>
                    <a:pt x="8851" y="14260"/>
                  </a:lnTo>
                  <a:lnTo>
                    <a:pt x="8759" y="14380"/>
                  </a:lnTo>
                  <a:lnTo>
                    <a:pt x="8698" y="14659"/>
                  </a:lnTo>
                  <a:lnTo>
                    <a:pt x="8733" y="14975"/>
                  </a:lnTo>
                  <a:lnTo>
                    <a:pt x="7158" y="15042"/>
                  </a:lnTo>
                  <a:lnTo>
                    <a:pt x="7044" y="15046"/>
                  </a:lnTo>
                  <a:lnTo>
                    <a:pt x="6933" y="15035"/>
                  </a:lnTo>
                  <a:lnTo>
                    <a:pt x="6745" y="14960"/>
                  </a:lnTo>
                  <a:lnTo>
                    <a:pt x="6595" y="14826"/>
                  </a:lnTo>
                  <a:lnTo>
                    <a:pt x="6473" y="14648"/>
                  </a:lnTo>
                  <a:lnTo>
                    <a:pt x="6327" y="14197"/>
                  </a:lnTo>
                  <a:lnTo>
                    <a:pt x="6278" y="13684"/>
                  </a:lnTo>
                  <a:lnTo>
                    <a:pt x="6278" y="6473"/>
                  </a:lnTo>
                  <a:lnTo>
                    <a:pt x="6358" y="5996"/>
                  </a:lnTo>
                  <a:lnTo>
                    <a:pt x="6584" y="5613"/>
                  </a:lnTo>
                  <a:lnTo>
                    <a:pt x="6745" y="5475"/>
                  </a:lnTo>
                  <a:lnTo>
                    <a:pt x="6929" y="5374"/>
                  </a:lnTo>
                  <a:lnTo>
                    <a:pt x="7143" y="5322"/>
                  </a:lnTo>
                  <a:lnTo>
                    <a:pt x="7254" y="5315"/>
                  </a:lnTo>
                  <a:lnTo>
                    <a:pt x="7315" y="5315"/>
                  </a:lnTo>
                  <a:lnTo>
                    <a:pt x="7377" y="5322"/>
                  </a:lnTo>
                  <a:lnTo>
                    <a:pt x="8970" y="5341"/>
                  </a:lnTo>
                  <a:lnTo>
                    <a:pt x="8932" y="5687"/>
                  </a:lnTo>
                  <a:lnTo>
                    <a:pt x="8943" y="5866"/>
                  </a:lnTo>
                  <a:lnTo>
                    <a:pt x="8989" y="6041"/>
                  </a:lnTo>
                  <a:lnTo>
                    <a:pt x="9081" y="6190"/>
                  </a:lnTo>
                  <a:lnTo>
                    <a:pt x="9230" y="6312"/>
                  </a:lnTo>
                  <a:lnTo>
                    <a:pt x="9449" y="6391"/>
                  </a:lnTo>
                  <a:lnTo>
                    <a:pt x="9747" y="6424"/>
                  </a:lnTo>
                  <a:lnTo>
                    <a:pt x="10038" y="6368"/>
                  </a:lnTo>
                  <a:lnTo>
                    <a:pt x="10284" y="6205"/>
                  </a:lnTo>
                  <a:lnTo>
                    <a:pt x="10429" y="5970"/>
                  </a:lnTo>
                  <a:lnTo>
                    <a:pt x="10456" y="5829"/>
                  </a:lnTo>
                  <a:lnTo>
                    <a:pt x="10452" y="5750"/>
                  </a:lnTo>
                  <a:lnTo>
                    <a:pt x="10437" y="5672"/>
                  </a:lnTo>
                  <a:lnTo>
                    <a:pt x="10441" y="1846"/>
                  </a:lnTo>
                  <a:lnTo>
                    <a:pt x="9054" y="1846"/>
                  </a:lnTo>
                  <a:lnTo>
                    <a:pt x="9058" y="2680"/>
                  </a:lnTo>
                  <a:lnTo>
                    <a:pt x="8361" y="2747"/>
                  </a:lnTo>
                  <a:lnTo>
                    <a:pt x="8070" y="2758"/>
                  </a:lnTo>
                  <a:lnTo>
                    <a:pt x="7936" y="2758"/>
                  </a:lnTo>
                  <a:lnTo>
                    <a:pt x="7806" y="2761"/>
                  </a:lnTo>
                  <a:lnTo>
                    <a:pt x="7365" y="2724"/>
                  </a:lnTo>
                  <a:lnTo>
                    <a:pt x="7009" y="2631"/>
                  </a:lnTo>
                  <a:lnTo>
                    <a:pt x="6722" y="2493"/>
                  </a:lnTo>
                  <a:lnTo>
                    <a:pt x="6465" y="2300"/>
                  </a:lnTo>
                  <a:lnTo>
                    <a:pt x="5956" y="1775"/>
                  </a:lnTo>
                  <a:lnTo>
                    <a:pt x="5749" y="1373"/>
                  </a:lnTo>
                  <a:lnTo>
                    <a:pt x="5485" y="1012"/>
                  </a:lnTo>
                  <a:lnTo>
                    <a:pt x="5177" y="707"/>
                  </a:lnTo>
                  <a:lnTo>
                    <a:pt x="4829" y="442"/>
                  </a:lnTo>
                  <a:lnTo>
                    <a:pt x="4450" y="241"/>
                  </a:lnTo>
                  <a:lnTo>
                    <a:pt x="4044" y="96"/>
                  </a:lnTo>
                  <a:lnTo>
                    <a:pt x="3619" y="18"/>
                  </a:lnTo>
                  <a:lnTo>
                    <a:pt x="3400" y="3"/>
                  </a:lnTo>
                  <a:lnTo>
                    <a:pt x="3289" y="0"/>
                  </a:lnTo>
                  <a:lnTo>
                    <a:pt x="3178" y="7"/>
                  </a:lnTo>
                  <a:lnTo>
                    <a:pt x="3109" y="14"/>
                  </a:lnTo>
                  <a:lnTo>
                    <a:pt x="15" y="7"/>
                  </a:lnTo>
                  <a:lnTo>
                    <a:pt x="15" y="2728"/>
                  </a:lnTo>
                  <a:lnTo>
                    <a:pt x="0" y="2627"/>
                  </a:lnTo>
                  <a:lnTo>
                    <a:pt x="1317" y="2639"/>
                  </a:lnTo>
                  <a:lnTo>
                    <a:pt x="1440" y="2631"/>
                  </a:lnTo>
                  <a:lnTo>
                    <a:pt x="1505" y="2631"/>
                  </a:lnTo>
                  <a:lnTo>
                    <a:pt x="1574" y="2639"/>
                  </a:lnTo>
                  <a:lnTo>
                    <a:pt x="1823" y="2702"/>
                  </a:lnTo>
                  <a:lnTo>
                    <a:pt x="2056" y="2821"/>
                  </a:lnTo>
                  <a:lnTo>
                    <a:pt x="2267" y="2992"/>
                  </a:lnTo>
                  <a:lnTo>
                    <a:pt x="2443" y="3201"/>
                  </a:lnTo>
                  <a:lnTo>
                    <a:pt x="2581" y="3450"/>
                  </a:lnTo>
                  <a:lnTo>
                    <a:pt x="2669" y="3725"/>
                  </a:lnTo>
                  <a:lnTo>
                    <a:pt x="2707" y="4023"/>
                  </a:lnTo>
                  <a:lnTo>
                    <a:pt x="2696" y="12757"/>
                  </a:lnTo>
                  <a:lnTo>
                    <a:pt x="2696" y="12831"/>
                  </a:lnTo>
                  <a:lnTo>
                    <a:pt x="2696" y="12906"/>
                  </a:lnTo>
                  <a:lnTo>
                    <a:pt x="2680" y="13051"/>
                  </a:lnTo>
                  <a:lnTo>
                    <a:pt x="2627" y="13322"/>
                  </a:lnTo>
                  <a:lnTo>
                    <a:pt x="2408" y="13780"/>
                  </a:lnTo>
                  <a:lnTo>
                    <a:pt x="2251" y="13948"/>
                  </a:lnTo>
                  <a:lnTo>
                    <a:pt x="2060" y="14067"/>
                  </a:lnTo>
                  <a:lnTo>
                    <a:pt x="1842" y="14130"/>
                  </a:lnTo>
                  <a:lnTo>
                    <a:pt x="1719" y="14141"/>
                  </a:lnTo>
                  <a:lnTo>
                    <a:pt x="1658" y="14141"/>
                  </a:lnTo>
                  <a:lnTo>
                    <a:pt x="1593" y="14134"/>
                  </a:lnTo>
                  <a:lnTo>
                    <a:pt x="57" y="14134"/>
                  </a:lnTo>
                  <a:lnTo>
                    <a:pt x="145" y="14164"/>
                  </a:lnTo>
                  <a:lnTo>
                    <a:pt x="145" y="17763"/>
                  </a:lnTo>
                  <a:lnTo>
                    <a:pt x="8863" y="17752"/>
                  </a:lnTo>
                  <a:lnTo>
                    <a:pt x="8756" y="17960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75040" y="614520"/>
              <a:ext cx="1657800" cy="2460960"/>
            </a:xfrm>
            <a:custGeom>
              <a:avLst/>
              <a:gdLst/>
              <a:ahLst/>
              <a:rect l="0" t="0" r="r" b="b"/>
              <a:pathLst>
                <a:path w="4605" h="6836">
                  <a:moveTo>
                    <a:pt x="0" y="6628"/>
                  </a:moveTo>
                  <a:lnTo>
                    <a:pt x="4479" y="0"/>
                  </a:lnTo>
                  <a:lnTo>
                    <a:pt x="4605" y="371"/>
                  </a:lnTo>
                  <a:lnTo>
                    <a:pt x="298" y="6836"/>
                  </a:lnTo>
                  <a:lnTo>
                    <a:pt x="0" y="662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997440" y="3813120"/>
              <a:ext cx="1505160" cy="2073600"/>
            </a:xfrm>
            <a:custGeom>
              <a:avLst/>
              <a:gdLst/>
              <a:ahLst/>
              <a:rect l="0" t="0" r="r" b="b"/>
              <a:pathLst>
                <a:path w="4181" h="5760">
                  <a:moveTo>
                    <a:pt x="0" y="211"/>
                  </a:moveTo>
                  <a:lnTo>
                    <a:pt x="3722" y="5760"/>
                  </a:lnTo>
                  <a:lnTo>
                    <a:pt x="4181" y="5593"/>
                  </a:lnTo>
                  <a:lnTo>
                    <a:pt x="301" y="0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20880" y="2440080"/>
              <a:ext cx="2090880" cy="203040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14480" y="2527200"/>
              <a:ext cx="1919160" cy="185256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38600" y="582480"/>
              <a:ext cx="4429440" cy="5869440"/>
            </a:xfrm>
            <a:custGeom>
              <a:avLst/>
              <a:gdLst/>
              <a:ahLst/>
              <a:rect l="0" t="0" r="r" b="b"/>
              <a:pathLst>
                <a:path w="12304" h="16304">
                  <a:moveTo>
                    <a:pt x="12304" y="15757"/>
                  </a:moveTo>
                  <a:lnTo>
                    <a:pt x="12261" y="37"/>
                  </a:lnTo>
                  <a:lnTo>
                    <a:pt x="2416" y="0"/>
                  </a:lnTo>
                  <a:lnTo>
                    <a:pt x="3340" y="1131"/>
                  </a:lnTo>
                  <a:lnTo>
                    <a:pt x="4113" y="2292"/>
                  </a:lnTo>
                  <a:lnTo>
                    <a:pt x="4734" y="3460"/>
                  </a:lnTo>
                  <a:lnTo>
                    <a:pt x="5205" y="4641"/>
                  </a:lnTo>
                  <a:lnTo>
                    <a:pt x="5531" y="5809"/>
                  </a:lnTo>
                  <a:lnTo>
                    <a:pt x="5711" y="6974"/>
                  </a:lnTo>
                  <a:lnTo>
                    <a:pt x="5749" y="7547"/>
                  </a:lnTo>
                  <a:lnTo>
                    <a:pt x="5749" y="8117"/>
                  </a:lnTo>
                  <a:lnTo>
                    <a:pt x="5645" y="9237"/>
                  </a:lnTo>
                  <a:lnTo>
                    <a:pt x="5404" y="10316"/>
                  </a:lnTo>
                  <a:lnTo>
                    <a:pt x="5025" y="11361"/>
                  </a:lnTo>
                  <a:lnTo>
                    <a:pt x="4515" y="12352"/>
                  </a:lnTo>
                  <a:lnTo>
                    <a:pt x="3864" y="13290"/>
                  </a:lnTo>
                  <a:lnTo>
                    <a:pt x="3091" y="14157"/>
                  </a:lnTo>
                  <a:lnTo>
                    <a:pt x="2187" y="14957"/>
                  </a:lnTo>
                  <a:lnTo>
                    <a:pt x="1156" y="15675"/>
                  </a:lnTo>
                  <a:lnTo>
                    <a:pt x="0" y="16304"/>
                  </a:lnTo>
                  <a:lnTo>
                    <a:pt x="12304" y="15757"/>
                  </a:lnTo>
                  <a:close/>
                </a:path>
              </a:pathLst>
            </a:custGeom>
            <a:solidFill>
              <a:srgbClr val="e9e9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73400" y="693720"/>
              <a:ext cx="2672280" cy="5829840"/>
            </a:xfrm>
            <a:custGeom>
              <a:avLst/>
              <a:gdLst/>
              <a:ahLst/>
              <a:rect l="0" t="0" r="r" b="b"/>
              <a:pathLst>
                <a:path w="7423" h="16194">
                  <a:moveTo>
                    <a:pt x="4235" y="40"/>
                  </a:moveTo>
                  <a:lnTo>
                    <a:pt x="5157" y="1119"/>
                  </a:lnTo>
                  <a:lnTo>
                    <a:pt x="5927" y="2269"/>
                  </a:lnTo>
                  <a:lnTo>
                    <a:pt x="6532" y="3475"/>
                  </a:lnTo>
                  <a:lnTo>
                    <a:pt x="6983" y="4718"/>
                  </a:lnTo>
                  <a:lnTo>
                    <a:pt x="7278" y="5976"/>
                  </a:lnTo>
                  <a:lnTo>
                    <a:pt x="7412" y="7241"/>
                  </a:lnTo>
                  <a:lnTo>
                    <a:pt x="7423" y="7862"/>
                  </a:lnTo>
                  <a:lnTo>
                    <a:pt x="7392" y="8484"/>
                  </a:lnTo>
                  <a:lnTo>
                    <a:pt x="7213" y="9700"/>
                  </a:lnTo>
                  <a:lnTo>
                    <a:pt x="6876" y="10865"/>
                  </a:lnTo>
                  <a:lnTo>
                    <a:pt x="6379" y="11963"/>
                  </a:lnTo>
                  <a:lnTo>
                    <a:pt x="5728" y="12976"/>
                  </a:lnTo>
                  <a:lnTo>
                    <a:pt x="5341" y="13448"/>
                  </a:lnTo>
                  <a:lnTo>
                    <a:pt x="4913" y="13895"/>
                  </a:lnTo>
                  <a:lnTo>
                    <a:pt x="4450" y="14304"/>
                  </a:lnTo>
                  <a:lnTo>
                    <a:pt x="3945" y="14687"/>
                  </a:lnTo>
                  <a:lnTo>
                    <a:pt x="3401" y="15033"/>
                  </a:lnTo>
                  <a:lnTo>
                    <a:pt x="2816" y="15346"/>
                  </a:lnTo>
                  <a:lnTo>
                    <a:pt x="2196" y="15617"/>
                  </a:lnTo>
                  <a:lnTo>
                    <a:pt x="1530" y="15855"/>
                  </a:lnTo>
                  <a:lnTo>
                    <a:pt x="84" y="16194"/>
                  </a:lnTo>
                  <a:lnTo>
                    <a:pt x="0" y="16079"/>
                  </a:lnTo>
                  <a:lnTo>
                    <a:pt x="1392" y="15640"/>
                  </a:lnTo>
                  <a:lnTo>
                    <a:pt x="2640" y="15059"/>
                  </a:lnTo>
                  <a:lnTo>
                    <a:pt x="3727" y="14363"/>
                  </a:lnTo>
                  <a:lnTo>
                    <a:pt x="4664" y="13556"/>
                  </a:lnTo>
                  <a:lnTo>
                    <a:pt x="5444" y="12656"/>
                  </a:lnTo>
                  <a:lnTo>
                    <a:pt x="6076" y="11669"/>
                  </a:lnTo>
                  <a:lnTo>
                    <a:pt x="6555" y="10616"/>
                  </a:lnTo>
                  <a:lnTo>
                    <a:pt x="6880" y="9499"/>
                  </a:lnTo>
                  <a:lnTo>
                    <a:pt x="7048" y="8346"/>
                  </a:lnTo>
                  <a:lnTo>
                    <a:pt x="7079" y="7754"/>
                  </a:lnTo>
                  <a:lnTo>
                    <a:pt x="7071" y="7152"/>
                  </a:lnTo>
                  <a:lnTo>
                    <a:pt x="6941" y="5939"/>
                  </a:lnTo>
                  <a:lnTo>
                    <a:pt x="6654" y="4715"/>
                  </a:lnTo>
                  <a:lnTo>
                    <a:pt x="6222" y="3501"/>
                  </a:lnTo>
                  <a:lnTo>
                    <a:pt x="5629" y="2299"/>
                  </a:lnTo>
                  <a:lnTo>
                    <a:pt x="4886" y="1131"/>
                  </a:lnTo>
                  <a:lnTo>
                    <a:pt x="3994" y="0"/>
                  </a:lnTo>
                  <a:lnTo>
                    <a:pt x="4235" y="4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14480" y="3079800"/>
              <a:ext cx="1856160" cy="597240"/>
            </a:xfrm>
            <a:custGeom>
              <a:avLst/>
              <a:gdLst/>
              <a:ahLst/>
              <a:rect l="0" t="0" r="r" b="b"/>
              <a:pathLst>
                <a:path w="5156" h="1659">
                  <a:moveTo>
                    <a:pt x="0" y="1342"/>
                  </a:moveTo>
                  <a:lnTo>
                    <a:pt x="5072" y="0"/>
                  </a:lnTo>
                  <a:lnTo>
                    <a:pt x="5156" y="316"/>
                  </a:lnTo>
                  <a:lnTo>
                    <a:pt x="103" y="1659"/>
                  </a:lnTo>
                  <a:lnTo>
                    <a:pt x="0" y="1342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3080" y="2717640"/>
              <a:ext cx="1414800" cy="1459440"/>
            </a:xfrm>
            <a:custGeom>
              <a:avLst/>
              <a:gdLst/>
              <a:ahLst/>
              <a:rect l="0" t="0" r="r" b="b"/>
              <a:pathLst>
                <a:path w="3930" h="4054">
                  <a:moveTo>
                    <a:pt x="0" y="233"/>
                  </a:moveTo>
                  <a:lnTo>
                    <a:pt x="3571" y="4054"/>
                  </a:lnTo>
                  <a:lnTo>
                    <a:pt x="3930" y="3835"/>
                  </a:lnTo>
                  <a:lnTo>
                    <a:pt x="274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436920" y="2530440"/>
              <a:ext cx="587880" cy="1822680"/>
            </a:xfrm>
            <a:custGeom>
              <a:avLst/>
              <a:gdLst/>
              <a:ahLst/>
              <a:rect l="0" t="0" r="r" b="b"/>
              <a:pathLst>
                <a:path w="1633" h="5063">
                  <a:moveTo>
                    <a:pt x="1223" y="0"/>
                  </a:moveTo>
                  <a:lnTo>
                    <a:pt x="0" y="4933"/>
                  </a:lnTo>
                  <a:lnTo>
                    <a:pt x="370" y="5063"/>
                  </a:lnTo>
                  <a:lnTo>
                    <a:pt x="1633" y="66"/>
                  </a:lnTo>
                  <a:lnTo>
                    <a:pt x="1223" y="0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14640" y="2692440"/>
              <a:ext cx="1438560" cy="1527480"/>
            </a:xfrm>
            <a:custGeom>
              <a:avLst/>
              <a:gdLst/>
              <a:ahLst/>
              <a:rect l="0" t="0" r="r" b="b"/>
              <a:pathLst>
                <a:path w="3996" h="4243">
                  <a:moveTo>
                    <a:pt x="0" y="211"/>
                  </a:moveTo>
                  <a:lnTo>
                    <a:pt x="3702" y="4243"/>
                  </a:lnTo>
                  <a:lnTo>
                    <a:pt x="3996" y="4043"/>
                  </a:lnTo>
                  <a:lnTo>
                    <a:pt x="217" y="0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403440" y="2467080"/>
              <a:ext cx="611640" cy="1886400"/>
            </a:xfrm>
            <a:custGeom>
              <a:avLst/>
              <a:gdLst/>
              <a:ahLst/>
              <a:rect l="0" t="0" r="r" b="b"/>
              <a:pathLst>
                <a:path w="1699" h="5240">
                  <a:moveTo>
                    <a:pt x="1323" y="0"/>
                  </a:moveTo>
                  <a:lnTo>
                    <a:pt x="0" y="5125"/>
                  </a:lnTo>
                  <a:lnTo>
                    <a:pt x="387" y="5240"/>
                  </a:lnTo>
                  <a:lnTo>
                    <a:pt x="1699" y="66"/>
                  </a:lnTo>
                  <a:lnTo>
                    <a:pt x="1323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776680" y="3102120"/>
              <a:ext cx="1930680" cy="621000"/>
            </a:xfrm>
            <a:custGeom>
              <a:avLst/>
              <a:gdLst/>
              <a:ahLst/>
              <a:rect l="0" t="0" r="r" b="b"/>
              <a:pathLst>
                <a:path w="5363" h="1725">
                  <a:moveTo>
                    <a:pt x="0" y="1398"/>
                  </a:moveTo>
                  <a:lnTo>
                    <a:pt x="5290" y="0"/>
                  </a:lnTo>
                  <a:lnTo>
                    <a:pt x="5363" y="348"/>
                  </a:lnTo>
                  <a:lnTo>
                    <a:pt x="84" y="1725"/>
                  </a:lnTo>
                  <a:lnTo>
                    <a:pt x="0" y="139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55840" y="2863800"/>
              <a:ext cx="1132200" cy="1116360"/>
            </a:xfrm>
            <a:custGeom>
              <a:avLst/>
              <a:gdLst/>
              <a:ahLst/>
              <a:rect l="0" t="0" r="r" b="b"/>
              <a:pathLst>
                <a:path w="3145" h="3101">
                  <a:moveTo>
                    <a:pt x="1285" y="18"/>
                  </a:moveTo>
                  <a:lnTo>
                    <a:pt x="1003" y="103"/>
                  </a:lnTo>
                  <a:lnTo>
                    <a:pt x="744" y="248"/>
                  </a:lnTo>
                  <a:lnTo>
                    <a:pt x="507" y="444"/>
                  </a:lnTo>
                  <a:lnTo>
                    <a:pt x="309" y="685"/>
                  </a:lnTo>
                  <a:lnTo>
                    <a:pt x="152" y="948"/>
                  </a:lnTo>
                  <a:lnTo>
                    <a:pt x="45" y="1237"/>
                  </a:lnTo>
                  <a:lnTo>
                    <a:pt x="0" y="1529"/>
                  </a:lnTo>
                  <a:lnTo>
                    <a:pt x="0" y="1601"/>
                  </a:lnTo>
                  <a:lnTo>
                    <a:pt x="0" y="1675"/>
                  </a:lnTo>
                  <a:lnTo>
                    <a:pt x="19" y="1823"/>
                  </a:lnTo>
                  <a:lnTo>
                    <a:pt x="103" y="2101"/>
                  </a:lnTo>
                  <a:lnTo>
                    <a:pt x="251" y="2360"/>
                  </a:lnTo>
                  <a:lnTo>
                    <a:pt x="454" y="2589"/>
                  </a:lnTo>
                  <a:lnTo>
                    <a:pt x="698" y="2789"/>
                  </a:lnTo>
                  <a:lnTo>
                    <a:pt x="965" y="2941"/>
                  </a:lnTo>
                  <a:lnTo>
                    <a:pt x="1259" y="3049"/>
                  </a:lnTo>
                  <a:lnTo>
                    <a:pt x="1556" y="3097"/>
                  </a:lnTo>
                  <a:lnTo>
                    <a:pt x="1706" y="3101"/>
                  </a:lnTo>
                  <a:lnTo>
                    <a:pt x="1855" y="3082"/>
                  </a:lnTo>
                  <a:lnTo>
                    <a:pt x="2137" y="3001"/>
                  </a:lnTo>
                  <a:lnTo>
                    <a:pt x="2401" y="2852"/>
                  </a:lnTo>
                  <a:lnTo>
                    <a:pt x="2633" y="2656"/>
                  </a:lnTo>
                  <a:lnTo>
                    <a:pt x="2836" y="2419"/>
                  </a:lnTo>
                  <a:lnTo>
                    <a:pt x="2992" y="2152"/>
                  </a:lnTo>
                  <a:lnTo>
                    <a:pt x="3099" y="1867"/>
                  </a:lnTo>
                  <a:lnTo>
                    <a:pt x="3145" y="1575"/>
                  </a:lnTo>
                  <a:lnTo>
                    <a:pt x="3145" y="1500"/>
                  </a:lnTo>
                  <a:lnTo>
                    <a:pt x="3145" y="1425"/>
                  </a:lnTo>
                  <a:lnTo>
                    <a:pt x="3126" y="1277"/>
                  </a:lnTo>
                  <a:lnTo>
                    <a:pt x="3042" y="1000"/>
                  </a:lnTo>
                  <a:lnTo>
                    <a:pt x="2893" y="740"/>
                  </a:lnTo>
                  <a:lnTo>
                    <a:pt x="2691" y="511"/>
                  </a:lnTo>
                  <a:lnTo>
                    <a:pt x="2446" y="311"/>
                  </a:lnTo>
                  <a:lnTo>
                    <a:pt x="2175" y="159"/>
                  </a:lnTo>
                  <a:lnTo>
                    <a:pt x="1882" y="51"/>
                  </a:lnTo>
                  <a:lnTo>
                    <a:pt x="1584" y="3"/>
                  </a:lnTo>
                  <a:lnTo>
                    <a:pt x="1434" y="0"/>
                  </a:lnTo>
                  <a:lnTo>
                    <a:pt x="1285" y="18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187800" y="2860560"/>
              <a:ext cx="1167120" cy="1107000"/>
            </a:xfrm>
            <a:custGeom>
              <a:avLst/>
              <a:gdLst/>
              <a:ahLst/>
              <a:rect l="0" t="0" r="r" b="b"/>
              <a:pathLst>
                <a:path w="3242" h="3075">
                  <a:moveTo>
                    <a:pt x="1338" y="18"/>
                  </a:moveTo>
                  <a:lnTo>
                    <a:pt x="1048" y="103"/>
                  </a:lnTo>
                  <a:lnTo>
                    <a:pt x="777" y="251"/>
                  </a:lnTo>
                  <a:lnTo>
                    <a:pt x="533" y="446"/>
                  </a:lnTo>
                  <a:lnTo>
                    <a:pt x="324" y="683"/>
                  </a:lnTo>
                  <a:lnTo>
                    <a:pt x="163" y="950"/>
                  </a:lnTo>
                  <a:lnTo>
                    <a:pt x="53" y="1234"/>
                  </a:lnTo>
                  <a:lnTo>
                    <a:pt x="0" y="1526"/>
                  </a:lnTo>
                  <a:lnTo>
                    <a:pt x="0" y="1596"/>
                  </a:lnTo>
                  <a:lnTo>
                    <a:pt x="0" y="1670"/>
                  </a:lnTo>
                  <a:lnTo>
                    <a:pt x="19" y="1818"/>
                  </a:lnTo>
                  <a:lnTo>
                    <a:pt x="106" y="2091"/>
                  </a:lnTo>
                  <a:lnTo>
                    <a:pt x="259" y="2351"/>
                  </a:lnTo>
                  <a:lnTo>
                    <a:pt x="461" y="2580"/>
                  </a:lnTo>
                  <a:lnTo>
                    <a:pt x="713" y="2776"/>
                  </a:lnTo>
                  <a:lnTo>
                    <a:pt x="987" y="2924"/>
                  </a:lnTo>
                  <a:lnTo>
                    <a:pt x="1288" y="3031"/>
                  </a:lnTo>
                  <a:lnTo>
                    <a:pt x="1593" y="3075"/>
                  </a:lnTo>
                  <a:lnTo>
                    <a:pt x="1671" y="3075"/>
                  </a:lnTo>
                  <a:lnTo>
                    <a:pt x="1747" y="3075"/>
                  </a:lnTo>
                  <a:lnTo>
                    <a:pt x="1903" y="3057"/>
                  </a:lnTo>
                  <a:lnTo>
                    <a:pt x="2193" y="2972"/>
                  </a:lnTo>
                  <a:lnTo>
                    <a:pt x="2464" y="2824"/>
                  </a:lnTo>
                  <a:lnTo>
                    <a:pt x="2708" y="2628"/>
                  </a:lnTo>
                  <a:lnTo>
                    <a:pt x="2918" y="2392"/>
                  </a:lnTo>
                  <a:lnTo>
                    <a:pt x="3078" y="2125"/>
                  </a:lnTo>
                  <a:lnTo>
                    <a:pt x="3188" y="1840"/>
                  </a:lnTo>
                  <a:lnTo>
                    <a:pt x="3238" y="1548"/>
                  </a:lnTo>
                  <a:lnTo>
                    <a:pt x="3242" y="1404"/>
                  </a:lnTo>
                  <a:lnTo>
                    <a:pt x="3223" y="1257"/>
                  </a:lnTo>
                  <a:lnTo>
                    <a:pt x="3139" y="983"/>
                  </a:lnTo>
                  <a:lnTo>
                    <a:pt x="2986" y="724"/>
                  </a:lnTo>
                  <a:lnTo>
                    <a:pt x="2780" y="498"/>
                  </a:lnTo>
                  <a:lnTo>
                    <a:pt x="2532" y="299"/>
                  </a:lnTo>
                  <a:lnTo>
                    <a:pt x="2254" y="151"/>
                  </a:lnTo>
                  <a:lnTo>
                    <a:pt x="1957" y="48"/>
                  </a:lnTo>
                  <a:lnTo>
                    <a:pt x="1648" y="0"/>
                  </a:lnTo>
                  <a:lnTo>
                    <a:pt x="1571" y="0"/>
                  </a:lnTo>
                  <a:lnTo>
                    <a:pt x="1494" y="0"/>
                  </a:lnTo>
                  <a:lnTo>
                    <a:pt x="1338" y="1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25960" y="3046320"/>
              <a:ext cx="1076760" cy="789480"/>
            </a:xfrm>
            <a:custGeom>
              <a:avLst/>
              <a:gdLst/>
              <a:ahLst/>
              <a:rect l="0" t="0" r="r" b="b"/>
              <a:pathLst>
                <a:path w="2991" h="2193">
                  <a:moveTo>
                    <a:pt x="2493" y="2193"/>
                  </a:moveTo>
                  <a:lnTo>
                    <a:pt x="2664" y="2049"/>
                  </a:lnTo>
                  <a:lnTo>
                    <a:pt x="2828" y="1865"/>
                  </a:lnTo>
                  <a:lnTo>
                    <a:pt x="2991" y="1598"/>
                  </a:lnTo>
                  <a:lnTo>
                    <a:pt x="0" y="516"/>
                  </a:lnTo>
                  <a:lnTo>
                    <a:pt x="342" y="0"/>
                  </a:lnTo>
                  <a:lnTo>
                    <a:pt x="372" y="0"/>
                  </a:lnTo>
                  <a:lnTo>
                    <a:pt x="372" y="25"/>
                  </a:lnTo>
                  <a:lnTo>
                    <a:pt x="1488" y="1148"/>
                  </a:lnTo>
                  <a:lnTo>
                    <a:pt x="2493" y="219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606840" y="3247920"/>
              <a:ext cx="346320" cy="303480"/>
            </a:xfrm>
            <a:custGeom>
              <a:avLst/>
              <a:gdLst/>
              <a:ahLst/>
              <a:rect l="0" t="0" r="r" b="b"/>
              <a:pathLst>
                <a:path w="962" h="843">
                  <a:moveTo>
                    <a:pt x="403" y="3"/>
                  </a:moveTo>
                  <a:lnTo>
                    <a:pt x="233" y="68"/>
                  </a:lnTo>
                  <a:lnTo>
                    <a:pt x="98" y="188"/>
                  </a:lnTo>
                  <a:lnTo>
                    <a:pt x="15" y="341"/>
                  </a:lnTo>
                  <a:lnTo>
                    <a:pt x="0" y="421"/>
                  </a:lnTo>
                  <a:lnTo>
                    <a:pt x="0" y="501"/>
                  </a:lnTo>
                  <a:lnTo>
                    <a:pt x="67" y="647"/>
                  </a:lnTo>
                  <a:lnTo>
                    <a:pt x="203" y="763"/>
                  </a:lnTo>
                  <a:lnTo>
                    <a:pt x="373" y="828"/>
                  </a:lnTo>
                  <a:lnTo>
                    <a:pt x="463" y="843"/>
                  </a:lnTo>
                  <a:lnTo>
                    <a:pt x="558" y="835"/>
                  </a:lnTo>
                  <a:lnTo>
                    <a:pt x="724" y="774"/>
                  </a:lnTo>
                  <a:lnTo>
                    <a:pt x="864" y="650"/>
                  </a:lnTo>
                  <a:lnTo>
                    <a:pt x="947" y="498"/>
                  </a:lnTo>
                  <a:lnTo>
                    <a:pt x="962" y="417"/>
                  </a:lnTo>
                  <a:lnTo>
                    <a:pt x="962" y="333"/>
                  </a:lnTo>
                  <a:lnTo>
                    <a:pt x="894" y="192"/>
                  </a:lnTo>
                  <a:lnTo>
                    <a:pt x="758" y="76"/>
                  </a:lnTo>
                  <a:lnTo>
                    <a:pt x="589" y="10"/>
                  </a:lnTo>
                  <a:lnTo>
                    <a:pt x="498" y="0"/>
                  </a:lnTo>
                  <a:lnTo>
                    <a:pt x="403" y="3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645000" y="3254400"/>
              <a:ext cx="291960" cy="29700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629160" y="3249720"/>
              <a:ext cx="298440" cy="29700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654360" y="3249720"/>
              <a:ext cx="246600" cy="290880"/>
            </a:xfrm>
            <a:custGeom>
              <a:avLst/>
              <a:gdLst/>
              <a:ahLst/>
              <a:rect l="0" t="0" r="r" b="b"/>
              <a:pathLst>
                <a:path w="685" h="808">
                  <a:moveTo>
                    <a:pt x="340" y="808"/>
                  </a:moveTo>
                  <a:lnTo>
                    <a:pt x="340" y="798"/>
                  </a:lnTo>
                  <a:lnTo>
                    <a:pt x="377" y="798"/>
                  </a:lnTo>
                  <a:lnTo>
                    <a:pt x="433" y="794"/>
                  </a:lnTo>
                  <a:lnTo>
                    <a:pt x="567" y="740"/>
                  </a:lnTo>
                  <a:lnTo>
                    <a:pt x="685" y="591"/>
                  </a:lnTo>
                  <a:lnTo>
                    <a:pt x="685" y="607"/>
                  </a:lnTo>
                  <a:lnTo>
                    <a:pt x="0" y="198"/>
                  </a:lnTo>
                  <a:lnTo>
                    <a:pt x="99" y="90"/>
                  </a:lnTo>
                  <a:lnTo>
                    <a:pt x="207" y="32"/>
                  </a:lnTo>
                  <a:lnTo>
                    <a:pt x="333" y="0"/>
                  </a:lnTo>
                  <a:lnTo>
                    <a:pt x="340" y="808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736800" y="3355920"/>
              <a:ext cx="85680" cy="745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736800" y="3355920"/>
              <a:ext cx="82440" cy="730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743280" y="3359160"/>
              <a:ext cx="61920" cy="6336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740040" y="3357720"/>
              <a:ext cx="63360" cy="633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28960" y="1752480"/>
              <a:ext cx="13320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35440" y="1751040"/>
              <a:ext cx="13500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48040" y="175104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110" y="385"/>
                  </a:lnTo>
                  <a:lnTo>
                    <a:pt x="49" y="364"/>
                  </a:lnTo>
                  <a:lnTo>
                    <a:pt x="0" y="282"/>
                  </a:lnTo>
                  <a:lnTo>
                    <a:pt x="0" y="290"/>
                  </a:lnTo>
                  <a:lnTo>
                    <a:pt x="314" y="87"/>
                  </a:lnTo>
                  <a:lnTo>
                    <a:pt x="214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84760" y="1801800"/>
              <a:ext cx="3492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886200" y="1801800"/>
              <a:ext cx="3348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92680" y="1805040"/>
              <a:ext cx="23760" cy="2556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92680" y="1805040"/>
              <a:ext cx="2556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28960" y="1292400"/>
              <a:ext cx="13320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35440" y="1290600"/>
              <a:ext cx="135000" cy="1382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848040" y="1290600"/>
              <a:ext cx="113040" cy="135360"/>
            </a:xfrm>
            <a:custGeom>
              <a:avLst/>
              <a:gdLst/>
              <a:ahLst/>
              <a:rect l="0" t="0" r="r" b="b"/>
              <a:pathLst>
                <a:path w="314" h="376">
                  <a:moveTo>
                    <a:pt x="156" y="376"/>
                  </a:moveTo>
                  <a:lnTo>
                    <a:pt x="110" y="376"/>
                  </a:lnTo>
                  <a:lnTo>
                    <a:pt x="49" y="352"/>
                  </a:lnTo>
                  <a:lnTo>
                    <a:pt x="0" y="272"/>
                  </a:lnTo>
                  <a:lnTo>
                    <a:pt x="0" y="283"/>
                  </a:lnTo>
                  <a:lnTo>
                    <a:pt x="314" y="85"/>
                  </a:lnTo>
                  <a:lnTo>
                    <a:pt x="214" y="10"/>
                  </a:lnTo>
                  <a:lnTo>
                    <a:pt x="156" y="0"/>
                  </a:lnTo>
                  <a:lnTo>
                    <a:pt x="156" y="37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884760" y="1341360"/>
              <a:ext cx="3492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886200" y="1341360"/>
              <a:ext cx="33480" cy="3024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892680" y="1343160"/>
              <a:ext cx="23760" cy="2700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892680" y="1341360"/>
              <a:ext cx="25560" cy="2700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28960" y="1496880"/>
              <a:ext cx="13320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35440" y="1495440"/>
              <a:ext cx="135000" cy="1396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48040" y="149544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110" y="385"/>
                  </a:lnTo>
                  <a:lnTo>
                    <a:pt x="49" y="364"/>
                  </a:lnTo>
                  <a:lnTo>
                    <a:pt x="0" y="281"/>
                  </a:lnTo>
                  <a:lnTo>
                    <a:pt x="0" y="293"/>
                  </a:lnTo>
                  <a:lnTo>
                    <a:pt x="314" y="85"/>
                  </a:lnTo>
                  <a:lnTo>
                    <a:pt x="214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84760" y="154620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86200" y="1546200"/>
              <a:ext cx="3348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92680" y="1549440"/>
              <a:ext cx="23760" cy="2700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92680" y="1549440"/>
              <a:ext cx="2556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56120" y="1163520"/>
              <a:ext cx="9360" cy="83664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84680" y="613404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89360" y="613080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0520" y="6130800"/>
              <a:ext cx="114840" cy="141480"/>
            </a:xfrm>
            <a:custGeom>
              <a:avLst/>
              <a:gdLst/>
              <a:ahLst/>
              <a:rect l="0" t="0" r="r" b="b"/>
              <a:pathLst>
                <a:path w="319" h="393">
                  <a:moveTo>
                    <a:pt x="159" y="393"/>
                  </a:moveTo>
                  <a:lnTo>
                    <a:pt x="112" y="393"/>
                  </a:lnTo>
                  <a:lnTo>
                    <a:pt x="50" y="368"/>
                  </a:lnTo>
                  <a:lnTo>
                    <a:pt x="0" y="289"/>
                  </a:lnTo>
                  <a:lnTo>
                    <a:pt x="0" y="297"/>
                  </a:lnTo>
                  <a:lnTo>
                    <a:pt x="319" y="92"/>
                  </a:lnTo>
                  <a:lnTo>
                    <a:pt x="217" y="14"/>
                  </a:lnTo>
                  <a:lnTo>
                    <a:pt x="159" y="0"/>
                  </a:lnTo>
                  <a:lnTo>
                    <a:pt x="159" y="39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36880" y="618336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40120" y="6183360"/>
              <a:ext cx="3348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4800" y="6184800"/>
              <a:ext cx="23760" cy="284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4800" y="6184800"/>
              <a:ext cx="2556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84680" y="567360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89360" y="567216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0520" y="5672160"/>
              <a:ext cx="114840" cy="136800"/>
            </a:xfrm>
            <a:custGeom>
              <a:avLst/>
              <a:gdLst/>
              <a:ahLst/>
              <a:rect l="0" t="0" r="r" b="b"/>
              <a:pathLst>
                <a:path w="319" h="380">
                  <a:moveTo>
                    <a:pt x="159" y="380"/>
                  </a:moveTo>
                  <a:lnTo>
                    <a:pt x="112" y="376"/>
                  </a:lnTo>
                  <a:lnTo>
                    <a:pt x="50" y="355"/>
                  </a:lnTo>
                  <a:lnTo>
                    <a:pt x="0" y="275"/>
                  </a:lnTo>
                  <a:lnTo>
                    <a:pt x="0" y="286"/>
                  </a:lnTo>
                  <a:lnTo>
                    <a:pt x="319" y="83"/>
                  </a:lnTo>
                  <a:lnTo>
                    <a:pt x="217" y="10"/>
                  </a:lnTo>
                  <a:lnTo>
                    <a:pt x="159" y="0"/>
                  </a:lnTo>
                  <a:lnTo>
                    <a:pt x="159" y="38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36880" y="5721480"/>
              <a:ext cx="3636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0120" y="5721480"/>
              <a:ext cx="3348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4800" y="5724360"/>
              <a:ext cx="23760" cy="284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44800" y="5722920"/>
              <a:ext cx="25560" cy="2700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84680" y="587700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89360" y="587520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0520" y="5875200"/>
              <a:ext cx="114840" cy="140040"/>
            </a:xfrm>
            <a:custGeom>
              <a:avLst/>
              <a:gdLst/>
              <a:ahLst/>
              <a:rect l="0" t="0" r="r" b="b"/>
              <a:pathLst>
                <a:path w="319" h="389">
                  <a:moveTo>
                    <a:pt x="159" y="389"/>
                  </a:moveTo>
                  <a:lnTo>
                    <a:pt x="112" y="389"/>
                  </a:lnTo>
                  <a:lnTo>
                    <a:pt x="50" y="367"/>
                  </a:lnTo>
                  <a:lnTo>
                    <a:pt x="0" y="285"/>
                  </a:lnTo>
                  <a:lnTo>
                    <a:pt x="0" y="296"/>
                  </a:lnTo>
                  <a:lnTo>
                    <a:pt x="319" y="89"/>
                  </a:lnTo>
                  <a:lnTo>
                    <a:pt x="217" y="14"/>
                  </a:lnTo>
                  <a:lnTo>
                    <a:pt x="159" y="0"/>
                  </a:lnTo>
                  <a:lnTo>
                    <a:pt x="159" y="38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6880" y="5927760"/>
              <a:ext cx="3636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40120" y="5927760"/>
              <a:ext cx="3348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44800" y="5929200"/>
              <a:ext cx="23760" cy="284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44800" y="5929200"/>
              <a:ext cx="2556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13280" y="5543640"/>
              <a:ext cx="7920" cy="83808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1840" y="3205080"/>
              <a:ext cx="1099080" cy="225720"/>
            </a:xfrm>
            <a:custGeom>
              <a:avLst/>
              <a:gdLst/>
              <a:ahLst/>
              <a:rect l="0" t="0" r="r" b="b"/>
              <a:pathLst>
                <a:path w="3053" h="627">
                  <a:moveTo>
                    <a:pt x="0" y="161"/>
                  </a:moveTo>
                  <a:lnTo>
                    <a:pt x="3011" y="627"/>
                  </a:lnTo>
                  <a:lnTo>
                    <a:pt x="3053" y="423"/>
                  </a:lnTo>
                  <a:lnTo>
                    <a:pt x="19" y="0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00640" y="2755800"/>
              <a:ext cx="317880" cy="1055880"/>
            </a:xfrm>
            <a:custGeom>
              <a:avLst/>
              <a:gdLst/>
              <a:ahLst/>
              <a:rect l="0" t="0" r="r" b="b"/>
              <a:pathLst>
                <a:path w="883" h="2933">
                  <a:moveTo>
                    <a:pt x="670" y="0"/>
                  </a:moveTo>
                  <a:lnTo>
                    <a:pt x="0" y="2866"/>
                  </a:lnTo>
                  <a:lnTo>
                    <a:pt x="213" y="2933"/>
                  </a:lnTo>
                  <a:lnTo>
                    <a:pt x="883" y="33"/>
                  </a:lnTo>
                  <a:lnTo>
                    <a:pt x="67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4440" y="2994120"/>
              <a:ext cx="636480" cy="625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48360" y="2982960"/>
              <a:ext cx="648000" cy="619560"/>
            </a:xfrm>
            <a:custGeom>
              <a:avLst/>
              <a:gdLst/>
              <a:ahLst/>
              <a:rect l="0" t="0" r="r" b="b"/>
              <a:pathLst>
                <a:path w="1800" h="1721">
                  <a:moveTo>
                    <a:pt x="1175" y="36"/>
                  </a:moveTo>
                  <a:lnTo>
                    <a:pt x="1012" y="3"/>
                  </a:lnTo>
                  <a:lnTo>
                    <a:pt x="925" y="0"/>
                  </a:lnTo>
                  <a:lnTo>
                    <a:pt x="837" y="3"/>
                  </a:lnTo>
                  <a:lnTo>
                    <a:pt x="496" y="99"/>
                  </a:lnTo>
                  <a:lnTo>
                    <a:pt x="212" y="303"/>
                  </a:lnTo>
                  <a:lnTo>
                    <a:pt x="34" y="585"/>
                  </a:lnTo>
                  <a:lnTo>
                    <a:pt x="3" y="744"/>
                  </a:lnTo>
                  <a:lnTo>
                    <a:pt x="0" y="825"/>
                  </a:lnTo>
                  <a:lnTo>
                    <a:pt x="7" y="910"/>
                  </a:lnTo>
                  <a:lnTo>
                    <a:pt x="113" y="1236"/>
                  </a:lnTo>
                  <a:lnTo>
                    <a:pt x="325" y="1510"/>
                  </a:lnTo>
                  <a:lnTo>
                    <a:pt x="624" y="1684"/>
                  </a:lnTo>
                  <a:lnTo>
                    <a:pt x="787" y="1718"/>
                  </a:lnTo>
                  <a:lnTo>
                    <a:pt x="874" y="1721"/>
                  </a:lnTo>
                  <a:lnTo>
                    <a:pt x="963" y="1718"/>
                  </a:lnTo>
                  <a:lnTo>
                    <a:pt x="1303" y="1618"/>
                  </a:lnTo>
                  <a:lnTo>
                    <a:pt x="1588" y="1418"/>
                  </a:lnTo>
                  <a:lnTo>
                    <a:pt x="1766" y="1136"/>
                  </a:lnTo>
                  <a:lnTo>
                    <a:pt x="1796" y="977"/>
                  </a:lnTo>
                  <a:lnTo>
                    <a:pt x="1800" y="896"/>
                  </a:lnTo>
                  <a:lnTo>
                    <a:pt x="1792" y="810"/>
                  </a:lnTo>
                  <a:lnTo>
                    <a:pt x="1686" y="485"/>
                  </a:lnTo>
                  <a:lnTo>
                    <a:pt x="1474" y="210"/>
                  </a:lnTo>
                  <a:lnTo>
                    <a:pt x="1175" y="3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37280" y="3022560"/>
              <a:ext cx="483120" cy="574920"/>
            </a:xfrm>
            <a:custGeom>
              <a:avLst/>
              <a:gdLst/>
              <a:ahLst/>
              <a:rect l="0" t="0" r="r" b="b"/>
              <a:pathLst>
                <a:path w="1342" h="1597">
                  <a:moveTo>
                    <a:pt x="960" y="1597"/>
                  </a:moveTo>
                  <a:lnTo>
                    <a:pt x="1119" y="1538"/>
                  </a:lnTo>
                  <a:lnTo>
                    <a:pt x="1233" y="1472"/>
                  </a:lnTo>
                  <a:lnTo>
                    <a:pt x="1342" y="1328"/>
                  </a:lnTo>
                  <a:lnTo>
                    <a:pt x="0" y="205"/>
                  </a:lnTo>
                  <a:lnTo>
                    <a:pt x="173" y="51"/>
                  </a:lnTo>
                  <a:lnTo>
                    <a:pt x="279" y="0"/>
                  </a:lnTo>
                  <a:lnTo>
                    <a:pt x="348" y="22"/>
                  </a:lnTo>
                  <a:lnTo>
                    <a:pt x="676" y="839"/>
                  </a:lnTo>
                  <a:lnTo>
                    <a:pt x="960" y="15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88120" y="3209760"/>
              <a:ext cx="147600" cy="1443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81960" y="722160"/>
              <a:ext cx="54360" cy="5659920"/>
            </a:xfrm>
            <a:custGeom>
              <a:avLst/>
              <a:gdLst/>
              <a:ahLst/>
              <a:rect l="0" t="0" r="r" b="b"/>
              <a:pathLst>
                <a:path w="151" h="15722">
                  <a:moveTo>
                    <a:pt x="151" y="15722"/>
                  </a:moveTo>
                  <a:lnTo>
                    <a:pt x="0" y="15722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572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51640" y="178128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2280" y="1779480"/>
              <a:ext cx="1382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53440" y="177948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203" y="385"/>
                  </a:lnTo>
                  <a:lnTo>
                    <a:pt x="260" y="364"/>
                  </a:lnTo>
                  <a:lnTo>
                    <a:pt x="314" y="282"/>
                  </a:lnTo>
                  <a:lnTo>
                    <a:pt x="314" y="290"/>
                  </a:lnTo>
                  <a:lnTo>
                    <a:pt x="0" y="87"/>
                  </a:lnTo>
                  <a:lnTo>
                    <a:pt x="96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4480" y="1830240"/>
              <a:ext cx="36360" cy="3636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4480" y="183024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7720" y="1835280"/>
              <a:ext cx="25560" cy="2556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6280" y="1835280"/>
              <a:ext cx="2556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51640" y="131904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42280" y="1317600"/>
              <a:ext cx="1382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53440" y="1317600"/>
              <a:ext cx="113040" cy="140040"/>
            </a:xfrm>
            <a:custGeom>
              <a:avLst/>
              <a:gdLst/>
              <a:ahLst/>
              <a:rect l="0" t="0" r="r" b="b"/>
              <a:pathLst>
                <a:path w="314" h="389">
                  <a:moveTo>
                    <a:pt x="156" y="389"/>
                  </a:moveTo>
                  <a:lnTo>
                    <a:pt x="203" y="389"/>
                  </a:lnTo>
                  <a:lnTo>
                    <a:pt x="260" y="364"/>
                  </a:lnTo>
                  <a:lnTo>
                    <a:pt x="314" y="285"/>
                  </a:lnTo>
                  <a:lnTo>
                    <a:pt x="314" y="292"/>
                  </a:lnTo>
                  <a:lnTo>
                    <a:pt x="0" y="89"/>
                  </a:lnTo>
                  <a:lnTo>
                    <a:pt x="96" y="10"/>
                  </a:lnTo>
                  <a:lnTo>
                    <a:pt x="156" y="0"/>
                  </a:lnTo>
                  <a:lnTo>
                    <a:pt x="156" y="38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4480" y="137016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4480" y="137016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7720" y="1371600"/>
              <a:ext cx="25560" cy="284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6280" y="1371600"/>
              <a:ext cx="2556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51640" y="152568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42280" y="1523880"/>
              <a:ext cx="138240" cy="1396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53440" y="1523880"/>
              <a:ext cx="113040" cy="140040"/>
            </a:xfrm>
            <a:custGeom>
              <a:avLst/>
              <a:gdLst/>
              <a:ahLst/>
              <a:rect l="0" t="0" r="r" b="b"/>
              <a:pathLst>
                <a:path w="314" h="389">
                  <a:moveTo>
                    <a:pt x="156" y="389"/>
                  </a:moveTo>
                  <a:lnTo>
                    <a:pt x="203" y="389"/>
                  </a:lnTo>
                  <a:lnTo>
                    <a:pt x="260" y="364"/>
                  </a:lnTo>
                  <a:lnTo>
                    <a:pt x="314" y="282"/>
                  </a:lnTo>
                  <a:lnTo>
                    <a:pt x="314" y="292"/>
                  </a:lnTo>
                  <a:lnTo>
                    <a:pt x="0" y="89"/>
                  </a:lnTo>
                  <a:lnTo>
                    <a:pt x="96" y="10"/>
                  </a:lnTo>
                  <a:lnTo>
                    <a:pt x="156" y="0"/>
                  </a:lnTo>
                  <a:lnTo>
                    <a:pt x="156" y="38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4480" y="157644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4480" y="1576440"/>
              <a:ext cx="3492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7720" y="1577880"/>
              <a:ext cx="25560" cy="2700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6280" y="1577880"/>
              <a:ext cx="2556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46880" y="1204920"/>
              <a:ext cx="9360" cy="82692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51640" y="542916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42280" y="5425920"/>
              <a:ext cx="1382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53440" y="5425920"/>
              <a:ext cx="113040" cy="136800"/>
            </a:xfrm>
            <a:custGeom>
              <a:avLst/>
              <a:gdLst/>
              <a:ahLst/>
              <a:rect l="0" t="0" r="r" b="b"/>
              <a:pathLst>
                <a:path w="314" h="380">
                  <a:moveTo>
                    <a:pt x="156" y="380"/>
                  </a:moveTo>
                  <a:lnTo>
                    <a:pt x="203" y="380"/>
                  </a:lnTo>
                  <a:lnTo>
                    <a:pt x="260" y="359"/>
                  </a:lnTo>
                  <a:lnTo>
                    <a:pt x="314" y="279"/>
                  </a:lnTo>
                  <a:lnTo>
                    <a:pt x="314" y="286"/>
                  </a:lnTo>
                  <a:lnTo>
                    <a:pt x="0" y="86"/>
                  </a:lnTo>
                  <a:lnTo>
                    <a:pt x="96" y="10"/>
                  </a:lnTo>
                  <a:lnTo>
                    <a:pt x="156" y="0"/>
                  </a:lnTo>
                  <a:lnTo>
                    <a:pt x="156" y="38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4480" y="5477040"/>
              <a:ext cx="3636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4480" y="5477040"/>
              <a:ext cx="3492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7720" y="5478480"/>
              <a:ext cx="25560" cy="302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96280" y="5478480"/>
              <a:ext cx="2556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1640" y="496584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42280" y="4965840"/>
              <a:ext cx="138240" cy="1382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53440" y="496584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203" y="382"/>
                  </a:lnTo>
                  <a:lnTo>
                    <a:pt x="260" y="357"/>
                  </a:lnTo>
                  <a:lnTo>
                    <a:pt x="314" y="280"/>
                  </a:lnTo>
                  <a:lnTo>
                    <a:pt x="314" y="286"/>
                  </a:lnTo>
                  <a:lnTo>
                    <a:pt x="0" y="87"/>
                  </a:lnTo>
                  <a:lnTo>
                    <a:pt x="96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4480" y="501660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94480" y="5016600"/>
              <a:ext cx="34920" cy="3024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97720" y="5018040"/>
              <a:ext cx="25560" cy="2556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96280" y="5018040"/>
              <a:ext cx="2556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517212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42280" y="5170320"/>
              <a:ext cx="138240" cy="1396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3440" y="517032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203" y="385"/>
                  </a:lnTo>
                  <a:lnTo>
                    <a:pt x="260" y="361"/>
                  </a:lnTo>
                  <a:lnTo>
                    <a:pt x="314" y="282"/>
                  </a:lnTo>
                  <a:lnTo>
                    <a:pt x="314" y="290"/>
                  </a:lnTo>
                  <a:lnTo>
                    <a:pt x="0" y="87"/>
                  </a:lnTo>
                  <a:lnTo>
                    <a:pt x="96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94480" y="5221440"/>
              <a:ext cx="3636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94480" y="522144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7720" y="5222880"/>
              <a:ext cx="25560" cy="302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6280" y="5222880"/>
              <a:ext cx="2556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46880" y="4849920"/>
              <a:ext cx="9360" cy="82692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32720" y="178128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35960" y="177948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50000" y="177948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113" y="385"/>
                  </a:lnTo>
                  <a:lnTo>
                    <a:pt x="53" y="364"/>
                  </a:lnTo>
                  <a:lnTo>
                    <a:pt x="0" y="282"/>
                  </a:lnTo>
                  <a:lnTo>
                    <a:pt x="0" y="290"/>
                  </a:lnTo>
                  <a:lnTo>
                    <a:pt x="314" y="87"/>
                  </a:lnTo>
                  <a:lnTo>
                    <a:pt x="218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86720" y="1830240"/>
              <a:ext cx="36360" cy="3636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88160" y="183024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4640" y="1835280"/>
              <a:ext cx="25560" cy="2556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94640" y="1835280"/>
              <a:ext cx="2700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32720" y="131904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35960" y="131760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50000" y="1317600"/>
              <a:ext cx="113040" cy="140040"/>
            </a:xfrm>
            <a:custGeom>
              <a:avLst/>
              <a:gdLst/>
              <a:ahLst/>
              <a:rect l="0" t="0" r="r" b="b"/>
              <a:pathLst>
                <a:path w="314" h="389">
                  <a:moveTo>
                    <a:pt x="156" y="389"/>
                  </a:moveTo>
                  <a:lnTo>
                    <a:pt x="113" y="389"/>
                  </a:lnTo>
                  <a:lnTo>
                    <a:pt x="53" y="364"/>
                  </a:lnTo>
                  <a:lnTo>
                    <a:pt x="0" y="285"/>
                  </a:lnTo>
                  <a:lnTo>
                    <a:pt x="0" y="292"/>
                  </a:lnTo>
                  <a:lnTo>
                    <a:pt x="314" y="89"/>
                  </a:lnTo>
                  <a:lnTo>
                    <a:pt x="218" y="10"/>
                  </a:lnTo>
                  <a:lnTo>
                    <a:pt x="156" y="0"/>
                  </a:lnTo>
                  <a:lnTo>
                    <a:pt x="156" y="38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86720" y="137016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88160" y="137016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94640" y="1371600"/>
              <a:ext cx="25560" cy="284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94640" y="1371600"/>
              <a:ext cx="2700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32720" y="152568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35960" y="1523880"/>
              <a:ext cx="136440" cy="1396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50000" y="1523880"/>
              <a:ext cx="113040" cy="140040"/>
            </a:xfrm>
            <a:custGeom>
              <a:avLst/>
              <a:gdLst/>
              <a:ahLst/>
              <a:rect l="0" t="0" r="r" b="b"/>
              <a:pathLst>
                <a:path w="314" h="389">
                  <a:moveTo>
                    <a:pt x="156" y="389"/>
                  </a:moveTo>
                  <a:lnTo>
                    <a:pt x="113" y="389"/>
                  </a:lnTo>
                  <a:lnTo>
                    <a:pt x="53" y="364"/>
                  </a:lnTo>
                  <a:lnTo>
                    <a:pt x="0" y="282"/>
                  </a:lnTo>
                  <a:lnTo>
                    <a:pt x="0" y="292"/>
                  </a:lnTo>
                  <a:lnTo>
                    <a:pt x="314" y="89"/>
                  </a:lnTo>
                  <a:lnTo>
                    <a:pt x="218" y="10"/>
                  </a:lnTo>
                  <a:lnTo>
                    <a:pt x="156" y="0"/>
                  </a:lnTo>
                  <a:lnTo>
                    <a:pt x="156" y="38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86720" y="157644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8160" y="1576440"/>
              <a:ext cx="3492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94640" y="1577880"/>
              <a:ext cx="25560" cy="2700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4640" y="1577880"/>
              <a:ext cx="2700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61320" y="1204920"/>
              <a:ext cx="7920" cy="82692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32720" y="542916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5960" y="542592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50000" y="5425920"/>
              <a:ext cx="113040" cy="136800"/>
            </a:xfrm>
            <a:custGeom>
              <a:avLst/>
              <a:gdLst/>
              <a:ahLst/>
              <a:rect l="0" t="0" r="r" b="b"/>
              <a:pathLst>
                <a:path w="314" h="380">
                  <a:moveTo>
                    <a:pt x="156" y="380"/>
                  </a:moveTo>
                  <a:lnTo>
                    <a:pt x="113" y="380"/>
                  </a:lnTo>
                  <a:lnTo>
                    <a:pt x="53" y="359"/>
                  </a:lnTo>
                  <a:lnTo>
                    <a:pt x="0" y="279"/>
                  </a:lnTo>
                  <a:lnTo>
                    <a:pt x="0" y="286"/>
                  </a:lnTo>
                  <a:lnTo>
                    <a:pt x="314" y="86"/>
                  </a:lnTo>
                  <a:lnTo>
                    <a:pt x="218" y="10"/>
                  </a:lnTo>
                  <a:lnTo>
                    <a:pt x="156" y="0"/>
                  </a:lnTo>
                  <a:lnTo>
                    <a:pt x="156" y="38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86720" y="5477040"/>
              <a:ext cx="3636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8160" y="5477040"/>
              <a:ext cx="3492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4640" y="5478480"/>
              <a:ext cx="25560" cy="302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4640" y="5478480"/>
              <a:ext cx="2700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2720" y="496584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35960" y="4965840"/>
              <a:ext cx="136440" cy="1382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0000" y="496584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113" y="382"/>
                  </a:lnTo>
                  <a:lnTo>
                    <a:pt x="53" y="357"/>
                  </a:lnTo>
                  <a:lnTo>
                    <a:pt x="0" y="280"/>
                  </a:lnTo>
                  <a:lnTo>
                    <a:pt x="0" y="286"/>
                  </a:lnTo>
                  <a:lnTo>
                    <a:pt x="314" y="87"/>
                  </a:lnTo>
                  <a:lnTo>
                    <a:pt x="218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86720" y="501660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88160" y="5016600"/>
              <a:ext cx="34920" cy="3024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94640" y="5018040"/>
              <a:ext cx="25560" cy="2556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4640" y="5018040"/>
              <a:ext cx="2700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2720" y="517212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35960" y="5170320"/>
              <a:ext cx="136440" cy="1396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50000" y="517032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6" y="385"/>
                  </a:moveTo>
                  <a:lnTo>
                    <a:pt x="113" y="385"/>
                  </a:lnTo>
                  <a:lnTo>
                    <a:pt x="53" y="361"/>
                  </a:lnTo>
                  <a:lnTo>
                    <a:pt x="0" y="282"/>
                  </a:lnTo>
                  <a:lnTo>
                    <a:pt x="0" y="290"/>
                  </a:lnTo>
                  <a:lnTo>
                    <a:pt x="314" y="87"/>
                  </a:lnTo>
                  <a:lnTo>
                    <a:pt x="218" y="10"/>
                  </a:lnTo>
                  <a:lnTo>
                    <a:pt x="156" y="0"/>
                  </a:lnTo>
                  <a:lnTo>
                    <a:pt x="156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86720" y="5221440"/>
              <a:ext cx="3636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88160" y="522144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94640" y="5222880"/>
              <a:ext cx="25560" cy="302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4640" y="5222880"/>
              <a:ext cx="2700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1320" y="4849920"/>
              <a:ext cx="7920" cy="82692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75120" y="175248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8000" y="175104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92400" y="175104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4" y="385"/>
                  </a:moveTo>
                  <a:lnTo>
                    <a:pt x="111" y="385"/>
                  </a:lnTo>
                  <a:lnTo>
                    <a:pt x="50" y="364"/>
                  </a:lnTo>
                  <a:lnTo>
                    <a:pt x="0" y="282"/>
                  </a:lnTo>
                  <a:lnTo>
                    <a:pt x="0" y="290"/>
                  </a:lnTo>
                  <a:lnTo>
                    <a:pt x="314" y="87"/>
                  </a:lnTo>
                  <a:lnTo>
                    <a:pt x="216" y="10"/>
                  </a:lnTo>
                  <a:lnTo>
                    <a:pt x="159" y="0"/>
                  </a:lnTo>
                  <a:lnTo>
                    <a:pt x="154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9120" y="1801800"/>
              <a:ext cx="3492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32000" y="1801800"/>
              <a:ext cx="3168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37040" y="1805040"/>
              <a:ext cx="23760" cy="2556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7040" y="1805040"/>
              <a:ext cx="2556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75120" y="1292400"/>
              <a:ext cx="13176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78000" y="1290600"/>
              <a:ext cx="136440" cy="1382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92400" y="1290600"/>
              <a:ext cx="113040" cy="135360"/>
            </a:xfrm>
            <a:custGeom>
              <a:avLst/>
              <a:gdLst/>
              <a:ahLst/>
              <a:rect l="0" t="0" r="r" b="b"/>
              <a:pathLst>
                <a:path w="314" h="376">
                  <a:moveTo>
                    <a:pt x="154" y="376"/>
                  </a:moveTo>
                  <a:lnTo>
                    <a:pt x="111" y="376"/>
                  </a:lnTo>
                  <a:lnTo>
                    <a:pt x="50" y="352"/>
                  </a:lnTo>
                  <a:lnTo>
                    <a:pt x="0" y="272"/>
                  </a:lnTo>
                  <a:lnTo>
                    <a:pt x="0" y="283"/>
                  </a:lnTo>
                  <a:lnTo>
                    <a:pt x="314" y="85"/>
                  </a:lnTo>
                  <a:lnTo>
                    <a:pt x="216" y="10"/>
                  </a:lnTo>
                  <a:lnTo>
                    <a:pt x="159" y="0"/>
                  </a:lnTo>
                  <a:lnTo>
                    <a:pt x="154" y="37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9120" y="1341360"/>
              <a:ext cx="3492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2000" y="1341360"/>
              <a:ext cx="31680" cy="3024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7040" y="1343160"/>
              <a:ext cx="23760" cy="2700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37040" y="1341360"/>
              <a:ext cx="25560" cy="2700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5120" y="1496880"/>
              <a:ext cx="131760" cy="139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78000" y="1495440"/>
              <a:ext cx="136440" cy="1396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2400" y="1495440"/>
              <a:ext cx="113040" cy="138600"/>
            </a:xfrm>
            <a:custGeom>
              <a:avLst/>
              <a:gdLst/>
              <a:ahLst/>
              <a:rect l="0" t="0" r="r" b="b"/>
              <a:pathLst>
                <a:path w="314" h="385">
                  <a:moveTo>
                    <a:pt x="154" y="385"/>
                  </a:moveTo>
                  <a:lnTo>
                    <a:pt x="111" y="385"/>
                  </a:lnTo>
                  <a:lnTo>
                    <a:pt x="50" y="364"/>
                  </a:lnTo>
                  <a:lnTo>
                    <a:pt x="0" y="281"/>
                  </a:lnTo>
                  <a:lnTo>
                    <a:pt x="0" y="293"/>
                  </a:lnTo>
                  <a:lnTo>
                    <a:pt x="314" y="85"/>
                  </a:lnTo>
                  <a:lnTo>
                    <a:pt x="216" y="10"/>
                  </a:lnTo>
                  <a:lnTo>
                    <a:pt x="159" y="0"/>
                  </a:lnTo>
                  <a:lnTo>
                    <a:pt x="154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9120" y="1546200"/>
              <a:ext cx="3492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2000" y="1546200"/>
              <a:ext cx="3168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37040" y="1549440"/>
              <a:ext cx="23760" cy="2700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7040" y="1549440"/>
              <a:ext cx="25560" cy="2556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01920" y="1163520"/>
              <a:ext cx="9360" cy="83664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41560" y="6075360"/>
              <a:ext cx="13032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44800" y="607392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57400" y="6073920"/>
              <a:ext cx="114840" cy="138600"/>
            </a:xfrm>
            <a:custGeom>
              <a:avLst/>
              <a:gdLst/>
              <a:ahLst/>
              <a:rect l="0" t="0" r="r" b="b"/>
              <a:pathLst>
                <a:path w="319" h="385">
                  <a:moveTo>
                    <a:pt x="159" y="385"/>
                  </a:moveTo>
                  <a:lnTo>
                    <a:pt x="116" y="385"/>
                  </a:lnTo>
                  <a:lnTo>
                    <a:pt x="54" y="361"/>
                  </a:lnTo>
                  <a:lnTo>
                    <a:pt x="0" y="282"/>
                  </a:lnTo>
                  <a:lnTo>
                    <a:pt x="0" y="290"/>
                  </a:lnTo>
                  <a:lnTo>
                    <a:pt x="319" y="87"/>
                  </a:lnTo>
                  <a:lnTo>
                    <a:pt x="221" y="10"/>
                  </a:lnTo>
                  <a:lnTo>
                    <a:pt x="163" y="0"/>
                  </a:lnTo>
                  <a:lnTo>
                    <a:pt x="159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92320" y="612468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97360" y="6124680"/>
              <a:ext cx="33480" cy="316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02040" y="6126120"/>
              <a:ext cx="23760" cy="2844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3480" y="6126120"/>
              <a:ext cx="25560" cy="28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41560" y="5613480"/>
              <a:ext cx="13032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4800" y="561168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57400" y="5611680"/>
              <a:ext cx="114840" cy="138600"/>
            </a:xfrm>
            <a:custGeom>
              <a:avLst/>
              <a:gdLst/>
              <a:ahLst/>
              <a:rect l="0" t="0" r="r" b="b"/>
              <a:pathLst>
                <a:path w="319" h="385">
                  <a:moveTo>
                    <a:pt x="159" y="385"/>
                  </a:moveTo>
                  <a:lnTo>
                    <a:pt x="116" y="385"/>
                  </a:lnTo>
                  <a:lnTo>
                    <a:pt x="54" y="361"/>
                  </a:lnTo>
                  <a:lnTo>
                    <a:pt x="0" y="279"/>
                  </a:lnTo>
                  <a:lnTo>
                    <a:pt x="0" y="290"/>
                  </a:lnTo>
                  <a:lnTo>
                    <a:pt x="319" y="87"/>
                  </a:lnTo>
                  <a:lnTo>
                    <a:pt x="221" y="10"/>
                  </a:lnTo>
                  <a:lnTo>
                    <a:pt x="163" y="0"/>
                  </a:lnTo>
                  <a:lnTo>
                    <a:pt x="159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92320" y="5662440"/>
              <a:ext cx="36360" cy="3348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97360" y="5662440"/>
              <a:ext cx="33480" cy="3024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02040" y="5665680"/>
              <a:ext cx="23760" cy="2556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03480" y="5664240"/>
              <a:ext cx="25560" cy="2700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1560" y="5819760"/>
              <a:ext cx="130320" cy="1411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4800" y="5818320"/>
              <a:ext cx="136440" cy="1411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57400" y="5818320"/>
              <a:ext cx="114840" cy="138600"/>
            </a:xfrm>
            <a:custGeom>
              <a:avLst/>
              <a:gdLst/>
              <a:ahLst/>
              <a:rect l="0" t="0" r="r" b="b"/>
              <a:pathLst>
                <a:path w="319" h="385">
                  <a:moveTo>
                    <a:pt x="159" y="385"/>
                  </a:moveTo>
                  <a:lnTo>
                    <a:pt x="116" y="385"/>
                  </a:lnTo>
                  <a:lnTo>
                    <a:pt x="54" y="364"/>
                  </a:lnTo>
                  <a:lnTo>
                    <a:pt x="0" y="282"/>
                  </a:lnTo>
                  <a:lnTo>
                    <a:pt x="0" y="294"/>
                  </a:lnTo>
                  <a:lnTo>
                    <a:pt x="319" y="87"/>
                  </a:lnTo>
                  <a:lnTo>
                    <a:pt x="221" y="14"/>
                  </a:lnTo>
                  <a:lnTo>
                    <a:pt x="163" y="0"/>
                  </a:lnTo>
                  <a:lnTo>
                    <a:pt x="159" y="3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92320" y="5869080"/>
              <a:ext cx="36360" cy="3492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97360" y="5869080"/>
              <a:ext cx="33480" cy="30240"/>
            </a:xfrm>
            <a:prstGeom prst="ellipse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2040" y="5870520"/>
              <a:ext cx="23760" cy="27000"/>
            </a:xfrm>
            <a:prstGeom prst="ellipse">
              <a:avLst/>
            </a:prstGeom>
            <a:solidFill>
              <a:srgbClr val="e0e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3480" y="5870520"/>
              <a:ext cx="25560" cy="2700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5483160"/>
              <a:ext cx="7920" cy="838080"/>
            </a:xfrm>
            <a:prstGeom prst="rect">
              <a:avLst/>
            </a:pr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33960" y="590400"/>
              <a:ext cx="567000" cy="560880"/>
            </a:xfrm>
            <a:custGeom>
              <a:avLst/>
              <a:gdLst/>
              <a:ahLst/>
              <a:rect l="0" t="0" r="r" b="b"/>
              <a:pathLst>
                <a:path w="1575" h="1558">
                  <a:moveTo>
                    <a:pt x="0" y="740"/>
                  </a:moveTo>
                  <a:lnTo>
                    <a:pt x="1109" y="1558"/>
                  </a:lnTo>
                  <a:lnTo>
                    <a:pt x="1575" y="814"/>
                  </a:lnTo>
                  <a:lnTo>
                    <a:pt x="465" y="0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95800" y="5452920"/>
              <a:ext cx="614880" cy="581400"/>
            </a:xfrm>
            <a:custGeom>
              <a:avLst/>
              <a:gdLst/>
              <a:ahLst/>
              <a:rect l="0" t="0" r="r" b="b"/>
              <a:pathLst>
                <a:path w="1708" h="1615">
                  <a:moveTo>
                    <a:pt x="1708" y="612"/>
                  </a:moveTo>
                  <a:lnTo>
                    <a:pt x="1068" y="0"/>
                  </a:lnTo>
                  <a:lnTo>
                    <a:pt x="0" y="859"/>
                  </a:lnTo>
                  <a:lnTo>
                    <a:pt x="458" y="1615"/>
                  </a:lnTo>
                  <a:lnTo>
                    <a:pt x="1708" y="6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92720" y="2727360"/>
              <a:ext cx="244800" cy="1398960"/>
            </a:xfrm>
            <a:custGeom>
              <a:avLst/>
              <a:gdLst/>
              <a:ahLst/>
              <a:rect l="0" t="0" r="r" b="b"/>
              <a:pathLst>
                <a:path w="680" h="3886">
                  <a:moveTo>
                    <a:pt x="253" y="0"/>
                  </a:moveTo>
                  <a:lnTo>
                    <a:pt x="309" y="159"/>
                  </a:lnTo>
                  <a:lnTo>
                    <a:pt x="418" y="311"/>
                  </a:lnTo>
                  <a:lnTo>
                    <a:pt x="467" y="441"/>
                  </a:lnTo>
                  <a:lnTo>
                    <a:pt x="493" y="801"/>
                  </a:lnTo>
                  <a:lnTo>
                    <a:pt x="500" y="1310"/>
                  </a:lnTo>
                  <a:lnTo>
                    <a:pt x="500" y="1451"/>
                  </a:lnTo>
                  <a:lnTo>
                    <a:pt x="497" y="1600"/>
                  </a:lnTo>
                  <a:lnTo>
                    <a:pt x="489" y="1900"/>
                  </a:lnTo>
                  <a:lnTo>
                    <a:pt x="400" y="3489"/>
                  </a:lnTo>
                  <a:lnTo>
                    <a:pt x="298" y="3504"/>
                  </a:lnTo>
                  <a:lnTo>
                    <a:pt x="182" y="3549"/>
                  </a:lnTo>
                  <a:lnTo>
                    <a:pt x="55" y="3694"/>
                  </a:lnTo>
                  <a:lnTo>
                    <a:pt x="0" y="3797"/>
                  </a:lnTo>
                  <a:lnTo>
                    <a:pt x="7" y="3857"/>
                  </a:lnTo>
                  <a:lnTo>
                    <a:pt x="141" y="3879"/>
                  </a:lnTo>
                  <a:lnTo>
                    <a:pt x="231" y="3886"/>
                  </a:lnTo>
                  <a:lnTo>
                    <a:pt x="332" y="3883"/>
                  </a:lnTo>
                  <a:lnTo>
                    <a:pt x="527" y="3835"/>
                  </a:lnTo>
                  <a:lnTo>
                    <a:pt x="672" y="3708"/>
                  </a:lnTo>
                  <a:lnTo>
                    <a:pt x="680" y="3163"/>
                  </a:lnTo>
                  <a:lnTo>
                    <a:pt x="680" y="2620"/>
                  </a:lnTo>
                  <a:lnTo>
                    <a:pt x="672" y="2000"/>
                  </a:lnTo>
                  <a:lnTo>
                    <a:pt x="665" y="838"/>
                  </a:lnTo>
                  <a:lnTo>
                    <a:pt x="665" y="445"/>
                  </a:lnTo>
                  <a:lnTo>
                    <a:pt x="672" y="278"/>
                  </a:lnTo>
                  <a:lnTo>
                    <a:pt x="564" y="92"/>
                  </a:lnTo>
                  <a:lnTo>
                    <a:pt x="456" y="33"/>
                  </a:lnTo>
                  <a:lnTo>
                    <a:pt x="355" y="3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5040" y="2743200"/>
              <a:ext cx="192600" cy="1344960"/>
            </a:xfrm>
            <a:custGeom>
              <a:avLst/>
              <a:gdLst/>
              <a:ahLst/>
              <a:rect l="0" t="0" r="r" b="b"/>
              <a:pathLst>
                <a:path w="535" h="3736">
                  <a:moveTo>
                    <a:pt x="11" y="0"/>
                  </a:moveTo>
                  <a:lnTo>
                    <a:pt x="0" y="77"/>
                  </a:lnTo>
                  <a:lnTo>
                    <a:pt x="0" y="136"/>
                  </a:lnTo>
                  <a:lnTo>
                    <a:pt x="29" y="181"/>
                  </a:lnTo>
                  <a:lnTo>
                    <a:pt x="170" y="203"/>
                  </a:lnTo>
                  <a:lnTo>
                    <a:pt x="240" y="203"/>
                  </a:lnTo>
                  <a:lnTo>
                    <a:pt x="269" y="199"/>
                  </a:lnTo>
                  <a:lnTo>
                    <a:pt x="321" y="347"/>
                  </a:lnTo>
                  <a:lnTo>
                    <a:pt x="357" y="725"/>
                  </a:lnTo>
                  <a:lnTo>
                    <a:pt x="372" y="1258"/>
                  </a:lnTo>
                  <a:lnTo>
                    <a:pt x="372" y="1554"/>
                  </a:lnTo>
                  <a:lnTo>
                    <a:pt x="372" y="1710"/>
                  </a:lnTo>
                  <a:lnTo>
                    <a:pt x="376" y="1865"/>
                  </a:lnTo>
                  <a:lnTo>
                    <a:pt x="321" y="3517"/>
                  </a:lnTo>
                  <a:lnTo>
                    <a:pt x="66" y="3499"/>
                  </a:lnTo>
                  <a:lnTo>
                    <a:pt x="40" y="3617"/>
                  </a:lnTo>
                  <a:lnTo>
                    <a:pt x="36" y="3680"/>
                  </a:lnTo>
                  <a:lnTo>
                    <a:pt x="66" y="3721"/>
                  </a:lnTo>
                  <a:lnTo>
                    <a:pt x="181" y="3736"/>
                  </a:lnTo>
                  <a:lnTo>
                    <a:pt x="251" y="3732"/>
                  </a:lnTo>
                  <a:lnTo>
                    <a:pt x="328" y="3721"/>
                  </a:lnTo>
                  <a:lnTo>
                    <a:pt x="458" y="3658"/>
                  </a:lnTo>
                  <a:lnTo>
                    <a:pt x="520" y="3536"/>
                  </a:lnTo>
                  <a:lnTo>
                    <a:pt x="520" y="1877"/>
                  </a:lnTo>
                  <a:lnTo>
                    <a:pt x="524" y="755"/>
                  </a:lnTo>
                  <a:lnTo>
                    <a:pt x="535" y="210"/>
                  </a:lnTo>
                  <a:lnTo>
                    <a:pt x="280" y="4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2725560"/>
              <a:ext cx="194040" cy="1360800"/>
            </a:xfrm>
            <a:custGeom>
              <a:avLst/>
              <a:gdLst/>
              <a:ahLst/>
              <a:rect l="0" t="0" r="r" b="b"/>
              <a:pathLst>
                <a:path w="539" h="3780">
                  <a:moveTo>
                    <a:pt x="43" y="7"/>
                  </a:moveTo>
                  <a:lnTo>
                    <a:pt x="10" y="103"/>
                  </a:lnTo>
                  <a:lnTo>
                    <a:pt x="0" y="174"/>
                  </a:lnTo>
                  <a:lnTo>
                    <a:pt x="21" y="226"/>
                  </a:lnTo>
                  <a:lnTo>
                    <a:pt x="162" y="248"/>
                  </a:lnTo>
                  <a:lnTo>
                    <a:pt x="231" y="248"/>
                  </a:lnTo>
                  <a:lnTo>
                    <a:pt x="264" y="244"/>
                  </a:lnTo>
                  <a:lnTo>
                    <a:pt x="315" y="389"/>
                  </a:lnTo>
                  <a:lnTo>
                    <a:pt x="352" y="763"/>
                  </a:lnTo>
                  <a:lnTo>
                    <a:pt x="377" y="1894"/>
                  </a:lnTo>
                  <a:lnTo>
                    <a:pt x="377" y="2198"/>
                  </a:lnTo>
                  <a:lnTo>
                    <a:pt x="377" y="2342"/>
                  </a:lnTo>
                  <a:lnTo>
                    <a:pt x="374" y="2490"/>
                  </a:lnTo>
                  <a:lnTo>
                    <a:pt x="363" y="3016"/>
                  </a:lnTo>
                  <a:lnTo>
                    <a:pt x="334" y="3528"/>
                  </a:lnTo>
                  <a:lnTo>
                    <a:pt x="58" y="3546"/>
                  </a:lnTo>
                  <a:lnTo>
                    <a:pt x="36" y="3665"/>
                  </a:lnTo>
                  <a:lnTo>
                    <a:pt x="29" y="3728"/>
                  </a:lnTo>
                  <a:lnTo>
                    <a:pt x="58" y="3769"/>
                  </a:lnTo>
                  <a:lnTo>
                    <a:pt x="169" y="3780"/>
                  </a:lnTo>
                  <a:lnTo>
                    <a:pt x="301" y="3754"/>
                  </a:lnTo>
                  <a:lnTo>
                    <a:pt x="422" y="3691"/>
                  </a:lnTo>
                  <a:lnTo>
                    <a:pt x="514" y="3583"/>
                  </a:lnTo>
                  <a:lnTo>
                    <a:pt x="539" y="255"/>
                  </a:lnTo>
                  <a:lnTo>
                    <a:pt x="348" y="7"/>
                  </a:lnTo>
                  <a:lnTo>
                    <a:pt x="315" y="0"/>
                  </a:lnTo>
                  <a:lnTo>
                    <a:pt x="227" y="3"/>
                  </a:lnTo>
                  <a:lnTo>
                    <a:pt x="124" y="7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olbe</dc:creator>
  <dc:description/>
  <dc:language>en-US</dc:language>
  <cp:lastModifiedBy>Mike Kolbe</cp:lastModifiedBy>
  <cp:revision>0</cp:revision>
  <dc:subject/>
  <dc:title/>
</cp:coreProperties>
</file>