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08200" y="-1789200"/>
            <a:ext cx="11304720" cy="9817200"/>
            <a:chOff x="-808200" y="-1789200"/>
            <a:chExt cx="11304720" cy="9817200"/>
          </a:xfrm>
        </p:grpSpPr>
        <p:sp>
          <p:nvSpPr>
            <p:cNvPr id="1" name=""/>
            <p:cNvSpPr/>
            <p:nvPr/>
          </p:nvSpPr>
          <p:spPr>
            <a:xfrm>
              <a:off x="5888160" y="-1789200"/>
              <a:ext cx="2911680" cy="8761680"/>
            </a:xfrm>
            <a:custGeom>
              <a:avLst/>
              <a:gdLst/>
              <a:ahLst/>
              <a:rect l="0" t="0" r="r" b="b"/>
              <a:pathLst>
                <a:path w="8088" h="24338">
                  <a:moveTo>
                    <a:pt x="4387" y="0"/>
                  </a:moveTo>
                  <a:lnTo>
                    <a:pt x="4519" y="0"/>
                  </a:lnTo>
                  <a:lnTo>
                    <a:pt x="8088" y="23933"/>
                  </a:lnTo>
                  <a:lnTo>
                    <a:pt x="0" y="24338"/>
                  </a:lnTo>
                  <a:lnTo>
                    <a:pt x="4387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e5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10400" y="5032440"/>
              <a:ext cx="128880" cy="1132200"/>
            </a:xfrm>
            <a:custGeom>
              <a:avLst/>
              <a:gdLst/>
              <a:ahLst/>
              <a:rect l="0" t="0" r="r" b="b"/>
              <a:pathLst>
                <a:path w="358" h="3145">
                  <a:moveTo>
                    <a:pt x="349" y="2799"/>
                  </a:moveTo>
                  <a:lnTo>
                    <a:pt x="349" y="2865"/>
                  </a:lnTo>
                  <a:lnTo>
                    <a:pt x="341" y="2930"/>
                  </a:lnTo>
                  <a:lnTo>
                    <a:pt x="308" y="3040"/>
                  </a:lnTo>
                  <a:lnTo>
                    <a:pt x="181" y="3145"/>
                  </a:lnTo>
                  <a:lnTo>
                    <a:pt x="114" y="3127"/>
                  </a:lnTo>
                  <a:lnTo>
                    <a:pt x="57" y="3053"/>
                  </a:lnTo>
                  <a:lnTo>
                    <a:pt x="0" y="2817"/>
                  </a:lnTo>
                  <a:lnTo>
                    <a:pt x="0" y="2707"/>
                  </a:lnTo>
                  <a:lnTo>
                    <a:pt x="0" y="0"/>
                  </a:lnTo>
                  <a:lnTo>
                    <a:pt x="358" y="0"/>
                  </a:lnTo>
                  <a:lnTo>
                    <a:pt x="349" y="2799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6826320" y="4762440"/>
              <a:ext cx="1440" cy="12240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710400" y="4708440"/>
              <a:ext cx="20520" cy="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789600" y="4705200"/>
              <a:ext cx="49680" cy="44640"/>
            </a:xfrm>
            <a:custGeom>
              <a:avLst/>
              <a:gdLst/>
              <a:ahLst/>
              <a:rect l="0" t="0" r="r" b="b"/>
              <a:pathLst>
                <a:path w="138" h="124">
                  <a:moveTo>
                    <a:pt x="0" y="0"/>
                  </a:moveTo>
                  <a:lnTo>
                    <a:pt x="74" y="36"/>
                  </a:lnTo>
                  <a:lnTo>
                    <a:pt x="105" y="73"/>
                  </a:lnTo>
                  <a:lnTo>
                    <a:pt x="138" y="124"/>
                  </a:lnTo>
                  <a:lnTo>
                    <a:pt x="1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800760" y="4708440"/>
              <a:ext cx="47880" cy="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97800" y="4684680"/>
              <a:ext cx="163800" cy="1505160"/>
            </a:xfrm>
            <a:custGeom>
              <a:avLst/>
              <a:gdLst/>
              <a:ahLst/>
              <a:rect l="0" t="0" r="r" b="b"/>
              <a:pathLst>
                <a:path fill="none" w="455" h="4181">
                  <a:moveTo>
                    <a:pt x="411" y="3833"/>
                  </a:moveTo>
                  <a:lnTo>
                    <a:pt x="411" y="3894"/>
                  </a:lnTo>
                  <a:lnTo>
                    <a:pt x="402" y="3960"/>
                  </a:lnTo>
                  <a:lnTo>
                    <a:pt x="367" y="4071"/>
                  </a:lnTo>
                  <a:lnTo>
                    <a:pt x="230" y="4181"/>
                  </a:lnTo>
                  <a:lnTo>
                    <a:pt x="97" y="4079"/>
                  </a:lnTo>
                  <a:lnTo>
                    <a:pt x="35" y="3837"/>
                  </a:lnTo>
                  <a:lnTo>
                    <a:pt x="35" y="3736"/>
                  </a:lnTo>
                  <a:lnTo>
                    <a:pt x="35" y="66"/>
                  </a:lnTo>
                  <a:lnTo>
                    <a:pt x="0" y="66"/>
                  </a:lnTo>
                  <a:lnTo>
                    <a:pt x="0" y="0"/>
                  </a:lnTo>
                  <a:lnTo>
                    <a:pt x="455" y="0"/>
                  </a:lnTo>
                  <a:lnTo>
                    <a:pt x="455" y="66"/>
                  </a:lnTo>
                  <a:lnTo>
                    <a:pt x="419" y="66"/>
                  </a:lnTo>
                  <a:lnTo>
                    <a:pt x="411" y="3833"/>
                  </a:lnTo>
                </a:path>
              </a:pathLst>
            </a:custGeom>
            <a:ln w="12600">
              <a:solidFill>
                <a:srgbClr val="40404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473880" y="5032440"/>
              <a:ext cx="127440" cy="1132200"/>
            </a:xfrm>
            <a:custGeom>
              <a:avLst/>
              <a:gdLst/>
              <a:ahLst/>
              <a:rect l="0" t="0" r="r" b="b"/>
              <a:pathLst>
                <a:path w="354" h="3145">
                  <a:moveTo>
                    <a:pt x="350" y="2799"/>
                  </a:moveTo>
                  <a:lnTo>
                    <a:pt x="350" y="2865"/>
                  </a:lnTo>
                  <a:lnTo>
                    <a:pt x="342" y="2930"/>
                  </a:lnTo>
                  <a:lnTo>
                    <a:pt x="309" y="3040"/>
                  </a:lnTo>
                  <a:lnTo>
                    <a:pt x="181" y="3145"/>
                  </a:lnTo>
                  <a:lnTo>
                    <a:pt x="115" y="3127"/>
                  </a:lnTo>
                  <a:lnTo>
                    <a:pt x="57" y="3053"/>
                  </a:lnTo>
                  <a:lnTo>
                    <a:pt x="0" y="2817"/>
                  </a:lnTo>
                  <a:lnTo>
                    <a:pt x="0" y="2707"/>
                  </a:lnTo>
                  <a:lnTo>
                    <a:pt x="0" y="0"/>
                  </a:lnTo>
                  <a:lnTo>
                    <a:pt x="354" y="0"/>
                  </a:lnTo>
                  <a:lnTo>
                    <a:pt x="350" y="2799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588000" y="4762440"/>
              <a:ext cx="1800" cy="12240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473880" y="4708440"/>
              <a:ext cx="22320" cy="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553080" y="4705200"/>
              <a:ext cx="47880" cy="44640"/>
            </a:xfrm>
            <a:custGeom>
              <a:avLst/>
              <a:gdLst/>
              <a:ahLst/>
              <a:rect l="0" t="0" r="r" b="b"/>
              <a:pathLst>
                <a:path w="133" h="124">
                  <a:moveTo>
                    <a:pt x="0" y="0"/>
                  </a:moveTo>
                  <a:lnTo>
                    <a:pt x="74" y="36"/>
                  </a:lnTo>
                  <a:lnTo>
                    <a:pt x="103" y="73"/>
                  </a:lnTo>
                  <a:lnTo>
                    <a:pt x="133" y="124"/>
                  </a:lnTo>
                  <a:lnTo>
                    <a:pt x="1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564240" y="4708440"/>
              <a:ext cx="46080" cy="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461280" y="4684680"/>
              <a:ext cx="162360" cy="1505160"/>
            </a:xfrm>
            <a:custGeom>
              <a:avLst/>
              <a:gdLst/>
              <a:ahLst/>
              <a:rect l="0" t="0" r="r" b="b"/>
              <a:pathLst>
                <a:path fill="none" w="451" h="4181">
                  <a:moveTo>
                    <a:pt x="412" y="3833"/>
                  </a:moveTo>
                  <a:lnTo>
                    <a:pt x="412" y="3894"/>
                  </a:lnTo>
                  <a:lnTo>
                    <a:pt x="403" y="3960"/>
                  </a:lnTo>
                  <a:lnTo>
                    <a:pt x="368" y="4071"/>
                  </a:lnTo>
                  <a:lnTo>
                    <a:pt x="230" y="4181"/>
                  </a:lnTo>
                  <a:lnTo>
                    <a:pt x="97" y="4079"/>
                  </a:lnTo>
                  <a:lnTo>
                    <a:pt x="35" y="3837"/>
                  </a:lnTo>
                  <a:lnTo>
                    <a:pt x="35" y="3736"/>
                  </a:lnTo>
                  <a:lnTo>
                    <a:pt x="35" y="66"/>
                  </a:lnTo>
                  <a:lnTo>
                    <a:pt x="0" y="66"/>
                  </a:lnTo>
                  <a:lnTo>
                    <a:pt x="0" y="0"/>
                  </a:lnTo>
                  <a:lnTo>
                    <a:pt x="451" y="0"/>
                  </a:lnTo>
                  <a:lnTo>
                    <a:pt x="451" y="66"/>
                  </a:lnTo>
                  <a:lnTo>
                    <a:pt x="416" y="66"/>
                  </a:lnTo>
                  <a:lnTo>
                    <a:pt x="412" y="3833"/>
                  </a:lnTo>
                </a:path>
              </a:pathLst>
            </a:custGeom>
            <a:ln w="12600">
              <a:solidFill>
                <a:srgbClr val="40404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253200" y="5032440"/>
              <a:ext cx="127440" cy="1132200"/>
            </a:xfrm>
            <a:custGeom>
              <a:avLst/>
              <a:gdLst/>
              <a:ahLst/>
              <a:rect l="0" t="0" r="r" b="b"/>
              <a:pathLst>
                <a:path w="354" h="3145">
                  <a:moveTo>
                    <a:pt x="350" y="2799"/>
                  </a:moveTo>
                  <a:lnTo>
                    <a:pt x="350" y="2865"/>
                  </a:lnTo>
                  <a:lnTo>
                    <a:pt x="342" y="2930"/>
                  </a:lnTo>
                  <a:lnTo>
                    <a:pt x="305" y="3040"/>
                  </a:lnTo>
                  <a:lnTo>
                    <a:pt x="181" y="3145"/>
                  </a:lnTo>
                  <a:lnTo>
                    <a:pt x="115" y="3127"/>
                  </a:lnTo>
                  <a:lnTo>
                    <a:pt x="53" y="3053"/>
                  </a:lnTo>
                  <a:lnTo>
                    <a:pt x="0" y="2817"/>
                  </a:lnTo>
                  <a:lnTo>
                    <a:pt x="0" y="2707"/>
                  </a:lnTo>
                  <a:lnTo>
                    <a:pt x="0" y="0"/>
                  </a:lnTo>
                  <a:lnTo>
                    <a:pt x="354" y="0"/>
                  </a:lnTo>
                  <a:lnTo>
                    <a:pt x="350" y="2799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6367320" y="4762440"/>
              <a:ext cx="3240" cy="12240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253200" y="4708440"/>
              <a:ext cx="19080" cy="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332400" y="4705200"/>
              <a:ext cx="47880" cy="44640"/>
            </a:xfrm>
            <a:custGeom>
              <a:avLst/>
              <a:gdLst/>
              <a:ahLst/>
              <a:rect l="0" t="0" r="r" b="b"/>
              <a:pathLst>
                <a:path w="133" h="124">
                  <a:moveTo>
                    <a:pt x="0" y="0"/>
                  </a:moveTo>
                  <a:lnTo>
                    <a:pt x="74" y="36"/>
                  </a:lnTo>
                  <a:lnTo>
                    <a:pt x="103" y="73"/>
                  </a:lnTo>
                  <a:lnTo>
                    <a:pt x="133" y="124"/>
                  </a:lnTo>
                  <a:lnTo>
                    <a:pt x="1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343560" y="4708440"/>
              <a:ext cx="46080" cy="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38800" y="4684680"/>
              <a:ext cx="163800" cy="1505160"/>
            </a:xfrm>
            <a:custGeom>
              <a:avLst/>
              <a:gdLst/>
              <a:ahLst/>
              <a:rect l="0" t="0" r="r" b="b"/>
              <a:pathLst>
                <a:path fill="none" w="455" h="4181">
                  <a:moveTo>
                    <a:pt x="415" y="3833"/>
                  </a:moveTo>
                  <a:lnTo>
                    <a:pt x="415" y="3894"/>
                  </a:lnTo>
                  <a:lnTo>
                    <a:pt x="406" y="3960"/>
                  </a:lnTo>
                  <a:lnTo>
                    <a:pt x="367" y="4071"/>
                  </a:lnTo>
                  <a:lnTo>
                    <a:pt x="234" y="4181"/>
                  </a:lnTo>
                  <a:lnTo>
                    <a:pt x="97" y="4079"/>
                  </a:lnTo>
                  <a:lnTo>
                    <a:pt x="39" y="3837"/>
                  </a:lnTo>
                  <a:lnTo>
                    <a:pt x="39" y="3736"/>
                  </a:lnTo>
                  <a:lnTo>
                    <a:pt x="39" y="66"/>
                  </a:lnTo>
                  <a:lnTo>
                    <a:pt x="0" y="66"/>
                  </a:lnTo>
                  <a:lnTo>
                    <a:pt x="0" y="0"/>
                  </a:lnTo>
                  <a:lnTo>
                    <a:pt x="455" y="0"/>
                  </a:lnTo>
                  <a:lnTo>
                    <a:pt x="455" y="66"/>
                  </a:lnTo>
                  <a:lnTo>
                    <a:pt x="415" y="66"/>
                  </a:lnTo>
                  <a:lnTo>
                    <a:pt x="415" y="3833"/>
                  </a:lnTo>
                </a:path>
              </a:pathLst>
            </a:custGeom>
            <a:ln w="12600">
              <a:solidFill>
                <a:srgbClr val="40404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186600" y="5235480"/>
              <a:ext cx="778320" cy="1175040"/>
            </a:xfrm>
            <a:custGeom>
              <a:avLst/>
              <a:gdLst/>
              <a:ahLst/>
              <a:rect l="0" t="0" r="r" b="b"/>
              <a:pathLst>
                <a:path fill="none" w="2162" h="3264">
                  <a:moveTo>
                    <a:pt x="0" y="3264"/>
                  </a:moveTo>
                  <a:lnTo>
                    <a:pt x="2162" y="3264"/>
                  </a:lnTo>
                  <a:lnTo>
                    <a:pt x="2162" y="0"/>
                  </a:lnTo>
                  <a:lnTo>
                    <a:pt x="0" y="0"/>
                  </a:lnTo>
                  <a:lnTo>
                    <a:pt x="0" y="3264"/>
                  </a:lnTo>
                </a:path>
              </a:pathLst>
            </a:custGeom>
            <a:ln w="12600">
              <a:solidFill>
                <a:srgbClr val="e0202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931160" y="5435640"/>
              <a:ext cx="638640" cy="979920"/>
            </a:xfrm>
            <a:custGeom>
              <a:avLst/>
              <a:gdLst/>
              <a:ahLst/>
              <a:rect l="0" t="0" r="r" b="b"/>
              <a:pathLst>
                <a:path fill="none" w="1774" h="2722">
                  <a:moveTo>
                    <a:pt x="1620" y="2700"/>
                  </a:moveTo>
                  <a:lnTo>
                    <a:pt x="1668" y="2678"/>
                  </a:lnTo>
                  <a:lnTo>
                    <a:pt x="1774" y="2572"/>
                  </a:lnTo>
                  <a:lnTo>
                    <a:pt x="1752" y="8"/>
                  </a:lnTo>
                  <a:lnTo>
                    <a:pt x="1668" y="4"/>
                  </a:lnTo>
                  <a:lnTo>
                    <a:pt x="0" y="0"/>
                  </a:lnTo>
                  <a:lnTo>
                    <a:pt x="61" y="119"/>
                  </a:lnTo>
                  <a:lnTo>
                    <a:pt x="101" y="185"/>
                  </a:lnTo>
                  <a:lnTo>
                    <a:pt x="97" y="1447"/>
                  </a:lnTo>
                  <a:lnTo>
                    <a:pt x="101" y="2572"/>
                  </a:lnTo>
                  <a:lnTo>
                    <a:pt x="101" y="2577"/>
                  </a:lnTo>
                  <a:lnTo>
                    <a:pt x="101" y="2616"/>
                  </a:lnTo>
                  <a:lnTo>
                    <a:pt x="149" y="2678"/>
                  </a:lnTo>
                  <a:lnTo>
                    <a:pt x="198" y="2700"/>
                  </a:lnTo>
                  <a:lnTo>
                    <a:pt x="803" y="2722"/>
                  </a:lnTo>
                  <a:lnTo>
                    <a:pt x="1015" y="2722"/>
                  </a:lnTo>
                  <a:lnTo>
                    <a:pt x="1125" y="2722"/>
                  </a:lnTo>
                  <a:lnTo>
                    <a:pt x="1235" y="2722"/>
                  </a:lnTo>
                  <a:lnTo>
                    <a:pt x="1620" y="2700"/>
                  </a:lnTo>
                </a:path>
              </a:pathLst>
            </a:custGeom>
            <a:ln w="12600">
              <a:solidFill>
                <a:srgbClr val="40404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81920" y="5634000"/>
              <a:ext cx="555840" cy="752760"/>
            </a:xfrm>
            <a:custGeom>
              <a:avLst/>
              <a:gdLst/>
              <a:ahLst/>
              <a:rect l="0" t="0" r="r" b="b"/>
              <a:pathLst>
                <a:path w="1544" h="2091">
                  <a:moveTo>
                    <a:pt x="524" y="2091"/>
                  </a:moveTo>
                  <a:lnTo>
                    <a:pt x="1010" y="2091"/>
                  </a:lnTo>
                  <a:lnTo>
                    <a:pt x="1028" y="2086"/>
                  </a:lnTo>
                  <a:lnTo>
                    <a:pt x="1165" y="2091"/>
                  </a:lnTo>
                  <a:lnTo>
                    <a:pt x="1288" y="2091"/>
                  </a:lnTo>
                  <a:lnTo>
                    <a:pt x="1403" y="2082"/>
                  </a:lnTo>
                  <a:lnTo>
                    <a:pt x="1451" y="2064"/>
                  </a:lnTo>
                  <a:lnTo>
                    <a:pt x="1544" y="1958"/>
                  </a:lnTo>
                  <a:lnTo>
                    <a:pt x="1544" y="4"/>
                  </a:lnTo>
                  <a:lnTo>
                    <a:pt x="0" y="0"/>
                  </a:lnTo>
                  <a:lnTo>
                    <a:pt x="0" y="136"/>
                  </a:lnTo>
                  <a:lnTo>
                    <a:pt x="0" y="246"/>
                  </a:lnTo>
                  <a:lnTo>
                    <a:pt x="0" y="313"/>
                  </a:lnTo>
                  <a:lnTo>
                    <a:pt x="0" y="383"/>
                  </a:lnTo>
                  <a:lnTo>
                    <a:pt x="17" y="1050"/>
                  </a:lnTo>
                  <a:lnTo>
                    <a:pt x="48" y="1958"/>
                  </a:lnTo>
                  <a:lnTo>
                    <a:pt x="88" y="2064"/>
                  </a:lnTo>
                  <a:lnTo>
                    <a:pt x="132" y="2082"/>
                  </a:lnTo>
                  <a:lnTo>
                    <a:pt x="366" y="2091"/>
                  </a:lnTo>
                  <a:lnTo>
                    <a:pt x="507" y="2086"/>
                  </a:lnTo>
                  <a:lnTo>
                    <a:pt x="524" y="2091"/>
                  </a:lnTo>
                  <a:close/>
                </a:path>
              </a:pathLst>
            </a:custGeom>
            <a:solidFill>
              <a:srgbClr val="e0e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20120" y="5440320"/>
              <a:ext cx="17640" cy="9190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966080" y="5446800"/>
              <a:ext cx="135360" cy="363960"/>
            </a:xfrm>
            <a:custGeom>
              <a:avLst/>
              <a:gdLst/>
              <a:ahLst/>
              <a:rect l="0" t="0" r="r" b="b"/>
              <a:pathLst>
                <a:path w="376" h="1011">
                  <a:moveTo>
                    <a:pt x="0" y="0"/>
                  </a:moveTo>
                  <a:lnTo>
                    <a:pt x="153" y="276"/>
                  </a:lnTo>
                  <a:lnTo>
                    <a:pt x="161" y="357"/>
                  </a:lnTo>
                  <a:lnTo>
                    <a:pt x="153" y="465"/>
                  </a:lnTo>
                  <a:lnTo>
                    <a:pt x="153" y="572"/>
                  </a:lnTo>
                  <a:lnTo>
                    <a:pt x="173" y="645"/>
                  </a:lnTo>
                  <a:lnTo>
                    <a:pt x="294" y="861"/>
                  </a:lnTo>
                  <a:lnTo>
                    <a:pt x="376" y="1011"/>
                  </a:lnTo>
                  <a:lnTo>
                    <a:pt x="30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570720" y="5207040"/>
              <a:ext cx="1100520" cy="1205280"/>
            </a:xfrm>
            <a:custGeom>
              <a:avLst/>
              <a:gdLst/>
              <a:ahLst/>
              <a:rect l="0" t="0" r="r" b="b"/>
              <a:pathLst>
                <a:path w="3057" h="3348">
                  <a:moveTo>
                    <a:pt x="1019" y="8"/>
                  </a:moveTo>
                  <a:lnTo>
                    <a:pt x="44" y="2850"/>
                  </a:lnTo>
                  <a:lnTo>
                    <a:pt x="8" y="2938"/>
                  </a:lnTo>
                  <a:lnTo>
                    <a:pt x="0" y="3018"/>
                  </a:lnTo>
                  <a:lnTo>
                    <a:pt x="0" y="3102"/>
                  </a:lnTo>
                  <a:lnTo>
                    <a:pt x="39" y="3243"/>
                  </a:lnTo>
                  <a:lnTo>
                    <a:pt x="119" y="3326"/>
                  </a:lnTo>
                  <a:lnTo>
                    <a:pt x="229" y="3335"/>
                  </a:lnTo>
                  <a:lnTo>
                    <a:pt x="264" y="3340"/>
                  </a:lnTo>
                  <a:lnTo>
                    <a:pt x="2850" y="3348"/>
                  </a:lnTo>
                  <a:lnTo>
                    <a:pt x="2819" y="3335"/>
                  </a:lnTo>
                  <a:lnTo>
                    <a:pt x="2921" y="3326"/>
                  </a:lnTo>
                  <a:lnTo>
                    <a:pt x="3009" y="3243"/>
                  </a:lnTo>
                  <a:lnTo>
                    <a:pt x="3053" y="3106"/>
                  </a:lnTo>
                  <a:lnTo>
                    <a:pt x="3057" y="3027"/>
                  </a:lnTo>
                  <a:lnTo>
                    <a:pt x="3044" y="2938"/>
                  </a:lnTo>
                  <a:lnTo>
                    <a:pt x="3018" y="2850"/>
                  </a:lnTo>
                  <a:lnTo>
                    <a:pt x="2020" y="0"/>
                  </a:lnTo>
                  <a:lnTo>
                    <a:pt x="1019" y="8"/>
                  </a:lnTo>
                  <a:close/>
                </a:path>
              </a:pathLst>
            </a:custGeom>
            <a:solidFill>
              <a:srgbClr val="e0202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575400" y="4519440"/>
              <a:ext cx="1100520" cy="1884600"/>
            </a:xfrm>
            <a:custGeom>
              <a:avLst/>
              <a:gdLst/>
              <a:ahLst/>
              <a:rect l="0" t="0" r="r" b="b"/>
              <a:pathLst>
                <a:path fill="none" w="3057" h="5235">
                  <a:moveTo>
                    <a:pt x="904" y="0"/>
                  </a:moveTo>
                  <a:lnTo>
                    <a:pt x="1024" y="194"/>
                  </a:lnTo>
                  <a:lnTo>
                    <a:pt x="1024" y="1935"/>
                  </a:lnTo>
                  <a:lnTo>
                    <a:pt x="988" y="1900"/>
                  </a:lnTo>
                  <a:lnTo>
                    <a:pt x="52" y="4745"/>
                  </a:lnTo>
                  <a:lnTo>
                    <a:pt x="13" y="4838"/>
                  </a:lnTo>
                  <a:lnTo>
                    <a:pt x="0" y="4917"/>
                  </a:lnTo>
                  <a:lnTo>
                    <a:pt x="0" y="4997"/>
                  </a:lnTo>
                  <a:lnTo>
                    <a:pt x="44" y="5138"/>
                  </a:lnTo>
                  <a:lnTo>
                    <a:pt x="127" y="5222"/>
                  </a:lnTo>
                  <a:lnTo>
                    <a:pt x="238" y="5230"/>
                  </a:lnTo>
                  <a:lnTo>
                    <a:pt x="264" y="5235"/>
                  </a:lnTo>
                  <a:lnTo>
                    <a:pt x="2890" y="5235"/>
                  </a:lnTo>
                  <a:lnTo>
                    <a:pt x="2828" y="5230"/>
                  </a:lnTo>
                  <a:lnTo>
                    <a:pt x="2930" y="5226"/>
                  </a:lnTo>
                  <a:lnTo>
                    <a:pt x="3009" y="5138"/>
                  </a:lnTo>
                  <a:lnTo>
                    <a:pt x="3053" y="5001"/>
                  </a:lnTo>
                  <a:lnTo>
                    <a:pt x="3057" y="4922"/>
                  </a:lnTo>
                  <a:lnTo>
                    <a:pt x="3040" y="4838"/>
                  </a:lnTo>
                  <a:lnTo>
                    <a:pt x="3022" y="4745"/>
                  </a:lnTo>
                  <a:lnTo>
                    <a:pt x="2020" y="1900"/>
                  </a:lnTo>
                  <a:lnTo>
                    <a:pt x="2020" y="194"/>
                  </a:lnTo>
                  <a:lnTo>
                    <a:pt x="2161" y="0"/>
                  </a:lnTo>
                  <a:lnTo>
                    <a:pt x="904" y="0"/>
                  </a:lnTo>
                </a:path>
              </a:pathLst>
            </a:custGeom>
            <a:ln w="12600">
              <a:solidFill>
                <a:srgbClr val="40404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265880" y="4602240"/>
              <a:ext cx="15840" cy="7300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224840" y="5302080"/>
              <a:ext cx="417960" cy="1072080"/>
            </a:xfrm>
            <a:custGeom>
              <a:avLst/>
              <a:gdLst/>
              <a:ahLst/>
              <a:rect l="0" t="0" r="r" b="b"/>
              <a:pathLst>
                <a:path w="1161" h="2978">
                  <a:moveTo>
                    <a:pt x="137" y="0"/>
                  </a:moveTo>
                  <a:lnTo>
                    <a:pt x="639" y="1355"/>
                  </a:lnTo>
                  <a:lnTo>
                    <a:pt x="946" y="2125"/>
                  </a:lnTo>
                  <a:lnTo>
                    <a:pt x="1135" y="2572"/>
                  </a:lnTo>
                  <a:lnTo>
                    <a:pt x="1161" y="2720"/>
                  </a:lnTo>
                  <a:lnTo>
                    <a:pt x="1148" y="2838"/>
                  </a:lnTo>
                  <a:lnTo>
                    <a:pt x="1079" y="2921"/>
                  </a:lnTo>
                  <a:lnTo>
                    <a:pt x="903" y="2978"/>
                  </a:lnTo>
                  <a:lnTo>
                    <a:pt x="0" y="2978"/>
                  </a:lnTo>
                  <a:lnTo>
                    <a:pt x="275" y="2939"/>
                  </a:lnTo>
                  <a:lnTo>
                    <a:pt x="811" y="2891"/>
                  </a:lnTo>
                  <a:lnTo>
                    <a:pt x="989" y="2834"/>
                  </a:lnTo>
                  <a:lnTo>
                    <a:pt x="1036" y="2694"/>
                  </a:lnTo>
                  <a:lnTo>
                    <a:pt x="1023" y="2567"/>
                  </a:lnTo>
                  <a:lnTo>
                    <a:pt x="967" y="2388"/>
                  </a:lnTo>
                  <a:lnTo>
                    <a:pt x="120" y="135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607080" y="5207040"/>
              <a:ext cx="773640" cy="1173600"/>
            </a:xfrm>
            <a:custGeom>
              <a:avLst/>
              <a:gdLst/>
              <a:ahLst/>
              <a:rect l="0" t="0" r="r" b="b"/>
              <a:pathLst>
                <a:path w="2149" h="3260">
                  <a:moveTo>
                    <a:pt x="954" y="0"/>
                  </a:moveTo>
                  <a:lnTo>
                    <a:pt x="400" y="1671"/>
                  </a:lnTo>
                  <a:lnTo>
                    <a:pt x="182" y="2406"/>
                  </a:lnTo>
                  <a:lnTo>
                    <a:pt x="17" y="2832"/>
                  </a:lnTo>
                  <a:lnTo>
                    <a:pt x="0" y="2976"/>
                  </a:lnTo>
                  <a:lnTo>
                    <a:pt x="4" y="3085"/>
                  </a:lnTo>
                  <a:lnTo>
                    <a:pt x="69" y="3164"/>
                  </a:lnTo>
                  <a:lnTo>
                    <a:pt x="226" y="3217"/>
                  </a:lnTo>
                  <a:lnTo>
                    <a:pt x="2149" y="3260"/>
                  </a:lnTo>
                  <a:lnTo>
                    <a:pt x="702" y="3199"/>
                  </a:lnTo>
                  <a:lnTo>
                    <a:pt x="300" y="3138"/>
                  </a:lnTo>
                  <a:lnTo>
                    <a:pt x="143" y="3081"/>
                  </a:lnTo>
                  <a:lnTo>
                    <a:pt x="104" y="2945"/>
                  </a:lnTo>
                  <a:lnTo>
                    <a:pt x="117" y="2827"/>
                  </a:lnTo>
                  <a:lnTo>
                    <a:pt x="165" y="2657"/>
                  </a:lnTo>
                  <a:lnTo>
                    <a:pt x="928" y="135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1560" y="5489640"/>
              <a:ext cx="127440" cy="708480"/>
            </a:xfrm>
            <a:custGeom>
              <a:avLst/>
              <a:gdLst/>
              <a:ahLst/>
              <a:rect l="0" t="0" r="r" b="b"/>
              <a:pathLst>
                <a:path w="354" h="1968">
                  <a:moveTo>
                    <a:pt x="354" y="1620"/>
                  </a:moveTo>
                  <a:lnTo>
                    <a:pt x="354" y="1685"/>
                  </a:lnTo>
                  <a:lnTo>
                    <a:pt x="346" y="1751"/>
                  </a:lnTo>
                  <a:lnTo>
                    <a:pt x="309" y="1859"/>
                  </a:lnTo>
                  <a:lnTo>
                    <a:pt x="177" y="1968"/>
                  </a:lnTo>
                  <a:lnTo>
                    <a:pt x="53" y="1873"/>
                  </a:lnTo>
                  <a:lnTo>
                    <a:pt x="0" y="1633"/>
                  </a:lnTo>
                  <a:lnTo>
                    <a:pt x="0" y="1529"/>
                  </a:lnTo>
                  <a:lnTo>
                    <a:pt x="0" y="1132"/>
                  </a:lnTo>
                  <a:lnTo>
                    <a:pt x="354" y="0"/>
                  </a:lnTo>
                  <a:lnTo>
                    <a:pt x="354" y="1620"/>
                  </a:lnTo>
                  <a:close/>
                </a:path>
              </a:pathLst>
            </a:custGeom>
            <a:solidFill>
              <a:srgbClr val="400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292880" y="4538520"/>
              <a:ext cx="833760" cy="1872000"/>
            </a:xfrm>
            <a:custGeom>
              <a:avLst/>
              <a:gdLst/>
              <a:ahLst/>
              <a:rect l="0" t="0" r="r" b="b"/>
              <a:pathLst>
                <a:path w="2316" h="5200">
                  <a:moveTo>
                    <a:pt x="1438" y="2748"/>
                  </a:moveTo>
                  <a:lnTo>
                    <a:pt x="1438" y="88"/>
                  </a:lnTo>
                  <a:lnTo>
                    <a:pt x="1566" y="0"/>
                  </a:lnTo>
                  <a:lnTo>
                    <a:pt x="833" y="0"/>
                  </a:lnTo>
                  <a:lnTo>
                    <a:pt x="956" y="97"/>
                  </a:lnTo>
                  <a:lnTo>
                    <a:pt x="956" y="2770"/>
                  </a:lnTo>
                  <a:lnTo>
                    <a:pt x="903" y="2796"/>
                  </a:lnTo>
                  <a:lnTo>
                    <a:pt x="564" y="3030"/>
                  </a:lnTo>
                  <a:lnTo>
                    <a:pt x="295" y="3325"/>
                  </a:lnTo>
                  <a:lnTo>
                    <a:pt x="110" y="3656"/>
                  </a:lnTo>
                  <a:lnTo>
                    <a:pt x="8" y="4005"/>
                  </a:lnTo>
                  <a:lnTo>
                    <a:pt x="0" y="4177"/>
                  </a:lnTo>
                  <a:lnTo>
                    <a:pt x="0" y="4260"/>
                  </a:lnTo>
                  <a:lnTo>
                    <a:pt x="8" y="4348"/>
                  </a:lnTo>
                  <a:lnTo>
                    <a:pt x="105" y="4679"/>
                  </a:lnTo>
                  <a:lnTo>
                    <a:pt x="317" y="4966"/>
                  </a:lnTo>
                  <a:lnTo>
                    <a:pt x="643" y="5200"/>
                  </a:lnTo>
                  <a:lnTo>
                    <a:pt x="1645" y="5200"/>
                  </a:lnTo>
                  <a:lnTo>
                    <a:pt x="1972" y="4970"/>
                  </a:lnTo>
                  <a:lnTo>
                    <a:pt x="2188" y="4675"/>
                  </a:lnTo>
                  <a:lnTo>
                    <a:pt x="2298" y="4344"/>
                  </a:lnTo>
                  <a:lnTo>
                    <a:pt x="2316" y="4168"/>
                  </a:lnTo>
                  <a:lnTo>
                    <a:pt x="2316" y="4075"/>
                  </a:lnTo>
                  <a:lnTo>
                    <a:pt x="2311" y="3987"/>
                  </a:lnTo>
                  <a:lnTo>
                    <a:pt x="2223" y="3634"/>
                  </a:lnTo>
                  <a:lnTo>
                    <a:pt x="2047" y="3295"/>
                  </a:lnTo>
                  <a:lnTo>
                    <a:pt x="1786" y="2999"/>
                  </a:lnTo>
                  <a:lnTo>
                    <a:pt x="1438" y="2761"/>
                  </a:lnTo>
                  <a:lnTo>
                    <a:pt x="1438" y="27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40404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334280" y="5548320"/>
              <a:ext cx="748080" cy="862200"/>
            </a:xfrm>
            <a:custGeom>
              <a:avLst/>
              <a:gdLst/>
              <a:ahLst/>
              <a:rect l="0" t="0" r="r" b="b"/>
              <a:pathLst>
                <a:path w="2078" h="2395">
                  <a:moveTo>
                    <a:pt x="1302" y="0"/>
                  </a:moveTo>
                  <a:lnTo>
                    <a:pt x="741" y="21"/>
                  </a:lnTo>
                  <a:lnTo>
                    <a:pt x="815" y="17"/>
                  </a:lnTo>
                  <a:lnTo>
                    <a:pt x="509" y="248"/>
                  </a:lnTo>
                  <a:lnTo>
                    <a:pt x="265" y="536"/>
                  </a:lnTo>
                  <a:lnTo>
                    <a:pt x="100" y="863"/>
                  </a:lnTo>
                  <a:lnTo>
                    <a:pt x="13" y="1213"/>
                  </a:lnTo>
                  <a:lnTo>
                    <a:pt x="0" y="1379"/>
                  </a:lnTo>
                  <a:lnTo>
                    <a:pt x="0" y="1466"/>
                  </a:lnTo>
                  <a:lnTo>
                    <a:pt x="8" y="1553"/>
                  </a:lnTo>
                  <a:lnTo>
                    <a:pt x="100" y="1880"/>
                  </a:lnTo>
                  <a:lnTo>
                    <a:pt x="287" y="2164"/>
                  </a:lnTo>
                  <a:lnTo>
                    <a:pt x="584" y="2395"/>
                  </a:lnTo>
                  <a:lnTo>
                    <a:pt x="1468" y="2391"/>
                  </a:lnTo>
                  <a:lnTo>
                    <a:pt x="1761" y="2164"/>
                  </a:lnTo>
                  <a:lnTo>
                    <a:pt x="1957" y="1880"/>
                  </a:lnTo>
                  <a:lnTo>
                    <a:pt x="2061" y="1553"/>
                  </a:lnTo>
                  <a:lnTo>
                    <a:pt x="2078" y="1383"/>
                  </a:lnTo>
                  <a:lnTo>
                    <a:pt x="2078" y="1296"/>
                  </a:lnTo>
                  <a:lnTo>
                    <a:pt x="2074" y="1209"/>
                  </a:lnTo>
                  <a:lnTo>
                    <a:pt x="2004" y="863"/>
                  </a:lnTo>
                  <a:lnTo>
                    <a:pt x="1848" y="536"/>
                  </a:lnTo>
                  <a:lnTo>
                    <a:pt x="1613" y="244"/>
                  </a:lnTo>
                  <a:lnTo>
                    <a:pt x="1302" y="13"/>
                  </a:lnTo>
                  <a:lnTo>
                    <a:pt x="1302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315200" y="5705640"/>
              <a:ext cx="346320" cy="689400"/>
            </a:xfrm>
            <a:custGeom>
              <a:avLst/>
              <a:gdLst/>
              <a:ahLst/>
              <a:rect l="0" t="0" r="r" b="b"/>
              <a:pathLst>
                <a:path w="962" h="1915">
                  <a:moveTo>
                    <a:pt x="820" y="1894"/>
                  </a:moveTo>
                  <a:lnTo>
                    <a:pt x="910" y="1811"/>
                  </a:lnTo>
                  <a:lnTo>
                    <a:pt x="962" y="1676"/>
                  </a:lnTo>
                  <a:lnTo>
                    <a:pt x="940" y="1546"/>
                  </a:lnTo>
                  <a:lnTo>
                    <a:pt x="906" y="1418"/>
                  </a:lnTo>
                  <a:lnTo>
                    <a:pt x="373" y="0"/>
                  </a:lnTo>
                  <a:lnTo>
                    <a:pt x="343" y="30"/>
                  </a:lnTo>
                  <a:lnTo>
                    <a:pt x="115" y="426"/>
                  </a:lnTo>
                  <a:lnTo>
                    <a:pt x="4" y="870"/>
                  </a:lnTo>
                  <a:lnTo>
                    <a:pt x="0" y="984"/>
                  </a:lnTo>
                  <a:lnTo>
                    <a:pt x="12" y="1101"/>
                  </a:lnTo>
                  <a:lnTo>
                    <a:pt x="85" y="1340"/>
                  </a:lnTo>
                  <a:lnTo>
                    <a:pt x="236" y="1589"/>
                  </a:lnTo>
                  <a:lnTo>
                    <a:pt x="472" y="1837"/>
                  </a:lnTo>
                  <a:lnTo>
                    <a:pt x="533" y="1894"/>
                  </a:lnTo>
                  <a:lnTo>
                    <a:pt x="640" y="1915"/>
                  </a:lnTo>
                  <a:lnTo>
                    <a:pt x="717" y="1915"/>
                  </a:lnTo>
                  <a:lnTo>
                    <a:pt x="820" y="189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769160" y="4587840"/>
              <a:ext cx="6480" cy="10018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54920" y="5730840"/>
              <a:ext cx="100440" cy="609840"/>
            </a:xfrm>
            <a:custGeom>
              <a:avLst/>
              <a:gdLst/>
              <a:ahLst/>
              <a:rect l="0" t="0" r="r" b="b"/>
              <a:pathLst>
                <a:path w="279" h="1694">
                  <a:moveTo>
                    <a:pt x="4" y="785"/>
                  </a:moveTo>
                  <a:lnTo>
                    <a:pt x="0" y="1694"/>
                  </a:lnTo>
                  <a:lnTo>
                    <a:pt x="190" y="1260"/>
                  </a:lnTo>
                  <a:lnTo>
                    <a:pt x="279" y="794"/>
                  </a:lnTo>
                  <a:lnTo>
                    <a:pt x="279" y="681"/>
                  </a:lnTo>
                  <a:lnTo>
                    <a:pt x="271" y="568"/>
                  </a:lnTo>
                  <a:lnTo>
                    <a:pt x="227" y="360"/>
                  </a:lnTo>
                  <a:lnTo>
                    <a:pt x="4" y="0"/>
                  </a:lnTo>
                  <a:lnTo>
                    <a:pt x="4" y="78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767720" y="5592600"/>
              <a:ext cx="321120" cy="754560"/>
            </a:xfrm>
            <a:custGeom>
              <a:avLst/>
              <a:gdLst/>
              <a:ahLst/>
              <a:rect l="0" t="0" r="r" b="b"/>
              <a:pathLst>
                <a:path w="892" h="2096">
                  <a:moveTo>
                    <a:pt x="600" y="370"/>
                  </a:moveTo>
                  <a:lnTo>
                    <a:pt x="811" y="723"/>
                  </a:lnTo>
                  <a:lnTo>
                    <a:pt x="888" y="1041"/>
                  </a:lnTo>
                  <a:lnTo>
                    <a:pt x="892" y="1176"/>
                  </a:lnTo>
                  <a:lnTo>
                    <a:pt x="892" y="1237"/>
                  </a:lnTo>
                  <a:lnTo>
                    <a:pt x="884" y="1303"/>
                  </a:lnTo>
                  <a:lnTo>
                    <a:pt x="845" y="1499"/>
                  </a:lnTo>
                  <a:lnTo>
                    <a:pt x="651" y="1857"/>
                  </a:lnTo>
                  <a:lnTo>
                    <a:pt x="480" y="2096"/>
                  </a:lnTo>
                  <a:lnTo>
                    <a:pt x="647" y="1830"/>
                  </a:lnTo>
                  <a:lnTo>
                    <a:pt x="760" y="1485"/>
                  </a:lnTo>
                  <a:lnTo>
                    <a:pt x="785" y="1263"/>
                  </a:lnTo>
                  <a:lnTo>
                    <a:pt x="789" y="1137"/>
                  </a:lnTo>
                  <a:lnTo>
                    <a:pt x="789" y="1072"/>
                  </a:lnTo>
                  <a:lnTo>
                    <a:pt x="781" y="998"/>
                  </a:lnTo>
                  <a:lnTo>
                    <a:pt x="643" y="632"/>
                  </a:lnTo>
                  <a:lnTo>
                    <a:pt x="377" y="313"/>
                  </a:lnTo>
                  <a:lnTo>
                    <a:pt x="0" y="0"/>
                  </a:lnTo>
                  <a:lnTo>
                    <a:pt x="192" y="56"/>
                  </a:lnTo>
                  <a:lnTo>
                    <a:pt x="390" y="174"/>
                  </a:lnTo>
                  <a:lnTo>
                    <a:pt x="600" y="3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-808200" y="6402240"/>
              <a:ext cx="11304720" cy="1625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