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116080" y="1693800"/>
            <a:ext cx="12727440" cy="5163120"/>
            <a:chOff x="-2116080" y="1693800"/>
            <a:chExt cx="12727440" cy="5163120"/>
          </a:xfrm>
        </p:grpSpPr>
        <p:sp>
          <p:nvSpPr>
            <p:cNvPr id="1" name=""/>
            <p:cNvSpPr/>
            <p:nvPr/>
          </p:nvSpPr>
          <p:spPr>
            <a:xfrm>
              <a:off x="896760" y="1693800"/>
              <a:ext cx="8234280" cy="30240"/>
            </a:xfrm>
            <a:prstGeom prst="rect">
              <a:avLst/>
            </a:prstGeom>
            <a:solidFill>
              <a:srgbClr val="c00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2116080" y="3917880"/>
              <a:ext cx="12727440" cy="2939040"/>
              <a:chOff x="-2116080" y="3917880"/>
              <a:chExt cx="12727440" cy="2939040"/>
            </a:xfrm>
          </p:grpSpPr>
          <p:sp>
            <p:nvSpPr>
              <p:cNvPr id="3" name=""/>
              <p:cNvSpPr/>
              <p:nvPr/>
            </p:nvSpPr>
            <p:spPr>
              <a:xfrm>
                <a:off x="5491080" y="4024440"/>
                <a:ext cx="5113800" cy="495720"/>
              </a:xfrm>
              <a:custGeom>
                <a:avLst/>
                <a:gdLst/>
                <a:ahLst/>
                <a:rect l="0" t="0" r="r" b="b"/>
                <a:pathLst>
                  <a:path w="14205" h="1377">
                    <a:moveTo>
                      <a:pt x="10062" y="0"/>
                    </a:moveTo>
                    <a:lnTo>
                      <a:pt x="7782" y="391"/>
                    </a:lnTo>
                    <a:lnTo>
                      <a:pt x="6634" y="495"/>
                    </a:lnTo>
                    <a:lnTo>
                      <a:pt x="5921" y="451"/>
                    </a:lnTo>
                    <a:lnTo>
                      <a:pt x="5058" y="347"/>
                    </a:lnTo>
                    <a:lnTo>
                      <a:pt x="4200" y="242"/>
                    </a:lnTo>
                    <a:lnTo>
                      <a:pt x="3481" y="195"/>
                    </a:lnTo>
                    <a:lnTo>
                      <a:pt x="3318" y="195"/>
                    </a:lnTo>
                    <a:lnTo>
                      <a:pt x="3243" y="195"/>
                    </a:lnTo>
                    <a:lnTo>
                      <a:pt x="3164" y="195"/>
                    </a:lnTo>
                    <a:lnTo>
                      <a:pt x="2852" y="210"/>
                    </a:lnTo>
                    <a:lnTo>
                      <a:pt x="2174" y="267"/>
                    </a:lnTo>
                    <a:lnTo>
                      <a:pt x="0" y="495"/>
                    </a:lnTo>
                    <a:lnTo>
                      <a:pt x="1206" y="479"/>
                    </a:lnTo>
                    <a:lnTo>
                      <a:pt x="1756" y="479"/>
                    </a:lnTo>
                    <a:lnTo>
                      <a:pt x="1901" y="479"/>
                    </a:lnTo>
                    <a:lnTo>
                      <a:pt x="2051" y="479"/>
                    </a:lnTo>
                    <a:lnTo>
                      <a:pt x="2350" y="488"/>
                    </a:lnTo>
                    <a:lnTo>
                      <a:pt x="3516" y="545"/>
                    </a:lnTo>
                    <a:lnTo>
                      <a:pt x="4574" y="781"/>
                    </a:lnTo>
                    <a:lnTo>
                      <a:pt x="5291" y="888"/>
                    </a:lnTo>
                    <a:lnTo>
                      <a:pt x="6088" y="954"/>
                    </a:lnTo>
                    <a:lnTo>
                      <a:pt x="6642" y="932"/>
                    </a:lnTo>
                    <a:lnTo>
                      <a:pt x="6951" y="932"/>
                    </a:lnTo>
                    <a:lnTo>
                      <a:pt x="7276" y="942"/>
                    </a:lnTo>
                    <a:lnTo>
                      <a:pt x="8579" y="1021"/>
                    </a:lnTo>
                    <a:lnTo>
                      <a:pt x="10062" y="1170"/>
                    </a:lnTo>
                    <a:lnTo>
                      <a:pt x="14205" y="1377"/>
                    </a:lnTo>
                    <a:lnTo>
                      <a:pt x="14205" y="245"/>
                    </a:lnTo>
                    <a:lnTo>
                      <a:pt x="10062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-2116080" y="4245120"/>
                <a:ext cx="8925120" cy="1033920"/>
              </a:xfrm>
              <a:custGeom>
                <a:avLst/>
                <a:gdLst/>
                <a:ahLst/>
                <a:rect l="0" t="0" r="r" b="b"/>
                <a:pathLst>
                  <a:path w="24792" h="2872">
                    <a:moveTo>
                      <a:pt x="0" y="925"/>
                    </a:moveTo>
                    <a:lnTo>
                      <a:pt x="9545" y="53"/>
                    </a:lnTo>
                    <a:lnTo>
                      <a:pt x="10118" y="0"/>
                    </a:lnTo>
                    <a:lnTo>
                      <a:pt x="10717" y="66"/>
                    </a:lnTo>
                    <a:lnTo>
                      <a:pt x="11342" y="314"/>
                    </a:lnTo>
                    <a:lnTo>
                      <a:pt x="12008" y="314"/>
                    </a:lnTo>
                    <a:lnTo>
                      <a:pt x="12572" y="314"/>
                    </a:lnTo>
                    <a:lnTo>
                      <a:pt x="12854" y="352"/>
                    </a:lnTo>
                    <a:lnTo>
                      <a:pt x="13277" y="498"/>
                    </a:lnTo>
                    <a:lnTo>
                      <a:pt x="13709" y="565"/>
                    </a:lnTo>
                    <a:lnTo>
                      <a:pt x="14070" y="587"/>
                    </a:lnTo>
                    <a:lnTo>
                      <a:pt x="14374" y="565"/>
                    </a:lnTo>
                    <a:lnTo>
                      <a:pt x="14806" y="530"/>
                    </a:lnTo>
                    <a:lnTo>
                      <a:pt x="15211" y="498"/>
                    </a:lnTo>
                    <a:lnTo>
                      <a:pt x="15903" y="463"/>
                    </a:lnTo>
                    <a:lnTo>
                      <a:pt x="16682" y="498"/>
                    </a:lnTo>
                    <a:lnTo>
                      <a:pt x="18220" y="644"/>
                    </a:lnTo>
                    <a:lnTo>
                      <a:pt x="20889" y="1163"/>
                    </a:lnTo>
                    <a:lnTo>
                      <a:pt x="21713" y="1347"/>
                    </a:lnTo>
                    <a:lnTo>
                      <a:pt x="21915" y="1331"/>
                    </a:lnTo>
                    <a:lnTo>
                      <a:pt x="22607" y="1391"/>
                    </a:lnTo>
                    <a:lnTo>
                      <a:pt x="23929" y="1611"/>
                    </a:lnTo>
                    <a:lnTo>
                      <a:pt x="24792" y="1642"/>
                    </a:lnTo>
                    <a:lnTo>
                      <a:pt x="22788" y="1903"/>
                    </a:lnTo>
                    <a:lnTo>
                      <a:pt x="21792" y="2058"/>
                    </a:lnTo>
                    <a:lnTo>
                      <a:pt x="21083" y="2282"/>
                    </a:lnTo>
                    <a:lnTo>
                      <a:pt x="20427" y="2571"/>
                    </a:lnTo>
                    <a:lnTo>
                      <a:pt x="19788" y="2790"/>
                    </a:lnTo>
                    <a:lnTo>
                      <a:pt x="19083" y="2872"/>
                    </a:lnTo>
                    <a:lnTo>
                      <a:pt x="18273" y="2863"/>
                    </a:lnTo>
                    <a:lnTo>
                      <a:pt x="17709" y="2644"/>
                    </a:lnTo>
                    <a:lnTo>
                      <a:pt x="16938" y="2679"/>
                    </a:lnTo>
                    <a:lnTo>
                      <a:pt x="16220" y="2494"/>
                    </a:lnTo>
                    <a:lnTo>
                      <a:pt x="15348" y="2052"/>
                    </a:lnTo>
                    <a:lnTo>
                      <a:pt x="13603" y="1642"/>
                    </a:lnTo>
                    <a:lnTo>
                      <a:pt x="11959" y="1423"/>
                    </a:lnTo>
                    <a:lnTo>
                      <a:pt x="10624" y="1309"/>
                    </a:lnTo>
                    <a:lnTo>
                      <a:pt x="9699" y="1420"/>
                    </a:lnTo>
                    <a:lnTo>
                      <a:pt x="8417" y="1753"/>
                    </a:lnTo>
                    <a:lnTo>
                      <a:pt x="7699" y="1718"/>
                    </a:lnTo>
                    <a:lnTo>
                      <a:pt x="0" y="1522"/>
                    </a:lnTo>
                    <a:lnTo>
                      <a:pt x="0" y="925"/>
                    </a:lnTo>
                    <a:close/>
                  </a:path>
                </a:pathLst>
              </a:custGeom>
              <a:solidFill>
                <a:srgbClr val="0606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80160" y="4591080"/>
                <a:ext cx="4824720" cy="806760"/>
              </a:xfrm>
              <a:custGeom>
                <a:avLst/>
                <a:gdLst/>
                <a:ahLst/>
                <a:rect l="0" t="0" r="r" b="b"/>
                <a:pathLst>
                  <a:path w="13402" h="2241">
                    <a:moveTo>
                      <a:pt x="9265" y="0"/>
                    </a:moveTo>
                    <a:lnTo>
                      <a:pt x="8569" y="41"/>
                    </a:lnTo>
                    <a:lnTo>
                      <a:pt x="5998" y="316"/>
                    </a:lnTo>
                    <a:lnTo>
                      <a:pt x="5096" y="377"/>
                    </a:lnTo>
                    <a:lnTo>
                      <a:pt x="4445" y="316"/>
                    </a:lnTo>
                    <a:lnTo>
                      <a:pt x="3261" y="161"/>
                    </a:lnTo>
                    <a:lnTo>
                      <a:pt x="2178" y="161"/>
                    </a:lnTo>
                    <a:lnTo>
                      <a:pt x="1166" y="269"/>
                    </a:lnTo>
                    <a:lnTo>
                      <a:pt x="0" y="373"/>
                    </a:lnTo>
                    <a:lnTo>
                      <a:pt x="602" y="427"/>
                    </a:lnTo>
                    <a:lnTo>
                      <a:pt x="1223" y="522"/>
                    </a:lnTo>
                    <a:lnTo>
                      <a:pt x="1940" y="652"/>
                    </a:lnTo>
                    <a:lnTo>
                      <a:pt x="2684" y="709"/>
                    </a:lnTo>
                    <a:lnTo>
                      <a:pt x="4401" y="551"/>
                    </a:lnTo>
                    <a:lnTo>
                      <a:pt x="5769" y="627"/>
                    </a:lnTo>
                    <a:lnTo>
                      <a:pt x="7319" y="823"/>
                    </a:lnTo>
                    <a:lnTo>
                      <a:pt x="9555" y="1205"/>
                    </a:lnTo>
                    <a:lnTo>
                      <a:pt x="13402" y="2241"/>
                    </a:lnTo>
                    <a:lnTo>
                      <a:pt x="13402" y="462"/>
                    </a:lnTo>
                    <a:lnTo>
                      <a:pt x="9265" y="0"/>
                    </a:lnTo>
                    <a:close/>
                  </a:path>
                </a:pathLst>
              </a:custGeom>
              <a:solidFill>
                <a:srgbClr val="404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92680" y="4146480"/>
                <a:ext cx="6712200" cy="660600"/>
              </a:xfrm>
              <a:custGeom>
                <a:avLst/>
                <a:gdLst/>
                <a:ahLst/>
                <a:rect l="0" t="0" r="r" b="b"/>
                <a:pathLst>
                  <a:path w="18645" h="1835">
                    <a:moveTo>
                      <a:pt x="18645" y="949"/>
                    </a:moveTo>
                    <a:lnTo>
                      <a:pt x="11639" y="566"/>
                    </a:lnTo>
                    <a:lnTo>
                      <a:pt x="11401" y="591"/>
                    </a:lnTo>
                    <a:lnTo>
                      <a:pt x="11115" y="607"/>
                    </a:lnTo>
                    <a:lnTo>
                      <a:pt x="10930" y="610"/>
                    </a:lnTo>
                    <a:lnTo>
                      <a:pt x="10824" y="610"/>
                    </a:lnTo>
                    <a:lnTo>
                      <a:pt x="10714" y="607"/>
                    </a:lnTo>
                    <a:lnTo>
                      <a:pt x="9613" y="502"/>
                    </a:lnTo>
                    <a:lnTo>
                      <a:pt x="8921" y="373"/>
                    </a:lnTo>
                    <a:lnTo>
                      <a:pt x="8137" y="180"/>
                    </a:lnTo>
                    <a:lnTo>
                      <a:pt x="6798" y="126"/>
                    </a:lnTo>
                    <a:lnTo>
                      <a:pt x="6437" y="126"/>
                    </a:lnTo>
                    <a:lnTo>
                      <a:pt x="6261" y="126"/>
                    </a:lnTo>
                    <a:lnTo>
                      <a:pt x="6076" y="126"/>
                    </a:lnTo>
                    <a:lnTo>
                      <a:pt x="5359" y="139"/>
                    </a:lnTo>
                    <a:lnTo>
                      <a:pt x="4694" y="151"/>
                    </a:lnTo>
                    <a:lnTo>
                      <a:pt x="4394" y="151"/>
                    </a:lnTo>
                    <a:lnTo>
                      <a:pt x="4253" y="151"/>
                    </a:lnTo>
                    <a:lnTo>
                      <a:pt x="4112" y="154"/>
                    </a:lnTo>
                    <a:lnTo>
                      <a:pt x="3359" y="94"/>
                    </a:lnTo>
                    <a:lnTo>
                      <a:pt x="2787" y="6"/>
                    </a:lnTo>
                    <a:lnTo>
                      <a:pt x="2602" y="0"/>
                    </a:lnTo>
                    <a:lnTo>
                      <a:pt x="2487" y="0"/>
                    </a:lnTo>
                    <a:lnTo>
                      <a:pt x="2360" y="0"/>
                    </a:lnTo>
                    <a:lnTo>
                      <a:pt x="1673" y="47"/>
                    </a:lnTo>
                    <a:lnTo>
                      <a:pt x="0" y="344"/>
                    </a:lnTo>
                    <a:lnTo>
                      <a:pt x="2135" y="547"/>
                    </a:lnTo>
                    <a:lnTo>
                      <a:pt x="3139" y="458"/>
                    </a:lnTo>
                    <a:lnTo>
                      <a:pt x="3276" y="455"/>
                    </a:lnTo>
                    <a:lnTo>
                      <a:pt x="3346" y="455"/>
                    </a:lnTo>
                    <a:lnTo>
                      <a:pt x="3421" y="455"/>
                    </a:lnTo>
                    <a:lnTo>
                      <a:pt x="3742" y="477"/>
                    </a:lnTo>
                    <a:lnTo>
                      <a:pt x="4522" y="619"/>
                    </a:lnTo>
                    <a:lnTo>
                      <a:pt x="5676" y="506"/>
                    </a:lnTo>
                    <a:lnTo>
                      <a:pt x="6151" y="487"/>
                    </a:lnTo>
                    <a:lnTo>
                      <a:pt x="6261" y="487"/>
                    </a:lnTo>
                    <a:lnTo>
                      <a:pt x="6371" y="490"/>
                    </a:lnTo>
                    <a:lnTo>
                      <a:pt x="6591" y="502"/>
                    </a:lnTo>
                    <a:lnTo>
                      <a:pt x="7472" y="632"/>
                    </a:lnTo>
                    <a:lnTo>
                      <a:pt x="8525" y="914"/>
                    </a:lnTo>
                    <a:lnTo>
                      <a:pt x="10032" y="1013"/>
                    </a:lnTo>
                    <a:lnTo>
                      <a:pt x="10542" y="1085"/>
                    </a:lnTo>
                    <a:lnTo>
                      <a:pt x="12449" y="869"/>
                    </a:lnTo>
                    <a:lnTo>
                      <a:pt x="13383" y="1000"/>
                    </a:lnTo>
                    <a:lnTo>
                      <a:pt x="14523" y="1243"/>
                    </a:lnTo>
                    <a:lnTo>
                      <a:pt x="18645" y="1835"/>
                    </a:lnTo>
                    <a:lnTo>
                      <a:pt x="18645" y="949"/>
                    </a:lnTo>
                    <a:close/>
                  </a:path>
                </a:pathLst>
              </a:custGeom>
              <a:solidFill>
                <a:srgbClr val="404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-2116080" y="3917880"/>
                <a:ext cx="6774120" cy="709920"/>
              </a:xfrm>
              <a:custGeom>
                <a:avLst/>
                <a:gdLst/>
                <a:ahLst/>
                <a:rect l="0" t="0" r="r" b="b"/>
                <a:pathLst>
                  <a:path w="18817" h="1972">
                    <a:moveTo>
                      <a:pt x="0" y="1972"/>
                    </a:moveTo>
                    <a:lnTo>
                      <a:pt x="0" y="0"/>
                    </a:lnTo>
                    <a:lnTo>
                      <a:pt x="7688" y="487"/>
                    </a:lnTo>
                    <a:lnTo>
                      <a:pt x="8842" y="531"/>
                    </a:lnTo>
                    <a:lnTo>
                      <a:pt x="9569" y="566"/>
                    </a:lnTo>
                    <a:lnTo>
                      <a:pt x="10248" y="613"/>
                    </a:lnTo>
                    <a:lnTo>
                      <a:pt x="11740" y="740"/>
                    </a:lnTo>
                    <a:lnTo>
                      <a:pt x="12753" y="920"/>
                    </a:lnTo>
                    <a:lnTo>
                      <a:pt x="13515" y="1045"/>
                    </a:lnTo>
                    <a:lnTo>
                      <a:pt x="13977" y="1070"/>
                    </a:lnTo>
                    <a:lnTo>
                      <a:pt x="14374" y="1070"/>
                    </a:lnTo>
                    <a:lnTo>
                      <a:pt x="15162" y="988"/>
                    </a:lnTo>
                    <a:lnTo>
                      <a:pt x="15937" y="949"/>
                    </a:lnTo>
                    <a:lnTo>
                      <a:pt x="16694" y="974"/>
                    </a:lnTo>
                    <a:lnTo>
                      <a:pt x="17716" y="1060"/>
                    </a:lnTo>
                    <a:lnTo>
                      <a:pt x="18817" y="1177"/>
                    </a:lnTo>
                    <a:lnTo>
                      <a:pt x="17747" y="1247"/>
                    </a:lnTo>
                    <a:lnTo>
                      <a:pt x="15937" y="1364"/>
                    </a:lnTo>
                    <a:lnTo>
                      <a:pt x="14501" y="1494"/>
                    </a:lnTo>
                    <a:lnTo>
                      <a:pt x="13400" y="1434"/>
                    </a:lnTo>
                    <a:lnTo>
                      <a:pt x="12775" y="1282"/>
                    </a:lnTo>
                    <a:lnTo>
                      <a:pt x="12313" y="1222"/>
                    </a:lnTo>
                    <a:lnTo>
                      <a:pt x="11278" y="1222"/>
                    </a:lnTo>
                    <a:lnTo>
                      <a:pt x="10873" y="1045"/>
                    </a:lnTo>
                    <a:lnTo>
                      <a:pt x="10181" y="997"/>
                    </a:lnTo>
                    <a:lnTo>
                      <a:pt x="8604" y="1159"/>
                    </a:lnTo>
                    <a:lnTo>
                      <a:pt x="0" y="1972"/>
                    </a:lnTo>
                    <a:close/>
                  </a:path>
                </a:pathLst>
              </a:custGeom>
              <a:solidFill>
                <a:srgbClr val="404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865760" y="4970520"/>
                <a:ext cx="5745600" cy="1886400"/>
              </a:xfrm>
              <a:custGeom>
                <a:avLst/>
                <a:gdLst/>
                <a:ahLst/>
                <a:rect l="0" t="0" r="r" b="b"/>
                <a:pathLst>
                  <a:path w="15960" h="5240">
                    <a:moveTo>
                      <a:pt x="15951" y="5240"/>
                    </a:moveTo>
                    <a:lnTo>
                      <a:pt x="15960" y="598"/>
                    </a:lnTo>
                    <a:lnTo>
                      <a:pt x="12711" y="159"/>
                    </a:lnTo>
                    <a:lnTo>
                      <a:pt x="12183" y="105"/>
                    </a:lnTo>
                    <a:lnTo>
                      <a:pt x="10835" y="19"/>
                    </a:lnTo>
                    <a:lnTo>
                      <a:pt x="9981" y="0"/>
                    </a:lnTo>
                    <a:lnTo>
                      <a:pt x="9756" y="0"/>
                    </a:lnTo>
                    <a:lnTo>
                      <a:pt x="9527" y="3"/>
                    </a:lnTo>
                    <a:lnTo>
                      <a:pt x="9061" y="19"/>
                    </a:lnTo>
                    <a:lnTo>
                      <a:pt x="8132" y="89"/>
                    </a:lnTo>
                    <a:lnTo>
                      <a:pt x="7234" y="232"/>
                    </a:lnTo>
                    <a:lnTo>
                      <a:pt x="6204" y="372"/>
                    </a:lnTo>
                    <a:lnTo>
                      <a:pt x="5054" y="464"/>
                    </a:lnTo>
                    <a:lnTo>
                      <a:pt x="3856" y="595"/>
                    </a:lnTo>
                    <a:lnTo>
                      <a:pt x="3257" y="706"/>
                    </a:lnTo>
                    <a:lnTo>
                      <a:pt x="2667" y="862"/>
                    </a:lnTo>
                    <a:lnTo>
                      <a:pt x="2232" y="1028"/>
                    </a:lnTo>
                    <a:lnTo>
                      <a:pt x="1778" y="1129"/>
                    </a:lnTo>
                    <a:lnTo>
                      <a:pt x="1333" y="1174"/>
                    </a:lnTo>
                    <a:lnTo>
                      <a:pt x="1122" y="1180"/>
                    </a:lnTo>
                    <a:lnTo>
                      <a:pt x="1021" y="1180"/>
                    </a:lnTo>
                    <a:lnTo>
                      <a:pt x="915" y="1180"/>
                    </a:lnTo>
                    <a:lnTo>
                      <a:pt x="264" y="1126"/>
                    </a:lnTo>
                    <a:lnTo>
                      <a:pt x="0" y="1082"/>
                    </a:lnTo>
                    <a:lnTo>
                      <a:pt x="5314" y="5231"/>
                    </a:lnTo>
                    <a:lnTo>
                      <a:pt x="15951" y="5240"/>
                    </a:lnTo>
                    <a:close/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-2116080" y="4222800"/>
                <a:ext cx="8993520" cy="2621160"/>
              </a:xfrm>
              <a:custGeom>
                <a:avLst/>
                <a:gdLst/>
                <a:ahLst/>
                <a:rect l="0" t="0" r="r" b="b"/>
                <a:pathLst>
                  <a:path w="24982" h="7281">
                    <a:moveTo>
                      <a:pt x="5938" y="1254"/>
                    </a:moveTo>
                    <a:lnTo>
                      <a:pt x="0" y="0"/>
                    </a:lnTo>
                    <a:lnTo>
                      <a:pt x="0" y="7249"/>
                    </a:lnTo>
                    <a:lnTo>
                      <a:pt x="24982" y="7281"/>
                    </a:lnTo>
                    <a:lnTo>
                      <a:pt x="24528" y="6832"/>
                    </a:lnTo>
                    <a:lnTo>
                      <a:pt x="23330" y="5743"/>
                    </a:lnTo>
                    <a:lnTo>
                      <a:pt x="22541" y="5083"/>
                    </a:lnTo>
                    <a:lnTo>
                      <a:pt x="21669" y="4411"/>
                    </a:lnTo>
                    <a:lnTo>
                      <a:pt x="20748" y="3774"/>
                    </a:lnTo>
                    <a:lnTo>
                      <a:pt x="19806" y="3216"/>
                    </a:lnTo>
                    <a:lnTo>
                      <a:pt x="19000" y="3025"/>
                    </a:lnTo>
                    <a:lnTo>
                      <a:pt x="18392" y="2812"/>
                    </a:lnTo>
                    <a:lnTo>
                      <a:pt x="17753" y="2652"/>
                    </a:lnTo>
                    <a:lnTo>
                      <a:pt x="17356" y="2621"/>
                    </a:lnTo>
                    <a:lnTo>
                      <a:pt x="17123" y="2621"/>
                    </a:lnTo>
                    <a:lnTo>
                      <a:pt x="16859" y="2630"/>
                    </a:lnTo>
                    <a:lnTo>
                      <a:pt x="16423" y="2512"/>
                    </a:lnTo>
                    <a:lnTo>
                      <a:pt x="16127" y="2382"/>
                    </a:lnTo>
                    <a:lnTo>
                      <a:pt x="15511" y="2086"/>
                    </a:lnTo>
                    <a:lnTo>
                      <a:pt x="14969" y="1917"/>
                    </a:lnTo>
                    <a:lnTo>
                      <a:pt x="14110" y="1732"/>
                    </a:lnTo>
                    <a:lnTo>
                      <a:pt x="12837" y="1531"/>
                    </a:lnTo>
                    <a:lnTo>
                      <a:pt x="11021" y="1312"/>
                    </a:lnTo>
                    <a:lnTo>
                      <a:pt x="10572" y="1261"/>
                    </a:lnTo>
                    <a:lnTo>
                      <a:pt x="10466" y="1261"/>
                    </a:lnTo>
                    <a:lnTo>
                      <a:pt x="10356" y="1261"/>
                    </a:lnTo>
                    <a:lnTo>
                      <a:pt x="10140" y="1277"/>
                    </a:lnTo>
                    <a:lnTo>
                      <a:pt x="9303" y="1423"/>
                    </a:lnTo>
                    <a:lnTo>
                      <a:pt x="8444" y="1601"/>
                    </a:lnTo>
                    <a:lnTo>
                      <a:pt x="7990" y="1649"/>
                    </a:lnTo>
                    <a:lnTo>
                      <a:pt x="7752" y="1659"/>
                    </a:lnTo>
                    <a:lnTo>
                      <a:pt x="7629" y="1659"/>
                    </a:lnTo>
                    <a:lnTo>
                      <a:pt x="7501" y="1649"/>
                    </a:lnTo>
                    <a:lnTo>
                      <a:pt x="6589" y="1474"/>
                    </a:lnTo>
                    <a:lnTo>
                      <a:pt x="6127" y="1350"/>
                    </a:lnTo>
                    <a:lnTo>
                      <a:pt x="5938" y="125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84240"/>
            <a:ext cx="7810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