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43080" y="-190440"/>
            <a:ext cx="12416400" cy="7382160"/>
            <a:chOff x="-3043080" y="-190440"/>
            <a:chExt cx="12416400" cy="7382160"/>
          </a:xfrm>
        </p:grpSpPr>
        <p:grpSp>
          <p:nvGrpSpPr>
            <p:cNvPr id="1" name=""/>
            <p:cNvGrpSpPr/>
            <p:nvPr/>
          </p:nvGrpSpPr>
          <p:grpSpPr>
            <a:xfrm>
              <a:off x="-3043080" y="-190440"/>
              <a:ext cx="12416400" cy="7382160"/>
              <a:chOff x="-3043080" y="-190440"/>
              <a:chExt cx="12416400" cy="7382160"/>
            </a:xfrm>
          </p:grpSpPr>
          <p:sp>
            <p:nvSpPr>
              <p:cNvPr id="2" name=""/>
              <p:cNvSpPr/>
              <p:nvPr/>
            </p:nvSpPr>
            <p:spPr>
              <a:xfrm>
                <a:off x="1333440" y="-190440"/>
                <a:ext cx="7809120" cy="1219680"/>
              </a:xfrm>
              <a:custGeom>
                <a:avLst/>
                <a:gdLst/>
                <a:ahLst/>
                <a:rect l="0" t="0" r="r" b="b"/>
                <a:pathLst>
                  <a:path w="21692" h="3388">
                    <a:moveTo>
                      <a:pt x="0" y="0"/>
                    </a:moveTo>
                    <a:lnTo>
                      <a:pt x="21692" y="0"/>
                    </a:lnTo>
                    <a:lnTo>
                      <a:pt x="21692" y="2609"/>
                    </a:lnTo>
                    <a:lnTo>
                      <a:pt x="21555" y="2757"/>
                    </a:lnTo>
                    <a:lnTo>
                      <a:pt x="21083" y="3072"/>
                    </a:lnTo>
                    <a:lnTo>
                      <a:pt x="20216" y="3334"/>
                    </a:lnTo>
                    <a:lnTo>
                      <a:pt x="19601" y="3388"/>
                    </a:lnTo>
                    <a:lnTo>
                      <a:pt x="19434" y="3388"/>
                    </a:lnTo>
                    <a:lnTo>
                      <a:pt x="19249" y="3388"/>
                    </a:lnTo>
                    <a:lnTo>
                      <a:pt x="18860" y="3355"/>
                    </a:lnTo>
                    <a:lnTo>
                      <a:pt x="17558" y="3166"/>
                    </a:lnTo>
                    <a:lnTo>
                      <a:pt x="16536" y="2931"/>
                    </a:lnTo>
                    <a:lnTo>
                      <a:pt x="15055" y="2420"/>
                    </a:lnTo>
                    <a:lnTo>
                      <a:pt x="13830" y="2037"/>
                    </a:lnTo>
                    <a:lnTo>
                      <a:pt x="13119" y="1949"/>
                    </a:lnTo>
                    <a:lnTo>
                      <a:pt x="12707" y="1936"/>
                    </a:lnTo>
                    <a:lnTo>
                      <a:pt x="12241" y="1969"/>
                    </a:lnTo>
                    <a:lnTo>
                      <a:pt x="11279" y="2137"/>
                    </a:lnTo>
                    <a:lnTo>
                      <a:pt x="10185" y="2325"/>
                    </a:lnTo>
                    <a:lnTo>
                      <a:pt x="9892" y="2339"/>
                    </a:lnTo>
                    <a:lnTo>
                      <a:pt x="9743" y="2339"/>
                    </a:lnTo>
                    <a:lnTo>
                      <a:pt x="9582" y="2339"/>
                    </a:lnTo>
                    <a:lnTo>
                      <a:pt x="8925" y="2252"/>
                    </a:lnTo>
                    <a:lnTo>
                      <a:pt x="8208" y="2023"/>
                    </a:lnTo>
                    <a:lnTo>
                      <a:pt x="7425" y="1627"/>
                    </a:lnTo>
                    <a:lnTo>
                      <a:pt x="6804" y="1318"/>
                    </a:lnTo>
                    <a:lnTo>
                      <a:pt x="6248" y="1156"/>
                    </a:lnTo>
                    <a:lnTo>
                      <a:pt x="5740" y="1109"/>
                    </a:lnTo>
                    <a:lnTo>
                      <a:pt x="5615" y="1109"/>
                    </a:lnTo>
                    <a:lnTo>
                      <a:pt x="5496" y="1109"/>
                    </a:lnTo>
                    <a:lnTo>
                      <a:pt x="5257" y="1136"/>
                    </a:lnTo>
                    <a:lnTo>
                      <a:pt x="4289" y="1297"/>
                    </a:lnTo>
                    <a:lnTo>
                      <a:pt x="3763" y="1358"/>
                    </a:lnTo>
                    <a:lnTo>
                      <a:pt x="3482" y="1365"/>
                    </a:lnTo>
                    <a:lnTo>
                      <a:pt x="3178" y="1338"/>
                    </a:lnTo>
                    <a:lnTo>
                      <a:pt x="2222" y="1123"/>
                    </a:lnTo>
                    <a:lnTo>
                      <a:pt x="1194" y="6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3043080" y="5181480"/>
                <a:ext cx="11611440" cy="2010240"/>
              </a:xfrm>
              <a:custGeom>
                <a:avLst/>
                <a:gdLst/>
                <a:ahLst/>
                <a:rect l="0" t="0" r="r" b="b"/>
                <a:pathLst>
                  <a:path w="32254" h="5584">
                    <a:moveTo>
                      <a:pt x="0" y="5549"/>
                    </a:moveTo>
                    <a:lnTo>
                      <a:pt x="52" y="78"/>
                    </a:lnTo>
                    <a:lnTo>
                      <a:pt x="2070" y="21"/>
                    </a:lnTo>
                    <a:lnTo>
                      <a:pt x="4207" y="0"/>
                    </a:lnTo>
                    <a:lnTo>
                      <a:pt x="6767" y="42"/>
                    </a:lnTo>
                    <a:lnTo>
                      <a:pt x="9478" y="199"/>
                    </a:lnTo>
                    <a:lnTo>
                      <a:pt x="12095" y="497"/>
                    </a:lnTo>
                    <a:lnTo>
                      <a:pt x="14364" y="988"/>
                    </a:lnTo>
                    <a:lnTo>
                      <a:pt x="15285" y="1322"/>
                    </a:lnTo>
                    <a:lnTo>
                      <a:pt x="16026" y="1722"/>
                    </a:lnTo>
                    <a:lnTo>
                      <a:pt x="16726" y="1992"/>
                    </a:lnTo>
                    <a:lnTo>
                      <a:pt x="16894" y="1999"/>
                    </a:lnTo>
                    <a:lnTo>
                      <a:pt x="16977" y="1999"/>
                    </a:lnTo>
                    <a:lnTo>
                      <a:pt x="17065" y="1999"/>
                    </a:lnTo>
                    <a:lnTo>
                      <a:pt x="17409" y="1956"/>
                    </a:lnTo>
                    <a:lnTo>
                      <a:pt x="18127" y="1850"/>
                    </a:lnTo>
                    <a:lnTo>
                      <a:pt x="18317" y="1842"/>
                    </a:lnTo>
                    <a:lnTo>
                      <a:pt x="18414" y="1842"/>
                    </a:lnTo>
                    <a:lnTo>
                      <a:pt x="18515" y="1835"/>
                    </a:lnTo>
                    <a:lnTo>
                      <a:pt x="18934" y="1899"/>
                    </a:lnTo>
                    <a:lnTo>
                      <a:pt x="19960" y="2276"/>
                    </a:lnTo>
                    <a:lnTo>
                      <a:pt x="20502" y="2717"/>
                    </a:lnTo>
                    <a:lnTo>
                      <a:pt x="20952" y="3123"/>
                    </a:lnTo>
                    <a:lnTo>
                      <a:pt x="21727" y="3414"/>
                    </a:lnTo>
                    <a:lnTo>
                      <a:pt x="22256" y="3464"/>
                    </a:lnTo>
                    <a:lnTo>
                      <a:pt x="22476" y="3471"/>
                    </a:lnTo>
                    <a:lnTo>
                      <a:pt x="22683" y="3457"/>
                    </a:lnTo>
                    <a:lnTo>
                      <a:pt x="23344" y="3315"/>
                    </a:lnTo>
                    <a:lnTo>
                      <a:pt x="23952" y="3179"/>
                    </a:lnTo>
                    <a:lnTo>
                      <a:pt x="24124" y="3172"/>
                    </a:lnTo>
                    <a:lnTo>
                      <a:pt x="24213" y="3172"/>
                    </a:lnTo>
                    <a:lnTo>
                      <a:pt x="24310" y="3165"/>
                    </a:lnTo>
                    <a:lnTo>
                      <a:pt x="24751" y="3236"/>
                    </a:lnTo>
                    <a:lnTo>
                      <a:pt x="25372" y="3421"/>
                    </a:lnTo>
                    <a:lnTo>
                      <a:pt x="26028" y="3763"/>
                    </a:lnTo>
                    <a:lnTo>
                      <a:pt x="26663" y="4104"/>
                    </a:lnTo>
                    <a:lnTo>
                      <a:pt x="27258" y="4304"/>
                    </a:lnTo>
                    <a:lnTo>
                      <a:pt x="27478" y="4304"/>
                    </a:lnTo>
                    <a:lnTo>
                      <a:pt x="27579" y="4304"/>
                    </a:lnTo>
                    <a:lnTo>
                      <a:pt x="27681" y="4304"/>
                    </a:lnTo>
                    <a:lnTo>
                      <a:pt x="28051" y="4254"/>
                    </a:lnTo>
                    <a:lnTo>
                      <a:pt x="28703" y="4147"/>
                    </a:lnTo>
                    <a:lnTo>
                      <a:pt x="29042" y="4132"/>
                    </a:lnTo>
                    <a:lnTo>
                      <a:pt x="29425" y="4175"/>
                    </a:lnTo>
                    <a:lnTo>
                      <a:pt x="30421" y="4539"/>
                    </a:lnTo>
                    <a:lnTo>
                      <a:pt x="31902" y="5335"/>
                    </a:lnTo>
                    <a:lnTo>
                      <a:pt x="32254" y="5584"/>
                    </a:lnTo>
                    <a:lnTo>
                      <a:pt x="0" y="5549"/>
                    </a:lnTo>
                    <a:close/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-676440" y="-135000"/>
                <a:ext cx="2810160" cy="6345720"/>
              </a:xfrm>
              <a:custGeom>
                <a:avLst/>
                <a:gdLst/>
                <a:ahLst/>
                <a:rect l="0" t="0" r="r" b="b"/>
                <a:pathLst>
                  <a:path w="7806" h="17627">
                    <a:moveTo>
                      <a:pt x="120" y="66"/>
                    </a:moveTo>
                    <a:lnTo>
                      <a:pt x="7245" y="55"/>
                    </a:lnTo>
                    <a:lnTo>
                      <a:pt x="7331" y="0"/>
                    </a:lnTo>
                    <a:lnTo>
                      <a:pt x="7538" y="0"/>
                    </a:lnTo>
                    <a:lnTo>
                      <a:pt x="7737" y="311"/>
                    </a:lnTo>
                    <a:lnTo>
                      <a:pt x="7788" y="662"/>
                    </a:lnTo>
                    <a:lnTo>
                      <a:pt x="7806" y="907"/>
                    </a:lnTo>
                    <a:lnTo>
                      <a:pt x="7806" y="1046"/>
                    </a:lnTo>
                    <a:lnTo>
                      <a:pt x="7806" y="1202"/>
                    </a:lnTo>
                    <a:lnTo>
                      <a:pt x="7461" y="2316"/>
                    </a:lnTo>
                    <a:lnTo>
                      <a:pt x="7004" y="2957"/>
                    </a:lnTo>
                    <a:lnTo>
                      <a:pt x="6469" y="3458"/>
                    </a:lnTo>
                    <a:lnTo>
                      <a:pt x="5848" y="4165"/>
                    </a:lnTo>
                    <a:lnTo>
                      <a:pt x="5503" y="4845"/>
                    </a:lnTo>
                    <a:lnTo>
                      <a:pt x="5425" y="5475"/>
                    </a:lnTo>
                    <a:lnTo>
                      <a:pt x="5425" y="5837"/>
                    </a:lnTo>
                    <a:lnTo>
                      <a:pt x="5408" y="6282"/>
                    </a:lnTo>
                    <a:lnTo>
                      <a:pt x="5210" y="7535"/>
                    </a:lnTo>
                    <a:lnTo>
                      <a:pt x="4951" y="8148"/>
                    </a:lnTo>
                    <a:lnTo>
                      <a:pt x="4546" y="8643"/>
                    </a:lnTo>
                    <a:lnTo>
                      <a:pt x="4080" y="9139"/>
                    </a:lnTo>
                    <a:lnTo>
                      <a:pt x="3648" y="9768"/>
                    </a:lnTo>
                    <a:lnTo>
                      <a:pt x="3467" y="10320"/>
                    </a:lnTo>
                    <a:lnTo>
                      <a:pt x="3398" y="10916"/>
                    </a:lnTo>
                    <a:lnTo>
                      <a:pt x="3354" y="12102"/>
                    </a:lnTo>
                    <a:lnTo>
                      <a:pt x="3053" y="12926"/>
                    </a:lnTo>
                    <a:lnTo>
                      <a:pt x="2656" y="13478"/>
                    </a:lnTo>
                    <a:lnTo>
                      <a:pt x="1561" y="14564"/>
                    </a:lnTo>
                    <a:lnTo>
                      <a:pt x="1000" y="15394"/>
                    </a:lnTo>
                    <a:lnTo>
                      <a:pt x="474" y="16396"/>
                    </a:lnTo>
                    <a:lnTo>
                      <a:pt x="0" y="17627"/>
                    </a:lnTo>
                    <a:lnTo>
                      <a:pt x="120" y="66"/>
                    </a:lnTo>
                    <a:close/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429680" y="0"/>
                <a:ext cx="1943640" cy="6966360"/>
              </a:xfrm>
              <a:custGeom>
                <a:avLst/>
                <a:gdLst/>
                <a:ahLst/>
                <a:rect l="0" t="0" r="r" b="b"/>
                <a:pathLst>
                  <a:path w="5399" h="19351">
                    <a:moveTo>
                      <a:pt x="5356" y="19351"/>
                    </a:moveTo>
                    <a:lnTo>
                      <a:pt x="206" y="19340"/>
                    </a:lnTo>
                    <a:lnTo>
                      <a:pt x="92" y="19115"/>
                    </a:lnTo>
                    <a:lnTo>
                      <a:pt x="28" y="18829"/>
                    </a:lnTo>
                    <a:lnTo>
                      <a:pt x="7" y="18643"/>
                    </a:lnTo>
                    <a:lnTo>
                      <a:pt x="7" y="18537"/>
                    </a:lnTo>
                    <a:lnTo>
                      <a:pt x="0" y="18413"/>
                    </a:lnTo>
                    <a:lnTo>
                      <a:pt x="71" y="17879"/>
                    </a:lnTo>
                    <a:lnTo>
                      <a:pt x="298" y="17211"/>
                    </a:lnTo>
                    <a:lnTo>
                      <a:pt x="704" y="16407"/>
                    </a:lnTo>
                    <a:lnTo>
                      <a:pt x="1359" y="15463"/>
                    </a:lnTo>
                    <a:lnTo>
                      <a:pt x="2091" y="14621"/>
                    </a:lnTo>
                    <a:lnTo>
                      <a:pt x="2340" y="14153"/>
                    </a:lnTo>
                    <a:lnTo>
                      <a:pt x="2603" y="13355"/>
                    </a:lnTo>
                    <a:lnTo>
                      <a:pt x="2632" y="12878"/>
                    </a:lnTo>
                    <a:lnTo>
                      <a:pt x="2632" y="12788"/>
                    </a:lnTo>
                    <a:lnTo>
                      <a:pt x="2625" y="12687"/>
                    </a:lnTo>
                    <a:lnTo>
                      <a:pt x="2596" y="12513"/>
                    </a:lnTo>
                    <a:lnTo>
                      <a:pt x="2418" y="11878"/>
                    </a:lnTo>
                    <a:lnTo>
                      <a:pt x="2276" y="11007"/>
                    </a:lnTo>
                    <a:lnTo>
                      <a:pt x="2269" y="10704"/>
                    </a:lnTo>
                    <a:lnTo>
                      <a:pt x="2269" y="10535"/>
                    </a:lnTo>
                    <a:lnTo>
                      <a:pt x="2276" y="10344"/>
                    </a:lnTo>
                    <a:lnTo>
                      <a:pt x="2354" y="9445"/>
                    </a:lnTo>
                    <a:lnTo>
                      <a:pt x="2603" y="8692"/>
                    </a:lnTo>
                    <a:lnTo>
                      <a:pt x="2916" y="8102"/>
                    </a:lnTo>
                    <a:lnTo>
                      <a:pt x="3556" y="7097"/>
                    </a:lnTo>
                    <a:lnTo>
                      <a:pt x="3798" y="6535"/>
                    </a:lnTo>
                    <a:lnTo>
                      <a:pt x="3940" y="5838"/>
                    </a:lnTo>
                    <a:lnTo>
                      <a:pt x="3969" y="5411"/>
                    </a:lnTo>
                    <a:lnTo>
                      <a:pt x="3969" y="5181"/>
                    </a:lnTo>
                    <a:lnTo>
                      <a:pt x="3954" y="4922"/>
                    </a:lnTo>
                    <a:lnTo>
                      <a:pt x="3784" y="3713"/>
                    </a:lnTo>
                    <a:lnTo>
                      <a:pt x="3862" y="2764"/>
                    </a:lnTo>
                    <a:lnTo>
                      <a:pt x="4055" y="1972"/>
                    </a:lnTo>
                    <a:lnTo>
                      <a:pt x="4581" y="842"/>
                    </a:lnTo>
                    <a:lnTo>
                      <a:pt x="5093" y="219"/>
                    </a:lnTo>
                    <a:lnTo>
                      <a:pt x="5335" y="0"/>
                    </a:lnTo>
                    <a:lnTo>
                      <a:pt x="5399" y="9704"/>
                    </a:lnTo>
                    <a:lnTo>
                      <a:pt x="5356" y="19351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 txBox="1"/>
            <p:nvPr/>
          </p:nvSpPr>
          <p:spPr>
            <a:xfrm>
              <a:off x="5657760" y="6087960"/>
              <a:ext cx="2863800" cy="42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200" spc="-1" strike="noStrike">
                  <a:solidFill>
                    <a:srgbClr val="008080"/>
                  </a:solidFill>
                  <a:latin typeface="Becker"/>
                  <a:ea typeface="Becker"/>
                </a:rPr>
                <a:t>WEEKLY MEET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609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177012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