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8800" y="4570560"/>
            <a:ext cx="10042560" cy="2286000"/>
            <a:chOff x="-388800" y="4570560"/>
            <a:chExt cx="10042560" cy="2286000"/>
          </a:xfrm>
        </p:grpSpPr>
        <p:sp>
          <p:nvSpPr>
            <p:cNvPr id="1" name=""/>
            <p:cNvSpPr/>
            <p:nvPr/>
          </p:nvSpPr>
          <p:spPr>
            <a:xfrm>
              <a:off x="-388800" y="5938920"/>
              <a:ext cx="10020240" cy="91764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1c56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83200" y="6013440"/>
              <a:ext cx="700560" cy="201960"/>
            </a:xfrm>
            <a:custGeom>
              <a:avLst/>
              <a:gdLst/>
              <a:ahLst/>
              <a:rect l="0" t="0" r="r" b="b"/>
              <a:pathLst>
                <a:path w="1946" h="561">
                  <a:moveTo>
                    <a:pt x="0" y="530"/>
                  </a:moveTo>
                  <a:lnTo>
                    <a:pt x="763" y="277"/>
                  </a:lnTo>
                  <a:lnTo>
                    <a:pt x="1438" y="30"/>
                  </a:lnTo>
                  <a:lnTo>
                    <a:pt x="1889" y="0"/>
                  </a:lnTo>
                  <a:lnTo>
                    <a:pt x="1946" y="362"/>
                  </a:lnTo>
                  <a:lnTo>
                    <a:pt x="1549" y="561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62320" y="5468760"/>
              <a:ext cx="1572120" cy="510120"/>
            </a:xfrm>
            <a:custGeom>
              <a:avLst/>
              <a:gdLst/>
              <a:ahLst/>
              <a:rect l="0" t="0" r="r" b="b"/>
              <a:pathLst>
                <a:path w="4367" h="1417">
                  <a:moveTo>
                    <a:pt x="262" y="849"/>
                  </a:moveTo>
                  <a:lnTo>
                    <a:pt x="582" y="736"/>
                  </a:lnTo>
                  <a:lnTo>
                    <a:pt x="894" y="511"/>
                  </a:lnTo>
                  <a:lnTo>
                    <a:pt x="1938" y="425"/>
                  </a:lnTo>
                  <a:lnTo>
                    <a:pt x="2512" y="251"/>
                  </a:lnTo>
                  <a:lnTo>
                    <a:pt x="3526" y="251"/>
                  </a:lnTo>
                  <a:lnTo>
                    <a:pt x="3903" y="0"/>
                  </a:lnTo>
                  <a:lnTo>
                    <a:pt x="4135" y="0"/>
                  </a:lnTo>
                  <a:lnTo>
                    <a:pt x="4367" y="1335"/>
                  </a:lnTo>
                  <a:lnTo>
                    <a:pt x="1149" y="1240"/>
                  </a:lnTo>
                  <a:lnTo>
                    <a:pt x="841" y="1352"/>
                  </a:lnTo>
                  <a:lnTo>
                    <a:pt x="337" y="1266"/>
                  </a:lnTo>
                  <a:lnTo>
                    <a:pt x="0" y="1417"/>
                  </a:lnTo>
                  <a:lnTo>
                    <a:pt x="262" y="84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48760" y="5592600"/>
              <a:ext cx="1227600" cy="411480"/>
            </a:xfrm>
            <a:custGeom>
              <a:avLst/>
              <a:gdLst/>
              <a:ahLst/>
              <a:rect l="0" t="0" r="r" b="b"/>
              <a:pathLst>
                <a:path w="3410" h="1143">
                  <a:moveTo>
                    <a:pt x="153" y="0"/>
                  </a:moveTo>
                  <a:lnTo>
                    <a:pt x="153" y="30"/>
                  </a:lnTo>
                  <a:lnTo>
                    <a:pt x="730" y="198"/>
                  </a:lnTo>
                  <a:lnTo>
                    <a:pt x="924" y="366"/>
                  </a:lnTo>
                  <a:lnTo>
                    <a:pt x="1191" y="538"/>
                  </a:lnTo>
                  <a:lnTo>
                    <a:pt x="1348" y="340"/>
                  </a:lnTo>
                  <a:lnTo>
                    <a:pt x="1847" y="366"/>
                  </a:lnTo>
                  <a:lnTo>
                    <a:pt x="1917" y="482"/>
                  </a:lnTo>
                  <a:lnTo>
                    <a:pt x="2307" y="482"/>
                  </a:lnTo>
                  <a:lnTo>
                    <a:pt x="2499" y="280"/>
                  </a:lnTo>
                  <a:lnTo>
                    <a:pt x="2920" y="280"/>
                  </a:lnTo>
                  <a:lnTo>
                    <a:pt x="3384" y="258"/>
                  </a:lnTo>
                  <a:lnTo>
                    <a:pt x="3410" y="1143"/>
                  </a:lnTo>
                  <a:lnTo>
                    <a:pt x="2701" y="953"/>
                  </a:lnTo>
                  <a:lnTo>
                    <a:pt x="2223" y="1009"/>
                  </a:lnTo>
                  <a:lnTo>
                    <a:pt x="1808" y="1065"/>
                  </a:lnTo>
                  <a:lnTo>
                    <a:pt x="1326" y="1035"/>
                  </a:lnTo>
                  <a:lnTo>
                    <a:pt x="0" y="1018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64560" y="4826160"/>
              <a:ext cx="11160" cy="831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59600" y="4782960"/>
              <a:ext cx="9360" cy="831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01160" y="4700520"/>
              <a:ext cx="9360" cy="831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742160" y="4570560"/>
              <a:ext cx="1611720" cy="340200"/>
            </a:xfrm>
            <a:custGeom>
              <a:avLst/>
              <a:gdLst/>
              <a:ahLst/>
              <a:rect l="0" t="0" r="r" b="b"/>
              <a:pathLst>
                <a:path w="4477" h="945">
                  <a:moveTo>
                    <a:pt x="0" y="945"/>
                  </a:moveTo>
                  <a:lnTo>
                    <a:pt x="1074" y="532"/>
                  </a:lnTo>
                  <a:lnTo>
                    <a:pt x="2188" y="231"/>
                  </a:lnTo>
                  <a:lnTo>
                    <a:pt x="3323" y="77"/>
                  </a:lnTo>
                  <a:lnTo>
                    <a:pt x="3609" y="64"/>
                  </a:lnTo>
                  <a:lnTo>
                    <a:pt x="3750" y="64"/>
                  </a:lnTo>
                  <a:lnTo>
                    <a:pt x="3899" y="60"/>
                  </a:lnTo>
                  <a:lnTo>
                    <a:pt x="4477" y="98"/>
                  </a:lnTo>
                  <a:lnTo>
                    <a:pt x="4477" y="42"/>
                  </a:lnTo>
                  <a:lnTo>
                    <a:pt x="3907" y="4"/>
                  </a:lnTo>
                  <a:lnTo>
                    <a:pt x="3623" y="0"/>
                  </a:lnTo>
                  <a:lnTo>
                    <a:pt x="3482" y="0"/>
                  </a:lnTo>
                  <a:lnTo>
                    <a:pt x="3332" y="8"/>
                  </a:lnTo>
                  <a:lnTo>
                    <a:pt x="2192" y="141"/>
                  </a:lnTo>
                  <a:lnTo>
                    <a:pt x="1078" y="425"/>
                  </a:lnTo>
                  <a:lnTo>
                    <a:pt x="0" y="834"/>
                  </a:lnTo>
                  <a:lnTo>
                    <a:pt x="0" y="945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01120" y="4741920"/>
              <a:ext cx="1611720" cy="429120"/>
            </a:xfrm>
            <a:custGeom>
              <a:avLst/>
              <a:gdLst/>
              <a:ahLst/>
              <a:rect l="0" t="0" r="r" b="b"/>
              <a:pathLst>
                <a:path w="4477" h="1192">
                  <a:moveTo>
                    <a:pt x="0" y="1192"/>
                  </a:moveTo>
                  <a:lnTo>
                    <a:pt x="1069" y="747"/>
                  </a:lnTo>
                  <a:lnTo>
                    <a:pt x="2188" y="376"/>
                  </a:lnTo>
                  <a:lnTo>
                    <a:pt x="3323" y="150"/>
                  </a:lnTo>
                  <a:lnTo>
                    <a:pt x="3899" y="116"/>
                  </a:lnTo>
                  <a:lnTo>
                    <a:pt x="4039" y="116"/>
                  </a:lnTo>
                  <a:lnTo>
                    <a:pt x="4188" y="120"/>
                  </a:lnTo>
                  <a:lnTo>
                    <a:pt x="4477" y="146"/>
                  </a:lnTo>
                  <a:lnTo>
                    <a:pt x="4477" y="30"/>
                  </a:lnTo>
                  <a:lnTo>
                    <a:pt x="3907" y="0"/>
                  </a:lnTo>
                  <a:lnTo>
                    <a:pt x="3767" y="0"/>
                  </a:lnTo>
                  <a:lnTo>
                    <a:pt x="3623" y="8"/>
                  </a:lnTo>
                  <a:lnTo>
                    <a:pt x="3332" y="34"/>
                  </a:lnTo>
                  <a:lnTo>
                    <a:pt x="2192" y="254"/>
                  </a:lnTo>
                  <a:lnTo>
                    <a:pt x="1074" y="630"/>
                  </a:lnTo>
                  <a:lnTo>
                    <a:pt x="0" y="1080"/>
                  </a:lnTo>
                  <a:lnTo>
                    <a:pt x="0" y="119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94760" y="4678200"/>
              <a:ext cx="11160" cy="833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26600" y="4648320"/>
              <a:ext cx="11160" cy="831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105600" y="5481720"/>
              <a:ext cx="3548160" cy="619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829640" y="5343480"/>
              <a:ext cx="600480" cy="730440"/>
            </a:xfrm>
            <a:custGeom>
              <a:avLst/>
              <a:gdLst/>
              <a:ahLst/>
              <a:rect l="0" t="0" r="r" b="b"/>
              <a:pathLst>
                <a:path w="1668" h="2029">
                  <a:moveTo>
                    <a:pt x="86" y="2016"/>
                  </a:moveTo>
                  <a:lnTo>
                    <a:pt x="290" y="2029"/>
                  </a:lnTo>
                  <a:lnTo>
                    <a:pt x="377" y="2029"/>
                  </a:lnTo>
                  <a:lnTo>
                    <a:pt x="461" y="2029"/>
                  </a:lnTo>
                  <a:lnTo>
                    <a:pt x="704" y="1981"/>
                  </a:lnTo>
                  <a:lnTo>
                    <a:pt x="843" y="1894"/>
                  </a:lnTo>
                  <a:lnTo>
                    <a:pt x="921" y="1785"/>
                  </a:lnTo>
                  <a:lnTo>
                    <a:pt x="986" y="1594"/>
                  </a:lnTo>
                  <a:lnTo>
                    <a:pt x="1038" y="1555"/>
                  </a:lnTo>
                  <a:lnTo>
                    <a:pt x="1086" y="1555"/>
                  </a:lnTo>
                  <a:lnTo>
                    <a:pt x="1155" y="1572"/>
                  </a:lnTo>
                  <a:lnTo>
                    <a:pt x="1560" y="1402"/>
                  </a:lnTo>
                  <a:lnTo>
                    <a:pt x="1551" y="1215"/>
                  </a:lnTo>
                  <a:lnTo>
                    <a:pt x="1551" y="1119"/>
                  </a:lnTo>
                  <a:lnTo>
                    <a:pt x="1551" y="1023"/>
                  </a:lnTo>
                  <a:lnTo>
                    <a:pt x="1573" y="644"/>
                  </a:lnTo>
                  <a:lnTo>
                    <a:pt x="1655" y="0"/>
                  </a:lnTo>
                  <a:lnTo>
                    <a:pt x="1668" y="17"/>
                  </a:lnTo>
                  <a:lnTo>
                    <a:pt x="1573" y="8"/>
                  </a:lnTo>
                  <a:lnTo>
                    <a:pt x="1473" y="8"/>
                  </a:lnTo>
                  <a:lnTo>
                    <a:pt x="1273" y="43"/>
                  </a:lnTo>
                  <a:lnTo>
                    <a:pt x="877" y="191"/>
                  </a:lnTo>
                  <a:lnTo>
                    <a:pt x="303" y="544"/>
                  </a:lnTo>
                  <a:lnTo>
                    <a:pt x="164" y="827"/>
                  </a:lnTo>
                  <a:lnTo>
                    <a:pt x="43" y="1324"/>
                  </a:lnTo>
                  <a:lnTo>
                    <a:pt x="13" y="1572"/>
                  </a:lnTo>
                  <a:lnTo>
                    <a:pt x="0" y="1689"/>
                  </a:lnTo>
                  <a:lnTo>
                    <a:pt x="0" y="1794"/>
                  </a:lnTo>
                  <a:lnTo>
                    <a:pt x="21" y="1951"/>
                  </a:lnTo>
                  <a:lnTo>
                    <a:pt x="86" y="2016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93000" y="5746680"/>
              <a:ext cx="544680" cy="312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344840" y="5632560"/>
              <a:ext cx="741600" cy="462240"/>
            </a:xfrm>
            <a:custGeom>
              <a:avLst/>
              <a:gdLst/>
              <a:ahLst/>
              <a:rect l="0" t="0" r="r" b="b"/>
              <a:pathLst>
                <a:path w="2060" h="1284">
                  <a:moveTo>
                    <a:pt x="2060" y="1284"/>
                  </a:moveTo>
                  <a:lnTo>
                    <a:pt x="2029" y="570"/>
                  </a:lnTo>
                  <a:lnTo>
                    <a:pt x="0" y="0"/>
                  </a:lnTo>
                  <a:lnTo>
                    <a:pt x="30" y="25"/>
                  </a:lnTo>
                  <a:lnTo>
                    <a:pt x="997" y="916"/>
                  </a:lnTo>
                  <a:lnTo>
                    <a:pt x="1376" y="1215"/>
                  </a:lnTo>
                  <a:lnTo>
                    <a:pt x="1555" y="1284"/>
                  </a:lnTo>
                  <a:lnTo>
                    <a:pt x="2060" y="1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234120" y="4676760"/>
              <a:ext cx="1424520" cy="1375200"/>
            </a:xfrm>
            <a:custGeom>
              <a:avLst/>
              <a:gdLst/>
              <a:ahLst/>
              <a:rect l="0" t="0" r="r" b="b"/>
              <a:pathLst>
                <a:path w="3957" h="3820">
                  <a:moveTo>
                    <a:pt x="3957" y="3593"/>
                  </a:moveTo>
                  <a:lnTo>
                    <a:pt x="3090" y="3785"/>
                  </a:lnTo>
                  <a:lnTo>
                    <a:pt x="2629" y="3816"/>
                  </a:lnTo>
                  <a:lnTo>
                    <a:pt x="2392" y="3820"/>
                  </a:lnTo>
                  <a:lnTo>
                    <a:pt x="2151" y="3807"/>
                  </a:lnTo>
                  <a:lnTo>
                    <a:pt x="1209" y="3698"/>
                  </a:lnTo>
                  <a:lnTo>
                    <a:pt x="324" y="3496"/>
                  </a:lnTo>
                  <a:lnTo>
                    <a:pt x="0" y="3212"/>
                  </a:lnTo>
                  <a:lnTo>
                    <a:pt x="43" y="2663"/>
                  </a:lnTo>
                  <a:lnTo>
                    <a:pt x="170" y="2124"/>
                  </a:lnTo>
                  <a:lnTo>
                    <a:pt x="376" y="1608"/>
                  </a:lnTo>
                  <a:lnTo>
                    <a:pt x="670" y="1135"/>
                  </a:lnTo>
                  <a:lnTo>
                    <a:pt x="1043" y="726"/>
                  </a:lnTo>
                  <a:lnTo>
                    <a:pt x="1512" y="394"/>
                  </a:lnTo>
                  <a:lnTo>
                    <a:pt x="2068" y="157"/>
                  </a:lnTo>
                  <a:lnTo>
                    <a:pt x="2725" y="30"/>
                  </a:lnTo>
                  <a:lnTo>
                    <a:pt x="2751" y="0"/>
                  </a:lnTo>
                  <a:lnTo>
                    <a:pt x="2835" y="1424"/>
                  </a:lnTo>
                  <a:lnTo>
                    <a:pt x="2935" y="2116"/>
                  </a:lnTo>
                  <a:lnTo>
                    <a:pt x="3147" y="2795"/>
                  </a:lnTo>
                  <a:lnTo>
                    <a:pt x="3576" y="3198"/>
                  </a:lnTo>
                  <a:lnTo>
                    <a:pt x="3957" y="3593"/>
                  </a:lnTo>
                  <a:close/>
                </a:path>
              </a:pathLst>
            </a:custGeom>
            <a:solidFill>
              <a:srgbClr val="c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10160" y="5280120"/>
              <a:ext cx="651240" cy="811440"/>
            </a:xfrm>
            <a:custGeom>
              <a:avLst/>
              <a:gdLst/>
              <a:ahLst/>
              <a:rect l="0" t="0" r="r" b="b"/>
              <a:pathLst>
                <a:path w="1809" h="2254">
                  <a:moveTo>
                    <a:pt x="1809" y="2040"/>
                  </a:moveTo>
                  <a:lnTo>
                    <a:pt x="1065" y="976"/>
                  </a:lnTo>
                  <a:lnTo>
                    <a:pt x="639" y="457"/>
                  </a:lnTo>
                  <a:lnTo>
                    <a:pt x="199" y="0"/>
                  </a:lnTo>
                  <a:lnTo>
                    <a:pt x="165" y="0"/>
                  </a:lnTo>
                  <a:lnTo>
                    <a:pt x="334" y="1312"/>
                  </a:lnTo>
                  <a:lnTo>
                    <a:pt x="347" y="1482"/>
                  </a:lnTo>
                  <a:lnTo>
                    <a:pt x="347" y="1561"/>
                  </a:lnTo>
                  <a:lnTo>
                    <a:pt x="347" y="1644"/>
                  </a:lnTo>
                  <a:lnTo>
                    <a:pt x="312" y="1923"/>
                  </a:lnTo>
                  <a:lnTo>
                    <a:pt x="217" y="2123"/>
                  </a:lnTo>
                  <a:lnTo>
                    <a:pt x="34" y="2228"/>
                  </a:lnTo>
                  <a:lnTo>
                    <a:pt x="0" y="2245"/>
                  </a:lnTo>
                  <a:lnTo>
                    <a:pt x="139" y="2254"/>
                  </a:lnTo>
                  <a:lnTo>
                    <a:pt x="252" y="2254"/>
                  </a:lnTo>
                  <a:lnTo>
                    <a:pt x="321" y="2254"/>
                  </a:lnTo>
                  <a:lnTo>
                    <a:pt x="395" y="2254"/>
                  </a:lnTo>
                  <a:lnTo>
                    <a:pt x="735" y="2241"/>
                  </a:lnTo>
                  <a:lnTo>
                    <a:pt x="1427" y="2171"/>
                  </a:lnTo>
                  <a:lnTo>
                    <a:pt x="1809" y="2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342200" y="5127480"/>
              <a:ext cx="721080" cy="933840"/>
            </a:xfrm>
            <a:custGeom>
              <a:avLst/>
              <a:gdLst/>
              <a:ahLst/>
              <a:rect l="0" t="0" r="r" b="b"/>
              <a:pathLst>
                <a:path w="2003" h="2594">
                  <a:moveTo>
                    <a:pt x="8" y="943"/>
                  </a:moveTo>
                  <a:lnTo>
                    <a:pt x="439" y="611"/>
                  </a:lnTo>
                  <a:lnTo>
                    <a:pt x="913" y="336"/>
                  </a:lnTo>
                  <a:lnTo>
                    <a:pt x="1424" y="135"/>
                  </a:lnTo>
                  <a:lnTo>
                    <a:pt x="1963" y="0"/>
                  </a:lnTo>
                  <a:lnTo>
                    <a:pt x="2003" y="0"/>
                  </a:lnTo>
                  <a:lnTo>
                    <a:pt x="1855" y="2215"/>
                  </a:lnTo>
                  <a:lnTo>
                    <a:pt x="1807" y="2376"/>
                  </a:lnTo>
                  <a:lnTo>
                    <a:pt x="1728" y="2363"/>
                  </a:lnTo>
                  <a:lnTo>
                    <a:pt x="1650" y="2367"/>
                  </a:lnTo>
                  <a:lnTo>
                    <a:pt x="1506" y="2420"/>
                  </a:lnTo>
                  <a:lnTo>
                    <a:pt x="1241" y="2573"/>
                  </a:lnTo>
                  <a:lnTo>
                    <a:pt x="1115" y="2594"/>
                  </a:lnTo>
                  <a:lnTo>
                    <a:pt x="983" y="2538"/>
                  </a:lnTo>
                  <a:lnTo>
                    <a:pt x="839" y="2367"/>
                  </a:lnTo>
                  <a:lnTo>
                    <a:pt x="683" y="2031"/>
                  </a:lnTo>
                  <a:lnTo>
                    <a:pt x="478" y="1681"/>
                  </a:lnTo>
                  <a:lnTo>
                    <a:pt x="230" y="1406"/>
                  </a:lnTo>
                  <a:lnTo>
                    <a:pt x="43" y="1179"/>
                  </a:lnTo>
                  <a:lnTo>
                    <a:pt x="0" y="1066"/>
                  </a:lnTo>
                  <a:lnTo>
                    <a:pt x="8" y="943"/>
                  </a:lnTo>
                  <a:close/>
                </a:path>
              </a:pathLst>
            </a:custGeom>
            <a:solidFill>
              <a:srgbClr val="c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940440" y="4802040"/>
              <a:ext cx="808560" cy="1159200"/>
            </a:xfrm>
            <a:custGeom>
              <a:avLst/>
              <a:gdLst/>
              <a:ahLst/>
              <a:rect l="0" t="0" r="r" b="b"/>
              <a:pathLst>
                <a:path w="2246" h="3220">
                  <a:moveTo>
                    <a:pt x="1976" y="3220"/>
                  </a:moveTo>
                  <a:lnTo>
                    <a:pt x="1452" y="2804"/>
                  </a:lnTo>
                  <a:lnTo>
                    <a:pt x="1003" y="2511"/>
                  </a:lnTo>
                  <a:lnTo>
                    <a:pt x="4" y="2026"/>
                  </a:lnTo>
                  <a:lnTo>
                    <a:pt x="0" y="1999"/>
                  </a:lnTo>
                  <a:lnTo>
                    <a:pt x="409" y="1347"/>
                  </a:lnTo>
                  <a:lnTo>
                    <a:pt x="929" y="787"/>
                  </a:lnTo>
                  <a:lnTo>
                    <a:pt x="1539" y="341"/>
                  </a:lnTo>
                  <a:lnTo>
                    <a:pt x="2246" y="0"/>
                  </a:lnTo>
                  <a:lnTo>
                    <a:pt x="1993" y="1565"/>
                  </a:lnTo>
                  <a:lnTo>
                    <a:pt x="1954" y="2358"/>
                  </a:lnTo>
                  <a:lnTo>
                    <a:pt x="1958" y="2756"/>
                  </a:lnTo>
                  <a:lnTo>
                    <a:pt x="1980" y="3163"/>
                  </a:lnTo>
                  <a:lnTo>
                    <a:pt x="1976" y="3220"/>
                  </a:lnTo>
                  <a:close/>
                </a:path>
              </a:pathLst>
            </a:custGeom>
            <a:solidFill>
              <a:srgbClr val="00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168960" y="5407200"/>
              <a:ext cx="748080" cy="557640"/>
            </a:xfrm>
            <a:custGeom>
              <a:avLst/>
              <a:gdLst/>
              <a:ahLst/>
              <a:rect l="0" t="0" r="r" b="b"/>
              <a:pathLst>
                <a:path w="2078" h="1549">
                  <a:moveTo>
                    <a:pt x="0" y="39"/>
                  </a:moveTo>
                  <a:lnTo>
                    <a:pt x="509" y="0"/>
                  </a:lnTo>
                  <a:lnTo>
                    <a:pt x="1067" y="52"/>
                  </a:lnTo>
                  <a:lnTo>
                    <a:pt x="1613" y="186"/>
                  </a:lnTo>
                  <a:lnTo>
                    <a:pt x="2078" y="412"/>
                  </a:lnTo>
                  <a:lnTo>
                    <a:pt x="2074" y="412"/>
                  </a:lnTo>
                  <a:lnTo>
                    <a:pt x="1403" y="876"/>
                  </a:lnTo>
                  <a:lnTo>
                    <a:pt x="1085" y="1132"/>
                  </a:lnTo>
                  <a:lnTo>
                    <a:pt x="863" y="1437"/>
                  </a:lnTo>
                  <a:lnTo>
                    <a:pt x="584" y="1549"/>
                  </a:lnTo>
                  <a:lnTo>
                    <a:pt x="431" y="820"/>
                  </a:lnTo>
                  <a:lnTo>
                    <a:pt x="278" y="412"/>
                  </a:lnTo>
                  <a:lnTo>
                    <a:pt x="26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75320" y="5257800"/>
              <a:ext cx="729000" cy="727560"/>
            </a:xfrm>
            <a:custGeom>
              <a:avLst/>
              <a:gdLst/>
              <a:ahLst/>
              <a:rect l="0" t="0" r="r" b="b"/>
              <a:pathLst>
                <a:path w="2025" h="2021">
                  <a:moveTo>
                    <a:pt x="4" y="60"/>
                  </a:moveTo>
                  <a:lnTo>
                    <a:pt x="509" y="0"/>
                  </a:lnTo>
                  <a:lnTo>
                    <a:pt x="635" y="0"/>
                  </a:lnTo>
                  <a:lnTo>
                    <a:pt x="766" y="4"/>
                  </a:lnTo>
                  <a:lnTo>
                    <a:pt x="1019" y="39"/>
                  </a:lnTo>
                  <a:lnTo>
                    <a:pt x="1507" y="187"/>
                  </a:lnTo>
                  <a:lnTo>
                    <a:pt x="1959" y="439"/>
                  </a:lnTo>
                  <a:lnTo>
                    <a:pt x="1994" y="413"/>
                  </a:lnTo>
                  <a:lnTo>
                    <a:pt x="2020" y="810"/>
                  </a:lnTo>
                  <a:lnTo>
                    <a:pt x="2025" y="997"/>
                  </a:lnTo>
                  <a:lnTo>
                    <a:pt x="2025" y="1084"/>
                  </a:lnTo>
                  <a:lnTo>
                    <a:pt x="2016" y="1180"/>
                  </a:lnTo>
                  <a:lnTo>
                    <a:pt x="1938" y="1525"/>
                  </a:lnTo>
                  <a:lnTo>
                    <a:pt x="1737" y="1851"/>
                  </a:lnTo>
                  <a:lnTo>
                    <a:pt x="1258" y="2021"/>
                  </a:lnTo>
                  <a:lnTo>
                    <a:pt x="696" y="989"/>
                  </a:lnTo>
                  <a:lnTo>
                    <a:pt x="387" y="504"/>
                  </a:lnTo>
                  <a:lnTo>
                    <a:pt x="0" y="6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344840" y="5602320"/>
              <a:ext cx="843480" cy="473400"/>
            </a:xfrm>
            <a:custGeom>
              <a:avLst/>
              <a:gdLst/>
              <a:ahLst/>
              <a:rect l="0" t="0" r="r" b="b"/>
              <a:pathLst>
                <a:path w="2343" h="1315">
                  <a:moveTo>
                    <a:pt x="2099" y="1315"/>
                  </a:moveTo>
                  <a:lnTo>
                    <a:pt x="1649" y="973"/>
                  </a:lnTo>
                  <a:lnTo>
                    <a:pt x="1086" y="652"/>
                  </a:lnTo>
                  <a:lnTo>
                    <a:pt x="0" y="82"/>
                  </a:lnTo>
                  <a:lnTo>
                    <a:pt x="56" y="82"/>
                  </a:lnTo>
                  <a:lnTo>
                    <a:pt x="401" y="21"/>
                  </a:lnTo>
                  <a:lnTo>
                    <a:pt x="575" y="8"/>
                  </a:lnTo>
                  <a:lnTo>
                    <a:pt x="663" y="4"/>
                  </a:lnTo>
                  <a:lnTo>
                    <a:pt x="759" y="0"/>
                  </a:lnTo>
                  <a:lnTo>
                    <a:pt x="1461" y="86"/>
                  </a:lnTo>
                  <a:lnTo>
                    <a:pt x="2029" y="272"/>
                  </a:lnTo>
                  <a:lnTo>
                    <a:pt x="2326" y="497"/>
                  </a:lnTo>
                  <a:lnTo>
                    <a:pt x="2339" y="561"/>
                  </a:lnTo>
                  <a:lnTo>
                    <a:pt x="2343" y="675"/>
                  </a:lnTo>
                  <a:lnTo>
                    <a:pt x="2299" y="951"/>
                  </a:lnTo>
                  <a:lnTo>
                    <a:pt x="2217" y="1207"/>
                  </a:lnTo>
                  <a:lnTo>
                    <a:pt x="2099" y="1315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431040" y="5557680"/>
              <a:ext cx="484560" cy="406800"/>
            </a:xfrm>
            <a:custGeom>
              <a:avLst/>
              <a:gdLst/>
              <a:ahLst/>
              <a:rect l="0" t="0" r="r" b="b"/>
              <a:pathLst>
                <a:path w="1346" h="1130">
                  <a:moveTo>
                    <a:pt x="168" y="1130"/>
                  </a:moveTo>
                  <a:lnTo>
                    <a:pt x="324" y="889"/>
                  </a:lnTo>
                  <a:lnTo>
                    <a:pt x="654" y="595"/>
                  </a:lnTo>
                  <a:lnTo>
                    <a:pt x="1346" y="0"/>
                  </a:lnTo>
                  <a:lnTo>
                    <a:pt x="628" y="487"/>
                  </a:lnTo>
                  <a:lnTo>
                    <a:pt x="272" y="767"/>
                  </a:lnTo>
                  <a:lnTo>
                    <a:pt x="0" y="1049"/>
                  </a:lnTo>
                  <a:lnTo>
                    <a:pt x="168" y="1130"/>
                  </a:lnTo>
                  <a:close/>
                </a:path>
              </a:pathLst>
            </a:custGeom>
            <a:solidFill>
              <a:srgbClr val="00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924600" y="5556240"/>
              <a:ext cx="179640" cy="414720"/>
            </a:xfrm>
            <a:custGeom>
              <a:avLst/>
              <a:gdLst/>
              <a:ahLst/>
              <a:rect l="0" t="0" r="r" b="b"/>
              <a:pathLst>
                <a:path w="499" h="1152">
                  <a:moveTo>
                    <a:pt x="499" y="1101"/>
                  </a:moveTo>
                  <a:lnTo>
                    <a:pt x="340" y="492"/>
                  </a:lnTo>
                  <a:lnTo>
                    <a:pt x="200" y="21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46" y="232"/>
                  </a:lnTo>
                  <a:lnTo>
                    <a:pt x="256" y="531"/>
                  </a:lnTo>
                  <a:lnTo>
                    <a:pt x="382" y="1135"/>
                  </a:lnTo>
                  <a:lnTo>
                    <a:pt x="453" y="1152"/>
                  </a:lnTo>
                  <a:lnTo>
                    <a:pt x="499" y="1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151160" y="6013440"/>
              <a:ext cx="1715040" cy="200520"/>
            </a:xfrm>
            <a:custGeom>
              <a:avLst/>
              <a:gdLst/>
              <a:ahLst/>
              <a:rect l="0" t="0" r="r" b="b"/>
              <a:pathLst>
                <a:path w="4764" h="557">
                  <a:moveTo>
                    <a:pt x="0" y="557"/>
                  </a:moveTo>
                  <a:lnTo>
                    <a:pt x="456" y="422"/>
                  </a:lnTo>
                  <a:lnTo>
                    <a:pt x="679" y="422"/>
                  </a:lnTo>
                  <a:lnTo>
                    <a:pt x="1658" y="0"/>
                  </a:lnTo>
                  <a:lnTo>
                    <a:pt x="1825" y="165"/>
                  </a:lnTo>
                  <a:lnTo>
                    <a:pt x="3320" y="160"/>
                  </a:lnTo>
                  <a:lnTo>
                    <a:pt x="4010" y="134"/>
                  </a:lnTo>
                  <a:lnTo>
                    <a:pt x="4764" y="144"/>
                  </a:lnTo>
                  <a:lnTo>
                    <a:pt x="4729" y="540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126040" y="5661000"/>
              <a:ext cx="597240" cy="405000"/>
            </a:xfrm>
            <a:custGeom>
              <a:avLst/>
              <a:gdLst/>
              <a:ahLst/>
              <a:rect l="0" t="0" r="r" b="b"/>
              <a:pathLst>
                <a:path w="1659" h="1125">
                  <a:moveTo>
                    <a:pt x="1659" y="1125"/>
                  </a:moveTo>
                  <a:lnTo>
                    <a:pt x="1329" y="0"/>
                  </a:lnTo>
                  <a:lnTo>
                    <a:pt x="1242" y="30"/>
                  </a:lnTo>
                  <a:lnTo>
                    <a:pt x="942" y="8"/>
                  </a:lnTo>
                  <a:lnTo>
                    <a:pt x="869" y="8"/>
                  </a:lnTo>
                  <a:lnTo>
                    <a:pt x="789" y="12"/>
                  </a:lnTo>
                  <a:lnTo>
                    <a:pt x="633" y="34"/>
                  </a:lnTo>
                  <a:lnTo>
                    <a:pt x="52" y="224"/>
                  </a:lnTo>
                  <a:lnTo>
                    <a:pt x="82" y="224"/>
                  </a:lnTo>
                  <a:lnTo>
                    <a:pt x="0" y="1125"/>
                  </a:lnTo>
                  <a:lnTo>
                    <a:pt x="1659" y="1125"/>
                  </a:lnTo>
                  <a:close/>
                </a:path>
              </a:pathLst>
            </a:custGeom>
            <a:solidFill>
              <a:srgbClr val="004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842000" y="5691240"/>
              <a:ext cx="321120" cy="363960"/>
            </a:xfrm>
            <a:custGeom>
              <a:avLst/>
              <a:gdLst/>
              <a:ahLst/>
              <a:rect l="0" t="0" r="r" b="b"/>
              <a:pathLst>
                <a:path w="892" h="1011">
                  <a:moveTo>
                    <a:pt x="738" y="1011"/>
                  </a:moveTo>
                  <a:lnTo>
                    <a:pt x="420" y="473"/>
                  </a:lnTo>
                  <a:lnTo>
                    <a:pt x="0" y="0"/>
                  </a:lnTo>
                  <a:lnTo>
                    <a:pt x="81" y="4"/>
                  </a:lnTo>
                  <a:lnTo>
                    <a:pt x="184" y="12"/>
                  </a:lnTo>
                  <a:lnTo>
                    <a:pt x="399" y="47"/>
                  </a:lnTo>
                  <a:lnTo>
                    <a:pt x="819" y="141"/>
                  </a:lnTo>
                  <a:lnTo>
                    <a:pt x="884" y="340"/>
                  </a:lnTo>
                  <a:lnTo>
                    <a:pt x="892" y="473"/>
                  </a:lnTo>
                  <a:lnTo>
                    <a:pt x="892" y="546"/>
                  </a:lnTo>
                  <a:lnTo>
                    <a:pt x="884" y="624"/>
                  </a:lnTo>
                  <a:lnTo>
                    <a:pt x="832" y="882"/>
                  </a:lnTo>
                  <a:lnTo>
                    <a:pt x="738" y="1011"/>
                  </a:lnTo>
                  <a:close/>
                </a:path>
              </a:pathLst>
            </a:custGeom>
            <a:solidFill>
              <a:srgbClr val="004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570640" y="5291280"/>
              <a:ext cx="201960" cy="763920"/>
            </a:xfrm>
            <a:custGeom>
              <a:avLst/>
              <a:gdLst/>
              <a:ahLst/>
              <a:rect l="0" t="0" r="r" b="b"/>
              <a:pathLst>
                <a:path w="561" h="2122">
                  <a:moveTo>
                    <a:pt x="561" y="2122"/>
                  </a:moveTo>
                  <a:lnTo>
                    <a:pt x="295" y="115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60" y="1224"/>
                  </a:lnTo>
                  <a:lnTo>
                    <a:pt x="401" y="2122"/>
                  </a:lnTo>
                  <a:lnTo>
                    <a:pt x="561" y="2122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56280" y="5661000"/>
              <a:ext cx="414720" cy="73440"/>
            </a:xfrm>
            <a:custGeom>
              <a:avLst/>
              <a:gdLst/>
              <a:ahLst/>
              <a:rect l="0" t="0" r="r" b="b"/>
              <a:pathLst>
                <a:path w="1152" h="204">
                  <a:moveTo>
                    <a:pt x="1152" y="79"/>
                  </a:moveTo>
                  <a:lnTo>
                    <a:pt x="863" y="71"/>
                  </a:lnTo>
                  <a:lnTo>
                    <a:pt x="570" y="90"/>
                  </a:lnTo>
                  <a:lnTo>
                    <a:pt x="0" y="204"/>
                  </a:lnTo>
                  <a:lnTo>
                    <a:pt x="0" y="177"/>
                  </a:lnTo>
                  <a:lnTo>
                    <a:pt x="548" y="19"/>
                  </a:lnTo>
                  <a:lnTo>
                    <a:pt x="832" y="0"/>
                  </a:lnTo>
                  <a:lnTo>
                    <a:pt x="1127" y="27"/>
                  </a:lnTo>
                  <a:lnTo>
                    <a:pt x="1152" y="7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176880" y="5408640"/>
              <a:ext cx="195480" cy="601920"/>
            </a:xfrm>
            <a:custGeom>
              <a:avLst/>
              <a:gdLst/>
              <a:ahLst/>
              <a:rect l="0" t="0" r="r" b="b"/>
              <a:pathLst>
                <a:path w="543" h="1672">
                  <a:moveTo>
                    <a:pt x="543" y="1598"/>
                  </a:moveTo>
                  <a:lnTo>
                    <a:pt x="383" y="816"/>
                  </a:lnTo>
                  <a:lnTo>
                    <a:pt x="252" y="447"/>
                  </a:lnTo>
                  <a:lnTo>
                    <a:pt x="4" y="4"/>
                  </a:lnTo>
                  <a:lnTo>
                    <a:pt x="0" y="0"/>
                  </a:lnTo>
                  <a:lnTo>
                    <a:pt x="256" y="833"/>
                  </a:lnTo>
                  <a:lnTo>
                    <a:pt x="316" y="1264"/>
                  </a:lnTo>
                  <a:lnTo>
                    <a:pt x="328" y="1446"/>
                  </a:lnTo>
                  <a:lnTo>
                    <a:pt x="328" y="1524"/>
                  </a:lnTo>
                  <a:lnTo>
                    <a:pt x="324" y="1598"/>
                  </a:lnTo>
                  <a:lnTo>
                    <a:pt x="358" y="1654"/>
                  </a:lnTo>
                  <a:lnTo>
                    <a:pt x="434" y="1672"/>
                  </a:lnTo>
                  <a:lnTo>
                    <a:pt x="543" y="1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052960" y="5838840"/>
              <a:ext cx="4023000" cy="416160"/>
            </a:xfrm>
            <a:custGeom>
              <a:avLst/>
              <a:gdLst/>
              <a:ahLst/>
              <a:rect l="0" t="0" r="r" b="b"/>
              <a:pathLst>
                <a:path w="11175" h="1156">
                  <a:moveTo>
                    <a:pt x="0" y="1035"/>
                  </a:moveTo>
                  <a:lnTo>
                    <a:pt x="7356" y="1048"/>
                  </a:lnTo>
                  <a:lnTo>
                    <a:pt x="8817" y="1156"/>
                  </a:lnTo>
                  <a:lnTo>
                    <a:pt x="11175" y="1147"/>
                  </a:lnTo>
                  <a:lnTo>
                    <a:pt x="11175" y="927"/>
                  </a:lnTo>
                  <a:lnTo>
                    <a:pt x="9961" y="927"/>
                  </a:lnTo>
                  <a:lnTo>
                    <a:pt x="9961" y="258"/>
                  </a:lnTo>
                  <a:lnTo>
                    <a:pt x="9697" y="0"/>
                  </a:lnTo>
                  <a:lnTo>
                    <a:pt x="8636" y="0"/>
                  </a:lnTo>
                  <a:lnTo>
                    <a:pt x="8328" y="73"/>
                  </a:lnTo>
                  <a:lnTo>
                    <a:pt x="6428" y="336"/>
                  </a:lnTo>
                  <a:lnTo>
                    <a:pt x="3462" y="336"/>
                  </a:lnTo>
                  <a:lnTo>
                    <a:pt x="2705" y="595"/>
                  </a:lnTo>
                  <a:lnTo>
                    <a:pt x="2397" y="595"/>
                  </a:lnTo>
                  <a:lnTo>
                    <a:pt x="1632" y="828"/>
                  </a:lnTo>
                  <a:lnTo>
                    <a:pt x="651" y="966"/>
                  </a:lnTo>
                  <a:lnTo>
                    <a:pt x="0" y="103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114880" y="5732640"/>
              <a:ext cx="36720" cy="333720"/>
            </a:xfrm>
            <a:custGeom>
              <a:avLst/>
              <a:gdLst/>
              <a:ahLst/>
              <a:rect l="0" t="0" r="r" b="b"/>
              <a:pathLst>
                <a:path w="102" h="927">
                  <a:moveTo>
                    <a:pt x="24" y="897"/>
                  </a:moveTo>
                  <a:lnTo>
                    <a:pt x="67" y="0"/>
                  </a:lnTo>
                  <a:lnTo>
                    <a:pt x="91" y="30"/>
                  </a:lnTo>
                  <a:lnTo>
                    <a:pt x="102" y="252"/>
                  </a:lnTo>
                  <a:lnTo>
                    <a:pt x="102" y="364"/>
                  </a:lnTo>
                  <a:lnTo>
                    <a:pt x="91" y="481"/>
                  </a:lnTo>
                  <a:lnTo>
                    <a:pt x="0" y="927"/>
                  </a:lnTo>
                  <a:lnTo>
                    <a:pt x="24" y="897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907320" y="5535720"/>
              <a:ext cx="536760" cy="259200"/>
            </a:xfrm>
            <a:custGeom>
              <a:avLst/>
              <a:gdLst/>
              <a:ahLst/>
              <a:rect l="0" t="0" r="r" b="b"/>
              <a:pathLst>
                <a:path w="1491" h="720">
                  <a:moveTo>
                    <a:pt x="77" y="0"/>
                  </a:moveTo>
                  <a:lnTo>
                    <a:pt x="806" y="277"/>
                  </a:lnTo>
                  <a:lnTo>
                    <a:pt x="1465" y="691"/>
                  </a:lnTo>
                  <a:lnTo>
                    <a:pt x="1491" y="720"/>
                  </a:lnTo>
                  <a:lnTo>
                    <a:pt x="767" y="349"/>
                  </a:lnTo>
                  <a:lnTo>
                    <a:pt x="0" y="6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583320" y="5842080"/>
              <a:ext cx="933840" cy="113040"/>
            </a:xfrm>
            <a:custGeom>
              <a:avLst/>
              <a:gdLst/>
              <a:ahLst/>
              <a:rect l="0" t="0" r="r" b="b"/>
              <a:pathLst>
                <a:path w="2594" h="314">
                  <a:moveTo>
                    <a:pt x="0" y="314"/>
                  </a:moveTo>
                  <a:lnTo>
                    <a:pt x="196" y="0"/>
                  </a:lnTo>
                  <a:lnTo>
                    <a:pt x="1393" y="232"/>
                  </a:lnTo>
                  <a:lnTo>
                    <a:pt x="1306" y="314"/>
                  </a:lnTo>
                  <a:lnTo>
                    <a:pt x="1502" y="314"/>
                  </a:lnTo>
                  <a:lnTo>
                    <a:pt x="1336" y="208"/>
                  </a:lnTo>
                  <a:lnTo>
                    <a:pt x="2311" y="0"/>
                  </a:lnTo>
                  <a:lnTo>
                    <a:pt x="2594" y="314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4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656480" y="5853240"/>
              <a:ext cx="567000" cy="402120"/>
            </a:xfrm>
            <a:custGeom>
              <a:avLst/>
              <a:gdLst/>
              <a:ahLst/>
              <a:rect l="0" t="0" r="r" b="b"/>
              <a:pathLst>
                <a:path w="1575" h="1117">
                  <a:moveTo>
                    <a:pt x="0" y="189"/>
                  </a:moveTo>
                  <a:lnTo>
                    <a:pt x="0" y="789"/>
                  </a:lnTo>
                  <a:lnTo>
                    <a:pt x="138" y="789"/>
                  </a:lnTo>
                  <a:lnTo>
                    <a:pt x="138" y="1009"/>
                  </a:lnTo>
                  <a:lnTo>
                    <a:pt x="1575" y="1117"/>
                  </a:lnTo>
                  <a:lnTo>
                    <a:pt x="1575" y="872"/>
                  </a:lnTo>
                  <a:lnTo>
                    <a:pt x="1193" y="819"/>
                  </a:lnTo>
                  <a:lnTo>
                    <a:pt x="1193" y="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621400" y="6143760"/>
              <a:ext cx="2421360" cy="1800"/>
            </a:xfrm>
            <a:custGeom>
              <a:avLst/>
              <a:gdLst/>
              <a:ahLst/>
              <a:rect l="0" t="0" r="r" b="b"/>
              <a:pathLst>
                <a:path w="6726" h="5">
                  <a:moveTo>
                    <a:pt x="0" y="5"/>
                  </a:moveTo>
                  <a:lnTo>
                    <a:pt x="6726" y="5"/>
                  </a:lnTo>
                  <a:lnTo>
                    <a:pt x="5914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65640" y="5943600"/>
              <a:ext cx="679680" cy="122760"/>
            </a:xfrm>
            <a:custGeom>
              <a:avLst/>
              <a:gdLst/>
              <a:ahLst/>
              <a:rect l="0" t="0" r="r" b="b"/>
              <a:pathLst>
                <a:path w="1888" h="341">
                  <a:moveTo>
                    <a:pt x="0" y="341"/>
                  </a:moveTo>
                  <a:lnTo>
                    <a:pt x="86" y="107"/>
                  </a:lnTo>
                  <a:lnTo>
                    <a:pt x="304" y="107"/>
                  </a:lnTo>
                  <a:lnTo>
                    <a:pt x="500" y="53"/>
                  </a:lnTo>
                  <a:lnTo>
                    <a:pt x="804" y="53"/>
                  </a:lnTo>
                  <a:lnTo>
                    <a:pt x="970" y="127"/>
                  </a:lnTo>
                  <a:lnTo>
                    <a:pt x="1166" y="127"/>
                  </a:lnTo>
                  <a:lnTo>
                    <a:pt x="1362" y="205"/>
                  </a:lnTo>
                  <a:lnTo>
                    <a:pt x="1583" y="107"/>
                  </a:lnTo>
                  <a:lnTo>
                    <a:pt x="1666" y="0"/>
                  </a:lnTo>
                  <a:lnTo>
                    <a:pt x="1888" y="284"/>
                  </a:lnTo>
                  <a:lnTo>
                    <a:pt x="1692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696080" y="5772240"/>
              <a:ext cx="305280" cy="141480"/>
            </a:xfrm>
            <a:custGeom>
              <a:avLst/>
              <a:gdLst/>
              <a:ahLst/>
              <a:rect l="0" t="0" r="r" b="b"/>
              <a:pathLst>
                <a:path w="848" h="393">
                  <a:moveTo>
                    <a:pt x="0" y="393"/>
                  </a:moveTo>
                  <a:lnTo>
                    <a:pt x="55" y="161"/>
                  </a:lnTo>
                  <a:lnTo>
                    <a:pt x="741" y="0"/>
                  </a:lnTo>
                  <a:lnTo>
                    <a:pt x="848" y="23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051760" y="5772240"/>
              <a:ext cx="324360" cy="81360"/>
            </a:xfrm>
            <a:custGeom>
              <a:avLst/>
              <a:gdLst/>
              <a:ahLst/>
              <a:rect l="0" t="0" r="r" b="b"/>
              <a:pathLst>
                <a:path w="901" h="226">
                  <a:moveTo>
                    <a:pt x="901" y="154"/>
                  </a:moveTo>
                  <a:lnTo>
                    <a:pt x="738" y="154"/>
                  </a:lnTo>
                  <a:lnTo>
                    <a:pt x="656" y="0"/>
                  </a:lnTo>
                  <a:lnTo>
                    <a:pt x="192" y="27"/>
                  </a:lnTo>
                  <a:lnTo>
                    <a:pt x="111" y="175"/>
                  </a:lnTo>
                  <a:lnTo>
                    <a:pt x="0" y="226"/>
                  </a:lnTo>
                  <a:lnTo>
                    <a:pt x="326" y="203"/>
                  </a:lnTo>
                  <a:lnTo>
                    <a:pt x="901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259680" y="5834160"/>
              <a:ext cx="2370600" cy="130680"/>
            </a:xfrm>
            <a:custGeom>
              <a:avLst/>
              <a:gdLst/>
              <a:ahLst/>
              <a:rect l="0" t="0" r="r" b="b"/>
              <a:pathLst>
                <a:path w="6585" h="363">
                  <a:moveTo>
                    <a:pt x="166" y="310"/>
                  </a:moveTo>
                  <a:lnTo>
                    <a:pt x="3418" y="310"/>
                  </a:lnTo>
                  <a:lnTo>
                    <a:pt x="3975" y="210"/>
                  </a:lnTo>
                  <a:lnTo>
                    <a:pt x="5101" y="49"/>
                  </a:lnTo>
                  <a:lnTo>
                    <a:pt x="5882" y="0"/>
                  </a:lnTo>
                  <a:lnTo>
                    <a:pt x="6304" y="0"/>
                  </a:lnTo>
                  <a:lnTo>
                    <a:pt x="6585" y="255"/>
                  </a:lnTo>
                  <a:lnTo>
                    <a:pt x="6304" y="20"/>
                  </a:lnTo>
                  <a:lnTo>
                    <a:pt x="5044" y="73"/>
                  </a:lnTo>
                  <a:lnTo>
                    <a:pt x="3470" y="363"/>
                  </a:lnTo>
                  <a:lnTo>
                    <a:pt x="0" y="363"/>
                  </a:lnTo>
                  <a:lnTo>
                    <a:pt x="166" y="3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163000" y="6173640"/>
              <a:ext cx="90180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640720" y="4648320"/>
              <a:ext cx="11160" cy="831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850240" y="4610160"/>
              <a:ext cx="9360" cy="87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977320" y="4610160"/>
              <a:ext cx="7920" cy="87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310440" y="4869000"/>
              <a:ext cx="679680" cy="673560"/>
            </a:xfrm>
            <a:custGeom>
              <a:avLst/>
              <a:gdLst/>
              <a:ahLst/>
              <a:rect l="0" t="0" r="r" b="b"/>
              <a:pathLst>
                <a:path w="1888" h="1871">
                  <a:moveTo>
                    <a:pt x="1666" y="1871"/>
                  </a:moveTo>
                  <a:lnTo>
                    <a:pt x="878" y="1554"/>
                  </a:lnTo>
                  <a:lnTo>
                    <a:pt x="456" y="1480"/>
                  </a:lnTo>
                  <a:lnTo>
                    <a:pt x="243" y="1467"/>
                  </a:lnTo>
                  <a:lnTo>
                    <a:pt x="139" y="1462"/>
                  </a:lnTo>
                  <a:lnTo>
                    <a:pt x="26" y="1462"/>
                  </a:lnTo>
                  <a:lnTo>
                    <a:pt x="0" y="1462"/>
                  </a:lnTo>
                  <a:lnTo>
                    <a:pt x="143" y="1035"/>
                  </a:lnTo>
                  <a:lnTo>
                    <a:pt x="387" y="657"/>
                  </a:lnTo>
                  <a:lnTo>
                    <a:pt x="695" y="317"/>
                  </a:lnTo>
                  <a:lnTo>
                    <a:pt x="1057" y="0"/>
                  </a:lnTo>
                  <a:lnTo>
                    <a:pt x="1022" y="26"/>
                  </a:lnTo>
                  <a:lnTo>
                    <a:pt x="1014" y="256"/>
                  </a:lnTo>
                  <a:lnTo>
                    <a:pt x="1040" y="483"/>
                  </a:lnTo>
                  <a:lnTo>
                    <a:pt x="1201" y="901"/>
                  </a:lnTo>
                  <a:lnTo>
                    <a:pt x="1488" y="1244"/>
                  </a:lnTo>
                  <a:lnTo>
                    <a:pt x="1888" y="1484"/>
                  </a:lnTo>
                  <a:lnTo>
                    <a:pt x="1866" y="1580"/>
                  </a:lnTo>
                  <a:lnTo>
                    <a:pt x="1818" y="1702"/>
                  </a:lnTo>
                  <a:lnTo>
                    <a:pt x="1666" y="1871"/>
                  </a:lnTo>
                  <a:close/>
                </a:path>
              </a:pathLst>
            </a:custGeom>
            <a:solidFill>
              <a:srgbClr val="80a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916680" y="4979880"/>
              <a:ext cx="740160" cy="943200"/>
            </a:xfrm>
            <a:custGeom>
              <a:avLst/>
              <a:gdLst/>
              <a:ahLst/>
              <a:rect l="0" t="0" r="r" b="b"/>
              <a:pathLst>
                <a:path w="2056" h="2620">
                  <a:moveTo>
                    <a:pt x="2056" y="2594"/>
                  </a:moveTo>
                  <a:lnTo>
                    <a:pt x="1586" y="2031"/>
                  </a:lnTo>
                  <a:lnTo>
                    <a:pt x="1241" y="1424"/>
                  </a:lnTo>
                  <a:lnTo>
                    <a:pt x="1159" y="1100"/>
                  </a:lnTo>
                  <a:lnTo>
                    <a:pt x="1141" y="929"/>
                  </a:lnTo>
                  <a:lnTo>
                    <a:pt x="1141" y="842"/>
                  </a:lnTo>
                  <a:lnTo>
                    <a:pt x="1141" y="755"/>
                  </a:lnTo>
                  <a:lnTo>
                    <a:pt x="1211" y="392"/>
                  </a:lnTo>
                  <a:lnTo>
                    <a:pt x="1389" y="0"/>
                  </a:lnTo>
                  <a:lnTo>
                    <a:pt x="1224" y="82"/>
                  </a:lnTo>
                  <a:lnTo>
                    <a:pt x="828" y="375"/>
                  </a:lnTo>
                  <a:lnTo>
                    <a:pt x="483" y="729"/>
                  </a:lnTo>
                  <a:lnTo>
                    <a:pt x="204" y="1139"/>
                  </a:lnTo>
                  <a:lnTo>
                    <a:pt x="0" y="1598"/>
                  </a:lnTo>
                  <a:lnTo>
                    <a:pt x="87" y="1546"/>
                  </a:lnTo>
                  <a:lnTo>
                    <a:pt x="593" y="1725"/>
                  </a:lnTo>
                  <a:lnTo>
                    <a:pt x="1067" y="1965"/>
                  </a:lnTo>
                  <a:lnTo>
                    <a:pt x="1511" y="2266"/>
                  </a:lnTo>
                  <a:lnTo>
                    <a:pt x="1921" y="2620"/>
                  </a:lnTo>
                  <a:lnTo>
                    <a:pt x="2056" y="2594"/>
                  </a:lnTo>
                  <a:close/>
                </a:path>
              </a:pathLst>
            </a:custGeom>
            <a:solidFill>
              <a:srgbClr val="004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84920" y="5259240"/>
              <a:ext cx="375120" cy="413280"/>
            </a:xfrm>
            <a:custGeom>
              <a:avLst/>
              <a:gdLst/>
              <a:ahLst/>
              <a:rect l="0" t="0" r="r" b="b"/>
              <a:pathLst>
                <a:path w="1042" h="1148">
                  <a:moveTo>
                    <a:pt x="51" y="0"/>
                  </a:moveTo>
                  <a:lnTo>
                    <a:pt x="577" y="168"/>
                  </a:lnTo>
                  <a:lnTo>
                    <a:pt x="1042" y="410"/>
                  </a:lnTo>
                  <a:lnTo>
                    <a:pt x="770" y="410"/>
                  </a:lnTo>
                  <a:lnTo>
                    <a:pt x="905" y="768"/>
                  </a:lnTo>
                  <a:lnTo>
                    <a:pt x="986" y="1148"/>
                  </a:lnTo>
                  <a:lnTo>
                    <a:pt x="849" y="1040"/>
                  </a:lnTo>
                  <a:lnTo>
                    <a:pt x="740" y="984"/>
                  </a:lnTo>
                  <a:lnTo>
                    <a:pt x="633" y="1040"/>
                  </a:lnTo>
                  <a:lnTo>
                    <a:pt x="357" y="518"/>
                  </a:lnTo>
                  <a:lnTo>
                    <a:pt x="51" y="56"/>
                  </a:lnTo>
                  <a:lnTo>
                    <a:pt x="0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16680" y="5676840"/>
              <a:ext cx="294120" cy="317880"/>
            </a:xfrm>
            <a:custGeom>
              <a:avLst/>
              <a:gdLst/>
              <a:ahLst/>
              <a:rect l="0" t="0" r="r" b="b"/>
              <a:pathLst>
                <a:path w="817" h="883">
                  <a:moveTo>
                    <a:pt x="817" y="643"/>
                  </a:moveTo>
                  <a:lnTo>
                    <a:pt x="55" y="883"/>
                  </a:lnTo>
                  <a:lnTo>
                    <a:pt x="0" y="287"/>
                  </a:lnTo>
                  <a:lnTo>
                    <a:pt x="46" y="98"/>
                  </a:lnTo>
                  <a:lnTo>
                    <a:pt x="200" y="4"/>
                  </a:lnTo>
                  <a:lnTo>
                    <a:pt x="304" y="0"/>
                  </a:lnTo>
                  <a:lnTo>
                    <a:pt x="428" y="34"/>
                  </a:lnTo>
                  <a:lnTo>
                    <a:pt x="723" y="232"/>
                  </a:lnTo>
                  <a:lnTo>
                    <a:pt x="817" y="643"/>
                  </a:lnTo>
                  <a:close/>
                </a:path>
              </a:pathLst>
            </a:custGeom>
            <a:solidFill>
              <a:srgbClr val="80a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87960" y="5834160"/>
              <a:ext cx="2156040" cy="170280"/>
            </a:xfrm>
            <a:custGeom>
              <a:avLst/>
              <a:gdLst/>
              <a:ahLst/>
              <a:rect l="0" t="0" r="r" b="b"/>
              <a:pathLst>
                <a:path w="5989" h="473">
                  <a:moveTo>
                    <a:pt x="0" y="473"/>
                  </a:moveTo>
                  <a:lnTo>
                    <a:pt x="26" y="234"/>
                  </a:lnTo>
                  <a:lnTo>
                    <a:pt x="500" y="75"/>
                  </a:lnTo>
                  <a:lnTo>
                    <a:pt x="728" y="234"/>
                  </a:lnTo>
                  <a:lnTo>
                    <a:pt x="1567" y="259"/>
                  </a:lnTo>
                  <a:lnTo>
                    <a:pt x="3890" y="259"/>
                  </a:lnTo>
                  <a:lnTo>
                    <a:pt x="4448" y="180"/>
                  </a:lnTo>
                  <a:lnTo>
                    <a:pt x="4645" y="159"/>
                  </a:lnTo>
                  <a:lnTo>
                    <a:pt x="5291" y="50"/>
                  </a:lnTo>
                  <a:lnTo>
                    <a:pt x="5712" y="0"/>
                  </a:lnTo>
                  <a:lnTo>
                    <a:pt x="5989" y="20"/>
                  </a:lnTo>
                  <a:lnTo>
                    <a:pt x="5291" y="75"/>
                  </a:lnTo>
                  <a:lnTo>
                    <a:pt x="4338" y="259"/>
                  </a:lnTo>
                  <a:lnTo>
                    <a:pt x="4004" y="314"/>
                  </a:lnTo>
                  <a:lnTo>
                    <a:pt x="807" y="314"/>
                  </a:lnTo>
                  <a:lnTo>
                    <a:pt x="640" y="314"/>
                  </a:lnTo>
                  <a:lnTo>
                    <a:pt x="52" y="448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248760" y="4610160"/>
              <a:ext cx="7920" cy="87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374040" y="4610160"/>
              <a:ext cx="7920" cy="87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7628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068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