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 txBox="1"/>
          <p:nvPr/>
        </p:nvSpPr>
        <p:spPr>
          <a:xfrm>
            <a:off x="90360" y="6485040"/>
            <a:ext cx="2584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crosoft Windows 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68C8AB0A-4ECF-4686-A69C-D3F3090C4BD6}" type="slidenum"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Gets Seriou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nouncements at the 1994 Computer Game Developer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Are We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are committed to great multimedia support in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ames are the category of multimedia application that customers request the m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have a lot of work to do, but WinG and Chicago are a solid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’re here to lis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indows 3.1 Had To Of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vanced memory mana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large, active custome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zzzzt!  No thanks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33600" y="1914480"/>
            <a:ext cx="7015320" cy="479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117880" y="1812960"/>
            <a:ext cx="567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3 Computer Game Sal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32080" y="5927760"/>
            <a:ext cx="142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98560" y="5470560"/>
            <a:ext cx="76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895480" y="58672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76520" y="5486400"/>
            <a:ext cx="76176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937040" y="2994120"/>
            <a:ext cx="2927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MS-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03880" y="6224760"/>
            <a:ext cx="3995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: PC Data 1993 Annual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other stuf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G: Graphics Speed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lt blaster.  Approaches raw MS-DOS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ction pulled forward from Chicago.  Games that use it will run fast on Win3.1, Chicago and Windows 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tains Windows device independence advant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istributable at no 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es on Chica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2-bit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lexible multi-threading archite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digital video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network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MIDI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oiceView modem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D support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 Windows is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stomers want Windows g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uce your support cost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mem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 possibilitie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Graphics, Networking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Video, VoiceView, 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ff Camp</dc:creator>
  <dc:description/>
  <dc:language>en-US</dc:language>
  <cp:lastModifiedBy>Jeff Camp</cp:lastModifiedBy>
  <cp:revision>0</cp:revision>
  <dc:subject/>
  <dc:title>Microsoft Gets Serious About Fun</dc:title>
</cp:coreProperties>
</file>