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- </a:t>
            </a:r>
            <a:fld id="{7213DD0A-0146-4E69-A7D0-2AF6760FB553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2039760" y="1027080"/>
            <a:ext cx="5418000" cy="1508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REQUIR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22280" y="3133800"/>
            <a:ext cx="684864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ament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bject-oriente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alysis Princi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Analysis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d 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OO Data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al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Extensions for Real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echan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The Z Spec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Requirements Dictio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utomated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