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B2ECA3-BB4A-4EB6-A78B-97186DDDC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1280" y="173196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4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2720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1280" y="3972600"/>
            <a:ext cx="28033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870624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3480" y="29628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4600" y="397260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3480" y="29628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348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4600" y="1731960"/>
            <a:ext cx="42483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480" y="3972600"/>
            <a:ext cx="87062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B5D27F60-FB76-4C7B-90FC-50D52E1F0BFD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