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C - </a:t>
            </a:r>
            <a:fld id="{E39F88F3-F5DB-4FCB-A3D2-6F321D9E0ADD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36760" y="3622680"/>
            <a:ext cx="281952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54040" y="75888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08200" y="2489040"/>
            <a:ext cx="8067600" cy="32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dea is that the person planning the softwar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 a bounded statement of the scope of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omposes the scope into smaller sub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s LOC or FP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s baseline productivity metrics (e.g., LOC/person-month) to LOC or FP estimates to produce a cost or effort estimat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bines estimates for each subfunction to derive estimates for the entir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01640" y="1581120"/>
            <a:ext cx="35766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54040" y="91116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417680" y="3327480"/>
            <a:ext cx="66960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estimation techniques require less detail than 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 is estimate directly while FP is estimated in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5320" y="2190600"/>
            <a:ext cx="50180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ces Between LOC and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8640" y="682560"/>
            <a:ext cx="7689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ing LOC or FP to Estimate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55560" y="1498680"/>
            <a:ext cx="837252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Estimate LOC or FP values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historical data (or intuition, if necess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estimates: optimistic (o), most likely (m), and pessimistic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Calculate expected valu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Apply productivity data to get effort to be expended;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expected LOC or FP for all subfunctions and divide this by the expected LOC or FP completed per person-month (estimated from past projects);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10 expected FP for project/5.5 expected FP per person-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56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y each subfunction LOC or FP by the adjusted productivity value (based on the estimated complexity of the function) and sum the results for all subfunctions in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78680" y="2708280"/>
            <a:ext cx="18874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59372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1000" y="2793960"/>
            <a:ext cx="8906040" cy="33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pt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 Likely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ss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ected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$/Lin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e/Month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3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32,7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,3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7,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36,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,3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60,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3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,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8,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59,9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8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51,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3,3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656,6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656,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44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114640" y="758880"/>
            <a:ext cx="560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94000" y="2489040"/>
            <a:ext cx="66960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9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7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5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2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2,6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7,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08,0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708,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52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35280" y="606600"/>
            <a:ext cx="631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mpirical Estimatio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03280" y="1117440"/>
            <a:ext cx="86774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single-variable model (example: COCO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is the estimated characteristic (LOC, FP, effort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and d are constants derived from data collected from pas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, y, ...  and c, d, ... are as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source requirements are determined over a series of time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oretical (example: Putman Estimation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equations derived from hypothesized expenditure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19480" y="1608120"/>
            <a:ext cx="2303640" cy="338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083040" y="3805200"/>
            <a:ext cx="282096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89200" y="682560"/>
            <a:ext cx="22035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84160" y="1498680"/>
            <a:ext cx="791532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lves basic, intermediate, and advanced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, b(b), c(b), and d(b) are determined from the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idetach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bed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38160" y="2327400"/>
            <a:ext cx="5589720" cy="457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49600" y="2878200"/>
            <a:ext cx="56023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332080" y="7588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22600" y="1574640"/>
            <a:ext cx="6315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COCOMO basic model on the CAD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.0 (LOC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3.0 (33.3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 = 2.5 (Effort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2.5 (152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4.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us, estimated number of people 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 = Effort /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/ 1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1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155680" y="758880"/>
            <a:ext cx="568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tman Estim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08200" y="1422360"/>
            <a:ext cx="806760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is derived from larg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is applicable to smaller projec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tribution of effort is described by the Rayleigh-Norden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890720" y="4003560"/>
            <a:ext cx="7416720" cy="2486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436760" y="4221000"/>
            <a:ext cx="114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79760" y="36115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,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408560" y="3535200"/>
            <a:ext cx="1314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08760" y="3687840"/>
            <a:ext cx="1162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532640" y="4145040"/>
            <a:ext cx="1301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255680" y="6518160"/>
            <a:ext cx="7924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255680" y="3774960"/>
            <a:ext cx="0" cy="2743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98320" y="4221000"/>
            <a:ext cx="768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408560" y="6583320"/>
            <a:ext cx="62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70120" y="812880"/>
            <a:ext cx="794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65400" y="1650960"/>
            <a:ext cx="71532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omposi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LOC or FP to Estimat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irical Estim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C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tman Estim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625920" y="83520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60480" y="1803240"/>
            <a:ext cx="79153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tor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measures of qual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370240" y="75888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227480" y="15652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27480" y="3851280"/>
            <a:ext cx="236232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627280" y="3851280"/>
            <a:ext cx="1600200" cy="129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618000" y="286056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22560" y="2860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79760" y="28605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36960" y="308916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1880" y="347040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761000" y="39276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303800" y="4384800"/>
            <a:ext cx="4572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3922560" y="430848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618000" y="39276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465360" y="3546360"/>
            <a:ext cx="1526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465360" y="316548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08560" y="1477800"/>
            <a:ext cx="2317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gree of struct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,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618240" y="498312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of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08160" y="5059440"/>
            <a:ext cx="13399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t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522760" y="278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761000" y="2784600"/>
            <a:ext cx="76176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84720" y="2620800"/>
            <a:ext cx="191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-risk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30240" y="2343240"/>
            <a:ext cx="20541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473280" y="682560"/>
            <a:ext cx="2433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22600" y="2641680"/>
            <a:ext cx="623880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Statement of software scope must be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Software scope describ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122720" y="4384800"/>
            <a:ext cx="144792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884840" y="49179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503600" y="4917960"/>
            <a:ext cx="106704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627520" y="4678200"/>
            <a:ext cx="28051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01640" y="1581120"/>
            <a:ext cx="26463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22520" y="68256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01640" y="1352520"/>
            <a:ext cx="2612880" cy="159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0760" y="63658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950760" y="4156200"/>
            <a:ext cx="160020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50960" y="4156200"/>
            <a:ext cx="167652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12880" y="5299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69920" y="4830840"/>
            <a:ext cx="10954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31840" y="5668920"/>
            <a:ext cx="29066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/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59200" y="1882800"/>
            <a:ext cx="287964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d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373800" y="4321080"/>
            <a:ext cx="280368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08160" y="2860560"/>
            <a:ext cx="83844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770280" y="5451480"/>
            <a:ext cx="259092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293920" y="83520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36760" y="3089160"/>
            <a:ext cx="3276720" cy="1828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106880" y="3535200"/>
            <a:ext cx="145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08160" y="2544840"/>
            <a:ext cx="2152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intenanc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74640" y="3306600"/>
            <a:ext cx="193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typ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08160" y="4602240"/>
            <a:ext cx="1746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46440" y="5516640"/>
            <a:ext cx="2254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gramm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618240" y="4983120"/>
            <a:ext cx="153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alysi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sig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151760" y="4068720"/>
            <a:ext cx="1644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618240" y="3078000"/>
            <a:ext cx="233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65560" y="1782720"/>
            <a:ext cx="1987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932440" y="2087640"/>
            <a:ext cx="211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sines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77960" y="6000840"/>
            <a:ext cx="69134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- Computer-Aided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2784600"/>
            <a:ext cx="99036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27480" y="2022480"/>
            <a:ext cx="38088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675400" y="263196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513480" y="331776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208560" y="453708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608360" y="491796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932200" y="44607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27280" y="362268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6513480" y="415620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446200" y="75888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9080" y="2413080"/>
            <a:ext cx="738180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f existing software meets requirements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e and us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f existing software can meet requirements with some modifica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caref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st of modification can exceed the cost of new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6720" y="1504800"/>
            <a:ext cx="307008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use - 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811160" y="911160"/>
            <a:ext cx="606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51200" y="2336760"/>
            <a:ext cx="6010200" cy="14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