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674225" cy="73977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0CAEC-9337-40D5-A2E6-41DEE88C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basic concepts of Software Project Manag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Cost and Timing Est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factors, such a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fort (co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are difficult to determine in advance without information from previous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is vein, there is an emphasis on collectin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metr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and then using those metrics to mak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which are reasonably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ustry has traditionally not been good at collecting software metrics  on its projects be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osts money and takes time, both of which have a direct impact on a project, particularly if they were not planned for in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ng metrics can be tedious work -- something that many software practitioners tend to av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in industry is usually developed under the following sit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pa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support of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 an activity of research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first two cases, budgets are allocated based on the cost estimates.  If software is developed for a customer, the award of a contract may be on a firm, fixed-price basis or on a cost-plus or cost-reimbursabl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fore starting a development project, we m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Assess the risk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Develop a strategy for attack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Establish a mechanism for assessing th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002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Organize people who will be building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ge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:  Analysis and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: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: 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:  Walk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: 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: 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: Test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Pr: Test 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: Integr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T: Validation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720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1280" y="1730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4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720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1280" y="3971880"/>
            <a:ext cx="280332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3480" y="294840"/>
            <a:ext cx="870624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4600" y="3971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348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4600" y="1730880"/>
            <a:ext cx="424836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3480" y="3971880"/>
            <a:ext cx="8706240" cy="20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1280" y="422280"/>
            <a:ext cx="899172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68400" y="247680"/>
            <a:ext cx="2598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055000" y="6800760"/>
            <a:ext cx="960480" cy="76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- </a:t>
            </a:r>
            <a:fld id="{A120645B-176E-42E9-AC0C-A5EBC1D2D6D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3480" y="294840"/>
            <a:ext cx="870624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480" y="1730880"/>
            <a:ext cx="87062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38360" y="915840"/>
            <a:ext cx="6715080" cy="1596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</a:t>
            </a:r>
            <a:br>
              <a:rPr sz="4800"/>
            </a:b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89080" y="3403440"/>
            <a:ext cx="753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33600"/>
                <a:tab algn="l" pos="3657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etr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35120" y="83520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8200" y="1727280"/>
            <a:ext cx="8067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"thousand 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we can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KLOC / person-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in code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dollar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28576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of documents /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tabLst>
                <a:tab algn="l" pos="331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s and costs include all elements of software development (analysis, design, code, test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89080" y="835200"/>
            <a:ext cx="7311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ize-Oriented Metrics -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4600" y="1882800"/>
            <a:ext cx="6994440" cy="2657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8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4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2171520"/>
                <a:tab algn="l" pos="3543120"/>
                <a:tab algn="l" pos="4457880"/>
                <a:tab algn="l" pos="5829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4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263196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23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93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4188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799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51560" y="18702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35120" y="4397400"/>
            <a:ext cx="8061480" cy="2145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KLOC/p-month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rrors/K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$/LO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ages/KL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.8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3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6.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800280"/>
                <a:tab algn="l" pos="3085920"/>
                <a:tab algn="l" pos="49150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47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5.5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2160" y="514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92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888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47000" y="438480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5200" y="911160"/>
            <a:ext cx="8021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Size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8416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"lines of cod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alize well-designed short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not easily accommodate non-procedural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assess LOC before a program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known errors can be cou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, skill levels, and productivity of personnel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40040" y="758880"/>
            <a:ext cx="5962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Fi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79360" y="20988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06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368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080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37160" y="18702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367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3696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131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1332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89840" y="15541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57320" y="2697120"/>
            <a:ext cx="1098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655720" y="269712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id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32240" y="2697120"/>
            <a:ext cx="1111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08760" y="269712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32640" y="2697120"/>
            <a:ext cx="1263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17400" y="3556080"/>
            <a:ext cx="9058320" cy="46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reliable backu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8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master files updated on-lin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data communications required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 inputs, outputs, files, or inquiries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 there distributed processing func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internal processing comple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performance critica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code designed to be reus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the system run in an existing environment? 12. Are conversion and installation included in desig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system require on-line data entry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system designed for multiple installation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the on-line data entry require the inp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 organiz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to be built over multiple scree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1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the application designed to facilitate chang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199"/>
              </a:spcAft>
              <a:tabLst>
                <a:tab algn="l" pos="3543120"/>
                <a:tab algn="l" pos="3886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operation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se of u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33600" y="835200"/>
            <a:ext cx="677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960" y="1727280"/>
            <a:ext cx="88297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6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5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10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660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660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4660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4660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4660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556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13680" y="2936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13680" y="33177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13680" y="36990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13680" y="40798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61400" y="49179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93760" y="514656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20840" y="568476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284640" y="911160"/>
            <a:ext cx="327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01880" y="2087640"/>
            <a:ext cx="5861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 Point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or Technica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69960" y="3479760"/>
            <a:ext cx="6696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 were originally designed for business information systems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nsions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pply to technical software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are a bounded computational problem that is included within a specific computer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4144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eature Points - Compu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36800" y="1498680"/>
            <a:ext cx="761040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 Parame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xternal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  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3085920"/>
                <a:tab algn="l" pos="4000680"/>
                <a:tab algn="l" pos="4915080"/>
                <a:tab algn="l" pos="59436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nt -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5608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5608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5608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608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1560" y="2327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1560" y="2708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3089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1560" y="3470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51560" y="385128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99280" y="514656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3600" y="537516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5608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51560" y="423216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20840" y="5761080"/>
            <a:ext cx="702792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68360" y="911160"/>
            <a:ext cx="68007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blems with Function Points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Featur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65400" y="2489040"/>
            <a:ext cx="730584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trics are based on subjectiv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s can be difficult to obtain after-the-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Feature Points have no direct physical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51200" y="835200"/>
            <a:ext cx="5784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-Oriented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6640" y="3699000"/>
            <a:ext cx="8001000" cy="28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6960" y="1727280"/>
            <a:ext cx="8753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cus is on "functionality" or "utilit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Function Points and Feature Points support the derivation of potentially useful data for the comparison of one project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16160" indent="-857160">
              <a:lnSpc>
                <a:spcPct val="103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 = FP / perso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= defect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= $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85716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 = pages /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08200" y="911160"/>
            <a:ext cx="611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 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179800" y="1955880"/>
            <a:ext cx="547704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Delivery (most widely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defects uncovered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43440" y="660240"/>
            <a:ext cx="1797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398760" y="2031840"/>
            <a:ext cx="2733840" cy="31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4000"/>
              </a:lnSpc>
              <a:spcAft>
                <a:spcPts val="1247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31800" y="835200"/>
            <a:ext cx="6931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08200" y="1727280"/>
            <a:ext cx="791532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defects/KLOC or defects/FP over a on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tain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mean-time-to-change (MTTC), which is the time requi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alyze the change reque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 modification to th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th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the changed software and the system as a whol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 the changed system to th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390680" y="758880"/>
            <a:ext cx="7058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fter Delivery” Quality Metrics,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8200" y="2031840"/>
            <a:ext cx="844884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threats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a specific attack will take place within a given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probability that the attack of a specific type will be rep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9000"/>
              </a:lnSpc>
              <a:spcAft>
                <a:spcPts val="132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ab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based on several perceptions of the us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ill required to use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required to learn the use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crease in productivity from using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9000"/>
              </a:lnSpc>
              <a:spcAft>
                <a:spcPts val="1321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er's attitude towards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19400" y="3963960"/>
            <a:ext cx="5234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16080" y="682560"/>
            <a:ext cx="5759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lationship of LOC to F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9080" y="1346040"/>
            <a:ext cx="7305840" cy="52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of lines of code to feature points is a function of the programming language used and the quality of the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77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estimates of the number of lines of code to create on feature point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/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emb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B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TR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th Generation Langu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Code Genera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47600" y="682560"/>
            <a:ext cx="7437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e of Software Productivit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5560" y="1498680"/>
            <a:ext cx="8296200" cy="46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not  use LOC/person-month or FP/person-mont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ne group of developers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e the performance of an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  <a:tabLst>
                <a:tab algn="l" pos="4686120"/>
                <a:tab algn="l" pos="6039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factors affect producti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ximate %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in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 (number, experienc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 (complexity, number of chang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(language, CAS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 (reliability, environment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2000"/>
              </a:lnSpc>
              <a:spcAft>
                <a:spcPts val="1225"/>
              </a:spcAft>
              <a:tabLst>
                <a:tab algn="l" pos="4228920"/>
                <a:tab algn="l" pos="5581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 (CASE, hardware, softwa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17680" y="835200"/>
            <a:ext cx="670068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tegrating Metrics into the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Engineer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60480" y="2336760"/>
            <a:ext cx="77630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storical baseline of metrics data i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ny, department, or unit should be identified in the scope of this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stance to data collection should be expected in many corporate cul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hree years of accurate, standardized metric data collection is needed to produce accurate planning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7120" y="682560"/>
            <a:ext cx="6091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llecting 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60480" y="1422360"/>
            <a:ext cx="768672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collecting and using software metrics includes the following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slides show a spreadsheet model for the collection and computation of historical software baselin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5680" y="4537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5680" y="568008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27680" y="4613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7680" y="5756400"/>
            <a:ext cx="1981080" cy="9144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65360" y="438480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70280" y="514656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51160" y="5908680"/>
            <a:ext cx="16002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590840" y="4602240"/>
            <a:ext cx="14158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741320" y="5973840"/>
            <a:ext cx="1060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313320" y="4906800"/>
            <a:ext cx="116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84720" y="6049800"/>
            <a:ext cx="14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494160" y="4449600"/>
            <a:ext cx="120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798720" y="52117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79960" y="5973840"/>
            <a:ext cx="1251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94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co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erson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,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bor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/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 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nume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staff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 to comp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ly develo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2080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or Metrics Computation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errors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2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to 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 corr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65400" y="1270080"/>
            <a:ext cx="7229520" cy="27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085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of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 and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628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- Describ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65400" y="1270080"/>
            <a:ext cx="722952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No. of user in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No. of user outpu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, 5, 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No. of user inqui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, 4,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No. of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, 10, 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No. of ext. interfa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, 7, 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701880" y="91116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08200" y="1727280"/>
            <a:ext cx="79916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ccessfully manage software development, the project leader must determ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work to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in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at will b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accomp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cost) that will be exp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be fo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begins before the technical work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management ends when the software is ret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65400" y="1270080"/>
            <a:ext cx="7229520" cy="60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422892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Data,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377172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ing Complexity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 backup and recovery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 data communication requir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distributed processing fun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 performance critic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 heavily utilized operating environ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 online data en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input transaction with multiple scree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. master files updated on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. input, output, files, queries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internal processing compl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code designed to be reus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nversion/installation included in desig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. system design for multiple install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3314880"/>
                <a:tab algn="l" pos="4228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4. maintainability/ease of us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73080" y="68256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265400" y="1270080"/>
            <a:ext cx="72295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OC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2,5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exclude 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,0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h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p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K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err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73080" y="606600"/>
            <a:ext cx="7742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preadsheet Data Col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65400" y="1270080"/>
            <a:ext cx="722952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t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331488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vity an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p-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- all co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apsed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/mon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ge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  <a:tabLst>
                <a:tab algn="l" pos="2857680"/>
                <a:tab algn="l" pos="4686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0000"/>
              </a:lnSpc>
              <a:spcAft>
                <a:spcPts val="1199"/>
              </a:spcAft>
              <a:tabLst>
                <a:tab algn="l" pos="2400480"/>
                <a:tab algn="l" pos="4228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rors/F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70120" y="812880"/>
            <a:ext cx="7943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65400" y="1650960"/>
            <a:ext cx="71532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ompo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LOC or FP to Estim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 by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irical Estim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3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man Estim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625920" y="835200"/>
            <a:ext cx="2128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60480" y="1803240"/>
            <a:ext cx="79153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  <a:tabLst>
                <a:tab algn="l" pos="571680"/>
                <a:tab algn="l" pos="914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measures of qual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370240" y="75888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227480" y="15652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27480" y="3851280"/>
            <a:ext cx="236232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627280" y="3851280"/>
            <a:ext cx="160020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18000" y="286056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22560" y="28605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79760" y="28605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36960" y="308916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1880" y="3470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61000" y="392760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303800" y="438480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22560" y="430848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618000" y="39276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3465360" y="354636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465360" y="316548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408560" y="1477800"/>
            <a:ext cx="23176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gree of struc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,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18240" y="4983120"/>
            <a:ext cx="1479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of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8160" y="5059440"/>
            <a:ext cx="13399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522760" y="278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761000" y="2784600"/>
            <a:ext cx="76176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84720" y="2620800"/>
            <a:ext cx="191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-risk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30240" y="2343240"/>
            <a:ext cx="20541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R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73280" y="682560"/>
            <a:ext cx="2433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22600" y="2641680"/>
            <a:ext cx="62388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tatement of software scope must be b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oftware scope describ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22720" y="4384800"/>
            <a:ext cx="144792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84840" y="49179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503600" y="491796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627520" y="4678200"/>
            <a:ext cx="28051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aluat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01640" y="1581120"/>
            <a:ext cx="264636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22520" y="68256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01640" y="1352520"/>
            <a:ext cx="2612880" cy="159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Tas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636588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950760" y="4156200"/>
            <a:ext cx="160020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50960" y="4156200"/>
            <a:ext cx="1676520" cy="2209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12880" y="5299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969920" y="4830840"/>
            <a:ext cx="109548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31840" y="5668920"/>
            <a:ext cx="29066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/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59200" y="1882800"/>
            <a:ext cx="287964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3800" y="4321080"/>
            <a:ext cx="2803680" cy="20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008160" y="2860560"/>
            <a:ext cx="83844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70280" y="5451480"/>
            <a:ext cx="25909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293920" y="83520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760" y="3089160"/>
            <a:ext cx="3276720" cy="1828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06880" y="3535200"/>
            <a:ext cx="145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208160" y="2544840"/>
            <a:ext cx="2152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intenanc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74640" y="3306600"/>
            <a:ext cx="193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totyp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08160" y="4602240"/>
            <a:ext cx="1746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s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646440" y="5516640"/>
            <a:ext cx="2254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gramm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18240" y="4983120"/>
            <a:ext cx="153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alysi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151760" y="4068720"/>
            <a:ext cx="16444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618240" y="3078000"/>
            <a:ext cx="233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65560" y="1782720"/>
            <a:ext cx="1987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work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932440" y="2087640"/>
            <a:ext cx="2116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77960" y="6000840"/>
            <a:ext cx="69134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SE - Computer-Aided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3600" y="2784600"/>
            <a:ext cx="99036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27480" y="2022480"/>
            <a:ext cx="38088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675400" y="263196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513480" y="33177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208560" y="45370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608360" y="491796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932200" y="446076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362268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6513480" y="415620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46200" y="758880"/>
            <a:ext cx="4946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sour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9080" y="2413080"/>
            <a:ext cx="73818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f existing software meets requirements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quire and us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If existing software can meet requirements with some modifica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care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st of modification can exceed the cost of new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6720" y="1504800"/>
            <a:ext cx="307008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use -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94120" y="1063800"/>
            <a:ext cx="46432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verview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" y="110808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6560" y="217476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08160" y="3241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79760" y="4384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1360" y="5527800"/>
            <a:ext cx="2743200" cy="76212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8320" y="1173240"/>
            <a:ext cx="2139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Objectiv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41320" y="2239920"/>
            <a:ext cx="2241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ntify Metric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12920" y="3306600"/>
            <a:ext cx="2305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 Time, 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,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0840" y="4449600"/>
            <a:ext cx="1517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orm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2440" y="5592600"/>
            <a:ext cx="229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, Track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7080" y="1870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7080" y="2479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8680" y="2936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98680" y="362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93960" y="4003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93960" y="4765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65560" y="51465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65560" y="590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25920" y="2114640"/>
            <a:ext cx="3375000" cy="4986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811160" y="911160"/>
            <a:ext cx="6064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951200" y="2336760"/>
            <a:ext cx="6010200" cy="14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5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554040" y="75888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2489040"/>
            <a:ext cx="8067600" cy="32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dea is that the person planning the softwar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s a bounded statement of the scope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omposes the scope into smaller sub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s LOC or FP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baseline productivity metrics (e.g., LOC/person-month) to LOC or FP estimates to produce a cost or effort estimat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bines estimates for each subfunction to derive estimates for the entir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1640" y="1581120"/>
            <a:ext cx="35766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 and FP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54040" y="911160"/>
            <a:ext cx="857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composition Techniqu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417680" y="3327480"/>
            <a:ext cx="66960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estimation techniques require less detail than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Aft>
                <a:spcPts val="129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 is estimate directly while FP is estimated in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25320" y="2190600"/>
            <a:ext cx="501804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ces Between LOC and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8640" y="682560"/>
            <a:ext cx="76899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Using LOC or FP to Estimate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5560" y="1498680"/>
            <a:ext cx="837252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Estimate LOC or FP values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historical data (or intuition, if necess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e estimates: optimistic (o), most likely (m), and pessimistic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Calculate expected value for each sub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Apply productivity data to get effort to be expended;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expected LOC or FP for all subfunctions and divide this by the expected LOC or FP completed per person-month (estimated from past projects);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10 expected FP for project/5.5 expected FP per person-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56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y each subfunction LOC or FP by the adjusted productivity value (based on the estimated complexity of the function) and sum the results for all subfunctions in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78680" y="2708280"/>
            <a:ext cx="18874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1593720" y="835200"/>
            <a:ext cx="6496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1000" y="2793960"/>
            <a:ext cx="8906040" cy="33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pt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Likely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ssimistic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ecte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/Lin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ne/Mont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3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32,7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,3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7,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36,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,3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60,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3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0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,9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08,9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,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2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 59,9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6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8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151,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8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3,3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$656,68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656,6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44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2114640" y="758880"/>
            <a:ext cx="5608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ffort Estimation by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835360" y="1657440"/>
            <a:ext cx="3697200" cy="49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D Program Exam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94000" y="2489040"/>
            <a:ext cx="669600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unctio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interface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9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-D geometric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structure mgm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aphics displa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2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ipheral contro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6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1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5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7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4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1.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6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0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5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2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tabLst>
                <a:tab algn="l" pos="1486080"/>
                <a:tab algn="l" pos="2400480"/>
                <a:tab algn="l" pos="3429000"/>
                <a:tab algn="l" pos="4457880"/>
                <a:tab algn="l" pos="5372280"/>
                <a:tab algn="l" pos="6057720"/>
                <a:tab algn="l" pos="6972120"/>
                <a:tab algn="l" pos="7772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($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5,4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92,8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2,6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7,2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08,0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79560" y="6049800"/>
            <a:ext cx="436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Cost: $ 708,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imated Effort:  152.5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835280" y="606600"/>
            <a:ext cx="6319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mpirical Estimation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3280" y="1117440"/>
            <a:ext cx="86774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single-variable model (example: COCO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 is the estimated characteristic (LOC, FP, effort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and d are constants derived from data collected from pas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 algn="ctr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, y, ...  and c, d, ... are a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multivariabl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source requirements are determined over a series of time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oretical (example: Putman Estimation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equations derived from hypothesized expenditure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219480" y="1608120"/>
            <a:ext cx="230364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083040" y="3805200"/>
            <a:ext cx="282096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589200" y="682560"/>
            <a:ext cx="2203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4160" y="1498680"/>
            <a:ext cx="791532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olves basic, intermediate, and advanc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, b(b), c(b), and d(b) are determined from th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(b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detach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2171520"/>
                <a:tab algn="l" pos="3085920"/>
                <a:tab algn="l" pos="4000680"/>
                <a:tab algn="l" pos="491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be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838160" y="2327400"/>
            <a:ext cx="5589720" cy="4572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49600" y="2878200"/>
            <a:ext cx="56023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332080" y="758880"/>
            <a:ext cx="4718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COMO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722600" y="1574640"/>
            <a:ext cx="6315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COCOMO basic model on the CAD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ort = 3.0 (LOC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3.0 (33.3) ^ 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person-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 = 2.5 (Effort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2.5 (152) ^ 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4.5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estimated number of people 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 = Effort / Developmen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52 / 1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11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155680" y="758880"/>
            <a:ext cx="568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tman Estim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08200" y="1422360"/>
            <a:ext cx="80676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is derived from large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is applicable to smaller projec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of effort is described by the Rayleigh-Norden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890720" y="4003560"/>
            <a:ext cx="7416720" cy="2486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1436760" y="4221000"/>
            <a:ext cx="114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579760" y="36115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,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408560" y="3535200"/>
            <a:ext cx="1314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08760" y="3687840"/>
            <a:ext cx="11620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532640" y="4145040"/>
            <a:ext cx="13017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255680" y="6518160"/>
            <a:ext cx="7924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55680" y="377496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98320" y="4221000"/>
            <a:ext cx="768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408560" y="6583320"/>
            <a:ext cx="62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46280" y="660240"/>
            <a:ext cx="4896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69960" y="1270080"/>
            <a:ext cx="68486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 Measure Softw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Types of Measu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ing Softwa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of LOC t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Productivit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ating Metrics into the Softwar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ng Softwar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38400" y="660240"/>
            <a:ext cx="7512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408400" y="1270080"/>
            <a:ext cx="501984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Software Project Planning Inv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onitoring -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Project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 Task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es to Proj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cquisition Decision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tional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hancements to a Good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oftware Project Plan (S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43160" y="682560"/>
            <a:ext cx="7004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at Software Project Plann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60480" y="1955880"/>
            <a:ext cx="76104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.  Esti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 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 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.  Acquisition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5. 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6.  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156120" y="835200"/>
            <a:ext cx="306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322360" y="187020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2360" y="537516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8160" y="2087640"/>
            <a:ext cx="111132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494160" y="5364000"/>
            <a:ext cx="2394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Cost Over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5880" y="2860560"/>
            <a:ext cx="7632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32200" y="324180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08160" y="354636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60800" y="38512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89400" y="415620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93960" y="446076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8880" y="468936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9760" y="4842000"/>
            <a:ext cx="457200" cy="75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36960" y="49179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855880" y="20988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55880" y="3317760"/>
            <a:ext cx="228600" cy="1522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160800" y="247968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37160" y="2163600"/>
            <a:ext cx="3651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 Point (Cost/Time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rmination Will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1200" y="682560"/>
            <a:ext cx="3983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31880" y="1270080"/>
            <a:ext cx="8220240" cy="54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risk management and monitor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ach risk triplet, define the risk managemen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incurs additional project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arger projects, there may be 30-40 risks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= High staf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lihood of occurrence =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= Increase project time by 15%, project cost by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 Management steps may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Identify high turnover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Reduce causes before project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Develop techniques to assure work continuity in light of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152360" y="911160"/>
            <a:ext cx="75391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sk Monitoring -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027160" y="2336760"/>
            <a:ext cx="5705640" cy="23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if predicted risk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ly apply risk avers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info for future 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77156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408400" y="2031840"/>
            <a:ext cx="5095800" cy="26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69560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782720" y="1401840"/>
            <a:ext cx="60148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ople-Work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6800" y="2031840"/>
            <a:ext cx="7534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project when behind schedule is counterproductive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fewer people over a longer period of time is more beneficial than lots of people for a shorter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small, tightly-knit teams is 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369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pire creativity and self-motivation within the structure 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619280" y="83520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287360" y="1482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216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4800" y="38512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7080" y="40035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79360" y="41562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7080" y="36990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43084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84280" y="44607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36560" y="461340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0" y="476568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491796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27080" y="34704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79360" y="3622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93560" y="2281320"/>
            <a:ext cx="8686800" cy="4313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46040" y="3078000"/>
            <a:ext cx="996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2081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5572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4845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856120" y="2239920"/>
            <a:ext cx="311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618240" y="2239920"/>
            <a:ext cx="235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03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98720" y="223992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066160" y="3763800"/>
            <a:ext cx="29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751960" y="37638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23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893960" y="368784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655720" y="6278400"/>
            <a:ext cx="3873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484520" y="6278400"/>
            <a:ext cx="476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389640" y="6278400"/>
            <a:ext cx="260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5280" y="3503520"/>
            <a:ext cx="228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287360" y="14018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60480" y="2031840"/>
            <a:ext cx="7763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Sequent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nalysis an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requirement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architecture and dat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reliminary desig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69560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28736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46280" y="1955880"/>
            <a:ext cx="639144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llel Events for Each Sub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1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dur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2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estone P3 Occurs After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t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774880" y="758880"/>
            <a:ext cx="44402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asur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69960" y="1498680"/>
            <a:ext cx="6543720" cy="32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ly measuring software is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jects use only "lines of code" (LOC) for metr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ch disagreement exists on what and how much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ly measuring software is vitally important to tracking and controlling software 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6400" y="628956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5509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0960" y="51465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5360" y="51465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3797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79760" y="5908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4160" y="59086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5720" y="6354720"/>
            <a:ext cx="5778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79960" y="6354720"/>
            <a:ext cx="1327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46400" y="507060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56120" y="5059440"/>
            <a:ext cx="1898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1619280" y="6825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363680" y="12542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12760" y="1955880"/>
            <a:ext cx="738180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2000"/>
              </a:lnSpc>
              <a:spcAft>
                <a:spcPts val="1225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ing Activities Can Be Perform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ing Milestone (After Unit Testing)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 tes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67000" y="9874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35080" y="1711440"/>
            <a:ext cx="6853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sk Definition and 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227240" y="2641680"/>
            <a:ext cx="7229520" cy="18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ion Test Milestone - completed after system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Test Milestone - complet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24200" y="91116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90960" y="1554120"/>
            <a:ext cx="4006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ff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60800" y="2403360"/>
            <a:ext cx="358128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13280" y="240336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13280" y="400356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494160" y="3230640"/>
            <a:ext cx="10350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0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018040" y="2849400"/>
            <a:ext cx="128916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b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0-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941720" y="4830840"/>
            <a:ext cx="1035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5-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619280" y="758880"/>
            <a:ext cx="6294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Project Sched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430360" y="1325520"/>
            <a:ext cx="4565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heduling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79600" y="1955880"/>
            <a:ext cx="837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Evaluation and Review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6000"/>
              </a:lnSpc>
              <a:spcAft>
                <a:spcPts val="1273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PM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93720" y="3022560"/>
            <a:ext cx="8296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3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T and CP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presented pictor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 tools for the planner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likely tim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3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undary times (earliest task start time, latest task start time, earliest task finish time, latest task finish time, total floa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382840" y="1216080"/>
            <a:ext cx="4770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ical Task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60600" y="33177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60600" y="3546360"/>
            <a:ext cx="114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981000" y="2662200"/>
            <a:ext cx="8047080" cy="3855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589040" y="3611520"/>
            <a:ext cx="8762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36960" y="3611520"/>
            <a:ext cx="776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0840" y="2620800"/>
            <a:ext cx="668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g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06840" y="4525920"/>
            <a:ext cx="836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389640" y="3763800"/>
            <a:ext cx="8460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837560" y="3763800"/>
            <a:ext cx="865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36960" y="5821200"/>
            <a:ext cx="9748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s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0840" y="5897520"/>
            <a:ext cx="7570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465960" y="5897520"/>
            <a:ext cx="10638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890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960640" y="429732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0840" y="33066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484520" y="51354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1332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761240" y="437364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606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0840" y="6507000"/>
            <a:ext cx="2221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89640" y="6507000"/>
            <a:ext cx="349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512720" y="3306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4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60640" y="338292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408560" y="23922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484520" y="42210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2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313320" y="345924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8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84920" y="345924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96064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25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484520" y="5592600"/>
            <a:ext cx="8571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/3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389640" y="5592600"/>
            <a:ext cx="730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/1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263600" y="1063800"/>
            <a:ext cx="70056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pproaches to Project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60480" y="2260440"/>
            <a:ext cx="761040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ing periodic project status meetings in which each team member reports progress and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results of all reviews conducted throughout the engineer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ing whether formal project milestones have been accomplished by the scheduled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ing the actual start date to the planned start date for each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ing informally with software engineers to obtain their subjective assessments of the progress to date and problems on the hor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370240" y="835200"/>
            <a:ext cx="4641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646280" y="1727280"/>
            <a:ext cx="63914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or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o will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nd modif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ct outside contractor to bui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d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ier delivery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or properly skilled people to 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46080" y="682560"/>
            <a:ext cx="7640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Acqusition Decision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31880" y="1346040"/>
            <a:ext cx="8143920" cy="61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8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7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9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out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3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943280"/>
                <a:tab algn="l" pos="468612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chan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65160" y="1870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46400" y="187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46400" y="232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65160" y="31654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46400" y="3165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46400" y="362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65160" y="47656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46400" y="476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6400" y="522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865160" y="59850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46400" y="598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46400" y="6442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61000" y="35463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141880" y="35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1880" y="400356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51160" y="194616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51160" y="2327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13280" y="31654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94360" y="35463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94360" y="4003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13280" y="48420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13280" y="51465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65560" y="5985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560" y="644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925640" y="987480"/>
            <a:ext cx="5532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oftware Re-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74600" y="2108160"/>
            <a:ext cx="753444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often-used programs, build a controlled database of components for al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documents, source code, user's guide, maintenance guide, test procedures and data, and a history of use with the com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re-engineering may be enhanced by object-oriented design an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2255760" y="682560"/>
            <a:ext cx="5327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rganizationa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55560" y="1346040"/>
            <a:ext cx="8296200" cy="55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are lots  of human organizational structures for softwa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/>
              <a:buChar char=""/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ilities - consider N people working for K years on M different functiona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Assign N people to M tas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M &lt; N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Assign N people to T team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g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eam resp. for 1 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1028880"/>
                <a:tab algn="l" pos="4457880"/>
                <a:tab algn="l" pos="6057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28760" y="911160"/>
            <a:ext cx="538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hy Measure Softw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6800" y="2108160"/>
            <a:ext cx="76104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quality of the softwar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productivity of the software develo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ess benefits of using development processes and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a baseline for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ify requests for tools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579600" y="1139760"/>
            <a:ext cx="852948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nhancements to a Good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112760" y="2413080"/>
            <a:ext cx="761040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hief Programm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ftware Libr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247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oless programming with a tea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1379520" y="682560"/>
            <a:ext cx="70819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Software Project Plan (SP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60480" y="1498680"/>
            <a:ext cx="776304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ef document which describes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cope of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ources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sks and risk avoidance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and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2000"/>
              </a:lnSpc>
              <a:spcAft>
                <a:spcPts val="1225"/>
              </a:spcAft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approach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, technical staff, and customer are the primary reads of the S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225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PP provides a starting point for the rest of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47800" y="835200"/>
            <a:ext cx="63453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wo Types of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320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rec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execu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binary code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memor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5961240"/>
            <a:ext cx="95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18200" y="1946160"/>
            <a:ext cx="335268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50000"/>
              <a:buFont typeface="Wingdings"/>
              <a:buChar char="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-  "-ilitie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asy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776680" y="911160"/>
            <a:ext cx="4745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ategories of Metr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3600" y="29368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430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3600" y="56800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88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5628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61400" y="20224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93720" y="2544840"/>
            <a:ext cx="20606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ze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93720" y="3916440"/>
            <a:ext cx="27367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0040" y="5288040"/>
            <a:ext cx="2482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man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65560" y="1706400"/>
            <a:ext cx="1857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4320" y="1747800"/>
            <a:ext cx="112860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323120" y="1747800"/>
            <a:ext cx="150192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