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C8BC30-7E24-4A46-8667-54411A72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6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idea that software is much more than just code -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ginee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oftware is composed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nclude documents, data, and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history of software development, including its evolution into a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of the problems with doing software development, particularly when there is more than one perso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many myths about software development and explain why some of these myths are falla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everal different software engineering paradigms,  showing different methods for developing engineered softw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ic "waterfall"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pid 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piral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binations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some of the technologies used in the support of software engineer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-Aided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(C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- </a:t>
            </a:r>
            <a:fld id="{972BD88C-3115-4830-9B28-26B8C979E57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42880" y="874800"/>
            <a:ext cx="810432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and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17720" y="2981160"/>
            <a:ext cx="380052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d Configur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story of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s a Business 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979880" y="2981160"/>
            <a:ext cx="32670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s about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ed Software Develop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