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87520" y="18720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45480" y="674064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- </a:t>
            </a:r>
            <a:fld id="{03DC53DE-004F-4A44-B06E-A051D2591DF0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55640" y="1160640"/>
            <a:ext cx="6184800" cy="86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89000" y="2790720"/>
            <a:ext cx="5991120" cy="33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-Oriented Desig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Interfac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070000" y="101916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olution of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1240" y="31622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65160" y="4038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17800" y="3219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0760" y="40766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6120" y="255276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7600" y="3257640"/>
            <a:ext cx="34272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74760" y="3048120"/>
            <a:ext cx="2286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3086280"/>
            <a:ext cx="20952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8240" y="380988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22480" y="3733920"/>
            <a:ext cx="56880" cy="342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627280" y="3448080"/>
            <a:ext cx="3808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5680" y="4648320"/>
            <a:ext cx="1908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036880" y="464832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65800" y="20764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65800" y="31050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0080" y="30862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086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702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27720" y="501012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89320" y="499104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94640" y="40194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94640" y="31240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80040" y="2666880"/>
            <a:ext cx="144792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08880" y="2666880"/>
            <a:ext cx="1466640" cy="476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551480" y="3657600"/>
            <a:ext cx="571320" cy="41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22800" y="3676680"/>
            <a:ext cx="62856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51480" y="462924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7044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27960" y="2629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5520" y="371484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7960" y="3695760"/>
            <a:ext cx="146664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532400" y="4648320"/>
            <a:ext cx="123804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70000" y="5607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227560" y="59878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03240" y="1019160"/>
            <a:ext cx="5429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ucture Chart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4240" y="2114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4240" y="31431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8160" y="31240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70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986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6160" y="50482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7760" y="5029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23080" y="4057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23080" y="31622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08480" y="270504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36960" y="2705040"/>
            <a:ext cx="146700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779560" y="3695760"/>
            <a:ext cx="57168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71484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9560" y="46674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8880" y="46864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604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3960" y="375300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6040" y="373392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60840" y="4686480"/>
            <a:ext cx="123804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98440" y="2133720"/>
            <a:ext cx="3105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198440" y="5600880"/>
            <a:ext cx="104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89240" y="428616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389240" y="2133720"/>
            <a:ext cx="0" cy="1562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8640" y="379728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265880" y="3625920"/>
            <a:ext cx="781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408720" y="267336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6840" y="57722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47040" y="48769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3720" y="62676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455920" y="6248520"/>
            <a:ext cx="1466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084560" y="610236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351400" y="2762280"/>
            <a:ext cx="9334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475320" y="3772080"/>
            <a:ext cx="6858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43120" y="1019160"/>
            <a:ext cx="1949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7760" y="19051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7760" y="2933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2040" y="2914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22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79680" y="48387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280" y="48196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46600" y="38480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46600" y="2952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332000" y="249552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60840" y="2495520"/>
            <a:ext cx="146664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03440" y="3486240"/>
            <a:ext cx="57132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74760" y="350532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3440" y="445788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22400" y="447660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9560" y="24573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27480" y="354348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560" y="352440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4360" y="4476600"/>
            <a:ext cx="1238040" cy="3621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41920" y="28954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703920" y="4057560"/>
            <a:ext cx="390600" cy="31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13640" y="4371840"/>
            <a:ext cx="39996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113600" y="4371840"/>
            <a:ext cx="39060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113600" y="4057560"/>
            <a:ext cx="39996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104240" y="352440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04240" y="46767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56640" y="40672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4520" y="240048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70720" y="521964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1640" y="213372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4200" y="436248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408880" y="3819600"/>
            <a:ext cx="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104240" y="3819600"/>
            <a:ext cx="1304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751280" y="2181240"/>
            <a:ext cx="1581120" cy="157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70360" y="4457880"/>
            <a:ext cx="1609920" cy="100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455840" y="57592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6840" y="5797440"/>
            <a:ext cx="1593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86200" y="619200"/>
            <a:ext cx="3524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ar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84160" y="1457280"/>
            <a:ext cx="75153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basic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eferenced and executed without apparent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an be interrupted by other software prior to completion and restarted at the point of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executes concurrently with other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an example, Ada provides features (sometimes independent of the operating system) which directly support the design and coding of these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es an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ith entry points tied to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hich may be executed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330280" y="885960"/>
            <a:ext cx="4413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hesion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74840" y="1933560"/>
            <a:ext cx="64483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  -  module performs one distinct procedural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  -  module performs sequence of procedural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al  -  module performs all tasks on a single area of a data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al  -  procedural tasks are related and performed in some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oral  -  All procedural tasks must be performed within a given span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 -  All procedures have some logical relations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incidental  -  No relationship exists between the tasks in the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438280" y="847800"/>
            <a:ext cx="431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pling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79800" y="1876320"/>
            <a:ext cx="671508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  -  modules make use of data or control info from each other or has branches into middle of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 -  modules commonly reference a global data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  -  modules regularly reference an external environment like I/O or comm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 -  modules regularly pass control info between each other, but data access outside of modules is infrequ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mp  -  All, or part, of data structures passed between modules rather than single-value arg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 -  Simple, single-vallues arguments passed between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direct coupling  -  modules do not communicate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25360" y="870120"/>
            <a:ext cx="6980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rable Attributes of 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70040" y="1933560"/>
            <a:ext cx="75913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In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isolation of particular functions to particular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binding of a single task to a single module without interaction with or side effects from other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ong 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a measure of the interconnection between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ose 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 usually implemented by exclusive use of interfaces through subprograms,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09680" y="619200"/>
            <a:ext cx="5073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5120" y="1457280"/>
            <a:ext cx="822024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ocumentation of a design should include the following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ata, including the data flow and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with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between the program and other elements in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each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structure and details of the global data an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pro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ross-reference between the design and the requirements which drove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776680" y="679320"/>
            <a:ext cx="383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-MCCR-8001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82720" y="1322280"/>
            <a:ext cx="7310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D-STD-2167A Softwar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98320" y="2505240"/>
            <a:ext cx="802944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liminar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Overview, including architecture, system states, and memory and processing tim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Design Description, including descriptions of the component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 Design and Constraints, including I/O data elements, local data elements, interrupts and signals, algorithms, error handling, data conversion, use of external elements, logical flow, data structures, local data files or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CSCI data and 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ments Trac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227240" y="603360"/>
            <a:ext cx="6777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aluation Criteria for De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6480" y="1362240"/>
            <a:ext cx="79153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derstand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eability to requirements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nalysis, design, or coding techniqu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llocation of sizing and tim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equacy of requirements allocation for the CSCIs and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istency between data definition and data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cy and required precision of constants an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Tools often support the developing of designs by providing automated checking of these and other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87760" y="90504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8280" y="3873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39880" y="790560"/>
            <a:ext cx="5937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8960" y="2228760"/>
            <a:ext cx="4648320" cy="51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514520" y="1270080"/>
            <a:ext cx="593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93720" y="2505240"/>
            <a:ext cx="78008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information flow characteristics to derive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wo design analysis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information flow exhibits distinct boundaries between incoming and outgoing data (i.e., input, processing, and output are the three key elements of the data f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action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an information item causes the flow to branch along a choice of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 (DFD's) are the common graphical means to represent the flow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041480" y="1098720"/>
            <a:ext cx="695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form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46040" y="2066760"/>
            <a:ext cx="82771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form center by specifying incoming and outgoing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first-level factoring" - derive the mapping from the major parts of the DFD to a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second-level factoring" - map individual bubbles in the DFD into modules 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50840" y="984240"/>
            <a:ext cx="7284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action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46040" y="2104920"/>
            <a:ext cx="82771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action center and the flow characteristics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p the DFD into a software structure amenable to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 and refine the transaction structure and the structure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635200" y="1251000"/>
            <a:ext cx="3957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Heu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2800" y="2600280"/>
            <a:ext cx="7877160" cy="36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coupling and maximize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fan-out and strive for fan-in as the depth 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side-effects; keep the scope of the effect of a module within the scope of control of that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e module interfaces to reduce complexity and redundancy; improve consistency of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modules whose function is predictable and t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ive for single-entry, single-exit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 softwawre based on design constraints and portability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244520" y="885960"/>
            <a:ext cx="69292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17400" y="235260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7120" y="2838600"/>
            <a:ext cx="5162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225440" y="1384200"/>
            <a:ext cx="692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17400" y="2695680"/>
            <a:ext cx="801036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key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ckson System Develop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oncentrates on process modeling an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Construction of Programs (Warnie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igorous view of data structure and focus on detailed procedur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d System Development (Or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incorporates data flow analysis with the Logical Construction of Programs and Jackson System Development (JSD to a lesser ext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1970's technology and is not covered in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106720" y="771480"/>
            <a:ext cx="5202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27120" y="3390840"/>
            <a:ext cx="42102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163520" y="1327320"/>
            <a:ext cx="6673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(OO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98320" y="2733840"/>
            <a:ext cx="8105760" cy="33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rns itself with creating a model of the re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 represent the information domain, and the operations associated with that information are grouped with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s (interfaces) provide a means by which operations are in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ing of objects with their associated operations takes place - data and procedural abstractions are combined in a single program component called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D representations are more prone than others to programming language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925640" y="1270080"/>
            <a:ext cx="499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erminology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60520" y="2695680"/>
            <a:ext cx="8163000" cy="28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component of the real world that is mapped into the software domain or an inform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rocesses which act on objects to transform their internal data structure or provide information on their internal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request to an object to perform one of its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set of objects which share common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nc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 individual object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652840" y="923760"/>
            <a:ext cx="418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7400" y="1952640"/>
            <a:ext cx="791532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first step in the development phase for any engineer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es a model of the software which is to be cod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6520" y="4203720"/>
            <a:ext cx="8137440" cy="168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eginning of wisdom for a computer programmer is to recognize the difference between getting a program to work and getting it right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- M.A. Jacks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nciples of Program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405080" y="927000"/>
            <a:ext cx="6573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55560" y="1990800"/>
            <a:ext cx="78962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fy the attributes of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perations that may be applied to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ablish the interfaces of the objects to the outside world (Ada package specification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objects (Ada package bodie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representation may be employed; Booch Diagrams and Object Interaction Diagrams are the recommended diagramming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47800" y="755640"/>
            <a:ext cx="769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Interaction Diagrams (OI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5400" y="160020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65400" y="205740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65400" y="30481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65400" y="37339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0120" y="5257800"/>
            <a:ext cx="25146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37200" y="39625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75440" y="632448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275440" y="3962520"/>
            <a:ext cx="76176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94600" y="3962520"/>
            <a:ext cx="76212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332840" y="533412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580000" y="53341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427720" y="5867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170160" y="1665360"/>
            <a:ext cx="10224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332080" y="555156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66000" y="402732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170160" y="2046240"/>
            <a:ext cx="118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94200" y="31129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94200" y="37987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684760" y="547524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37400" y="44956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884920" y="4495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732640" y="50292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989680" y="463716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227320" y="39625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27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27320" y="36576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5592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98360" y="3798720"/>
            <a:ext cx="1924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ca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another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218280" y="15890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s (OID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2986200" y="9270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ID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08600" y="30481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08600" y="32767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08600" y="44956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0860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08600" y="38862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361280" y="30369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837400" y="33415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837400" y="40273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837400" y="46371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837400" y="53229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89440" y="190512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89440" y="23623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084560" y="18939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17880" y="242712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36600" y="3809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840" y="617220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74840" y="3809880"/>
            <a:ext cx="76176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294000" y="380988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332080" y="387504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79800" y="4114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51200" y="4724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22600" y="54100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77012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70120" y="2590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0040" y="37908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08640" y="390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03800" y="37717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32400" y="3886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037040" y="38862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9912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27720" y="4495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3244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61040" y="4495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865680" y="44956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03840" y="51433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32440" y="5257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637080" y="52578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41480" y="22860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674720" y="24004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37200" y="35132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084560" y="41036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75040" y="484668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056200" y="351324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75280" y="412272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03520" y="1989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703520" y="83196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ch Diagram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32360" y="37339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32360" y="39625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3236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32360" y="58672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45720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485040" y="37227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960800" y="40273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960800" y="47131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960800" y="53229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960800" y="60087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2360" y="184788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32360" y="23050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27840" y="18367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60800" y="237024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5240" y="177156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3120" y="4133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0312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12264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160720" y="183672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08440" y="2019240"/>
            <a:ext cx="1104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18040" y="3867120"/>
            <a:ext cx="1714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22360" y="4618080"/>
            <a:ext cx="3613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 use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symbols as OID's, ex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t they show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instead of data flo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s, and (option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sequenc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241720" y="771480"/>
            <a:ext cx="4971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5280" y="3924360"/>
            <a:ext cx="3067200" cy="495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630520" y="1212840"/>
            <a:ext cx="3932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7400" y="2085840"/>
            <a:ext cx="808668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ompasses all aspects of conventional software design while simultaneously introducing timing and sizing constraints; these constraints must be satisfied by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classes of design (architectural, procedural, and data) become more complex due to the response time required by the real-world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hematical modeling and simulation are common tools used for real-tim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460520" y="851040"/>
            <a:ext cx="6269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System Conc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93720" y="1914480"/>
            <a:ext cx="780084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rupt handling and context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ransfer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PU and system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 allocation and priority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 synchronization and intertask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706840" y="1079640"/>
            <a:ext cx="332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08200" y="2257560"/>
            <a:ext cx="76294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chitect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Relationship among major structural components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a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the information domain model created during analysis into the data structures required to implement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d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structural components into a procedural description of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2560" y="6091200"/>
            <a:ext cx="7227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requires all three desig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992240" y="101916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379520" y="2219400"/>
            <a:ext cx="6296040" cy="2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Preliminary Design  -  The transformation of requirements into a data and procedural archit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Detailed Design  -  Refining the architectures developed in preliminary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63480" y="5214960"/>
            <a:ext cx="719460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dea is to transform the structure and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problem domain to the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main sufficient for co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525840" y="1479600"/>
            <a:ext cx="1644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65080" y="2600280"/>
            <a:ext cx="7610400" cy="20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 is the phase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built into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quali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an evolving design is identified through a series of formal technical 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53960" y="1098720"/>
            <a:ext cx="652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uidelines for a Goo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36480" y="2257560"/>
            <a:ext cx="791532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exhibit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erarchical organ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dul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leading to an implementation of strongly cohesive, loosely coupled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contain a distinct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parate repres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data and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riv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using a repeatable method driven by information obtained from the requirements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losely with the requirements - there should be a ma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003400" y="774720"/>
            <a:ext cx="514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damental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560" y="1685880"/>
            <a:ext cx="77630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ccessive definition of levels of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rchite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hierarchical structure of procedural components and the structure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flow of control between the procedur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processing details of each procedural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logical relationship between eleme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s of Abst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expression of a design in terms of the problem space, usually employ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Hi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ppression of unnecessary details at a particular level of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49360" y="714240"/>
            <a:ext cx="6597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ramming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36480" y="138096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of the diagramming techniques used during requirements analysis may also be used during desig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 Transi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dd several more types of diagrams to specifically support software stru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iagrams (also called flow-diagr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diagramming techniques are intended specifically for design and are often language-specific.  These techniques are often used when the implementation language supports object oriented programming such as Ada or C++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