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5B9462-9BE1-4576-98D6-EA8A6A919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istorically, measurements of software development were not done, so we did not gather any data from past experiences to use in predicting the schedules and costs of future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needs were usually understood only vaguely.  Consequently, programs often fell short of the customers' des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solid quantification of the metrics associated with the software does not exist, so it becomes difficult to predict software 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intenance has become the most expensive, difficult, and poorly planned task of the entire software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B - </a:t>
            </a:r>
            <a:fld id="{0AC6BD2F-CFFD-40E9-B463-3F2EAF6D2BC2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695760" y="115236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03520" y="2295360"/>
            <a:ext cx="5857920" cy="22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ature and History of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 with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Paradigm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65200" y="3048120"/>
            <a:ext cx="5943600" cy="6094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511280" y="1228680"/>
            <a:ext cx="63183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93880" y="3591000"/>
            <a:ext cx="4181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429000" y="866880"/>
            <a:ext cx="2178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17720" y="1914480"/>
            <a:ext cx="70772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have little data on the software development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s are often dissatisfied with the software they 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quality is hard to define and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isting software is often very difficult to main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82880" y="5921280"/>
            <a:ext cx="3468600" cy="78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these problems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579840" y="866880"/>
            <a:ext cx="1722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65080" y="1762200"/>
            <a:ext cx="745812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spare parts to replace, so an error in the original software is also in every co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quality is a human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 managers often have no software development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velopers often have little or no formal training in engineering the development of the software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change from programming as an art to programming as an engineering task can be signific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373480" y="1762200"/>
            <a:ext cx="443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313000" y="3362400"/>
            <a:ext cx="4257720" cy="15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36480" y="1305000"/>
            <a:ext cx="4029120" cy="29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general statement of objectives is enough to get going.  Fill in the details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quirements continually change, but change can be easily accommodated because software is flex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27600" y="1305000"/>
            <a:ext cx="364824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or up-front definition of the requirements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jor cause of poor and lat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the change to software in order to fix an error increases dramatically in later phases of the life of th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22400" y="4572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0" y="640080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3796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7960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940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51200" y="5791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51200" y="57913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70520" y="5791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504040" y="4648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04040" y="4648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94400" y="4648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4040" y="5029200"/>
            <a:ext cx="990360" cy="99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637000" y="608472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008600" y="608472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5-6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532480" y="608472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0-10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61920" y="5018040"/>
            <a:ext cx="933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55760" y="6389640"/>
            <a:ext cx="1149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51400" y="6389640"/>
            <a:ext cx="1530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03880" y="638964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08440" y="619200"/>
            <a:ext cx="3676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ustomer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716200" y="1098720"/>
            <a:ext cx="37544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veloper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12800" y="2009880"/>
            <a:ext cx="37242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ce a program is written and works, the developer's job is d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til a program is running, there is no way to assess its qu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nly deliverable for a successful project is a working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751280" y="2013120"/>
            <a:ext cx="38005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0%-70% of the effort expended on a program occurs after it is delivered to th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views can be more effective in finding errors than testing for certain classes of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oftware configuration includes documentation, regeneration files, test input data, and test results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352600" y="1095480"/>
            <a:ext cx="4336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nagement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9120" y="2371680"/>
            <a:ext cx="3495600" cy="31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ks of standards exist in-house so software will be developed satisfactor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rs and software tools that are available in-house are su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can always add more programmers if the project gets behi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79880" y="2371680"/>
            <a:ext cx="3419640" cy="31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ks may exist, but they are usually not up to date and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E tools are needed but are not usually obtained or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Adding people to a late software project makes it later."  -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