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78925" cy="73152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152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864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152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8640" y="291600"/>
            <a:ext cx="826056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3600" y="3808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44400" y="2062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807320" y="6759720"/>
            <a:ext cx="111744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C - </a:t>
            </a:r>
            <a:fld id="{738FD1F6-0B7C-43B1-965E-1890C7B6BEC6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695760" y="84780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830240" y="2209680"/>
            <a:ext cx="6078600" cy="17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damen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ed and Object-Oriented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mal and Automated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70120" y="3352680"/>
            <a:ext cx="5715000" cy="60948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984400" y="847800"/>
            <a:ext cx="3219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58800" y="1500120"/>
            <a:ext cx="6296040" cy="42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Objects, Attributes and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731880" y="2502000"/>
            <a:ext cx="767880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OA concepts arose out of data-intensive analysis techniques (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model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maodel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that have been in exist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years (especially in database system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731880" y="3645000"/>
            <a:ext cx="813600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cent uses of data modeling are seen in defining data formats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changing data between CAD systems, computers, and manufactu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z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31880" y="4863960"/>
            <a:ext cx="9540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89120" y="4886280"/>
            <a:ext cx="77630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me ter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chem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data model used in 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toc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data model used in digital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ramew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data models used to interchange data between CA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systems and manufacturing organiz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03440" y="2362320"/>
            <a:ext cx="5638680" cy="228600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22600" y="5105520"/>
            <a:ext cx="4648320" cy="144792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30240" y="2852640"/>
            <a:ext cx="990720" cy="36972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103480" y="2882880"/>
            <a:ext cx="6159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63960" y="2852640"/>
            <a:ext cx="1231920" cy="36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376440" y="3206880"/>
            <a:ext cx="2587680" cy="119556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ming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ve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tial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921120" y="5691240"/>
            <a:ext cx="952560" cy="331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380200" y="5702400"/>
            <a:ext cx="552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588000" y="5691240"/>
            <a:ext cx="952560" cy="331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808600" y="4267080"/>
            <a:ext cx="12193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5808600" y="4267080"/>
            <a:ext cx="1219320" cy="13716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409760" y="847800"/>
            <a:ext cx="63705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Objects, Attributes, and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lationsh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569960" y="903240"/>
            <a:ext cx="9540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799320" y="2209680"/>
            <a:ext cx="167652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799320" y="2895480"/>
            <a:ext cx="167652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199120" y="289548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199120" y="220968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27720" y="5029200"/>
            <a:ext cx="2819520" cy="1295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17840" y="2133720"/>
            <a:ext cx="2743200" cy="1371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361040" y="28954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799320" y="35812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637000" y="2655720"/>
            <a:ext cx="920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370560" y="5551560"/>
            <a:ext cx="920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it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066000" y="2732040"/>
            <a:ext cx="1467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55560" y="4560840"/>
            <a:ext cx="256068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are the symb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only used in 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ity-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agram (ER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397240" y="1271520"/>
            <a:ext cx="4365720" cy="42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ity-Relationship Di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060720" y="619200"/>
            <a:ext cx="3219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681440" y="598320"/>
            <a:ext cx="9540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37000" y="4038480"/>
            <a:ext cx="167652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437000" y="4724280"/>
            <a:ext cx="167652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2836800" y="472428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836800" y="403848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65400" y="1981080"/>
            <a:ext cx="2819520" cy="1219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332840" y="3505320"/>
            <a:ext cx="167616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7332840" y="4191120"/>
            <a:ext cx="167616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5732640" y="419112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5732640" y="350532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70120" y="3505320"/>
            <a:ext cx="167652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770120" y="4191120"/>
            <a:ext cx="167652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169920" y="419112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9920" y="350532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3520" y="5334120"/>
            <a:ext cx="2819520" cy="1219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8520" y="5334120"/>
            <a:ext cx="2819520" cy="1219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77012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70120" y="25146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7332840" y="25909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884920" y="259092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32840" y="4876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70120" y="4876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437000" y="32004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932280" y="2351160"/>
            <a:ext cx="1035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37000" y="5410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437000" y="594360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265400" y="5780160"/>
            <a:ext cx="996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132680" y="5780160"/>
            <a:ext cx="488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731880" y="4027320"/>
            <a:ext cx="2076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ads Lines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008600" y="4560840"/>
            <a:ext cx="933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523200" y="4027320"/>
            <a:ext cx="1797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rites Lines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711440" y="1195560"/>
            <a:ext cx="5889600" cy="42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ity-Relationship Diagrams -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803240" y="619200"/>
            <a:ext cx="5734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Modeling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832120" y="1228680"/>
            <a:ext cx="3828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utomated T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41400" y="2828880"/>
            <a:ext cx="7458120" cy="24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e often graphically-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y provide consistency che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rt the development of the data dictio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ually support the development of DoD-STD-2167A docu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