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A - </a:t>
            </a:r>
            <a:fld id="{D88FADC9-1BCA-4717-A321-E4F020967EEC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695760" y="84780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30240" y="2209680"/>
            <a:ext cx="6078600" cy="17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damen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ed and Object-Oriente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al and Automated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93800" y="2209680"/>
            <a:ext cx="6477120" cy="68580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700200" y="1098720"/>
            <a:ext cx="7791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Understanding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341360" y="2197080"/>
            <a:ext cx="696924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3. After much debate and list modificati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reate list of validation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477800" y="3975120"/>
            <a:ext cx="6461280" cy="1432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er 200 random events and observe alarm 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sure display resets on power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phone numbers are entered with 555- prefix, ensure telephone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dia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666880" y="870120"/>
            <a:ext cx="4159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12760" y="1739880"/>
            <a:ext cx="676584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4.  Write complete draft specification 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results of steps 1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27320" y="3085920"/>
            <a:ext cx="4228920" cy="2819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2865600" y="4102200"/>
            <a:ext cx="294156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S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070000" y="946080"/>
            <a:ext cx="4745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cepts of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89120" y="1914480"/>
            <a:ext cx="31147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7000"/>
              </a:lnSpc>
              <a:spcAft>
                <a:spcPts val="129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313000" y="2371680"/>
            <a:ext cx="296244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nformation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Information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Informati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08200" y="3797280"/>
            <a:ext cx="803736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ing:  Pictorial representation of problem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313000" y="4276800"/>
            <a:ext cx="471492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ids analyst in understanding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cal point of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ndation for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08200" y="5854680"/>
            <a:ext cx="69706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titioning: Break big problems into little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793960" y="1022400"/>
            <a:ext cx="3449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Vie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779480" y="2219400"/>
            <a:ext cx="235260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havi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370400" y="2219400"/>
            <a:ext cx="296244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ecu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387520" y="771480"/>
            <a:ext cx="4718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toty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60520" y="1533600"/>
            <a:ext cx="601020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ume a request for proposal (RFP) or system spec defines the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55720" y="281952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60480" y="2806560"/>
            <a:ext cx="212724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otyping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efer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22600" y="259092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46440" y="502920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51400" y="457200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89840" y="251460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627360" y="2577960"/>
            <a:ext cx="202572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brev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294600" y="2502000"/>
            <a:ext cx="195912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brev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608800" y="4559400"/>
            <a:ext cx="165276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, te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r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951200" y="5016600"/>
            <a:ext cx="224640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tomer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t prototyp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g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141720" y="335268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08600" y="3276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494400" y="3962520"/>
            <a:ext cx="83844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132440" y="5029200"/>
            <a:ext cx="121896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132440" y="5562720"/>
            <a:ext cx="121896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389240" y="57150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712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2400" y="3111480"/>
            <a:ext cx="7048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2400" y="5245200"/>
            <a:ext cx="155268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969920" y="870120"/>
            <a:ext cx="5253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ecification Princi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31920" y="1838160"/>
            <a:ext cx="875340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functionality from implementation - describe what is desired, not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derstand the system of which the software is a part and the environment in which the system re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a cognitive model rather than a design or implementation model, and keep the perspective of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ew the specification as a model, see if it is adequate to determine if a proposed implementation is satisfactory, and tolerate imcomplet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alize and loosely couple the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93760" y="717480"/>
            <a:ext cx="8605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quirements Analysis (SR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98440" y="1360440"/>
            <a:ext cx="6878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mmon Characteristics of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hodolo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36480" y="2600280"/>
            <a:ext cx="7915320" cy="36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perform information domai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have a means to represen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can define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support partitioning of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support 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can represent both the physical and logical views of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605040" y="847800"/>
            <a:ext cx="5024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velopment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 Life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79400" y="121932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98720" y="2209680"/>
            <a:ext cx="1828800" cy="685800"/>
          </a:xfrm>
          <a:prstGeom prst="roundRect">
            <a:avLst/>
          </a:prstGeom>
          <a:solidFill>
            <a:srgbClr val="eaec5e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18040" y="31240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61040" y="40384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4040" y="49528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23000" y="58672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08200" y="16002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9440" y="160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27520" y="2590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32440" y="25909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46840" y="35053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51400" y="35053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89840" y="44197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94400" y="44197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32840" y="5334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713720" y="5334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60480" y="1284120"/>
            <a:ext cx="1415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179800" y="235116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398760" y="326556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94400" y="4179960"/>
            <a:ext cx="882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684760" y="5094360"/>
            <a:ext cx="9079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904080" y="600876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950760" y="619200"/>
            <a:ext cx="7591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quirements Analysis -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160880" y="1206360"/>
            <a:ext cx="9586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03640" y="541008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17840" y="373392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18040" y="198108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265800" y="236232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84920" y="449568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2836800" y="5029200"/>
            <a:ext cx="60984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836800" y="3276720"/>
            <a:ext cx="1524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04040" y="2590920"/>
            <a:ext cx="76176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7027920" y="3657600"/>
            <a:ext cx="30492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51600" y="57913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22400" y="59436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26960" y="5398920"/>
            <a:ext cx="18604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projec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370560" y="6008760"/>
            <a:ext cx="2139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preliminary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ailed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484360" y="5627520"/>
            <a:ext cx="17892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der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646280" y="3797280"/>
            <a:ext cx="26179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alu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51400" y="2273400"/>
            <a:ext cx="151776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370560" y="2425680"/>
            <a:ext cx="19591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a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370560" y="4788000"/>
            <a:ext cx="11462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22800" y="36504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55600" y="1914480"/>
            <a:ext cx="882972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the functional domain - what functions are to be perform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the information domain - what is the flow of information in the system, what is the structure of that information, and what is the content of that inform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tition the problem - what is the hierarchy of the probl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the logical view of the requirements - detail the functions an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the physical view of the requirements - detail the real-world forms of the functions an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90720" y="695160"/>
            <a:ext cx="7209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asic Activities of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quirements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914400" y="1022400"/>
            <a:ext cx="7209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mon Problems Encountered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uring Requirements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36480" y="2523960"/>
            <a:ext cx="7991640" cy="32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l communications problems, including not understanding the problem, misinterpreting information, and miss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quiring pertinen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ndling problem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ommodating changes that will occur during and aft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070000" y="1228680"/>
            <a:ext cx="5049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eginning the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41400" y="2219400"/>
            <a:ext cx="258120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7000"/>
              </a:lnSpc>
              <a:spcAft>
                <a:spcPts val="129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ld a meeting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382920" y="2908440"/>
            <a:ext cx="5470560" cy="206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acilit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que     (FA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17600" y="3733920"/>
            <a:ext cx="4572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154160" y="619200"/>
            <a:ext cx="7184880" cy="5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xample: The SafeHom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89120" y="1685880"/>
            <a:ext cx="76867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microprocessor-based home security system that protects against a number of undesireable events such as illegal entry, fire, flood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feHome will use sensors to detect each situation, can be programmed by the homeow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feHome will automatically telephone a monitoring agency when a situation is det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031840" y="717480"/>
            <a:ext cx="5276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Understa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41400" y="1457280"/>
            <a:ext cx="7305840" cy="8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1. Identify objects, operations, constraints, and performance crite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11120" y="2603520"/>
            <a:ext cx="2651040" cy="2808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moke det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ndow/door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tion det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lephone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849400" y="4051440"/>
            <a:ext cx="2651040" cy="239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/reset al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itor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l 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 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983120" y="2451240"/>
            <a:ext cx="3260880" cy="170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less than 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sy t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rect dial to tele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668920" y="4356000"/>
            <a:ext cx="3260880" cy="1844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ance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play within 1 s of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oritize event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ay at least 1 min before dialing 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776160" y="870120"/>
            <a:ext cx="7791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Understanding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31880" y="1663560"/>
            <a:ext cx="764532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2. Develop "mini"-specification for each entry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each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087640" y="2527200"/>
            <a:ext cx="5318280" cy="390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unted on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 9x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s 12 key-pad and special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gram of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user interaction through 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d to enable and disab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to provide interaction guidance, echo respons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ed to all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