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_rels/notesSlide2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839325" cy="72961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D9D7E5F-AE87-4B88-919C-BB2656F808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ives of Module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ZapfDingbats"/>
                <a:ea typeface="ZapfDingbats"/>
              </a:rPr>
              <a:t>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esent and discuss the syntax of the C++ Programming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ZapfDingbats"/>
                <a:ea typeface="ZapfDingbats"/>
              </a:rPr>
              <a:t>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esent and discuss the features of C++ which support object-oriented programm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ggested 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argaret A. Ellis and Bjarne Stroustrup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Annotated C++ Reference Manu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, Addison-Wesley Publishing Company, 1990, ISBN 0-201-51459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tanley B. Lippman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++ Prim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, AT&amp;T Bell Labs, Addison-Wesley Publishing Company, 1989, ISBN 0-201-16487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ee and Mark Atkinson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Using Borland C++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, Que Corporation, 1991, ISBN 0-88022-675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n example of a C++ class declaration and defini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#include &lt;stdio.h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 elevator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floor_selected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floor_numbe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initialize(void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select_floor (int floor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go(void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elevator</a:t>
            </a:r>
            <a:fld id="{60871DD7-2B02-4F75-9996-C4D3F4D3D538}" type="datetime11"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05:16:32 AM</a:t>
            </a:fld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lize(void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floor_selected = 0; floor_number =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elevator</a:t>
            </a:r>
            <a:fld id="{0532AB20-AAF8-4101-B288-A093CE1D81EA}" type="datetime11"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05:16:32 AM</a:t>
            </a:fld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elect_floor (int floor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floor_selected = floo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elevator</a:t>
            </a:r>
            <a:fld id="{031C5CD4-EAF4-4F17-AD5A-86CEBDB1497F}" type="datetime11"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05:16:32 AM</a:t>
            </a:fld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go (void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floor_number &lt; floor_selected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(++floor_number &lt; floor_select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f("floor: %d  going up\n", floor_number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(--floor_number &gt; floor_select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f("floor: %d going down\n", floor_number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f("floor %d: stopping\n", floor_number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ample of function overload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#include &lt;iostream.h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 ints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 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 b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}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void print(int value, int times = 1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void print(char *value, int times = 1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void print(struct ints *value, int times = 1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void print (int i, int times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for (int j = 0; j &lt; times; j++)  cout &lt;&lt; "Integer: " &lt;&lt; i &lt;&lt; "\n"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void print (char *s, int times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for (int j = 0; j &lt; times; j++) cout &lt;&lt; "String: " &lt;&lt; s &lt;&lt; "\n"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void print (struct ints * is, int times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for (int j = 0; j &lt; times; j++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ut &lt;&lt; "Ints: " &lt;&lt; is-&gt;a &lt;&lt; ", " &lt;&lt; is-&gt;b &lt;&lt; "\n"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C++ is suffering from a lack of standardization today, with many distinct dialects emerg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is set of course notes reflects th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 fact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standard associated with th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orland C++ language, version 3.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.  Borland C++ is quite close to AT&amp;T C++ (cfront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ample of static class membe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#include &lt;iostream.h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lass objcounter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har *object_name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 numbe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atic int counter;  </a:t>
            </a:r>
            <a:fld id="{780068FF-F306-4310-8B97-85BDD5CAC586}" type="datetime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7/29/26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one copy for all insta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ublic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objcounter (char *name);  </a:t>
            </a:r>
            <a:fld id="{D0D9464A-064F-442E-B975-1EEF5DF7D30F}" type="datetime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7/29/26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constru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void whoami(void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atic int number_of_objects(void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}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 objcounter</a:t>
            </a:r>
            <a:fld id="{A2A08BC3-666B-46E9-B02F-377E701CEFA2}" type="datetime11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05:16:32 AM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unter =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objcounter</a:t>
            </a:r>
            <a:fld id="{ED06EC4A-E4CA-4832-A707-9F4245687D75}" type="datetime11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05:16:32 AM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objcounter(char *name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object_name = name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unter++;  </a:t>
            </a:r>
            <a:fld id="{24ABA287-6CC8-4EE8-8193-FCCC094C87B7}" type="datetime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7/29/26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increment static 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umber = counte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void objcounter</a:t>
            </a:r>
            <a:fld id="{93EC8A9C-F75D-493E-899D-79B18680729A}" type="datetime11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05:16:32 AM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whoami(void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ut &lt;&lt; "Name: " &lt;&lt; object_name &lt;&lt; ", Number: " &lt;&lt; number &lt;&lt; "\n"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 objcounter</a:t>
            </a:r>
            <a:fld id="{EF8C58C0-4D6F-4973-83DF-814D7BA000A1}" type="datetime11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05:16:32 AM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umber_of_objects(void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turn counte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ote that the ANSI C++ standard does not yet exi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 the interim, Stroustrup's book is the ANSI Base Documen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argaret A. Ellis and Bjarne Stroustrup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Annotated C++ Reference Manu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, Addison-Wesley Publishing Company, 1990, ISBN 0-201-51459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is brings up the concepts of member data and member functions.  Member data is duplicated with each object created under C++.  Member functions are often implemented as inline functions, so their code is often duplicated when call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1760" y="39175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2884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8552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7928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176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8552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7928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1760" y="290880"/>
            <a:ext cx="8854560" cy="56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884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9040" y="371520"/>
            <a:ext cx="8991720" cy="6553080"/>
          </a:xfrm>
          <a:prstGeom prst="roundRect">
            <a:avLst/>
          </a:prstGeom>
          <a:noFill/>
          <a:ln w="12600">
            <a:solidFill>
              <a:srgbClr val="fc012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1033560" y="260280"/>
            <a:ext cx="3544920" cy="349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-Oriented Programming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7662960" y="6661080"/>
            <a:ext cx="976320" cy="933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 - </a:t>
            </a:r>
            <a:fld id="{92D819AD-C4EF-4D87-83D4-428768B756BC}" type="slidenum"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1905120" y="700200"/>
            <a:ext cx="6021360" cy="3322440"/>
          </a:xfrm>
          <a:prstGeom prst="rect">
            <a:avLst/>
          </a:prstGeom>
          <a:noFill/>
          <a:ln w="50760">
            <a:solidFill>
              <a:srgbClr val="fc012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800" spc="-1" strike="noStrike">
                <a:solidFill>
                  <a:srgbClr val="081d58"/>
                </a:solidFill>
                <a:latin typeface="Arial"/>
                <a:ea typeface="Arial"/>
              </a:rPr>
              <a:t>OBJECT-ORIENTE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4800" spc="-1" strike="noStrike">
                <a:solidFill>
                  <a:srgbClr val="081d58"/>
                </a:solidFill>
                <a:latin typeface="Arial"/>
                <a:ea typeface="Arial"/>
              </a:rPr>
              <a:t>PROGRAMM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4800" spc="-1" strike="noStrike">
                <a:solidFill>
                  <a:srgbClr val="081d58"/>
                </a:solidFill>
                <a:latin typeface="Arial"/>
                <a:ea typeface="Arial"/>
              </a:rPr>
              <a:t>LANGUAG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4800" spc="-1" strike="noStrike">
                <a:solidFill>
                  <a:srgbClr val="081d58"/>
                </a:solidFill>
                <a:latin typeface="Arial"/>
                <a:ea typeface="Arial"/>
              </a:rPr>
              <a:t>-- C++ --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19040" y="3952800"/>
            <a:ext cx="891540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2038320"/>
                <a:tab algn="l" pos="4324320"/>
                <a:tab algn="l" pos="6400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+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ass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heri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2038320"/>
                <a:tab algn="l" pos="4324320"/>
                <a:tab algn="l" pos="6400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ing C+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utomatic typede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rived Cla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2038320"/>
                <a:tab algn="l" pos="4324320"/>
                <a:tab algn="l" pos="6400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yp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 Overloa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ference typ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2038320"/>
                <a:tab algn="l" pos="4324320"/>
                <a:tab algn="l" pos="6400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cope Resolu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ype-safe lin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ew, dele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i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2038320"/>
                <a:tab algn="l" pos="4324320"/>
                <a:tab algn="l" pos="6400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tec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ruct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aine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irtual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2038320"/>
                <a:tab algn="l" pos="4324320"/>
                <a:tab algn="l" pos="6400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riend Func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truct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eader Fil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perator Overlo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476440" y="4029120"/>
            <a:ext cx="0" cy="2362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6480" y="4029120"/>
            <a:ext cx="0" cy="2362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743880" y="4029120"/>
            <a:ext cx="0" cy="2362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1074600" y="752400"/>
            <a:ext cx="768204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COPE RESOLUTION OPERATOR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104840" y="2200320"/>
            <a:ext cx="762012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cope resolution operat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may be used whenever the compiler would not normally choose the desired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2095560" y="3343320"/>
            <a:ext cx="5181480" cy="245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x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main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x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2;    </a:t>
            </a:r>
            <a:fld id="{DC2D34E2-BA42-4C1E-AB9D-2C91FEB04DC7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29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local X is assig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fld id="{025427A3-9AA4-48E9-A3F9-F63CE403E2C3}" type="datetime11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05:16:31 AM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4;  </a:t>
            </a:r>
            <a:fld id="{FCB62999-F0EF-4321-9203-037802D4B52D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29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global X is assig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866960" y="3267000"/>
            <a:ext cx="5562720" cy="2971800"/>
          </a:xfrm>
          <a:prstGeom prst="round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1738440" y="752400"/>
            <a:ext cx="635328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MEMBER FUNCTION SCOP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52560" y="1590840"/>
            <a:ext cx="769608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member function may access any other member in the same struct, including both data and other member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1257480" y="2733840"/>
            <a:ext cx="7162920" cy="283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complex</a:t>
            </a:r>
            <a:fld id="{80B3BE47-751F-4B94-BF4B-8E10CCC9D50D}" type="datetime11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05:16:31 AM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dd(complex left, complex right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al_part = left.real_part + right.real_par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fld id="{522A635A-2883-417A-98C7-C341872DF347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29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note that the real_part left of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fld id="{C8485A5F-F147-494B-AE61-335D148E73AF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29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qual size refers to the real_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fld id="{14600534-375F-4D63-8B2B-CE147145FC86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29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of the target ob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mag_part = left.imag_part + right.imag_par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028880" y="2657520"/>
            <a:ext cx="7467480" cy="3048120"/>
          </a:xfrm>
          <a:prstGeom prst="round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2665440" y="752400"/>
            <a:ext cx="450072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ATA PROT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104840" y="1819440"/>
            <a:ext cx="75438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cess to data and functions within a struct is controlled by the thre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cess specifie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- prevents access except by other me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tect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- lik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 except inherited classes also have access (inheritance is discussed la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- permits everyone, including end users, to access the me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cess to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tect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members can be granted to non-member functions by using the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frien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keyword when declaring the non-member function inside a stru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1211400" y="752400"/>
            <a:ext cx="741060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public  AND  private  WITH  frie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876240" y="1438200"/>
            <a:ext cx="8077320" cy="487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#define SIZE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 int_array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riva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a[SIZE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init();  </a:t>
            </a:r>
            <a:fld id="{BC9B20E1-3EB5-4D6E-B1D3-5945A86630BF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29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a member 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iend void print (int_array);  </a:t>
            </a:r>
            <a:fld id="{BC3E5529-2ACA-4DF9-8464-5C7EE9C030CB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29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a friend 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print (int_array x) {  </a:t>
            </a:r>
            <a:fld id="{41354397-9963-4071-9BF9-40D6AB5E14A2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29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not a member 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int i=0; i&lt;SIZE; i++) cout &lt;&lt; x.a[i] &lt;&lt; "  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ut &lt;&lt; "\n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280" y="1362240"/>
            <a:ext cx="8077320" cy="5105520"/>
          </a:xfrm>
          <a:prstGeom prst="round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3784680" y="752400"/>
            <a:ext cx="226224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LAS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409760" y="1438200"/>
            <a:ext cx="7162920" cy="24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Aft>
                <a:spcPts val="601"/>
              </a:spcAf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la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s the preferred keyword for defining new types in C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ruc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defaults to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ublic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 the access of its me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defaults to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for the access of its me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638360" y="4257720"/>
            <a:ext cx="6324480" cy="212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3200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 typename {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 typenam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3200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fld id="{F10591DD-C0FC-41C0-A99B-0393458802CE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29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rivate member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fld id="{B7069305-DF31-4519-84FF-850260E0B27A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29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public me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3200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riva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3200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fld id="{A7D7FC4F-1761-4B51-AF90-369F33EB4EA5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29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public member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fld id="{28E2AF0D-3988-4F1E-B6E0-69BC63B2F5E3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29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vate me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3200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33440" y="4181400"/>
            <a:ext cx="6781680" cy="2286000"/>
          </a:xfrm>
          <a:prstGeom prst="round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6480" y="4181400"/>
            <a:ext cx="0" cy="22860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608040" y="752400"/>
            <a:ext cx="861552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AUTOMATIC  typedef  DECLAR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104840" y="1514520"/>
            <a:ext cx="746748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ag nam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of these entities are designated as reserved words within their scope automatically (similar to doing 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ypede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n C), and the form of their declarations and definitions are simil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la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tru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un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n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4915080" y="3648240"/>
            <a:ext cx="833400" cy="88851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1914480" y="752400"/>
            <a:ext cx="600084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FUNCTION OVERLOA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33440" y="1362240"/>
            <a:ext cx="7238880" cy="53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 Overload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llows more than one function to be given the same nam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s long as all these functions have distinct argument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 Overload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prevents name clashes whe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ultiple librari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come into 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 overloading works through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ame mangl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 where the compiler-generated name for the function includes information on the types of its arg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xamples of overloaded fun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void print(int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void print(int, char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void print(double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1014480" y="752400"/>
            <a:ext cx="780084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EFAULT FUNCTION 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028880" y="1743120"/>
            <a:ext cx="7772400" cy="29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fault argumen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re used in a function's argument list when common values are to be automatically generated by the compiler rather than always forcing the programmer to specify th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fault argumen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may be given only once, in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 decl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nly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iling argumen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may be given default values, and once default values are assigned, they must be assigned to the rest of the remaining arguments as w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14195520" y="23990400"/>
            <a:ext cx="8532720" cy="620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2422440" y="752400"/>
            <a:ext cx="498636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YPE-SAFE  LINK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519280" y="1670040"/>
            <a:ext cx="4762440" cy="882720"/>
          </a:xfrm>
          <a:prstGeom prst="rect">
            <a:avLst/>
          </a:prstGeom>
          <a:noFill/>
          <a:ln w="50760">
            <a:solidFill>
              <a:srgbClr val="fc0128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++ was designed in part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liminate problems found in C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028880" y="2809800"/>
            <a:ext cx="7924680" cy="38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++  requires full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 prototyp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- C does 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++  perform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rong type checking (type-safe linkage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 so if the arguments to a function when it is called are not the same types as when it was declared, the compiler will flag this error at compile time -- C does 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++  does not always hold you to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ype-safe linkag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because there are times when you may want to link in code generated by a C compiler; C++ lets you do this through a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ternate linkage specific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 which looks like th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tern "C" {type function_name(arg_types); 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2933640" y="752400"/>
            <a:ext cx="396252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NSTRUC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333440" y="1514520"/>
            <a:ext cx="7238880" cy="47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ruct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s used to initialize a variable based on a clas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en the variable is cre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ruct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s 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mber func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of the class that has the same name as the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ruct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calls occur automatically at the point the variable is created, and the programmer cannot access the variable before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ruct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s cal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ructor func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may b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verload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like other member functions so that various kinds of initialization may be d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fault argumen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may also be used with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ructor  func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so long as ambiguities are not cre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ructor func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re not required by C++, but they are often very conven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2408400" y="752400"/>
            <a:ext cx="501336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HE  C++ 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333440" y="1819440"/>
            <a:ext cx="7086600" cy="33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veloped by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jarne Stroustru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starting in the early 1980'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ased on merging features of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mula-6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(developed in Scandinavia in 196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riginally calle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 with Class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since it involved adding Simula-67'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concept to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 with Class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was later expanded by simply adding improvements to C (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to implement object orientation necessarily), so the concept of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next step after 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 or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+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(the C increment operator is ++), evol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4915080" y="23544360"/>
            <a:ext cx="833400" cy="270111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3124080" y="752400"/>
            <a:ext cx="358128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ESTRUC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028880" y="1666800"/>
            <a:ext cx="7772400" cy="36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tructor func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re used to ensure proper cleanup when a variable is destroy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tructor func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s a member function with the same name as the class preceded by 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il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lls to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tructor func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re automatic, occurring when a variable goes out of sc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tructor func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may not have any arg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tructor func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re optional, lik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ructor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lik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ructor func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 only on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tructor func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may be decla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24391800" y="18819720"/>
            <a:ext cx="9144000" cy="360"/>
          </a:xfrm>
          <a:prstGeom prst="rect">
            <a:avLst/>
          </a:prstGeom>
          <a:solidFill>
            <a:srgbClr val="fc0128"/>
          </a:solidFill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1217520" y="752400"/>
            <a:ext cx="739620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n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AVOIDING THE PREPROCESS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952560" y="2124000"/>
            <a:ext cx="7848720" cy="38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replaces part of the function of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#def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preprocessor dire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performs value substitution, adding type checking and normal expression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s placed in front of any variable definition, indicating that 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  the value cannot be chang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  the compiler should try not to allocate storage, keeping the information in the symbol table inst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onst float pi = 3.14159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27770040" y="13158720"/>
            <a:ext cx="9144000" cy="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2003400" y="752400"/>
            <a:ext cx="582300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nst  IN ANSI C AND C+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723960" y="1362240"/>
            <a:ext cx="8381880" cy="50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behaves differently in ANSI C and C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inkage 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C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defaults to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xtern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linkage (glob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C++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defaults to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n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linkage (loc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mory allocation 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C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lways allocates storage for the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C++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tries to store values in the symbol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ant expressions (like array definitions) 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C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variables cannot be used in constant expressions (e.g., cannot be used in header fil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C++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variables can be used in constant expressions if symbol table storage is possible (i.e., elaborate structures are not involv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 flipV="1">
            <a:off x="4915080" y="3648240"/>
            <a:ext cx="16695720" cy="17699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2800440" y="752400"/>
            <a:ext cx="422928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inline  FUN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028880" y="1666800"/>
            <a:ext cx="7772400" cy="442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C++, the user can creat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functions, where, when they are called, their code itself is placed at the point of the call rather than a subroutine call i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functions were created to replace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cr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functions  required in C to perform such code optim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s defined within a class declaration are automatically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lobal functions must use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keyword to becom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C++ type checking is performed o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functions, like any other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prototype and function body of a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function are stored in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ymbol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5748480" y="23937840"/>
            <a:ext cx="9144000" cy="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2627280" y="752400"/>
            <a:ext cx="457668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EFINING OBJE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181160" y="1285920"/>
            <a:ext cx="7391520" cy="558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C++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(variables) may be defined anyw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me variables cannot be initialized until code has been executed, so C++ allows a variable to be defined at any point in a scope;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if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of such a variable extends from that point to the end of the sc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C++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ggregate initializ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s supported extensive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orage is reserved at the beginning of a sc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cal storage usually comes off the stack, so C++ scans forward when a scope is ent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itialization of an object  takes place at the point of definition, even though the space has already been alloc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s not available until the point of defin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f the scope is left before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ruct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s called,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truct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s not cal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oto's which skip variable initialization are not allow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3303720" y="752400"/>
            <a:ext cx="322416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EFERE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028880" y="1285920"/>
            <a:ext cx="7772400" cy="56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s we have already seen, C++ supports pointers like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++ also supports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feren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(or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ference typ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, which is like a pointer except that the compiler automatically takes the address and dereferences it for you (allowing dot notation instead of arrow not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int&amp; fct(float&amp;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int *ip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loat *fp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ip = fct(*fp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041560" y="752400"/>
            <a:ext cx="574848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EFERENCES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257480" y="1666800"/>
            <a:ext cx="7315200" cy="506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ferenc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re almost exclusively used as function arguments and return val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side 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mber func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 the address of the current object is accessed with the keyw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h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xample of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 xint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a, b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ini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int() { this-&gt;init();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866960" y="4334040"/>
            <a:ext cx="4267080" cy="2438280"/>
          </a:xfrm>
          <a:prstGeom prst="round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2041560" y="752400"/>
            <a:ext cx="574848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EFERENCES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104840" y="1666800"/>
            <a:ext cx="7543800" cy="22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ferenc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can be independent, acting like a normal variable except that they modify storage used by other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i = 10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&amp;ip = 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p++;  </a:t>
            </a:r>
            <a:fld id="{6B55908F-918B-4457-AF4D-B5021A132C7B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29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changes the value of i to 1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790640" y="2657520"/>
            <a:ext cx="6019920" cy="1676520"/>
          </a:xfrm>
          <a:prstGeom prst="round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 flipV="1">
            <a:off x="4915080" y="3648240"/>
            <a:ext cx="1440" cy="14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49680" bIns="-49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1177920" y="752400"/>
            <a:ext cx="747540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TATIC CLASS MEMBERS IN C+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95360" y="1438200"/>
            <a:ext cx="8763120" cy="48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ass members (data or functions) that work with the class as a whole rather than individual objects are declared with the keywor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ti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members may be accessed by all members of a class, but the name of the static member i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idde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within the scope of the class, so nothing outside the class may access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tic data membe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only have one instance for all objects of a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fining and initializing static data is performed by a global definition that reserves storage and initializes th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tic member func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lso work with the entire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address of an object, referred to with the keywor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 is not passed into a static member function, so static member functions can only access static data members or call other static member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tic member func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may only be called with an object or by specifying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nd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cope resolution oper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22069440" y="15898680"/>
            <a:ext cx="6500880" cy="5056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1550880" y="752400"/>
            <a:ext cx="672948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YNAMIC OBJECT CRE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181160" y="1819440"/>
            <a:ext cx="7467480" cy="19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ynamic object creation is built into the C++ language, through the keyword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lete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rather than being implemented only in library function calls such a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lloc(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ree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ynamic object creation lets the type and lifetime of an object be chosen at run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2232000" y="752400"/>
            <a:ext cx="536724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OBJECT  ORI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952560" y="1438200"/>
            <a:ext cx="7924680" cy="45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mula-6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supports the creation of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mula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 and simulations of systems usually involve many discrete, independently operating ent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authors of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mula-6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called these entitie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ather than perform actions on objects in a simulation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mula-6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evolved the concept of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nding messages to objec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 and that's what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-oriented programming (OOP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entai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O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later proved to be an easy way to think about many other types of problems, so a number of other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-oriented programming languages (OOPLs)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ere developed, most notably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malltal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s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OPL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provided many benefits, but the steep learning curve and significant period of limited productivity were drawba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790720" y="752400"/>
            <a:ext cx="424800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malloc()  AND  n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409760" y="1743120"/>
            <a:ext cx="7010280" cy="194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lloc(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llocates space for an object given its 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llocates space for an object given its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lloc(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does not initialize the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calls the associate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ruct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function to initialize the ob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2552760" y="4105440"/>
            <a:ext cx="4648320" cy="24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*i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p = (int *)malloc(sizeof(int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/* done in C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p = new in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fld id="{18D9174E-557E-4B86-9ED1-08F0FF009BFC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29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done in C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247840" y="4029120"/>
            <a:ext cx="5257800" cy="2438280"/>
          </a:xfrm>
          <a:prstGeom prst="round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2884320" y="752400"/>
            <a:ext cx="406224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free()  AND  dele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181160" y="1590840"/>
            <a:ext cx="7315200" cy="16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ree(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deallocates space provided by malloc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le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deallocates space provided by n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ree(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does no cleanup other than freeing the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le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calls a destructor for the ob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638360" y="3495600"/>
            <a:ext cx="6629400" cy="311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With the advent of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new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delet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 in C++, there is no reasonable need for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alloc()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 and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ree()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 except for compatibility with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4915080" y="3711600"/>
            <a:ext cx="25598160" cy="254458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2362320" y="752400"/>
            <a:ext cx="510552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NTAINER CLAS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257480" y="1666800"/>
            <a:ext cx="7315200" cy="13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ainer class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 also calle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llec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 are classes which hold objects created at run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ainer class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often hold groups of objects from other classess, making them a form of composite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3186000" y="752400"/>
            <a:ext cx="345744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HEADER FI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76240" y="1438200"/>
            <a:ext cx="8001000" cy="47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C++, 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eader fi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contain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clara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nly, not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fin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eader fi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nclud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ass decla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 decla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val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ything else that is a part of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ublic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to a class or 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eader fi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must b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sulat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so the compiler sees its contents only once when compiling a file; preprocessor statements, like those used before for STORABLE.H, should be used to perform this ins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essence, these preprocessor statements direct the header file  to be skipped  if it has already been inclu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3303720" y="752400"/>
            <a:ext cx="322416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INHERIT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181160" y="1209600"/>
            <a:ext cx="7620120" cy="56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heritan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lows new classes to be built from existing cla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pports code reuse without the need to rewr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es not entail modification to the code on which the new classes are ba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quires access to only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eader fil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of the classes on which the new classes are ba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en a new class inherits from a base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l of the public members of the base class can be public in the new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ne of the public members of the base class can be public in the new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y combination of the abo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mbers of the same name as in the base may now have different mean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2313000" y="752400"/>
            <a:ext cx="520524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INHERITANCE SYNTA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19040" y="1819440"/>
            <a:ext cx="89917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 derived : [public] base { /* details */ }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5448240" y="2962440"/>
            <a:ext cx="91440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448240" y="2276640"/>
            <a:ext cx="0" cy="68580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534000" y="2789280"/>
            <a:ext cx="221616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ame of base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229280" y="4029120"/>
            <a:ext cx="114300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4229280" y="2276640"/>
            <a:ext cx="0" cy="175248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5619600" y="3855960"/>
            <a:ext cx="32148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f public, public members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ase class are automatic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ublic members in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rived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2247840" y="5705640"/>
            <a:ext cx="137160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2247840" y="2276640"/>
            <a:ext cx="0" cy="342900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790800" y="5532480"/>
            <a:ext cx="307980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ame of new, derived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3162240" y="1514520"/>
            <a:ext cx="137160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62240" y="151452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705200" y="1341360"/>
            <a:ext cx="144288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ngle col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3303720" y="752400"/>
            <a:ext cx="322416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INHERIT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1104840" y="1743120"/>
            <a:ext cx="7620120" cy="259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heritan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requires a lot of design-oriented thought in order to be applied correc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heritan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only when it makes sense --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s the derived class really an offspring of the base class, and does it make sense that the derived class should inherit capabilities from the base clas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reaking a problem into classes has the effect of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rtition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the prob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1398600" y="752400"/>
            <a:ext cx="703404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BASE CLASS CONSTRUC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AND DESTRUC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028880" y="2124000"/>
            <a:ext cx="769608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ase class construct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re called in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ructor initializer li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 which was shown in MULTINH.CPP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047600" y="3017880"/>
            <a:ext cx="777240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erived</a:t>
            </a:r>
            <a:fld id="{43B9DD08-8EA0-4897-B220-7827CCF75EAD}" type="datetime11"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05:16:32 AM</a:t>
            </a:fld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erived() : base1(), base2() {  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5372280" y="3419640"/>
            <a:ext cx="0" cy="129528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7048440" y="3419640"/>
            <a:ext cx="0" cy="129528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933800" y="4923000"/>
            <a:ext cx="273852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ase class constru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3314880" y="3419640"/>
            <a:ext cx="0" cy="243828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886040" y="5989680"/>
            <a:ext cx="290196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rived class constru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2705040" y="752400"/>
            <a:ext cx="441972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ERIVED CLAS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333440" y="1819440"/>
            <a:ext cx="7238880" cy="372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way C++ call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ase class construct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ensures that all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rived class construct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can depend on the base class being properly initializ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p to on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truct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may be defined for each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truct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re called automatically, and all destructors are called for an object, which includes the destructors for its base classes, their base classes, and so 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re is no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truct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equivalent for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ructor initializer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truct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re called from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op dow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(the opposite to the order of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ruct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call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2527200" y="752400"/>
            <a:ext cx="477684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REATING CLAS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WITH COMPOS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876240" y="2276640"/>
            <a:ext cx="7924680" cy="27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5486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heritan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s not the only way to create new classes from existing classes in C++;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heritan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s sometimes said to represent a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s-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relation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5486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osi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s a method of building classes that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ai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objects of other classes; composition is sometimes said to represent 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as-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relation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  <a:tabLst>
                <a:tab algn="l" pos="4572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s a type of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ehic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heri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  <a:tabLst>
                <a:tab algn="l" pos="4572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has a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g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nd four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eel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1928880" y="752400"/>
            <a:ext cx="597204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AN  OBJECT-ORIENTED 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+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104840" y="2200320"/>
            <a:ext cx="769608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veloped to take advantage of the ease of programming provided by an OO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veloped to provide an easy learning path for C programm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veloped to fix defects in C which allow certain kinds of bugs to slip through the compiler -- bugs which may go unnoticed until run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2070000" y="4460760"/>
            <a:ext cx="5842080" cy="1665000"/>
          </a:xfrm>
          <a:prstGeom prst="rect">
            <a:avLst/>
          </a:prstGeom>
          <a:noFill/>
          <a:ln w="50760">
            <a:solidFill>
              <a:srgbClr val="fc0128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++ allows the programmer to focus o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cept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rather than forcing him to concentrate on the code which implements those conce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16478280" y="3649680"/>
            <a:ext cx="13231800" cy="1314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527200" y="752400"/>
            <a:ext cx="477684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REATING CLAS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WITH COMPOS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028880" y="2200320"/>
            <a:ext cx="7772400" cy="42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osi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nvolves creating instances of a class inside another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f the objects have constructors which require arguments, those objects must be explicitly initialized in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ructor initializer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order of calls in 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ructor initializer li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s not necessarily the order in which they appear; instead, the base class constructor is called first, and so on, and the member object constructors are called in the order in which the objects are declared in the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ructor initializer li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only determines the arguments given to the constructors, not the order of constructor ca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1052640" y="752400"/>
            <a:ext cx="772488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nst AND enum INSIDE CLAS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723960" y="1743120"/>
            <a:ext cx="8381880" cy="20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nside a class behaves differently from 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outside a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n C++ must always be initialized when it is cre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C++ class declaration is not a definition (it does not reserve storage), so a const  in a class must be given an initial value when the constructor is cal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2171520" y="4029120"/>
            <a:ext cx="5562720" cy="201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 X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 i;  </a:t>
            </a:r>
            <a:fld id="{44A3279B-757F-457F-B4E9-0643BE6FA0FA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29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st i = 1; not allow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(int I) : i(I) {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019240" y="3952800"/>
            <a:ext cx="5867280" cy="2209680"/>
          </a:xfrm>
          <a:prstGeom prst="round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4457880" y="6391440"/>
            <a:ext cx="91440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4457880" y="5629320"/>
            <a:ext cx="0" cy="76212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543640" y="6218280"/>
            <a:ext cx="194004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 is initialized to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1760400" y="752400"/>
            <a:ext cx="631044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nst AND enum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181160" y="1285920"/>
            <a:ext cx="7620120" cy="545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ecaus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locates storage, it can not be used in a constant expression, so the following is invali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 int_array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 sz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array[sz];  </a:t>
            </a:r>
            <a:fld id="{D89B4485-4BBF-4748-8463-1A4F7C69D37D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29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not a constant expr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fld id="{E175E95F-2899-4047-A16B-056E1646AAAC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29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solution to this problem is to employ a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tagged enumer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value as a cons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 int_array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num { sz = 100 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array[sz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fld id="{4F9A3BC3-9BB1-4FC4-BDE9-9953DF46BEDF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29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1866960" y="2048040"/>
            <a:ext cx="6858000" cy="1981080"/>
          </a:xfrm>
          <a:prstGeom prst="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790640" y="4791240"/>
            <a:ext cx="3657600" cy="1981080"/>
          </a:xfrm>
          <a:prstGeom prst="round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1841400" y="752400"/>
            <a:ext cx="614844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EARLY AND LATE BIN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1181160" y="1666800"/>
            <a:ext cx="7543800" cy="33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ind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- a linkage between a function call and a function defin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ile-time, static, or early, bind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- those linkages resolved during the run of the compiler and lin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un-time, dynamic, or late, bind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- linkages are resolved through a table of addresses of possible routines to call; this table is provided, and a particular table entry is selected during execution of the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irtual func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s the particular C++ feature which supports late bi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22031280" y="20917080"/>
            <a:ext cx="8406000" cy="6640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2475000" y="752400"/>
            <a:ext cx="488160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VIRTUAL FUN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33440" y="1590840"/>
            <a:ext cx="7315200" cy="37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Aft>
                <a:spcPts val="601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irtual return_type function_name(type ar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irtu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keyword in C++ implements late bi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irtu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keyword causes a hidden pointer, calle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PT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 to be cre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PT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s assigned by the constructor to the address of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TAB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 which in turn contains the addresses of all virtual 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irtu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function call consists of code that indexes into the VTABLE through the VPT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760320" y="752400"/>
            <a:ext cx="831060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REATING EXTENSIBLE PROGR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952560" y="1743120"/>
            <a:ext cx="7924680" cy="380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goal of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-oriented desig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s to identify the essential concepts and activities performed by the system (or program) and to translate them into 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umans organize the world as 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++ allows a programmer to organize a program as 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ypes in C++ provide models for the real-world 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program becomes an image, or model, of the problem being sol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program has a single essential purpose or job it is trying to 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1738440" y="752400"/>
            <a:ext cx="635328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EXTENDING 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OBJECT-ORIENTED DESIG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1028880" y="2048040"/>
            <a:ext cx="7924680" cy="42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ase class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generally represent the primary concepts of an object-oriented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st base classes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bstrac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 representing concepts rather than specific things, so it does not make sense to create objects of a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bstract base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++ allows an abstract base class to contain pu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irtu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functions by assigning the function body to zer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irtual void f() = 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 objects can be created of such a class; objects may be created only from classes derived from thi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bstract base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se derived classes contain definitions for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ure virtual  func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n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ase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4915080" y="19024560"/>
            <a:ext cx="25128360" cy="126097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2043000" y="752400"/>
            <a:ext cx="574344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EXTENDING A PROGR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952560" y="1819440"/>
            <a:ext cx="7696080" cy="380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rive a new class from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bstract base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desired extensions are embodied by redefining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irtual func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n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bstract base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d new data structures and functions as necessary, including new constructor functions which invoke the base constructors as needed in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ructor definition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derived class is now taking o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ttribut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ehavi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which distinguish it from the abstract base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d code at the point where new objects are created so the constructor for the new derived class is cal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new objects are created and properly initializ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30500640" y="17436960"/>
            <a:ext cx="2236680" cy="14235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1800360" y="752400"/>
            <a:ext cx="622944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OPERATOR OVERLOA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257480" y="1362240"/>
            <a:ext cx="7391520" cy="520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C++, the meaning of almost any operator may be changed when that operator is used with variables of particular 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meaning of an operator changes only when an operator is used with the indicated 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is permits the operators to be used a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fi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fun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+ b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the above example, the function "+" is applied to the target object "a" with the argument "b", just like set() below is applied to the target object "A" with the argument "B"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.set(B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syntax used for declaring the operator function for the "+" operator 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turn_type  operator+  (type ar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1955880" y="752400"/>
            <a:ext cx="591804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HE ANSI C++ STAND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257480" y="1819440"/>
            <a:ext cx="7238880" cy="32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SI committe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3J1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was created to produce an international standard for C++, which is still in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st of today's C++  compilers deviate from the standard in one way or another, so portability of code between different C++ compilers on different platforms tends to suffer to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NU C+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is becoming a standard in its own right due to the fact that it is free and it runs on many platforms, including 386 PCs and workstations, but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NU C+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does not conform to the C++ standard exac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1670040" y="752400"/>
            <a:ext cx="648972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HREE WAYS OF USING C+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790640" y="1971720"/>
            <a:ext cx="6172200" cy="32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ike C or C with extens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- many C programs may be compiled with a C++ compiler with little or no modifications (mainly in the area of function prototyp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ike C with enhanced data abstration capabiliti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- more sophisticated data structures may be manipulated with greater ease in C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ike an OOP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- all the benefits of contemporary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-oriented programm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may be achieved through C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1174680" y="752400"/>
            <a:ext cx="748044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YPES = STRUCTS + FUN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2247840" y="1285920"/>
            <a:ext cx="5486400" cy="832680"/>
          </a:xfrm>
          <a:prstGeom prst="rect">
            <a:avLst/>
          </a:prstGeom>
          <a:noFill/>
          <a:ln w="50760">
            <a:solidFill>
              <a:srgbClr val="fc0128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yp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is a C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with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952560" y="1971720"/>
            <a:ext cx="792468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 complex {     /* The C struct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loat real_par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loat imag_par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 complex {     </a:t>
            </a:r>
            <a:fld id="{B875934F-A9DF-4C36-815B-69A9F3D186D5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29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The C++ stru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loat real_par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loat imag_par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mplex();         </a:t>
            </a:r>
            <a:fld id="{173F9F04-C74E-467A-AB4B-10CB9CF572ED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29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a constructor (discussed la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add (complex, complex);  </a:t>
            </a:r>
            <a:fld id="{176EFDCA-9178-4999-8545-60878B65524E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29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es on ob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00280" y="2048040"/>
            <a:ext cx="5867280" cy="1600200"/>
          </a:xfrm>
          <a:prstGeom prst="round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800280" y="4029120"/>
            <a:ext cx="8153280" cy="2514600"/>
          </a:xfrm>
          <a:prstGeom prst="round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1735200" y="752400"/>
            <a:ext cx="636120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ypedef</a:t>
            </a: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  FOR C++  STRU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IS AUTOMAT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714680" y="2276640"/>
            <a:ext cx="6858000" cy="32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 complex a, b;  /* C form is supported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mplex x, y;  </a:t>
            </a:r>
            <a:fld id="{54FD8896-143A-4030-B1B4-82275F1DF52E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29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"struct" is not requi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.real_part = 2.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.imag_part = 3.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.real_part = 4.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.imag_part = 4.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.add(x, y);   </a:t>
            </a:r>
            <a:fld id="{60BE8D15-4DFC-4451-A379-7E570680AFD7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29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y = x +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86080" y="2200320"/>
            <a:ext cx="7086600" cy="3657600"/>
          </a:xfrm>
          <a:prstGeom prst="round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1138320" y="752400"/>
            <a:ext cx="755316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COPE RESOLUTION OPERA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fld id="{23A20012-40AB-48C0-9F91-BF69EC1971E7}" type="datetime11"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05:16:31 AM</a:t>
            </a:fld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571680" y="1895400"/>
            <a:ext cx="8686800" cy="401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mber func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ssociated with a struct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clar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 prototyp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n the stru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e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mber func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 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fin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 their associated struct is specified using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cope resolution operat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(</a:t>
            </a:r>
            <a:fld id="{033C2F62-FA63-451A-8CDF-AA032F16BFCB}" type="datetime11"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5:16:31 AM</a:t>
            </a:fld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oid struct_name</a:t>
            </a:r>
            <a:fld id="{2CF77DBE-14AC-4904-BFCC-5981F980AA33}" type="datetime11"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5:16:31 AM</a:t>
            </a:fld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mber_function_name() { /* body */ }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s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oid complex</a:t>
            </a:r>
            <a:fld id="{3A814203-BAEB-4A71-8992-77E8C9718139}" type="datetime11"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5:16:31 AM</a:t>
            </a:fld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dd (complex left, complex righ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{ /* body */ }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