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54E74B-AC2F-47A1-98D5-0A5708948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94B4E876-1909-4C51-A9FE-2AF17EC7BDD8}"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168F2EE-44F8-44FA-A925-00ED7C3C5BB5}"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2E881A3C-72BF-493E-BA94-188D9ABED0D3}"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6A941FD5-2062-4D41-9327-4017F76C9ECA}"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BE26EF15-B88F-47F0-A6B7-EF2F80B78C7B}"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05F2E8A3-87EA-47A2-B5AB-F2E47F56AEFA}"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48C1A11-CBC3-4C66-BD93-A9380EAEB0BA}"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F3A75FE8-19A4-425B-8BD2-A298DE57CB70}"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C1574FD2-7D91-4CB4-A5C0-7480935DB228}"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8F374DB2-6461-46A5-99EC-3EA12F9325F0}"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3827C702-2DE0-4B7E-9870-BC352339DE4A}"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A13CC30-CD39-4964-B7A5-7707C30EA30F}"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4D8434B0-9B02-4B44-B1E8-9523E3B7D131}"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807FEFD5-6A13-4924-9D8A-F4B39DB76F05}"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28A0A97A-2D16-44FE-BF05-CBA3D80F7D1C}"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73C8E6A1-8FAF-4170-88D7-4617C09CDFD3}"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DE94B960-90E6-49C3-97B7-0D449C85B674}" type="datetime">
              <a:rPr b="0" lang="en-US" sz="1200" spc="-1" strike="noStrike">
                <a:solidFill>
                  <a:srgbClr val="000000"/>
                </a:solidFill>
                <a:latin typeface="Courier New"/>
                <a:ea typeface="Courier New"/>
              </a:rPr>
              <a:t>7/29/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FCE048D7-C9E3-4E72-9388-A6B1F8B2090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