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A36967-637E-4083-84C7-8B17D107B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COURSE NOTES OWN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N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il Addr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uctor Name:  Richard Co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one:  774-54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il Address:  rconn@ada2.crd.g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9040" y="371520"/>
            <a:ext cx="8991720" cy="6553080"/>
          </a:xfrm>
          <a:prstGeom prst="round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033560" y="260280"/>
            <a:ext cx="3544920" cy="34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662960" y="6661080"/>
            <a:ext cx="1498680" cy="62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ver - </a:t>
            </a:r>
            <a:fld id="{5495823D-89DC-4367-A9E9-3739032ABF71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419120" y="928800"/>
            <a:ext cx="6994440" cy="193860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5600" spc="-1" strike="noStrike">
                <a:solidFill>
                  <a:srgbClr val="081d58"/>
                </a:solidFill>
                <a:latin typeface="Arial"/>
                <a:ea typeface="Arial"/>
              </a:rPr>
              <a:t>PROGRAMMIN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238720" y="6141960"/>
            <a:ext cx="38512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 Prepared by Richard Co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17840" y="3094200"/>
            <a:ext cx="4667400" cy="33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rse Number 20-260-635-9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versity of Cincinn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partment of Electrical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er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ncinnati, O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43040" y="6141960"/>
            <a:ext cx="1420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,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795760" y="600120"/>
            <a:ext cx="45435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RSE ROAD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19000" y="1189080"/>
            <a:ext cx="24591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419200" y="2408400"/>
            <a:ext cx="25495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Method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phical 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10120" y="3780000"/>
            <a:ext cx="154152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119640" y="4923000"/>
            <a:ext cx="287172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ming Langu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a and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1680" y="113364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71880" y="235260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357192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58080" y="479124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52560" y="6010200"/>
            <a:ext cx="6629400" cy="7621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09920" y="6218280"/>
            <a:ext cx="1560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43480" y="15908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72080" y="15908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43680" y="28861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53160" y="28861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77040" y="410544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81960" y="41054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719440" y="600120"/>
            <a:ext cx="4695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RSE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47640" y="1438200"/>
            <a:ext cx="8534520" cy="59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ul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nd Software Engineer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Methodologies and Graphical No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4,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bject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18, 2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dterm Exa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Based Programming Languages - A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9,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Languages -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3, 3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view and Evalu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62040" y="5781600"/>
            <a:ext cx="64008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Classes are in Baldwin 862, 9:20-12:00AM, Satur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617920" y="600120"/>
            <a:ext cx="49006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JECT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104840" y="1514520"/>
            <a:ext cx="784872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am Selection, Analysis Begi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Analysis Complete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Design Complete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Prototype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otype Analysis (1 week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sed Design Complete (1 week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nal Code with Demonstration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 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62200" y="6205680"/>
            <a:ext cx="467352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eckmarks (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indicate grade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562200" y="5913360"/>
            <a:ext cx="50925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&amp;V Reports are due for each graded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641680" y="600120"/>
            <a:ext cx="4853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RSE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90720" y="1857240"/>
            <a:ext cx="7772400" cy="398304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ver -- Roadmap, Schedule, Materials List, Gr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sson Plan and Student Work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mplates: SDP, SRS, SDD, SUM, IV&amp;V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book on Ada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book on C++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ctur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:  Grady Booch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 with Applic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Benjamin/Cummings Publishing Company, 1991, ISBN 0-8053-0091-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28880" y="4867200"/>
            <a:ext cx="769608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936960" y="600120"/>
            <a:ext cx="2262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GR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23960" y="1133640"/>
            <a:ext cx="838188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Atten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5% Required to Pass Course (negoti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mework Assig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Midterm Exam, 4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 Subprojects and IV&amp;V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 Grades (NA=0, SA=5, A=10, E=15 point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Acceptable (NA) - Subproject Does Not Meet Minimum Qualit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sceptable to Being Made Acceptable (SA) - Subproject Could be Im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ptable (A) - Subproject is Satisfa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ceptional (E) - Subproject is Above and Beyond the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e Homework Assignments and Subprojects: -10% per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324480" y="866880"/>
            <a:ext cx="2819520" cy="294660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int To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=90-100, B=80-89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dterm Exa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j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&amp;V Repor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Possi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