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78925" cy="73152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F85E213-CEE0-45EF-95E8-A4F7C86610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564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ives of Modul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 and discuss the idea that software is much more than just code --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ngineer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software is composed of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trolled configuration item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hich include documents, data, and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 and discuss the history of software development, including its evolution into a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 and discuss many of the problems with doing software development, particularly when there is more than one person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 and discuss many myths about software development and explain why some of these myths are falla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 and discuss several different software engineering paradigms,  showing different methods for developing engineered softw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assic "waterfall"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pid prototy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piral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urth generation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binations of the ab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 and discuss some of the technologies used in the support of software engineer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puter-Aided Software Engineer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(CA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da programming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5152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4476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864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5152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4476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8640" y="291600"/>
            <a:ext cx="826056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3600" y="3808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644400" y="206280"/>
            <a:ext cx="2590920" cy="33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807320" y="6759720"/>
            <a:ext cx="95256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 - </a:t>
            </a:r>
            <a:fld id="{0DC30B56-1870-48AA-9F4F-1F7B0D7C7C56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542880" y="874800"/>
            <a:ext cx="8104320" cy="1596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SOFTWARE and</a:t>
            </a:r>
            <a:br>
              <a:rPr sz="4800"/>
            </a:b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SOFTWARE ENGINEER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017720" y="2981160"/>
            <a:ext cx="3800520" cy="28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gineered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rolled Configuration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story of Software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as a Business Opport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blems in Software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979880" y="2981160"/>
            <a:ext cx="3267000" cy="27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yths about Software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roaches to Software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gineered Software Development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