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78925" cy="73152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152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864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152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8640" y="291600"/>
            <a:ext cx="826056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3600" y="3808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44400" y="2062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807320" y="6759720"/>
            <a:ext cx="111744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A - </a:t>
            </a:r>
            <a:fld id="{B34B5EB7-8F76-412D-A10A-86FC7059EB4C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695760" y="847800"/>
            <a:ext cx="179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830240" y="2209680"/>
            <a:ext cx="6078600" cy="17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damen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ed and Object-Oriented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mal and Automated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93800" y="2209680"/>
            <a:ext cx="6477120" cy="68580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700200" y="1098720"/>
            <a:ext cx="7791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 Understanding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341360" y="2197080"/>
            <a:ext cx="6969240" cy="12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Step 3. After much debate and list modification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reate list of validation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477800" y="3975120"/>
            <a:ext cx="6461280" cy="1432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er 200 random events and observe alarm respo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sure display resets on power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n phone numbers are entered with 555- prefix, ensure telephone i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dia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666880" y="870120"/>
            <a:ext cx="4159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 Defi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12760" y="1739880"/>
            <a:ext cx="6765840" cy="12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Step 4.  Write complete draft specification u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results of steps 1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27320" y="3085920"/>
            <a:ext cx="4228920" cy="28195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2865600" y="4102200"/>
            <a:ext cx="294156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quirements Sp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070000" y="946080"/>
            <a:ext cx="4745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cepts of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89120" y="1914480"/>
            <a:ext cx="311472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7000"/>
              </a:lnSpc>
              <a:spcAft>
                <a:spcPts val="129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on Doma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313000" y="2371680"/>
            <a:ext cx="2962440" cy="11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Information 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Information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Informati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08200" y="3797280"/>
            <a:ext cx="803736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eling:  Pictorial representation of problem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313000" y="4276800"/>
            <a:ext cx="4714920" cy="11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ids analyst in understanding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cal point of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undation for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08200" y="5854680"/>
            <a:ext cx="697068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titioning: Break big problems into little 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793960" y="1022400"/>
            <a:ext cx="3449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Vie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779480" y="2219400"/>
            <a:ext cx="235260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havi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370400" y="2219400"/>
            <a:ext cx="296244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o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ecu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2387520" y="771480"/>
            <a:ext cx="4718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toty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60520" y="1533600"/>
            <a:ext cx="6010200" cy="79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  <a:spcAft>
                <a:spcPts val="1247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ume a request for proposal (RFP) or system spec defines the prob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55720" y="2819520"/>
            <a:ext cx="2286000" cy="144792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60480" y="2806560"/>
            <a:ext cx="212724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termine 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totyping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refer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22600" y="2590920"/>
            <a:ext cx="2286000" cy="144792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46440" y="5029200"/>
            <a:ext cx="2286000" cy="144792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51400" y="4572000"/>
            <a:ext cx="2286000" cy="144792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89840" y="2514600"/>
            <a:ext cx="2286000" cy="144792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627360" y="2577960"/>
            <a:ext cx="202572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bbrevi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294600" y="2502000"/>
            <a:ext cx="195912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bbrevi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608800" y="4559400"/>
            <a:ext cx="165276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, tes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ref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to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951200" y="5016600"/>
            <a:ext cx="224640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stomer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ut prototyp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gg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3141720" y="3352680"/>
            <a:ext cx="380880" cy="228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08600" y="32767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6494400" y="3962520"/>
            <a:ext cx="838440" cy="6094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4132440" y="5029200"/>
            <a:ext cx="121896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4132440" y="5562720"/>
            <a:ext cx="121896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1389240" y="57150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2712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2400" y="3111480"/>
            <a:ext cx="70488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2400" y="5245200"/>
            <a:ext cx="155268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969920" y="870120"/>
            <a:ext cx="5253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ecification Princi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31920" y="1838160"/>
            <a:ext cx="875340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functionality from implementation - describe what is desired, not 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derstand the system of which the software is a part and the environment in which the system res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 a cognitive model rather than a design or implementation model, and keep the perspective of the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ew the specification as a model, see if it is adequate to determine if a proposed implementation is satisfactory, and tolerate imcomplet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calize and loosely couple the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93760" y="717480"/>
            <a:ext cx="8605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Requirements Analysis (SR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98440" y="1360440"/>
            <a:ext cx="687852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mmon Characteristics of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ethodolog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36480" y="2600280"/>
            <a:ext cx="7915320" cy="36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y perform information domain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y have a means to represent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y can define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y support partitioning of th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y support abs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y can represent both the physical and logical views of th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605040" y="847800"/>
            <a:ext cx="502452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Development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 Life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79400" y="121932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98720" y="2209680"/>
            <a:ext cx="1828800" cy="685800"/>
          </a:xfrm>
          <a:prstGeom prst="roundRect">
            <a:avLst/>
          </a:prstGeom>
          <a:solidFill>
            <a:srgbClr val="eaec5e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18040" y="312408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61040" y="403848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4040" y="495288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723000" y="586728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08200" y="160020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89440" y="1600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27520" y="2590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32440" y="25909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46840" y="35053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51400" y="35053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89840" y="44197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94400" y="44197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332840" y="5334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713720" y="5334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960480" y="1284120"/>
            <a:ext cx="14158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179800" y="2351160"/>
            <a:ext cx="1035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398760" y="326556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94400" y="4179960"/>
            <a:ext cx="8827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684760" y="5094360"/>
            <a:ext cx="9079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904080" y="6008760"/>
            <a:ext cx="1479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950760" y="619200"/>
            <a:ext cx="7591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quirements Analysis -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160880" y="1206360"/>
            <a:ext cx="95868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03640" y="5410080"/>
            <a:ext cx="2286000" cy="129528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17840" y="3733920"/>
            <a:ext cx="2286000" cy="129528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18040" y="1981080"/>
            <a:ext cx="2286000" cy="129528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265800" y="2362320"/>
            <a:ext cx="2286000" cy="129528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884920" y="4495680"/>
            <a:ext cx="2286000" cy="129528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2836800" y="5029200"/>
            <a:ext cx="609840" cy="380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836800" y="3276720"/>
            <a:ext cx="15242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504040" y="2590920"/>
            <a:ext cx="76176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7027920" y="3657600"/>
            <a:ext cx="304920" cy="8380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51600" y="57913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22400" y="59436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26960" y="5398920"/>
            <a:ext cx="186048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om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project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370560" y="6008760"/>
            <a:ext cx="21398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preliminary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tailed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484360" y="5627520"/>
            <a:ext cx="17892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derst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646280" y="3797280"/>
            <a:ext cx="261792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alu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lem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dentify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551400" y="2273400"/>
            <a:ext cx="151776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el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370560" y="2425680"/>
            <a:ext cx="195912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ta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370560" y="4788000"/>
            <a:ext cx="114624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22800" y="365040"/>
            <a:ext cx="9540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55600" y="1914480"/>
            <a:ext cx="8829720" cy="48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e the functional domain - what functions are to be perform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e the information domain - what is the flow of information in the system, what is the structure of that information, and what is the content of that inform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tition the problem - what is the hierarchy of the probl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 the logical view of the requirements - detail the functions an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 the physical view of the requirements - detail the real-world forms of the functions an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990720" y="695160"/>
            <a:ext cx="72090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Basic Activities of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Requirements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914400" y="1022400"/>
            <a:ext cx="72090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mmon Problems Encountered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uring Requirements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36480" y="2523960"/>
            <a:ext cx="7991640" cy="32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l communications problems, including not understanding the problem, misinterpreting information, and missing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quiring pertinent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ndling problem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commodating changes that will occur during and after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070000" y="1228680"/>
            <a:ext cx="5049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Beginning the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941400" y="2219400"/>
            <a:ext cx="258120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7000"/>
              </a:lnSpc>
              <a:spcAft>
                <a:spcPts val="129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ld a meeting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382920" y="2908440"/>
            <a:ext cx="5470560" cy="2065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Facilit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chnique     (FA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17600" y="3733920"/>
            <a:ext cx="4572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154160" y="619200"/>
            <a:ext cx="7184880" cy="5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xample: The SafeHom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89120" y="1685880"/>
            <a:ext cx="76867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microprocessor-based home security system that protects against a number of undesireable events such as illegal entry, fire, flood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feHome will use sensors to detect each situation, can be programmed by the homeow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feHome will automatically telephone a monitoring agency when a situation is detec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031840" y="717480"/>
            <a:ext cx="52768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 Understan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41400" y="1457280"/>
            <a:ext cx="7305840" cy="8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  <a:spcAft>
                <a:spcPts val="1247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Step 1. Identify objects, operations, constraints, and performance criter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11120" y="2603520"/>
            <a:ext cx="2651040" cy="28083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moke det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ndow/door sen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tion det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ol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lephone 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849400" y="4051440"/>
            <a:ext cx="2651040" cy="239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t/reset al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itor sen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al 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am control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983120" y="2451240"/>
            <a:ext cx="3260880" cy="1704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less than $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sy to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rect dial to tele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668920" y="4356000"/>
            <a:ext cx="3260880" cy="18446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formance Cri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splay within 1 s of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oritize event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ay at least 1 min before dialing 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776160" y="870120"/>
            <a:ext cx="7791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 Understanding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731880" y="1663560"/>
            <a:ext cx="7645320" cy="12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Step 2. Develop "mini"-specification for each entry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each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087640" y="2527200"/>
            <a:ext cx="5318280" cy="390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ntrol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unted on 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ze 9x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ins 12 key-pad and special k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agram of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 user interaction through control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d to enable and disabl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to provide interaction guidance, echo response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nected to all sen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