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78925" cy="73152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CF48023-0BB6-4D8D-8163-33AD63429F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564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ives of Modu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the idea that software is much more than just code --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ngineer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software is composed of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rolled configuration item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hich include documents, data, and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the history of software development, including its evolution into a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many of the problems with doing software development, particularly when there is more than one person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many myths about software development and explain why some of these myths are falla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several different software engineering paradigms,  showing different methods for developing engineered softw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assic "waterfall"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pid prototy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piral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urth generation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binations of the 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some of the technologies used in the support of software engineer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puter-Aided Software Enginee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(C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a programming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5152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4476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864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5152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4476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8640" y="291600"/>
            <a:ext cx="826056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3600" y="3808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44400" y="2062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807320" y="6759720"/>
            <a:ext cx="95256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 - </a:t>
            </a:r>
            <a:fld id="{73B7DF5E-1421-4C0C-A666-58805397EE60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542880" y="874800"/>
            <a:ext cx="8104320" cy="1596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SOFTWARE and</a:t>
            </a:r>
            <a:br>
              <a:rPr sz="4800"/>
            </a:b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SOFTWARE ENGINEER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017720" y="2981160"/>
            <a:ext cx="3800520" cy="28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ineered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olled Configuration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story of Software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as a Business Opport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blems in Software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979880" y="2981160"/>
            <a:ext cx="32670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yths about Software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aches to Software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ineered Software Development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