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B85EBD-7A67-46FD-A90C-044A5B490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storically, measurements of software development were not done, so we did not gather any data from past experiences to use in predicting the schedules and costs of future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needs were usually understood only vaguely.  Consequently, programs often fell short of the customers' des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olid quantification of the metrics associated with the software does not exist, so it becomes difficult to predict software 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tenance has become the most expensive, difficult, and poorly planned task of the entire softwar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B - </a:t>
            </a:r>
            <a:fld id="{A9C075AD-1347-4133-8364-9791C8E95EA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695760" y="115236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03520" y="2295360"/>
            <a:ext cx="5857920" cy="22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ature and History of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 with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Paradigm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65200" y="3048120"/>
            <a:ext cx="59436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11280" y="1228680"/>
            <a:ext cx="6318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93880" y="3591000"/>
            <a:ext cx="4181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29000" y="866880"/>
            <a:ext cx="2178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17720" y="1914480"/>
            <a:ext cx="70772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have little data on the software developmen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s are often dissatisfied with the software they 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hard to define and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software is often very difficult to mai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82880" y="5921280"/>
            <a:ext cx="346860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these problems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9840" y="866880"/>
            <a:ext cx="1722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5080" y="1762200"/>
            <a:ext cx="74581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pare parts to replace, so an error in the original software is also in every 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a huma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managers often have no software development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velopers often have little or no formal training in engineering the development of the softwar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change from programming as an art to programming as an engineering task can be signific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373480" y="1762200"/>
            <a:ext cx="443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13000" y="3362400"/>
            <a:ext cx="4257720" cy="15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36480" y="1305000"/>
            <a:ext cx="402912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eneral statement of objectives is enough to get going.  Fill in the detail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quirements continually change, but change can be easily accommodated because software is 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27600" y="1305000"/>
            <a:ext cx="364824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up-front definition of the requirements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jor cause of poor and lat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the change to software in order to fix an error increases dramatically in later phases of the life of th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22400" y="4572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0" y="64008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796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960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5120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51200" y="5791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052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50404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404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440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4040" y="502920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37000" y="608472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08600" y="60847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5-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32480" y="608472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-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61920" y="5018040"/>
            <a:ext cx="933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55760" y="6389640"/>
            <a:ext cx="1149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51400" y="6389640"/>
            <a:ext cx="1530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03880" y="638964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08440" y="619200"/>
            <a:ext cx="3676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ustom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16200" y="1098720"/>
            <a:ext cx="37544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velop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12800" y="2009880"/>
            <a:ext cx="37242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a program is written and works, the developer's job is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il a program is running, there is no way to assess its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nly deliverable for a successful project is a working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51280" y="2013120"/>
            <a:ext cx="38005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%-70% of the effort expended on a program occurs after it is delivered to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views can be more effective in finding errors than testing for certain classes of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ftware configuration includes documentation, regeneration files, test input data, and test result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52600" y="1095480"/>
            <a:ext cx="4336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nagement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9120" y="2371680"/>
            <a:ext cx="349560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of standards exist in-house so software will be developed satisfactor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s and software tools that are available in-house are su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an always add more programmers if the project gets beh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79880" y="2371680"/>
            <a:ext cx="341964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may exist, but they are usually not up to date and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 tools are needed but are not usually obtained or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Adding people to a late software project makes it later." 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