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10E158-6826-4117-8045-24F4E80A9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basic concepts of Software Project Manag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Cost and Timing Est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480" y="397260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4460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2720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7128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348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2720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7128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3480" y="1731960"/>
            <a:ext cx="870624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870624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3480" y="29628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4460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8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96048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fld id="{84903A26-2199-4430-8DD4-1A180AFC205E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638360" y="915840"/>
            <a:ext cx="671508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89080" y="3403440"/>
            <a:ext cx="753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etr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