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C - </a:t>
            </a:r>
            <a:fld id="{9737BABC-15E8-46DC-9C40-FD8F687D4222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70120" y="3352680"/>
            <a:ext cx="57150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984400" y="8478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58800" y="1500120"/>
            <a:ext cx="62960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Objects, Attributes an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31880" y="2502000"/>
            <a:ext cx="76788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A concepts arose out of data-intensive analysis techniques (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m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ma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that have been in exist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years (especially in database sy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31880" y="3645000"/>
            <a:ext cx="8136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nt uses of data modeling are seen in defining data format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ing data between CAD systems, computers, and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880" y="48639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89120" y="4886280"/>
            <a:ext cx="77630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c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igital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s used to interchange data between C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systems and manufacturing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3440" y="2362320"/>
            <a:ext cx="5638680" cy="228600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22600" y="5105520"/>
            <a:ext cx="464832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2852640"/>
            <a:ext cx="990720" cy="369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03480" y="288288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63960" y="2852640"/>
            <a:ext cx="123192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76440" y="3206880"/>
            <a:ext cx="2587680" cy="1195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ing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v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ial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2112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80200" y="570240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58800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08600" y="42670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808600" y="4267080"/>
            <a:ext cx="1219320" cy="1371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09760" y="847800"/>
            <a:ext cx="63705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Objects, Attributes, an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69960" y="90324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99320" y="22096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99320" y="2895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99120" y="2895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99120" y="22096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27720" y="5029200"/>
            <a:ext cx="2819520" cy="129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7840" y="2133720"/>
            <a:ext cx="27432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61040" y="2895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99320" y="35812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637000" y="265572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370560" y="555156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66000" y="2732040"/>
            <a:ext cx="146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560" y="45608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(ER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397240" y="1271520"/>
            <a:ext cx="4365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60720" y="6192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1440" y="59832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37000" y="4038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437000" y="47242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836800" y="47242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836800" y="4038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65400" y="198108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32840" y="35053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332840" y="41911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73264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3264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70120" y="35053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770120" y="41911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6992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992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3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8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77012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70120" y="25146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332840" y="2590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884920" y="25909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3284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701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37000" y="32004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3228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3700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37000" y="59436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65400" y="57801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132680" y="57801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4027320"/>
            <a:ext cx="2076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s Line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008600" y="456084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23200" y="4027320"/>
            <a:ext cx="1797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es Line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11440" y="1195560"/>
            <a:ext cx="588960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 -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803240" y="619200"/>
            <a:ext cx="5734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32120" y="1228680"/>
            <a:ext cx="382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ed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41400" y="2828880"/>
            <a:ext cx="7458120" cy="24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often graphically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provide consistency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the development of the data dic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support the development of DoD-STD-2167A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