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95256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- </a:t>
            </a:r>
            <a:fld id="{3F4F0C36-87D2-48FE-B489-90B575CED0F8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2039760" y="1027080"/>
            <a:ext cx="5418000" cy="1508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REQUIREM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22280" y="3133800"/>
            <a:ext cx="684864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damenta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bject-oriented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vervi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Basic Con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nalysis Princip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O Analysis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d Analys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O Data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No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ormal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Extensions for Real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Mechan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The Z Spec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Requirements Dictio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utomated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