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A02792B-015F-4353-AAC0-B85B322E4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D557558B-0A8F-4E99-BF9D-B68AE0BAB4AB}"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5F9ADCF0-1BE8-48FB-A931-02C82884B68A}"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BFC6E45-E8C2-488A-ABC6-250F420F2C3F}"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523FE6A6-0CE3-4504-BD26-032E69AA3C19}"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ED58327C-C640-45E2-B44C-2CEBDBD232E7}"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36FAF30A-37F2-4392-97AB-B0CEBB296E18}"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D944822-66E5-4761-9B28-1F21072230BF}"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53B08960-8BD0-4529-B089-0E1FD28D57A9}"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F6E986F2-DC7D-4A40-A384-C92ED1644B5E}"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26276041-B041-46BE-9B8D-8ACCA6F457A9}"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2CAB095C-9CF5-4D34-A4FE-87166C1CBC00}"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66986D46-F5C4-4DC4-8E03-1F892A21A767}"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075EB4A0-4338-4CBA-8569-12E84B2A0427}"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6B851607-5F94-4E63-AA5A-49978D4E6FE2}"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8B73E856-995D-4B93-9644-2E967837C0CF}"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6FD519D2-6445-4A15-AF68-B293F9162282}"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021565AB-1A99-4429-97D3-98ADC0890BAA}" type="datetime">
              <a:rPr b="0" lang="en-US" sz="1200" spc="-1" strike="noStrike">
                <a:solidFill>
                  <a:srgbClr val="000000"/>
                </a:solidFill>
                <a:latin typeface="Courier New"/>
                <a:ea typeface="Courier New"/>
              </a:rPr>
              <a:t>7/31/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123AB154-3631-4AA4-9D69-56A74CDED13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