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839325" cy="72961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DDB36A8-7AFB-4DAA-A751-4B92044DC4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SE COURSE NOTES OWNED 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udent Nam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hon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lectronic Mail Addre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STRU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structor Name:  Richard Con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hone:  774-549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lectronic Mail Address:  rconn@ada2.crd.g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885456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1760" y="3917520"/>
            <a:ext cx="885456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1760" y="39175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28840" y="39175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85520" y="17071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79280" y="17071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1760" y="39175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85520" y="39175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79280" y="39175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1760" y="1707120"/>
            <a:ext cx="885456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885456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1760" y="290880"/>
            <a:ext cx="8854560" cy="564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1760" y="39175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8840" y="39175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1760" y="3917520"/>
            <a:ext cx="885456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9040" y="371520"/>
            <a:ext cx="8991720" cy="6553080"/>
          </a:xfrm>
          <a:prstGeom prst="roundRect">
            <a:avLst/>
          </a:prstGeom>
          <a:noFill/>
          <a:ln w="12600">
            <a:solidFill>
              <a:srgbClr val="fc012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1033560" y="260280"/>
            <a:ext cx="3544920" cy="349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bject-Oriented Programming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7662960" y="6661080"/>
            <a:ext cx="1498680" cy="622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ver - </a:t>
            </a:r>
            <a:fld id="{4916B671-F9D3-4E4E-8A4C-A62E723A11FD}" type="slidenum"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91760" y="1707120"/>
            <a:ext cx="885456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1419120" y="928800"/>
            <a:ext cx="6994440" cy="1938600"/>
          </a:xfrm>
          <a:prstGeom prst="rect">
            <a:avLst/>
          </a:prstGeom>
          <a:noFill/>
          <a:ln w="50760">
            <a:solidFill>
              <a:srgbClr val="fc012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5600" spc="-1" strike="noStrike">
                <a:solidFill>
                  <a:srgbClr val="081d58"/>
                </a:solidFill>
                <a:latin typeface="Arial"/>
                <a:ea typeface="Arial"/>
              </a:rPr>
              <a:t>OBJECT-ORIENTED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5600" spc="-1" strike="noStrike">
                <a:solidFill>
                  <a:srgbClr val="081d58"/>
                </a:solidFill>
                <a:latin typeface="Arial"/>
                <a:ea typeface="Arial"/>
              </a:rPr>
              <a:t>PROGRAMMING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238720" y="6141960"/>
            <a:ext cx="385128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urse Prepared by Richard Con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2517840" y="3094200"/>
            <a:ext cx="4667400" cy="332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urse Number 20-260-635-9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niversity of Cincinna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partment of Electrical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mputer Engine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incinnati, Oh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743040" y="6141960"/>
            <a:ext cx="142092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rch, 199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2795760" y="600120"/>
            <a:ext cx="454356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OURSE ROADMA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819000" y="1189080"/>
            <a:ext cx="24591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Engine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2419200" y="2408400"/>
            <a:ext cx="254952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ign Methodolo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raphical No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5010120" y="3780000"/>
            <a:ext cx="1541520" cy="6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bject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6119640" y="4923000"/>
            <a:ext cx="2871720" cy="93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gramming Langu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da and C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71680" y="1133640"/>
            <a:ext cx="2971800" cy="990720"/>
          </a:xfrm>
          <a:prstGeom prst="roundRect">
            <a:avLst/>
          </a:prstGeom>
          <a:noFill/>
          <a:ln w="50760">
            <a:solidFill>
              <a:srgbClr val="fc0128"/>
            </a:solidFill>
            <a:round/>
          </a:ln>
        </p:spPr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171880" y="2352600"/>
            <a:ext cx="2971800" cy="990720"/>
          </a:xfrm>
          <a:prstGeom prst="roundRect">
            <a:avLst/>
          </a:prstGeom>
          <a:noFill/>
          <a:ln w="50760">
            <a:solidFill>
              <a:srgbClr val="fc0128"/>
            </a:solidFill>
            <a:round/>
          </a:ln>
        </p:spPr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305240" y="3571920"/>
            <a:ext cx="2971800" cy="990720"/>
          </a:xfrm>
          <a:prstGeom prst="roundRect">
            <a:avLst/>
          </a:prstGeom>
          <a:noFill/>
          <a:ln w="50760">
            <a:solidFill>
              <a:srgbClr val="fc0128"/>
            </a:solidFill>
            <a:round/>
          </a:ln>
        </p:spPr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58080" y="4791240"/>
            <a:ext cx="2971800" cy="990720"/>
          </a:xfrm>
          <a:prstGeom prst="roundRect">
            <a:avLst/>
          </a:prstGeom>
          <a:noFill/>
          <a:ln w="50760">
            <a:solidFill>
              <a:srgbClr val="fc0128"/>
            </a:solidFill>
            <a:round/>
          </a:ln>
        </p:spPr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952560" y="6010200"/>
            <a:ext cx="6629400" cy="762120"/>
          </a:xfrm>
          <a:prstGeom prst="roundRect">
            <a:avLst/>
          </a:prstGeom>
          <a:noFill/>
          <a:ln w="50760">
            <a:solidFill>
              <a:srgbClr val="fc0128"/>
            </a:solidFill>
            <a:round/>
          </a:ln>
        </p:spPr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3409920" y="6218280"/>
            <a:ext cx="156060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lass Pro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543480" y="159084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772080" y="1590840"/>
            <a:ext cx="0" cy="76176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143680" y="288612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753160" y="28861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277040" y="410544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581960" y="410544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2719440" y="600120"/>
            <a:ext cx="469584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OURSE SCHEDU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647640" y="1438200"/>
            <a:ext cx="8534520" cy="597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1143000"/>
                <a:tab algn="l" pos="6629400"/>
                <a:tab algn="l" pos="73152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ule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itle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1143000"/>
                <a:tab algn="l" pos="66294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and Software Engineerin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pr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1143000"/>
                <a:tab algn="l" pos="66294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ign Methodologies and Graphical Not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pr 4, 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1143000"/>
                <a:tab algn="l" pos="66294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Object 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pr 18, 25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1143000"/>
                <a:tab algn="l" pos="66294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y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1143000"/>
                <a:tab algn="l" pos="66294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idterm Exam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y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1143000"/>
                <a:tab algn="l" pos="66294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bject-Based Programming Languages - Ad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y 9, 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1143000"/>
                <a:tab algn="l" pos="66294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bject-Oriented Programming Languages - C++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y 23, 30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1143000"/>
                <a:tab algn="l" pos="66294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Jun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1143000"/>
                <a:tab algn="l" pos="66294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ject Review and Evalu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Jun 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1562040" y="5781600"/>
            <a:ext cx="6400800" cy="83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ll Classes are in Baldwin 862, 9:20-12:00AM, Saturd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2617920" y="600120"/>
            <a:ext cx="490068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PROJECT SCHEDU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1104840" y="1514520"/>
            <a:ext cx="7848720" cy="33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6400800"/>
                <a:tab algn="l" pos="6629400"/>
                <a:tab algn="l" pos="73152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hase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6400800"/>
                <a:tab algn="l" pos="66294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ject Team Selection, Analysis Begin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pr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6400800"/>
                <a:tab algn="l" pos="66294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ject Analysis Complete (2 weeks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pr 18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6400800"/>
                <a:tab algn="l" pos="66294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ject Design Complete (2 weeks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y 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6400800"/>
                <a:tab algn="l" pos="66294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ject Prototype (2 weeks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y 1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6400800"/>
                <a:tab algn="l" pos="66294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totype Analysis (1 week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y 2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6400800"/>
                <a:tab algn="l" pos="66294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vised Design Complete (1 week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y 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6400800"/>
                <a:tab algn="l" pos="66294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inal Code with Demonstration (2 weeks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Jun 1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3562200" y="6205680"/>
            <a:ext cx="4673520" cy="6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heckmarks (</a:t>
            </a: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 indicate graded activ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3562200" y="5913360"/>
            <a:ext cx="5092560" cy="6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V&amp;V Reports are due for each graded a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2641680" y="600120"/>
            <a:ext cx="485316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OURSE MATERIA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990720" y="1857240"/>
            <a:ext cx="7772400" cy="3983040"/>
          </a:xfrm>
          <a:prstGeom prst="rect">
            <a:avLst/>
          </a:prstGeom>
          <a:noFill/>
          <a:ln w="50760">
            <a:solidFill>
              <a:srgbClr val="fc0128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K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urse No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ver -- Roadmap, Schedule, Materials List, Gr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sson Plan and Student Workbo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ject Templates: SDP, SRS, SDD, SUM, IV&amp;V 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orkbook on Ada Program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orkbook on C++ Program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cture No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K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ext:  Grady Booch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bject-Oriented Design with Application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Benjamin/Cummings Publishing Company, 1991, ISBN 0-8053-0091-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028880" y="4867200"/>
            <a:ext cx="7696080" cy="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-70200" bIns="-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3936960" y="600120"/>
            <a:ext cx="226224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GRA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723960" y="1133640"/>
            <a:ext cx="838188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K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lass Attend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75% Required to Pass Course (negotiab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K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omework Assign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 Midterm Exam, 40 Po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K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5 Subprojects and IV&amp;V Repo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our Grades (NA=0, SA=5, A=10, E=15 points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t Acceptable (NA) - Subproject Does Not Meet Minimum Quality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usceptable to Being Made Acceptable (SA) - Subproject Could be Improv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ceptable (A) - Subproject is Satisfac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xceptional (E) - Subproject is Above and Beyond the C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K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te Homework Assignments and Subprojects: -10% per 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324480" y="866880"/>
            <a:ext cx="2819520" cy="2946600"/>
          </a:xfrm>
          <a:prstGeom prst="rect">
            <a:avLst/>
          </a:prstGeom>
          <a:noFill/>
          <a:ln w="50760">
            <a:solidFill>
              <a:srgbClr val="fc012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2057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oint Tot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2057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=90-100, B=80-89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2057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idterm Exam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2057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ubprojec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2057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V&amp;V Repor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2057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ota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2057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otal Possib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