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11CC8E-62D5-47E0-A474-AC50A0016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syntax of the C++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features of C++ which support object-oriented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gested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nley B. Lippma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++ Prim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T&amp;T Bell Labs, Addison-Wesley Publishing Company, 1989, ISBN 0-201-1648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e and Mark Atkins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Borland C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Que Corporation, 1991, ISBN 0-88022-675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 example of a C++ class declaration and defi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elevato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selecte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ialize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lect_floor (int flo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o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71A3A041-EB11-4A4B-ABCB-1502E5991A2B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4:01:55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0; floor_numb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2DE5FD52-4EC7-4FEA-873A-790A3B3CF5A6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4:01:55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_floor (int floo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floo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C499A1B1-FF48-4FCE-AB55-AFF4E2188141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4:01:55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go 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loor_number &lt; floor_selected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++floor_number &l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 going up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--floor_number &g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going down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 %d: stopping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function overlo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 ints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b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int 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char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struct ints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int i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 cout &lt;&lt; "Integer: " &lt;&lt; i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char *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cout &lt;&lt; "String: " &lt;&lt; s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struct ints * i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Ints: " &lt;&lt; is-&gt;a &lt;&lt; ", " &lt;&lt; is-&gt;b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C++ is suffering from a lack of standardization today, with many distinct dialects emer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set of course notes reflects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 fac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tandard associated with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rland C++ language, version 3.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 Borland C++ is quite close to AT&amp;T C++ (cfro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static class me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ass objcounte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r *object_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counter;  </a:t>
            </a:r>
            <a:fld id="{ED37AF51-DE63-4A29-9F7A-40AFC9AB2CA2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one copy for all in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 (char *name);  </a:t>
            </a:r>
            <a:fld id="{7E1A28B8-82EB-4D1C-A4BE-EA076FC0EE29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con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whoami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number_of_objects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0249F94E-60C9-4651-BC27-3ADE5612AB61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4:01:55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</a:t>
            </a:r>
            <a:fld id="{C4341A3E-5AC2-4E57-BC24-B46449240501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4:01:55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(char *nam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ect_name = 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++;  </a:t>
            </a:r>
            <a:fld id="{3AAD4E26-DA09-4660-9CAA-C86ABC1A383C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increment static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 =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objcounter</a:t>
            </a:r>
            <a:fld id="{57013CF3-7352-4BDA-8CA3-1A8EE804559A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4:01:55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oami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Name: " &lt;&lt; object_name &lt;&lt; ", Number: " &lt;&lt; number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5F8D5381-5AEB-4DDA-ABC0-2493337E11D9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4:01:55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_of_objects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urn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the ANSI C++ standard does not yet 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interim, Stroustrup's book is the ANSI Base Docu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brings up the concepts of member data and member functions.  Member data is duplicated with each object created under C++.  Member functions are often implemented as inline functions, so their code is often duplicated when c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9763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- </a:t>
            </a:r>
            <a:fld id="{3D4AAA55-5D42-448F-9BBC-B80DDA0D8F9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700200"/>
            <a:ext cx="6021360" cy="33224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LANG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-- C++ 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9040" y="3952800"/>
            <a:ext cx="89154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, 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end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or Over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7644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64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438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74600" y="752400"/>
            <a:ext cx="768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04840" y="2200320"/>
            <a:ext cx="762012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used whenever the compiler would not normally choose the desire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095560" y="3343320"/>
            <a:ext cx="5181480" cy="24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;    </a:t>
            </a:r>
            <a:fld id="{70E452D3-015C-49AC-9157-17E9F6B5AB1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2F40CEEE-0ACE-4E98-A601-4C56DE03AFB1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4:01:55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4;  </a:t>
            </a:r>
            <a:fld id="{170E3A4D-D306-4E83-8C73-9BC4E56C8F9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glob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3267000"/>
            <a:ext cx="5562720" cy="2971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38440" y="752400"/>
            <a:ext cx="6353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MBER FUNCTION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52560" y="159084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ember function may access any other member in the same struct, including both data and other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7480" y="2733840"/>
            <a:ext cx="7162920" cy="28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omplex</a:t>
            </a:r>
            <a:fld id="{01CB37CE-99AB-477A-9422-5D08C118AA72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4:01:55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complex left, complex r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_part = left.real_part + right.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BD62789F-F3ED-4023-964A-0B7E3955BF0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that the real_part lef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0ED6DD31-4C3D-45E6-9BC8-84D31F4FC6A9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 size refers to the real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C72F7420-1840-46B2-8FD7-731798E8090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f the targe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_part = left.imag_part + right.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28880" y="2657520"/>
            <a:ext cx="7467480" cy="3048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665440" y="752400"/>
            <a:ext cx="45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04840" y="1819440"/>
            <a:ext cx="7543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data and functions within a struct is controlled by the thr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specifi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revents access except by other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except inherited classes also have access (inheritance is 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ermits everyone, including end users, to access th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can be granted to non-member functions by using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i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when declaring the non-member function inside a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1400" y="752400"/>
            <a:ext cx="74106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blic  AND  private  WITH 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76240" y="1438200"/>
            <a:ext cx="807732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IZ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[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  </a:t>
            </a:r>
            <a:fld id="{60B08E72-2F4F-49D3-AC49-0FFDE6B1187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 void print (int_array);  </a:t>
            </a:r>
            <a:fld id="{70BDE513-AD31-4337-A02F-CB99CE6D573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frie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 (int_array x) {  </a:t>
            </a:r>
            <a:fld id="{3B1D56A2-9C3B-4163-B5F9-F34AE1E46C4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IZE; i++) cout &lt;&lt; x.a[i] &lt;&lt; "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280" y="1362240"/>
            <a:ext cx="8077320" cy="5105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784680" y="75240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09760" y="1438200"/>
            <a:ext cx="716292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preferred keyword for defining new types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38360" y="4257720"/>
            <a:ext cx="632448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typename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ypenam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A5CD2820-7459-484C-8752-7CD656FC4F1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6AEBA27F-D6D5-4CBF-8B04-F8FF81CDEA4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A2A5D1F9-4FCC-451D-9388-D2BA8C9D3184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95029F92-B207-467A-9AC5-446172E6950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vat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4181400"/>
            <a:ext cx="6781680" cy="22860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6480" y="418140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8040" y="752400"/>
            <a:ext cx="861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IC  typedef  DECLA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04840" y="151452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g n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se entities are designated as reserved words within their scope automatically (similar to doing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), and the form of their declarations and definitions are simi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15080" y="3648240"/>
            <a:ext cx="833400" cy="888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14480" y="752400"/>
            <a:ext cx="60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3440" y="1362240"/>
            <a:ext cx="72388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ws more than one function to be given the same na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long as all these functions have distinct argumen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vents name clashes 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libra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me in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 works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mang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ere the compiler-generated name for the function includes information on the types of its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 of overloaded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, char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doubl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14480" y="752400"/>
            <a:ext cx="78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AULT FUNCTION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1743120"/>
            <a:ext cx="777240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in a function's argument list when common values are to be automatically generated by the compiler rather than always forcing the programmer to spec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only once,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ling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default values, and once default values are assigned, they must be assigned to the rest of the remaining argumen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4195520" y="23990400"/>
            <a:ext cx="853272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22440" y="752400"/>
            <a:ext cx="4986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-SAFE  LIN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19280" y="1670040"/>
            <a:ext cx="4762440" cy="88272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was designed in par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e problems found in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28880" y="2809800"/>
            <a:ext cx="792468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requires fu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perform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ong type checking (type-safe link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so if the arguments to a function when it is called are not the same types as when it was declared, the compiler will flag this error at compile time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does not always hold you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cause there are times when you may want to link in code generated by a C compiler; C++ lets you do this through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e linkage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looks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rn "C" {type function_name(arg_types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33640" y="752400"/>
            <a:ext cx="3962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3440" y="1514520"/>
            <a:ext cx="7238880" cy="47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used to initialize a variable based on a cla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he variable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 that has the same name as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occur automatically at the point the variable is created, and the programmer cannot access the variable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oa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ke other member functions so that various kinds of initialization may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also be used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o long as ambiguities are not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not required by C++, but they are often very conven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08400" y="752400"/>
            <a:ext cx="5013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 C++ 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3440" y="1819440"/>
            <a:ext cx="70866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jarne Stroustr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tarting in the early 1980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merging featur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developed in Scandinavia in 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ly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ince it involved adding Simula-67'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cept 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as later expanded by simply adding improvements to C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implement object orientation necessarily), so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xt step after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C increment operator is ++), e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915080" y="23544360"/>
            <a:ext cx="833400" cy="270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752400"/>
            <a:ext cx="35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6668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to ensure proper cleanup when a variable is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mber function with the same name as the class preceded by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utomatic, occurring when a variable goes out of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not have any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optional,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nly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391800" y="18819720"/>
            <a:ext cx="9144000" cy="36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17520" y="752400"/>
            <a:ext cx="7396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VOIDING THE PRE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52560" y="2124000"/>
            <a:ext cx="7848720" cy="38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places part of the function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def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processor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erforms value substitution, adding type checking and normal expression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placed in front of any variable definition, indicating that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the value cannot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the compiler should try not to allocate storage, keeping the information in the symbol table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 float pi = 3.14159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770040" y="13158720"/>
            <a:ext cx="914400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03400" y="752400"/>
            <a:ext cx="582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 IN ANSI C AND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23960" y="1362240"/>
            <a:ext cx="83818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haves differently in ANSI C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age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 allocation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ways allocates storage for th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ries to store values in the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 expressions (like array definitions)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not be used in constant expressions (e.g., cannot be used in header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 be used in constant expressions if symbol table storage is possible (i.e., elaborate structures are not invol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915080" y="3648240"/>
            <a:ext cx="16695720" cy="1769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800440" y="752400"/>
            <a:ext cx="4229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line 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28880" y="1666800"/>
            <a:ext cx="7772400" cy="44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user can cre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where, when they are called, their code itself is placed at the point of the call rather than a subroutine call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were created to replac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 required in C to perform such cod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s defined within a class declaration are automatical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functions must us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to bec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C++ type checking is performed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like any oth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totype and function body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are stor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48480" y="2393784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627280" y="752400"/>
            <a:ext cx="4576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INING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1160" y="1285920"/>
            <a:ext cx="7391520" cy="55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variables) may be defined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variables cannot be initialized until code has been executed, so C++ allows a variable to be defined at any point in a scope;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such a variable extends from that point to the end of the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e initia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upported extens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is reserved at the beginning of a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storage usually comes off the stack, so C++ scans forward when a scope is 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ation of an object  takes place at the point of definition, even though the space has already been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available until the point of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scope is left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to's which skip variable initialization are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8880" y="1285920"/>
            <a:ext cx="7772400" cy="56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we have already seen, C++ supports pointers lik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so support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which is like a pointer except that the compiler automatically takes the address and dereferences it for you (allowing dot notation instead of arrow no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&amp; fct(float&amp;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 *i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at *f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= fct(*fp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7480" y="1666800"/>
            <a:ext cx="7315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lmost exclusively used as function arguments and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id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 address of the current object is accessed with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int() { this-&gt;init(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4334040"/>
            <a:ext cx="426708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04840" y="166680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be independent, acting like a normal variable except that they modify storage used by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&amp;ip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++;  </a:t>
            </a:r>
            <a:fld id="{87E2DBDA-DE4D-4BA3-9E46-110736E6D41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s the value of i to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0640" y="2657520"/>
            <a:ext cx="6019920" cy="1676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915080" y="364824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77920" y="752400"/>
            <a:ext cx="74754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TIC CLASS MEMBERS IN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360" y="1438200"/>
            <a:ext cx="8763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members (data or functions) that work with the class as a whole rather than individual objects are declared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may be accessed by all members of a class, but the name of the static member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ithin the scope of the class, so nothing outside the class may acces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data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have one instance for all objects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ng and initializing static data is performed by a global definition that reserves storage and initializes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so work with the entir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ddress of an object, referred to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is not passed into a static member function, so static member functions can only access static data members or call other static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only be called with an object or by specify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069440" y="15898680"/>
            <a:ext cx="6500880" cy="505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50880" y="752400"/>
            <a:ext cx="672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YNAMIC OBJECT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1160" y="1819440"/>
            <a:ext cx="746748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is built into the C++ language, through the keywor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ther than being implemented only in library function calls such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lets the type and lifetime of an object be chosen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32000" y="752400"/>
            <a:ext cx="5367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52560" y="1438200"/>
            <a:ext cx="792468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upports the crea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simulations of systems usually involve many discrete, independently operating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uthor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ed these entiti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her than perform actions on objects in a simulati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volved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ing messages to 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that's w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(OO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ater proved to be an easy way to think about many other types of problems, so a number of o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(OOPLs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e developed, most notab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ovided many benefits, but the steep learning curve and significant period of limited productivity were 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790720" y="752400"/>
            <a:ext cx="4248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lloc()  AND 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09760" y="1743120"/>
            <a:ext cx="7010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t initialize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the associ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to initialize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2760" y="4105440"/>
            <a:ext cx="464832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i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(int *)malloc(sizeof(in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ne in C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new 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6CCD8B4B-C173-4909-B983-52929E5C631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4029120"/>
            <a:ext cx="525780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84320" y="752400"/>
            <a:ext cx="40622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ree()  AND  de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1160" y="1590840"/>
            <a:ext cx="7315200" cy="16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mallo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 cleanup other than freeing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a destructor for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38360" y="3495600"/>
            <a:ext cx="662940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th the advent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n C++, there is no reasonable need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except for compatibility with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15080" y="3711600"/>
            <a:ext cx="25598160" cy="25445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62320" y="752400"/>
            <a:ext cx="510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AIN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57480" y="1666800"/>
            <a:ext cx="73152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lso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re classes which hold objects created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ten hold groups of objects from other classess, making them a form of composi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86000" y="752400"/>
            <a:ext cx="3457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HEADER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6240" y="1438200"/>
            <a:ext cx="80010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tai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ly, no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thing else that is a par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a class or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ust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ul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o the compiler sees its contents only once when compiling a file; preprocessor statements, like those used before for STORABLE.H, should be used to perform this in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ssence, these preprocessor statements direct the header file  to be skipped  if it has already been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1160" y="1209600"/>
            <a:ext cx="7620120" cy="56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new classes to be built from existing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ode reuse without the need to re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entail modification to the code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access to onl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es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 new class inherits from a base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e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combination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s of the same name as in the base may now have different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13000" y="752400"/>
            <a:ext cx="5205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9040" y="1819440"/>
            <a:ext cx="899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erived : [public] base { /* details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48240" y="2962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48240" y="22766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534000" y="2789280"/>
            <a:ext cx="22161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229280" y="4029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29280" y="227664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19600" y="3855960"/>
            <a:ext cx="3214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public, public memb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are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membe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47840" y="5705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47840" y="22766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790800" y="5532480"/>
            <a:ext cx="307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new, 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62240" y="15145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62240" y="1514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05200" y="1341360"/>
            <a:ext cx="1442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co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04840" y="1743120"/>
            <a:ext cx="762012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quires a lot of design-oriented thought in order to be applied 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when it makes sense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derived class really an offspring of the base class, and does it make sense that the derived class should inherit capabilities from the base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eaking a problem into classes has the effec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tio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98600" y="752400"/>
            <a:ext cx="70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E CLASS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28880" y="212400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was shown in MULTINH.CP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7600" y="30178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</a:t>
            </a:r>
            <a:fld id="{3CC23AEB-057B-4773-AF47-FF8C758B2C87}" type="datetime11"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4:01:55 AM</a:t>
            </a:fld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: base1(), base2() {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37228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4844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33800" y="4923000"/>
            <a:ext cx="27385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14880" y="341964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86040" y="5989680"/>
            <a:ext cx="2901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705040" y="752400"/>
            <a:ext cx="441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RIVE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33440" y="1819440"/>
            <a:ext cx="723888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y C++ call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sures that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depend on the base class being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fined for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automatically, and all destructors are called for an object, which includes the destructors for its base classes, their base classe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quivalent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p d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opposite to the order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76240" y="2276640"/>
            <a:ext cx="792468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the only way to create new classes from existing classes in C++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ometimes said to represent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thod of building classes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bjects of other classes; composition is sometimes said to represent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typ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ha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fou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28880" y="752400"/>
            <a:ext cx="597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  OBJECT-ORIENTED 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04840" y="2200320"/>
            <a:ext cx="769608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take advantage of the ease of programming provided by an OO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provide an easy learning path for C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fix defects in C which allow certain kinds of bugs to slip through the compiler -- bugs which may go unnoticed until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70000" y="4460760"/>
            <a:ext cx="5842080" cy="16650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allows the programmer to focu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rather than forcing him to concentrate on the code which implements thos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478280" y="3649680"/>
            <a:ext cx="13231800" cy="13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28880" y="2200320"/>
            <a:ext cx="7772400" cy="42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volves creating instances of a class inside anoth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objects have constructors which require arguments, those objects must be explicitly initializ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rder of calls in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necessarily the order in which they appear; instead, the base class constructor is called first, and so on, and the member object constructors are called in the order in which the objects are declared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determines the arguments given to the constructors, not the order of constructor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52640" y="752400"/>
            <a:ext cx="7724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 INSID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23960" y="1743120"/>
            <a:ext cx="8381880" cy="20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side a class behaves differently fro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utside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++ must always be initialized when it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++ class declaration is not a definition (it does not reserve storage), so a const  in a class must be given an initial value when the constructo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71520" y="4029120"/>
            <a:ext cx="55627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;  </a:t>
            </a:r>
            <a:fld id="{18FC5D99-7B5A-4AFC-BDCF-9DB50F31E60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 i = 1;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(int I) : i(I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9240" y="3952800"/>
            <a:ext cx="5867280" cy="22096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57880" y="6391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57880" y="56293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43640" y="6218280"/>
            <a:ext cx="19400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is initialized t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760400" y="752400"/>
            <a:ext cx="63104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1160" y="1285920"/>
            <a:ext cx="76201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cates storage, it can not be used in a constant expression, so the following is inval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s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  </a:t>
            </a:r>
            <a:fld id="{80149595-4A82-4009-B47C-6C2F8DFD778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constan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67A31012-A46C-463E-93C2-09E95D6A351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lution to this problem is to employ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agged enume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value as a con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 { sz = 100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8DF213C3-E977-47CC-B738-7E556D4508C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66960" y="2048040"/>
            <a:ext cx="6858000" cy="19810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0640" y="4791240"/>
            <a:ext cx="3657600" cy="19810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841400" y="752400"/>
            <a:ext cx="6148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ARLY AND LATE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81160" y="1666800"/>
            <a:ext cx="75438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 linkage between a function call and a functi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-time, static, or early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those linkages resolved during the run of the compiler and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-time, dynamic, or late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nkages are resolved through a table of addresses of possible routines to call; this table is provided, and a particular table entry is selected during execution of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he particular C++ feature which suppor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2031280" y="20917080"/>
            <a:ext cx="8406000" cy="664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475000" y="752400"/>
            <a:ext cx="4881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RTUAL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33440" y="1590840"/>
            <a:ext cx="73152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return_type function_name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in C++ implemen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causes a hidden pointer,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o b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ssigned by the constructor to the address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in turn contains the addresses of all virtual 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call consists of code that indexes into the VTABLE through the V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60320" y="752400"/>
            <a:ext cx="831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EXTENSIBLE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52560" y="1743120"/>
            <a:ext cx="79246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goal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o identify the essential concepts and activities performed by the system (or program) and to translate them into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s organize the world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 programmer to organize a program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 in C++ provide models for the real-worl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gram becomes an image, or model, of the problem being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rogram has a single essential purpose or job it is trying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38440" y="752400"/>
            <a:ext cx="63532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28880" y="2048040"/>
            <a:ext cx="79246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generally represent the primary concepts of an object-oriente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base classe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representing concepts rather than specific things, so it does not make sense to create objects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n abstract base class to contain pu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by assigning the function body to z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void f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bjects can be created of such a class; objects may be created only from classes derived from th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derived classes contain definitions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e virtual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15080" y="19024560"/>
            <a:ext cx="25128360" cy="126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043000" y="752400"/>
            <a:ext cx="5743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52560" y="1819440"/>
            <a:ext cx="76960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 a new class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sired extensions are embodied by redefin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new data structures and functions as necessary, including new constructor functions which invoke the base constructors as need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defini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rived class is now taking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havi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hich distinguish it from the 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code at the point where new objects are created so the constructor for the new derived class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w objects are created and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500640" y="17436960"/>
            <a:ext cx="2236680" cy="142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800360" y="752400"/>
            <a:ext cx="6229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PERATOR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57480" y="1362240"/>
            <a:ext cx="739152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meaning of almost any operator may be changed when that operator is used with variables of particula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eaning of an operator changes only when an operator is used with the indicate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ermits the operators to be used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above example, the function "+" is applied to the target object "a" with the argument "b", just like set() below is applied to the target object "A" with the argument "B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set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yntax used for declaring the operator function for the "+" operato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_type  operator+  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55880" y="752400"/>
            <a:ext cx="59180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ANSI C++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57480" y="1819440"/>
            <a:ext cx="723888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I committ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J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was created to produce an international standard for C++, which is still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oday's C++  compilers deviate from the standard in one way or another, so portability of code between different C++ compilers on different platforms tends to suff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is becoming a standard in its own right due to the fact that it is free and it runs on many platforms, including 386 PCs and workstations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does not conform to the C++ standard exa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0040" y="752400"/>
            <a:ext cx="648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REE WAYS OF USING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0640" y="1971720"/>
            <a:ext cx="617220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or C with exten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any C programs may be compiled with a C++ compiler with little or no modifications (mainly in the area of function proto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with enhanced data abstration capab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ore sophisticated data structures may be manipulated with greater eas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an OOP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ll the benefits of contempora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achieved through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74680" y="752400"/>
            <a:ext cx="7480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S = STRUCTS +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47840" y="1285920"/>
            <a:ext cx="5486400" cy="83268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a 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52560" y="1971720"/>
            <a:ext cx="792468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/* The C struc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</a:t>
            </a:r>
            <a:fld id="{33754215-019B-4D13-A7F5-4FC1147022D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 C++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();         </a:t>
            </a:r>
            <a:fld id="{F6BD9D73-DF0A-4C45-88DB-4CB5BA5C667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constructor (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 (complex, complex);  </a:t>
            </a:r>
            <a:fld id="{19E64F44-9EAA-46DA-A211-25F9615B07B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es o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048040"/>
            <a:ext cx="5867280" cy="16002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280" y="4029120"/>
            <a:ext cx="8153280" cy="2514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35200" y="752400"/>
            <a:ext cx="6361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def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 FOR C++  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S AUTOM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14680" y="227664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a, b;  /* C form is supporte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x, y;  </a:t>
            </a:r>
            <a:fld id="{EEF1E257-0A5C-46E7-90F2-37045023720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"struct" is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real_part = 2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imag_part = 3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real_part = 4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imag_part = 4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add(x, y);   </a:t>
            </a:r>
            <a:fld id="{781D0B1E-4B84-49EB-9371-C07F524DB09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30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2200320"/>
            <a:ext cx="7086600" cy="3657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38320" y="752400"/>
            <a:ext cx="7553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fld id="{63363E7E-2507-407F-A551-DF2A3B23FBD1}" type="datetime11"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04:01:55 AM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89540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sociated with a stru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ir associated struct is specified us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fld id="{B63C838C-F7F2-4CE4-8D7F-E90C0E051F93}" type="datetime11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4:01:55 AM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struct_name</a:t>
            </a:r>
            <a:fld id="{F56E686F-9A8C-4BB1-B8A0-2E7E5BFAED9E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4:01:55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_function_name() 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complex</a:t>
            </a:r>
            <a:fld id="{6806C5BD-26A5-4EA6-ACC4-DABAA3732842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4:01:55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(complex left, complex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