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840700C-7FBE-4015-9F5F-09C9163FD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DDFCBC86-6198-4949-A6DB-C6D1385CDC4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732956D-A1C5-4932-89AD-D8426841B648}"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5F2548F2-58E7-4E21-A1AD-A9C2A6B5057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490A248E-8DC6-4452-AA37-D8DCD917451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00A66CCC-78E1-4BC1-A3FF-AECCA563DCCC}"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DA2472E8-9329-4F73-83D6-BCD8788095CA}"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927D58A1-2A6A-4968-9D30-DE0278AC4D7C}"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105B6DB-3293-49FA-BECA-BC444750E5C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100EC431-F6BC-4A8A-B727-990D005DBD12}"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8C4D1DB5-0065-407E-A65A-0E6B6C02C15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E3615C86-FF38-4787-809F-2DE3593AD819}"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C448A56-6167-406B-8510-8587DF257BEE}"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67A7A80-3DDD-4446-8BE9-CCDE32F15B7F}"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204639B1-03E3-4C62-B867-B47D8C2F0837}"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0BA30A4A-3379-4957-8D73-67CD8FCC6CCB}"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7CC24252-E31B-49C9-9B5D-FA5AB0BC58E0}"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899BD55C-05A7-45FE-BDC9-3F76D4301176}" type="datetime">
              <a:rPr b="0" lang="en-US" sz="1200" spc="-1" strike="noStrike">
                <a:solidFill>
                  <a:srgbClr val="000000"/>
                </a:solidFill>
                <a:latin typeface="Courier New"/>
                <a:ea typeface="Courier New"/>
              </a:rPr>
              <a:t>7/30/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C864B605-26EB-443A-BCC1-F2426CA0596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