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839325" cy="72961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216ED61-9447-4DD8-AD14-B4669CC663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COURSE NOTES OWNED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udent Na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o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ectronic Mail Addre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tructor Name:  Richard Co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one:  774-54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ectronic Mail Address:  rconn@ada2.crd.g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9040" y="371520"/>
            <a:ext cx="8991720" cy="6553080"/>
          </a:xfrm>
          <a:prstGeom prst="roundRect">
            <a:avLst/>
          </a:prstGeom>
          <a:noFill/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1033560" y="260280"/>
            <a:ext cx="3544920" cy="349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Programm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662960" y="6661080"/>
            <a:ext cx="1498680" cy="622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ver - </a:t>
            </a:r>
            <a:fld id="{6481EDD4-D911-4216-BABA-B6ECA9C69050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419120" y="928800"/>
            <a:ext cx="6994440" cy="1938600"/>
          </a:xfrm>
          <a:prstGeom prst="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5600" spc="-1" strike="noStrike">
                <a:solidFill>
                  <a:srgbClr val="081d58"/>
                </a:solidFill>
                <a:latin typeface="Arial"/>
                <a:ea typeface="Arial"/>
              </a:rPr>
              <a:t>OBJECT-ORIENTED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5600" spc="-1" strike="noStrike">
                <a:solidFill>
                  <a:srgbClr val="081d58"/>
                </a:solidFill>
                <a:latin typeface="Arial"/>
                <a:ea typeface="Arial"/>
              </a:rPr>
              <a:t>PROGRAMMING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238720" y="6141960"/>
            <a:ext cx="38512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rse Prepared by Richard Co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517840" y="3094200"/>
            <a:ext cx="4667400" cy="33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urse Number 20-260-635-9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versity of Cincinn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partment of Electrical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uter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incinnati, Oh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43040" y="6141960"/>
            <a:ext cx="142092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, 19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795760" y="600120"/>
            <a:ext cx="45435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URSE ROADM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19000" y="1189080"/>
            <a:ext cx="24591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419200" y="2408400"/>
            <a:ext cx="25495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 Method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aphical 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010120" y="3780000"/>
            <a:ext cx="154152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119640" y="4923000"/>
            <a:ext cx="2871720" cy="9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ming Langu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a and 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1680" y="1133640"/>
            <a:ext cx="2971800" cy="990720"/>
          </a:xfrm>
          <a:prstGeom prst="round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71880" y="2352600"/>
            <a:ext cx="2971800" cy="990720"/>
          </a:xfrm>
          <a:prstGeom prst="round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3571920"/>
            <a:ext cx="2971800" cy="990720"/>
          </a:xfrm>
          <a:prstGeom prst="round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58080" y="4791240"/>
            <a:ext cx="2971800" cy="990720"/>
          </a:xfrm>
          <a:prstGeom prst="round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52560" y="6010200"/>
            <a:ext cx="6629400" cy="762120"/>
          </a:xfrm>
          <a:prstGeom prst="round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409920" y="6218280"/>
            <a:ext cx="15606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543480" y="159084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72080" y="159084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143680" y="28861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53160" y="28861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277040" y="410544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81960" y="41054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719440" y="600120"/>
            <a:ext cx="46958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URSE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47640" y="1438200"/>
            <a:ext cx="8534520" cy="59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ul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tl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and Software Engineer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r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 Methodologies and Graphical No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r 4,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Object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r 18, 25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dterm Exa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Based Programming Languages - Ad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9,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Programming Languages - C+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23, 30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n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Review and Evalu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n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562040" y="5781600"/>
            <a:ext cx="640080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 Classes are in Baldwin 862, 9:20-12:00AM, Satur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2617920" y="600120"/>
            <a:ext cx="49006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JECT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104840" y="1514520"/>
            <a:ext cx="7848720" cy="33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as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Team Selection, Analysis Begi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r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Analysis Complete (2 week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r 1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Design Complete (2 week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Prototype (2 week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1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totype Analysis (1 week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2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vised Design Complete (1 week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nal Code with Demonstration (2 week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n 1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562200" y="6205680"/>
            <a:ext cx="467352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eckmarks (</a:t>
            </a: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indicate graded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562200" y="5913360"/>
            <a:ext cx="509256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V&amp;V Reports are due for each graded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2641680" y="600120"/>
            <a:ext cx="48531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URSE MATERI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990720" y="1857240"/>
            <a:ext cx="7772400" cy="3983040"/>
          </a:xfrm>
          <a:prstGeom prst="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rse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ver -- Roadmap, Schedule, Materials List, Gr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sson Plan and Student Work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Templates: SDP, SRS, SDD, SUM, IV&amp;V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rkbook on Ada Progr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rkbook on C++ Progr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cture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:  Grady Booch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Design with Applica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Benjamin/Cummings Publishing Company, 1991, ISBN 0-8053-0091-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28880" y="4867200"/>
            <a:ext cx="7696080" cy="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-70200" bIns="-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936960" y="600120"/>
            <a:ext cx="22622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GRA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723960" y="1133640"/>
            <a:ext cx="838188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 Attend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5% Required to Pass Course (negotia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mework Assign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 Midterm Exam, 40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 Subprojects and IV&amp;V 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ur Grades (NA=0, SA=5, A=10, E=15 point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 Acceptable (NA) - Subproject Does Not Meet Minimum Quality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sceptable to Being Made Acceptable (SA) - Subproject Could be Impr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eptable (A) - Subproject is Satisfa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ceptional (E) - Subproject is Above and Beyond the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te Homework Assignments and Subprojects: -10% per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324480" y="866880"/>
            <a:ext cx="2819520" cy="2946600"/>
          </a:xfrm>
          <a:prstGeom prst="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2057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int To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2057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=90-100, B=80-89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57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dterm Exa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57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proj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57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V&amp;V Repor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57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t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57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tal Possi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