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78925" cy="73152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826056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8640" y="3927240"/>
            <a:ext cx="826056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864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9152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1520" y="17114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4760" y="17114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8640" y="39272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1520" y="39272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4760" y="39272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8640" y="1711440"/>
            <a:ext cx="826056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826056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8640" y="291600"/>
            <a:ext cx="826056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864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9152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8640" y="3927240"/>
            <a:ext cx="826056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93600" y="380880"/>
            <a:ext cx="8991720" cy="655308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644400" y="206280"/>
            <a:ext cx="2590920" cy="331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Engineering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7807320" y="6759720"/>
            <a:ext cx="1117440" cy="768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C - </a:t>
            </a:r>
            <a:fld id="{CE879511-BC75-4AE6-A7C5-7C9E62FCC441}" type="slidenum"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8640" y="1711440"/>
            <a:ext cx="826056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695760" y="847800"/>
            <a:ext cx="17971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OP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830240" y="2209680"/>
            <a:ext cx="6078600" cy="17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undamen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ed and Object-Oriented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rmal and Automated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70120" y="3352680"/>
            <a:ext cx="5715000" cy="609480"/>
          </a:xfrm>
          <a:prstGeom prst="rect">
            <a:avLst/>
          </a:prstGeom>
          <a:noFill/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2984400" y="847800"/>
            <a:ext cx="32194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ata Mode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558800" y="1500120"/>
            <a:ext cx="6296040" cy="422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ta Objects, Attributes and Relation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731880" y="2502000"/>
            <a:ext cx="7678800" cy="86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OA concepts arose out of data-intensive analysis techniques (cal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model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r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formation maodel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that have been in existe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 years (especially in database system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731880" y="3645000"/>
            <a:ext cx="8136000" cy="86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cent uses of data modeling are seen in defining data formats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changing data between CAD systems, computers, and manufactu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rganiz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31880" y="4863960"/>
            <a:ext cx="95400" cy="3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789120" y="4886280"/>
            <a:ext cx="7763040" cy="18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me term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chem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- data model used in datab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rotoco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- data model used in digital commun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framewor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- data models used to interchange data between CA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systems and manufacturing organiz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703440" y="2362320"/>
            <a:ext cx="5638680" cy="2286000"/>
          </a:xfrm>
          <a:prstGeom prst="round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522600" y="5105520"/>
            <a:ext cx="4648320" cy="1447920"/>
          </a:xfrm>
          <a:prstGeom prst="round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930240" y="2852640"/>
            <a:ext cx="990720" cy="36972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103480" y="2882880"/>
            <a:ext cx="6159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063960" y="2852640"/>
            <a:ext cx="1231920" cy="36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ttrib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376440" y="3206880"/>
            <a:ext cx="2587680" cy="119556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aming attrib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criptive attrib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ferential attrib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921120" y="5691240"/>
            <a:ext cx="952560" cy="331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5380200" y="5702400"/>
            <a:ext cx="5526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588000" y="5691240"/>
            <a:ext cx="952560" cy="331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808600" y="4267080"/>
            <a:ext cx="121932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5808600" y="4267080"/>
            <a:ext cx="1219320" cy="137160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409760" y="847800"/>
            <a:ext cx="63705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ata Objects, Attributes, and</a:t>
            </a:r>
            <a:br>
              <a:rPr sz="3600"/>
            </a:b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elationsh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569960" y="903240"/>
            <a:ext cx="9540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799320" y="2209680"/>
            <a:ext cx="167652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6799320" y="2895480"/>
            <a:ext cx="167652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 flipV="1">
            <a:off x="5199120" y="2895480"/>
            <a:ext cx="160020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5199120" y="2209680"/>
            <a:ext cx="160020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27720" y="5029200"/>
            <a:ext cx="2819520" cy="12952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617840" y="2133720"/>
            <a:ext cx="2743200" cy="13716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361040" y="289548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799320" y="358128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2637000" y="2655720"/>
            <a:ext cx="920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tit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370560" y="5551560"/>
            <a:ext cx="920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tit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6066000" y="2732040"/>
            <a:ext cx="14670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lation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55560" y="4560840"/>
            <a:ext cx="256068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se are the symb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monly used in 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tity-Relation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agram (ERD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2397240" y="1271520"/>
            <a:ext cx="4365720" cy="422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ntity-Relationship Dia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060720" y="619200"/>
            <a:ext cx="32194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ata Mode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4681440" y="598320"/>
            <a:ext cx="9540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437000" y="4038480"/>
            <a:ext cx="167652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437000" y="4724280"/>
            <a:ext cx="167652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 flipV="1">
            <a:off x="2836800" y="4724280"/>
            <a:ext cx="160020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2836800" y="4038480"/>
            <a:ext cx="160020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65400" y="1981080"/>
            <a:ext cx="2819520" cy="12193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332840" y="3505320"/>
            <a:ext cx="167616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7332840" y="4191120"/>
            <a:ext cx="167616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 flipV="1">
            <a:off x="5732640" y="4191120"/>
            <a:ext cx="160020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5732640" y="3505320"/>
            <a:ext cx="160020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70120" y="3505320"/>
            <a:ext cx="167652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1770120" y="4191120"/>
            <a:ext cx="167652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169920" y="4191120"/>
            <a:ext cx="160020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9920" y="3505320"/>
            <a:ext cx="160020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13520" y="5334120"/>
            <a:ext cx="2819520" cy="12193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8520" y="5334120"/>
            <a:ext cx="2819520" cy="12193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177012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770120" y="25146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7332840" y="259092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884920" y="2590920"/>
            <a:ext cx="1447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332840" y="48769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770120" y="48769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437000" y="3200400"/>
            <a:ext cx="0" cy="838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932280" y="2351160"/>
            <a:ext cx="10350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37000" y="54100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437000" y="5943600"/>
            <a:ext cx="16765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265400" y="5780160"/>
            <a:ext cx="9968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132680" y="5780160"/>
            <a:ext cx="488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731880" y="4027320"/>
            <a:ext cx="20764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ads Lines Fr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008600" y="4560840"/>
            <a:ext cx="9334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e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523200" y="4027320"/>
            <a:ext cx="1797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rites Lines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711440" y="1195560"/>
            <a:ext cx="5889600" cy="422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ntity-Relationship Diagrams - 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803240" y="619200"/>
            <a:ext cx="57340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ata Modeling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832120" y="1228680"/>
            <a:ext cx="38289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Automated Too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941400" y="2828880"/>
            <a:ext cx="7458120" cy="24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e often graphically-ori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y provide consistency chec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pport the development of the data diction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sually support the development of DoD-STD-2167A docu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