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674225" cy="73977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079EE9C-974B-4683-99D1-4BEF8B5216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ny factors, such as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isk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ffort (cos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and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chedu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are difficult to determine in advance without information from previous proj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 this vein, there is an emphasis on collecting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metric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and then using those metrics to mak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stimat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which are reasonably clo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ustry has traditionally not been good at collecting software metrics  on its projects becau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llecting metrics costs money and takes time, both of which have a direct impact on a project, particularly if they were not planned for in adv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llecting metrics can be tedious work -- something that many software practitioners tend to av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in industry is usually developed under the following situ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s part of a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 support of a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s an activity of research and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 the first two cases, budgets are allocated based on the cost estimates.  If software is developed for a customer, the award of a contract may be on a firm, fixed-price basis or on a cost-plus or cost-reimbursable ba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2720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712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4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2720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712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3480" y="294840"/>
            <a:ext cx="8706240" cy="57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41280" y="4222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968400" y="24768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055000" y="6800760"/>
            <a:ext cx="111744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A - </a:t>
            </a:r>
            <a:fld id="{61360A73-9269-4C28-9DEE-E3CA832E18D0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943440" y="660240"/>
            <a:ext cx="1797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398760" y="2031840"/>
            <a:ext cx="2733840" cy="31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60800" y="1946160"/>
            <a:ext cx="2895480" cy="83808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  <a:tailEnd len="med" type="triangle" w="med"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701880" y="911160"/>
            <a:ext cx="2128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08200" y="1727280"/>
            <a:ext cx="799164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 successfully manage software development, the project leader must determi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op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f work to be 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o be incur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hat will be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sk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o be accompl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fo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(cost) that will be expen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hedu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o be follo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management begins before the technical work sta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management ends when the software is reti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894120" y="1063800"/>
            <a:ext cx="46432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verview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3560" y="110808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36560" y="217476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08160" y="324180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379760" y="438480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751360" y="552780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98320" y="1173240"/>
            <a:ext cx="21398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t Objective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741320" y="2239920"/>
            <a:ext cx="22417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ntify Metric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112920" y="3306600"/>
            <a:ext cx="2305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 Time, Man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wer, Mate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0840" y="4449600"/>
            <a:ext cx="151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form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932440" y="5592600"/>
            <a:ext cx="2292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duct, Track,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rol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27080" y="18702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27080" y="24796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98680" y="293688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398680" y="36226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693960" y="400356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93960" y="47656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65560" y="514656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65560" y="59086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425920" y="2114640"/>
            <a:ext cx="3375000" cy="49860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lann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