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1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674225" cy="73977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F7ED9EB-C482-4E5A-96A4-5DC09E16D0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ives of Modul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the basic concepts of Software Project Managem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Metr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Cost and Timing Est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ny factors, such a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ffort (cos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and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chedu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are difficult to determine in advance without information from previous pro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this vein, there is an emphasis on collecting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metric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and then using those metrics to mak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stimat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which are reasonably clo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ustry has traditionally not been good at collecting software metrics  on its projects becau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ecting metrics costs money and takes time, both of which have a direct impact on a project, particularly if they were not planned for in adv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ecting metrics can be tedious work -- something that many software practitioners tend to av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in industry is usually developed under the following situ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s part of a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support of a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s an activity of research and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the first two cases, budgets are allocated based on the cost estimates.  If software is developed for a customer, the award of a contract may be on a firm, fixed-price basis or on a cost-plus or cost-reimbursable ba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efore starting a development project, we mu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. Assess the risk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. Develop a strategy for attacking the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. Establish a mechanism for assessing the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. Organize people who will be building th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gen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:  Analysis and spec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: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: 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:  Walkthrou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:  Co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: 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P: Test plan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Pr: Test proced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T: Integration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VT: Validation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720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712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4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720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712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3480" y="294840"/>
            <a:ext cx="870624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41280" y="4222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968400" y="247680"/>
            <a:ext cx="2598840" cy="33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055000" y="6800760"/>
            <a:ext cx="96048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 - </a:t>
            </a:r>
            <a:fld id="{78D6AD9D-C7B0-4994-A2E0-2CA814447015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638360" y="915840"/>
            <a:ext cx="6715080" cy="1596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</a:t>
            </a:r>
            <a:br>
              <a:rPr sz="4800"/>
            </a:b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189080" y="3403440"/>
            <a:ext cx="753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Esti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Metric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535120" y="835200"/>
            <a:ext cx="4770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ize-Oriented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08200" y="1727280"/>
            <a:ext cx="8067600" cy="46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t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O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= "thousand lines of cod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n we can def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tivity = KLOC / person-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y = defects in code /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 = dollars /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cumentation = pages of documents /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s and costs include all elements of software development (analysis, design, code, test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tc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189080" y="835200"/>
            <a:ext cx="7311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ize-Oriented Metrics - Exam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344600" y="1882800"/>
            <a:ext cx="6994440" cy="2657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son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 o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h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68,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.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6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40,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7.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2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14,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.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5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32000" y="2631960"/>
            <a:ext cx="7010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3223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939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4188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9799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515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35120" y="4397400"/>
            <a:ext cx="8061480" cy="21452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iv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KLOC/p-month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errors/KLOC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$/LOC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pages/KLO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50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4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3.8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0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43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5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6.1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5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47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6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5.5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1.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22160" y="5146560"/>
            <a:ext cx="8077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8920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9888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90400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04700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5200" y="911160"/>
            <a:ext cx="8021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s with Size-Oriented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84160" y="1727280"/>
            <a:ext cx="791532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ition of "lines of cod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ming language 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nalize well-designed shorter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not easily accommodate non-procedural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fficult to assess LOC before a program is wri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ly known errors can be cou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es, skill levels, and productivity of personnel v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940040" y="758880"/>
            <a:ext cx="5962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ction Points - Fi Val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79360" y="209880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6060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11368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3696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6080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43716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43676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3696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71312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31332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8984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057320" y="2697120"/>
            <a:ext cx="1098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655720" y="2697120"/>
            <a:ext cx="1162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cid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332240" y="2697120"/>
            <a:ext cx="1111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008760" y="2697120"/>
            <a:ext cx="996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7532640" y="2697120"/>
            <a:ext cx="1263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gnific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17400" y="3556080"/>
            <a:ext cx="9058320" cy="46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es the system require reliable backup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8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the master files updated on-lin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data communications required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9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the inputs, outputs, files, or inquiries complex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there distributed processing functions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0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internal processing complex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performance critical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code designed to be reusabl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ll the system run in an existing environment? 12. Are conversion and installation included in desig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es the system require on-line data entry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system designed for multiple installations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es the on-line data entry require the inpu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fferent organization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ransaction to be built over multiple screen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application designed to facilitate change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operations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ase of us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533600" y="835200"/>
            <a:ext cx="6773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ction Points - Compu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960" y="1727280"/>
            <a:ext cx="882972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ight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ement Parame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era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6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7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6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15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external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10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 -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46600" y="2556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46600" y="2936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46600" y="33177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46600" y="3699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46600" y="4079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113680" y="2556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113680" y="2936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113680" y="33177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113680" y="3699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113680" y="4079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961400" y="4917960"/>
            <a:ext cx="106668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093760" y="5146560"/>
            <a:ext cx="5791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320840" y="5684760"/>
            <a:ext cx="702792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284640" y="911160"/>
            <a:ext cx="3270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eature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901880" y="2087640"/>
            <a:ext cx="5861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unction Point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or Technical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569960" y="3479760"/>
            <a:ext cx="6696000" cy="20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points were originally designed for business information systems appli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tensions call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eature poi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pply to technical software appli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gorithms are a bounded computational problem that is included within a specific computer prog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1441440" y="835200"/>
            <a:ext cx="6496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eature Points - Compu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036800" y="1498680"/>
            <a:ext cx="7610400" cy="40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ement Parame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igh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external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gorithm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 -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456080" y="2327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456080" y="2708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456080" y="3089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456080" y="3470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56080" y="3851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351560" y="2327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351560" y="2708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51560" y="3089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51560" y="3470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351560" y="3851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199280" y="5146560"/>
            <a:ext cx="106668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703600" y="537516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56080" y="4232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351560" y="4232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320840" y="5761080"/>
            <a:ext cx="702792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1368360" y="911160"/>
            <a:ext cx="68007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s with Function Points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nd Feature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65400" y="2489040"/>
            <a:ext cx="7305840" cy="22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se metrics are based on subjectiv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ameters can be difficult to obtain after-the-fa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 and Feature Points have no direct physical mea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1951200" y="835200"/>
            <a:ext cx="5784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ction-Oriented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36640" y="3699000"/>
            <a:ext cx="8001000" cy="289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26960" y="1727280"/>
            <a:ext cx="8753400" cy="45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cus is on "functionality" or "utilit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th Function Points and Feature Points support the derivation of potentially useful data for the comparison of one project to an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16160" indent="-857160">
              <a:lnSpc>
                <a:spcPct val="103000"/>
              </a:lnSpc>
              <a:spcAft>
                <a:spcPts val="1225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tivity = FP / person-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y = defects /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 = $ /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cumentation = pages /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1708200" y="911160"/>
            <a:ext cx="611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easuring Software Qu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179800" y="1955880"/>
            <a:ext cx="547704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fore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ective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fter Delivery (most widely u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umber of defects uncovered in the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intainability of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943440" y="66024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398760" y="2031840"/>
            <a:ext cx="2733840" cy="31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1531800" y="835200"/>
            <a:ext cx="6931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“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fter Delivery” Quality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808200" y="1727280"/>
            <a:ext cx="791532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n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defects/KLOC or defects/FP over a one-year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intainabil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mean-time-to-change (MTTC), which is the time requir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alyze the change reques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ign a modification to the softwa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lement the chang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st the changed software and the system as a whole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tribute the changed system to the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390680" y="758880"/>
            <a:ext cx="7058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“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fter Delivery” Quality Metrics,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808200" y="2031840"/>
            <a:ext cx="8448840" cy="48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gr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based on threats and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rea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probability that a specific attack will take place within a given period of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cur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probability that the attack of a specific type will be repe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9000"/>
              </a:lnSpc>
              <a:spcAft>
                <a:spcPts val="1321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9000"/>
              </a:lnSpc>
              <a:spcAft>
                <a:spcPts val="132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abil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based on several perceptions of the us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kill required to use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me required to learn the use of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increase in productivity from using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user's attitude towards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219400" y="3963960"/>
            <a:ext cx="523404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2116080" y="682560"/>
            <a:ext cx="5759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lationship of LOC to F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189080" y="1346040"/>
            <a:ext cx="7305840" cy="52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771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relationship of lines of code to feature points is a function of the programming language used and the quality of the desig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771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ugh estimates of the number of lines of code to create on feature point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/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semb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B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TRA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sc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Langua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urth Generation Langua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tomatic Code Genera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047600" y="682560"/>
            <a:ext cx="7437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Use of Software Productivity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55560" y="1498680"/>
            <a:ext cx="8296200" cy="468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686120"/>
                <a:tab algn="l" pos="6039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 not  use LOC/person-month or FP/person-month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are one group of developers to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te the performance of an 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686120"/>
                <a:tab algn="l" pos="6039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y factors affect productiv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ximate % Var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ctor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in Produ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ople (number, experienc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9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blem (complexity, number of change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 (language, CAS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 (reliability, environment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ources (CASE, hardware, softwar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1417680" y="835200"/>
            <a:ext cx="670068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tegrating Metrics into the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Engineering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960480" y="2336760"/>
            <a:ext cx="77630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historical baseline of metrics data is nee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any, department, or unit should be identified in the scope of this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istance to data collection should be expected in many corporate cul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 least three years of accurate, standardized metric data collection is needed to produce accurate planning estim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1797120" y="682560"/>
            <a:ext cx="6091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llecting Software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960480" y="1422360"/>
            <a:ext cx="7686720" cy="25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process of collecting and using software metrics includes the following ste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rics 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following slides show a spreadsheet model for the collection and computation of historical software baseline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55680" y="453708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55680" y="568008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27680" y="461340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27680" y="575640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65360" y="4384800"/>
            <a:ext cx="1600200" cy="685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770280" y="5146560"/>
            <a:ext cx="1600200" cy="685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151160" y="5908680"/>
            <a:ext cx="1600200" cy="685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590840" y="4602240"/>
            <a:ext cx="141588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741320" y="5973840"/>
            <a:ext cx="1060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313320" y="4906800"/>
            <a:ext cx="1162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a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084720" y="6049800"/>
            <a:ext cx="1492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actitio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494160" y="4449600"/>
            <a:ext cx="1200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798720" y="5211720"/>
            <a:ext cx="1504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179960" y="5973840"/>
            <a:ext cx="1251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104940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265400" y="1270080"/>
            <a:ext cx="7229520" cy="56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Data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bor co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person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7,7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bor ye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urs/ye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5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or Metrics 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ease ty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phanumer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staff memb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o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son-hou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psed time to comple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u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urce co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ly develop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ifi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0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us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ive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3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82080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265400" y="1270080"/>
            <a:ext cx="7229520" cy="52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or Metrics Computation, 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chnic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errors to d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itical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vel 1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vel 2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 to d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son-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ifica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5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 corre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265400" y="1270080"/>
            <a:ext cx="7229520" cy="27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Dat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% of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 and specific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ther - Describ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265400" y="1270080"/>
            <a:ext cx="7229520" cy="56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1488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No.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No.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No.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. No.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. No. of ext.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No.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, 4, 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No.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, 5,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No.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, 4, 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. No.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, 10, 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. No. of ext.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, 7, 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701880" y="911160"/>
            <a:ext cx="2128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08200" y="1727280"/>
            <a:ext cx="799164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successfully manage software development, the project leader must determi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f work to be 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be incur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hat will be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be accomp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cost) that will be expen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hedu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be fo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management begins before the technical work sta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management ends when the software is reti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265400" y="1270080"/>
            <a:ext cx="7229520" cy="60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771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4228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Data, 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771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ing Complexity Fa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. backup and recovery requir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. data communication requir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. distributed processing func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. performance critica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. heavily utilized operating environmen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. online data entr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. input transaction with multiple screen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8. master files updated on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9. input, output, files, queries comple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. internal processing comple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. code designed to be reusabl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2. conversion/installation included in desig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3. system design for multiple install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4. maintainability/ease of us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973080" y="68256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265400" y="1270080"/>
            <a:ext cx="7229520" cy="52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1488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ze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ivity and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utpu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LOC/p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9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- all co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2,5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- exclude reu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4,0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psed 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hs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/p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pa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7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s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of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err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265400" y="1270080"/>
            <a:ext cx="722952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1488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ivity and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utpu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P/p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- all co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F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psed 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P/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1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/F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s/F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0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70120" y="812880"/>
            <a:ext cx="7943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265400" y="1650960"/>
            <a:ext cx="7153200" cy="49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compositio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ing LOC or FP to Estimate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 Estimation by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 Estimation by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pirical Estimation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CO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tman Estimation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625920" y="835200"/>
            <a:ext cx="2128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60480" y="1803240"/>
            <a:ext cx="7915320" cy="43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im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he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qui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storica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ntitative measures of qualitativ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370240" y="758880"/>
            <a:ext cx="4643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227480" y="156528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227480" y="3851280"/>
            <a:ext cx="2362320" cy="1143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2627280" y="3851280"/>
            <a:ext cx="1600200" cy="1295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3618000" y="286056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922560" y="28605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379760" y="286056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36960" y="3089160"/>
            <a:ext cx="304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141880" y="3470400"/>
            <a:ext cx="763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4761000" y="392760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4303800" y="4384800"/>
            <a:ext cx="457200" cy="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3922560" y="4308480"/>
            <a:ext cx="38124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3618000" y="3927600"/>
            <a:ext cx="30456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 flipV="1">
            <a:off x="3465360" y="3546360"/>
            <a:ext cx="15264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3465360" y="3165480"/>
            <a:ext cx="15264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408560" y="1477800"/>
            <a:ext cx="2317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gree of structur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ition, vari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618240" y="4983120"/>
            <a:ext cx="1479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ze of eff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208160" y="5059440"/>
            <a:ext cx="133992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d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st eff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5522760" y="2784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4761000" y="2784600"/>
            <a:ext cx="761760" cy="761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084720" y="2620800"/>
            <a:ext cx="19112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w-risk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930240" y="2343240"/>
            <a:ext cx="2054160" cy="86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be Ris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3473280" y="682560"/>
            <a:ext cx="2433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722600" y="2641680"/>
            <a:ext cx="6238800" cy="41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Statement of software scope must be bou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Software scope describ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4122720" y="4384800"/>
            <a:ext cx="1447920" cy="533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4884840" y="491796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4503600" y="4917960"/>
            <a:ext cx="106704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5627520" y="4678200"/>
            <a:ext cx="28051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aluated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701640" y="1581120"/>
            <a:ext cx="2646360" cy="86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Task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2522520" y="682560"/>
            <a:ext cx="494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701640" y="1352520"/>
            <a:ext cx="2612880" cy="1593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Task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imation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ed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50760" y="6365880"/>
            <a:ext cx="3276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950760" y="4156200"/>
            <a:ext cx="1600200" cy="2209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550960" y="4156200"/>
            <a:ext cx="1676520" cy="2209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12880" y="529920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969920" y="4830840"/>
            <a:ext cx="109548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131840" y="5668920"/>
            <a:ext cx="290664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rdware/softw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859200" y="1882800"/>
            <a:ext cx="2879640" cy="2028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pecif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quired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ration of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rt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373800" y="4321080"/>
            <a:ext cx="2803680" cy="2028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pecif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ration of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ivery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3008160" y="2860560"/>
            <a:ext cx="838440" cy="1828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3770280" y="5451480"/>
            <a:ext cx="259092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2293920" y="835200"/>
            <a:ext cx="494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236760" y="3089160"/>
            <a:ext cx="3276720" cy="1828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106880" y="3535200"/>
            <a:ext cx="14508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208160" y="2544840"/>
            <a:ext cx="21528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intenance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74640" y="3306600"/>
            <a:ext cx="1936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totyping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imulation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208160" y="4602240"/>
            <a:ext cx="1746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tegration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esting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646440" y="5516640"/>
            <a:ext cx="2254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gramming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6618240" y="4983120"/>
            <a:ext cx="1530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alysi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sign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7151760" y="4068720"/>
            <a:ext cx="1644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upport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618240" y="3078000"/>
            <a:ext cx="233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ject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265560" y="1782720"/>
            <a:ext cx="1987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ramework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932440" y="2087640"/>
            <a:ext cx="2116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usiness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777960" y="6000840"/>
            <a:ext cx="691344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SE - Computer-Aided Software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703600" y="2784600"/>
            <a:ext cx="990360" cy="533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227480" y="2022480"/>
            <a:ext cx="380880" cy="10666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675400" y="2631960"/>
            <a:ext cx="68580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6513480" y="3317760"/>
            <a:ext cx="114300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6208560" y="453708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608360" y="4917960"/>
            <a:ext cx="304920" cy="685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932200" y="446076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627280" y="3622680"/>
            <a:ext cx="60948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 flipV="1">
            <a:off x="6513480" y="4156200"/>
            <a:ext cx="685800" cy="759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2446200" y="758880"/>
            <a:ext cx="494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1189080" y="2413080"/>
            <a:ext cx="7381800" cy="378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wo 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If existing software meets requirements,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quire and use 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If existing software can meet requirements with some modification,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 carefu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ost of modification can exceed the cost of new developm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96720" y="1504800"/>
            <a:ext cx="307008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use - A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894120" y="1063800"/>
            <a:ext cx="4643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93560" y="110808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36560" y="217476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08160" y="324180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379760" y="438480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51360" y="552780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98320" y="1173240"/>
            <a:ext cx="2139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t Objective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741320" y="2239920"/>
            <a:ext cx="2241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ntify Metric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112920" y="3306600"/>
            <a:ext cx="2305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 Time, Man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wer, 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0840" y="4449600"/>
            <a:ext cx="151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form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932440" y="5592600"/>
            <a:ext cx="229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duct, Track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ol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27080" y="1870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27080" y="24796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98680" y="29368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98680" y="36226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93960" y="400356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93960" y="47656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65560" y="514656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65560" y="59086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425920" y="2114640"/>
            <a:ext cx="3375000" cy="49860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lann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1811160" y="911160"/>
            <a:ext cx="6064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composition Techn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1951200" y="2336760"/>
            <a:ext cx="6010200" cy="14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05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OC and FP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5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ffort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554040" y="758880"/>
            <a:ext cx="8578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composition Techniqu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808200" y="2489040"/>
            <a:ext cx="8067600" cy="32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idea is that the person planning the software pro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tes a bounded statement of the scope of th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omposes the scope into smaller sub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s LOC or FP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lies baseline productivity metrics (e.g., LOC/person-month) to LOC or FP estimates to produce a cost or effort estimate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bines estimates for each subfunction to derive estimates for the entir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701640" y="1581120"/>
            <a:ext cx="357660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C and FP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554040" y="911160"/>
            <a:ext cx="8578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composition Techniqu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1417680" y="3327480"/>
            <a:ext cx="66960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8000"/>
              </a:lnSpc>
              <a:spcAft>
                <a:spcPts val="129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P estimation techniques require less detail than 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spcAft>
                <a:spcPts val="129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 is estimate directly while FP is estimated indirec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25320" y="2190600"/>
            <a:ext cx="501804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fferences Between LOC and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998640" y="682560"/>
            <a:ext cx="7689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Using LOC or FP to Estimate Eff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655560" y="1498680"/>
            <a:ext cx="837252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Estimate LOC or FP values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historical data (or intuition, if necess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ree estimates: optimistic (o), most likely (m), and pessimistic 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Calculate expected value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Apply productivity data to get effort to be expended; two way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tal expected LOC or FP for all subfunctions and divide this by the expected LOC or FP completed per person-month (estimated from past projects); 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 = 310 expected FP for project/5.5 expected FP per person-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56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ltiply each subfunction LOC or FP by the adjusted productivity value (based on the estimated complexity of the function) and sum the results for all subfunctions in th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6178680" y="2708280"/>
            <a:ext cx="188748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1593720" y="835200"/>
            <a:ext cx="6496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ffort Estimation by Fun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51000" y="2793960"/>
            <a:ext cx="8906040" cy="337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unction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ptimistic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st Likely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ssimistic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pected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$/Line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ine/Month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r interface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6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,3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 32,7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7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5,38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07,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4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9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,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36,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0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ta structure mgm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9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,3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 60,3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3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raphics displa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0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9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,9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08,9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4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ripheral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4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,1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 59,9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ign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5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8,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51,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8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stimated Effor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3,3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656,68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2835360" y="1657440"/>
            <a:ext cx="369720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D Program Exampl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979560" y="6049800"/>
            <a:ext cx="436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Cost: $ 656,6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Effort:  144.5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2114640" y="758880"/>
            <a:ext cx="5608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ffort Estimation by T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2835360" y="1657440"/>
            <a:ext cx="369720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D Program Exampl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1494000" y="2489040"/>
            <a:ext cx="6696000" cy="40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unction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de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r interface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0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7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9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6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1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ta structure mgm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5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raphics displa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7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ripheral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5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6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ign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5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7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0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ta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6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0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5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t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($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2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st ($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5,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92,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12,6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27,2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08,0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979560" y="6049800"/>
            <a:ext cx="436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Cost: $ 708,0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Effort:  152.5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1835280" y="606600"/>
            <a:ext cx="6319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mpirical Estimation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503280" y="1117440"/>
            <a:ext cx="8677440" cy="54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 single-variable model (example: COCOM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1000"/>
              </a:lnSpc>
              <a:spcAft>
                <a:spcPts val="1225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is the estimated characteristic (LOC, FP, effort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and d are constants derived from data collected from past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 multivariabl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1000"/>
              </a:lnSpc>
              <a:spcAft>
                <a:spcPts val="1225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, y, ...  and c, d, ... are as ab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ynamic multivariabl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resource requirements are determined over a series of time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oretical (example: Putman Estimation Mod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s equations derived from hypothesized expenditure cur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3219480" y="1608120"/>
            <a:ext cx="2303640" cy="33804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3083040" y="3805200"/>
            <a:ext cx="2820960" cy="3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3589200" y="682560"/>
            <a:ext cx="22035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CO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884160" y="1498680"/>
            <a:ext cx="7915320" cy="41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volves basic, intermediate, and advanced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ic mode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(b), b(b), c(b), and d(b) are determined from the ta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(b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(b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(b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0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midetach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mbedd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2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1838160" y="2327400"/>
            <a:ext cx="5589720" cy="45720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1749600" y="2878200"/>
            <a:ext cx="5602320" cy="43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2332080" y="758880"/>
            <a:ext cx="4718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COMO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722600" y="1574640"/>
            <a:ext cx="63151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ample of COCOMO basic model on the CAD progr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 = 3.0 (LOC) ^ 1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3.0 (33.3) ^ 1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52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ment Time = 2.5 (Effort) ^ 0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2.5 (152) ^ 0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4.5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us, estimated number of people N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 = Effort / Developmen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52 / 14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1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2155680" y="758880"/>
            <a:ext cx="568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utman Estima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08200" y="1422360"/>
            <a:ext cx="8067600" cy="12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is derived from large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 is applicable to smaller projects as 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distribution of effort is described by the Rayleigh-Norden 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1890720" y="4003560"/>
            <a:ext cx="7416720" cy="24861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1436760" y="4221000"/>
            <a:ext cx="1149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2579760" y="3611520"/>
            <a:ext cx="1504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ec,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408560" y="3535200"/>
            <a:ext cx="1314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6008760" y="3687840"/>
            <a:ext cx="1162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li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7532640" y="4145040"/>
            <a:ext cx="13017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1255680" y="6518160"/>
            <a:ext cx="79246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1255680" y="3774960"/>
            <a:ext cx="0" cy="27432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598320" y="4221000"/>
            <a:ext cx="768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408560" y="6583320"/>
            <a:ext cx="628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2546280" y="660240"/>
            <a:ext cx="4896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569960" y="1270080"/>
            <a:ext cx="6848640" cy="54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ing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y Measure Softwa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wo Types of Measu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tegories of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ze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eature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ing Software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ationship of LOC to 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of Productivit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grating Metrics into the Software Engineer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lecting Software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1238400" y="660240"/>
            <a:ext cx="7512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2408400" y="1270080"/>
            <a:ext cx="5019840" cy="54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at Software Project Planning Invo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onitoring - Project 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ical Task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aches to Project 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Acqui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Acquisition Decision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Re-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zational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hancements to a Good 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Software Project Plan (SP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1343160" y="682560"/>
            <a:ext cx="7004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What Software Project Planning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vol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960480" y="1955880"/>
            <a:ext cx="7610400" cy="47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1. 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2.  Risk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3. 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4.  Acquisition Decision Ma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5.  Re-Engine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6.  Organizational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3156120" y="835200"/>
            <a:ext cx="3068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isk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2322360" y="1870200"/>
            <a:ext cx="0" cy="35049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322360" y="5375160"/>
            <a:ext cx="3810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208160" y="2087640"/>
            <a:ext cx="111132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ver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494160" y="5364000"/>
            <a:ext cx="2394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Cost Over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855880" y="2860560"/>
            <a:ext cx="76320" cy="3812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932200" y="3241800"/>
            <a:ext cx="75960" cy="3045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008160" y="3546360"/>
            <a:ext cx="152640" cy="3049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160800" y="38512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389400" y="4156200"/>
            <a:ext cx="304560" cy="3045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693960" y="446076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998880" y="4689360"/>
            <a:ext cx="380880" cy="1526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379760" y="4842000"/>
            <a:ext cx="457200" cy="759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836960" y="491796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2855880" y="20988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855880" y="3317760"/>
            <a:ext cx="228600" cy="152280"/>
          </a:xfrm>
          <a:prstGeom prst="ellipse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160800" y="2479680"/>
            <a:ext cx="1447560" cy="8380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637160" y="2163600"/>
            <a:ext cx="3651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t Point (Cost/Time Val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Termination Will Occ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2851200" y="682560"/>
            <a:ext cx="3983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is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731880" y="1270080"/>
            <a:ext cx="8220240" cy="54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te risk management and monitoring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each risk triplet, define the risk management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anagement incurs additional project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larger projects, there may be 30-40 risks ident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su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= High staff turn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kelihood of occurrence = 7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act = Increase project time by 15%, project cost by 1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anagement steps may b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Identify high turnover ca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Reduce causes before project st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Develop techniques to assure work continuity in light of turn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1152360" y="911160"/>
            <a:ext cx="7539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isk Monitoring - Project Tr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2027160" y="2336760"/>
            <a:ext cx="5705640" cy="23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termine if predicted risk occ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perly apply risk aversion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llect info for future risk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1771560" y="9874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2408400" y="2031840"/>
            <a:ext cx="5095800" cy="26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ople-work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heduling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1695600" y="7588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782720" y="1401840"/>
            <a:ext cx="60148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eople-Work Relationsh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036800" y="2031840"/>
            <a:ext cx="753444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ing people to a project when behind schedule is counterproductive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ing people to a late project makes it la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ing fewer people over a longer period of time is more beneficial than lots of people for a shorter period of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of small, tightly-knit teams is produ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pire creativity and self-motivation within the structure of th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1619280" y="83520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287360" y="14828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22160" y="36990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74800" y="385128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027080" y="400356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179360" y="41562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027080" y="36990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332000" y="430848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484280" y="446076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636560" y="46134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789200" y="476568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941480" y="491796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027080" y="347040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179360" y="362268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493560" y="2281320"/>
            <a:ext cx="8686800" cy="431316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 txBox="1"/>
          <p:nvPr/>
        </p:nvSpPr>
        <p:spPr>
          <a:xfrm>
            <a:off x="446040" y="3078000"/>
            <a:ext cx="996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20816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265572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484520" y="2239920"/>
            <a:ext cx="311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5856120" y="2239920"/>
            <a:ext cx="311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618240" y="2239920"/>
            <a:ext cx="235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170320" y="223992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798720" y="223992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8066160" y="3763800"/>
            <a:ext cx="2984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8751960" y="3763800"/>
            <a:ext cx="387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52236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89396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2655720" y="6278400"/>
            <a:ext cx="387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484520" y="6278400"/>
            <a:ext cx="476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6389640" y="627840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805280" y="3503520"/>
            <a:ext cx="228600" cy="152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1619280" y="7588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1287360" y="14018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960480" y="2031840"/>
            <a:ext cx="77630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itial Sequenti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1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analysis and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requirements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2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architecture and data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preliminary design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1695600" y="68256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1287360" y="12542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1646280" y="1955880"/>
            <a:ext cx="6391440" cy="54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allel Events for Each Sub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P1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cedural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ign walk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P2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 walk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P3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t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2774880" y="758880"/>
            <a:ext cx="4440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easuring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569960" y="1498680"/>
            <a:ext cx="6543720" cy="32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ively measuring software is difficu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t projects use only "lines of code" (LOC) for metr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ch disagreement exists on what and how much to meas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urately measuring software is vitally important to tracking and controlling software develop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46400" y="628956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550960" y="51465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50960" y="514656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465360" y="51465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379760" y="590868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379760" y="59086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294160" y="590868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655720" y="6354720"/>
            <a:ext cx="5778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179960" y="6354720"/>
            <a:ext cx="1327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2246400" y="507060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856120" y="5059440"/>
            <a:ext cx="1898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erent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1619280" y="68256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363680" y="12542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1112760" y="1955880"/>
            <a:ext cx="7381800" cy="30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ing Activities Can Be Performed In Para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sting Milestone (After Unit Testing)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1467000" y="9874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1135080" y="17114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1227240" y="2641680"/>
            <a:ext cx="7229520" cy="188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gration Test Milestone - completed after system is assem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lidation Test Milestone - completed 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1924200" y="91116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090960" y="1554120"/>
            <a:ext cx="4006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ffort Distrib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160800" y="2403360"/>
            <a:ext cx="3581280" cy="3352680"/>
          </a:xfrm>
          <a:prstGeom prst="ellipse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913280" y="2403360"/>
            <a:ext cx="0" cy="33530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913280" y="4003560"/>
            <a:ext cx="1371600" cy="12193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3494160" y="3230640"/>
            <a:ext cx="10350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40-5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5018040" y="2849400"/>
            <a:ext cx="1289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bug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30-4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941720" y="4830840"/>
            <a:ext cx="1035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15-2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1619280" y="7588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2430360" y="1325520"/>
            <a:ext cx="4565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cheduling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579600" y="1955880"/>
            <a:ext cx="83725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T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 Evaluation and Review Tech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PM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itical Path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693720" y="3022560"/>
            <a:ext cx="829620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T and CPM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ually presented pictor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ntitative tools for the planner to determ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itical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st likely time estim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undary times (earliest task start time, latest task start time, earliest task finish time, latest task finish time, total float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2382840" y="1216080"/>
            <a:ext cx="4770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ypical Task Net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560600" y="3317760"/>
            <a:ext cx="1143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560600" y="3546360"/>
            <a:ext cx="1143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981000" y="2662200"/>
            <a:ext cx="8047080" cy="385596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1589040" y="3611520"/>
            <a:ext cx="87624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3036960" y="3611520"/>
            <a:ext cx="77616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er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560840" y="2620800"/>
            <a:ext cx="66816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eg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506840" y="4525920"/>
            <a:ext cx="8366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6389640" y="3763800"/>
            <a:ext cx="8460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eg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7837560" y="3763800"/>
            <a:ext cx="86508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3036960" y="5821200"/>
            <a:ext cx="97488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vel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st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d sch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60840" y="5897520"/>
            <a:ext cx="75708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6465960" y="5897520"/>
            <a:ext cx="10638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1589040" y="42973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2960640" y="42973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60840" y="33066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484520" y="51354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6313320" y="437364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7761240" y="437364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2960640" y="65070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60840" y="65070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6389640" y="6507000"/>
            <a:ext cx="349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1512720" y="330660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24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2960640" y="338292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25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408560" y="239220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2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484520" y="422100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2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6313320" y="345924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8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7684920" y="345924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15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2960640" y="559260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25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484520" y="559260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30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6389640" y="559260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1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1263600" y="1063800"/>
            <a:ext cx="7005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pproaches to Project Tr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960480" y="2260440"/>
            <a:ext cx="7610400" cy="36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ducting periodic project status meetings in which each team member reports progress and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ting the results of all reviews conducted throughout the engineer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termining whether formal project milestones have been accomplished by the scheduled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aring the actual start date to the planned start date for each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eting informally with software engineers to obtain their subjective assessments of the progress to date and problems on the horiz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2370240" y="835200"/>
            <a:ext cx="4641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Acquis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1646280" y="1727280"/>
            <a:ext cx="639144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ke or bu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o will u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y and modif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ct outside contractor to buil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ision based 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duced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rlier delivery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 enough or properly skilled people to deve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tter support out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946080" y="682560"/>
            <a:ext cx="7640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Acqusition Decision T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731880" y="1346040"/>
            <a:ext cx="8143920" cy="61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ach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il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8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icul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u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75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j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1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9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1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j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a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out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865160" y="187020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246400" y="1870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246400" y="2327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865160" y="316548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246400" y="31654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246400" y="3622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865160" y="476568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246400" y="4765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246400" y="5222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865160" y="598500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246400" y="5985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246400" y="6442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761000" y="354636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141880" y="354636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141880" y="400356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151160" y="194616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151160" y="232740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913280" y="31654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894360" y="354636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894360" y="400356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913280" y="484200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913280" y="514656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065560" y="5985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065560" y="64422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 txBox="1"/>
          <p:nvPr/>
        </p:nvSpPr>
        <p:spPr>
          <a:xfrm>
            <a:off x="1925640" y="987480"/>
            <a:ext cx="553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Re-Engine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1074600" y="2108160"/>
            <a:ext cx="753444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often-used programs, build a controlled database of components for all to 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clude documents, source code, user's guide, maintenance guide, test procedures and data, and a history of use with the compon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re-engineering may be enhanced by object-oriented design and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2255760" y="682560"/>
            <a:ext cx="5327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rganizational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655560" y="1346040"/>
            <a:ext cx="8296200" cy="55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re are lots  of human organizational structures for software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ssibilities - consider N people working for K years on M different functional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vel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ach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ac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ord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 Assign N people to M ta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ividu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 M &gt; N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 Assign N people to M ta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Mg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 M &lt; N 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 L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 Assign N people to T teams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m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Mg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ch team resp. for 1 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 L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re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228760" y="911160"/>
            <a:ext cx="5380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Why Measure Softw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036800" y="2108160"/>
            <a:ext cx="7610400" cy="38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entify quality of the software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ess productivity of the software develo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ess benefits of using development processes and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m a baseline for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ustify requests for tools an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579600" y="1139760"/>
            <a:ext cx="8529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nhancements to a Good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1112760" y="2413080"/>
            <a:ext cx="761040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hief Programmer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oftware Librar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goless programming with a team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1379520" y="682560"/>
            <a:ext cx="70819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he Software Project Plan (SP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960480" y="1498680"/>
            <a:ext cx="7763040" cy="50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brief document which describes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cope of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resources to b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isks and risk avoidance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 and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all approach to softwar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nagement, technical staff, and customer are the primary reads of the SP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PP provides a starting point for the rest of the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747800" y="835200"/>
            <a:ext cx="6345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wo Types of Measur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32000" y="1946160"/>
            <a:ext cx="3352680" cy="426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50000"/>
              <a:buFont typeface="Wingdings"/>
              <a:buChar char=""/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rec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execution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binary code siz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memor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sy to 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55520" y="5961240"/>
            <a:ext cx="9540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218200" y="1946160"/>
            <a:ext cx="3352680" cy="426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50000"/>
              <a:buFont typeface="Wingdings"/>
              <a:buChar char=""/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dir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 function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qu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"-ilities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💧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 easy to 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2776680" y="911160"/>
            <a:ext cx="4745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ategories of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3600" y="293688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03600" y="430848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03600" y="568008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98880" y="20224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56280" y="20224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61400" y="20224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93720" y="2544840"/>
            <a:ext cx="206064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ze-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93720" y="3916440"/>
            <a:ext cx="27367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70040" y="5288040"/>
            <a:ext cx="24829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uman-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265560" y="1706400"/>
            <a:ext cx="185724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494320" y="1747800"/>
            <a:ext cx="112860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323120" y="1747800"/>
            <a:ext cx="15019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