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060B696-C13F-4344-A449-12D5D75CBE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371600" y="768240"/>
            <a:ext cx="5029200" cy="3767400"/>
          </a:xfrm>
          <a:prstGeom prst="rect">
            <a:avLst/>
          </a:prstGeom>
          <a:ln w="0">
            <a:noFill/>
          </a:ln>
        </p:spPr>
      </p:sp>
      <p:sp>
        <p:nvSpPr>
          <p:cNvPr id="8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371600" y="768240"/>
            <a:ext cx="5029200" cy="3767400"/>
          </a:xfrm>
          <a:prstGeom prst="rect">
            <a:avLst/>
          </a:prstGeom>
          <a:ln w="0">
            <a:noFill/>
          </a:ln>
        </p:spPr>
      </p:sp>
      <p:sp>
        <p:nvSpPr>
          <p:cNvPr id="8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B - </a:t>
            </a:r>
            <a:fld id="{A1CA938A-C8EE-4B13-8936-CD1CB6F237FF}"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
        <p:nvSpPr>
          <p:cNvPr id="49" name=""/>
          <p:cNvSpPr/>
          <p:nvPr/>
        </p:nvSpPr>
        <p:spPr>
          <a:xfrm>
            <a:off x="1693800" y="2743200"/>
            <a:ext cx="6477120" cy="685800"/>
          </a:xfrm>
          <a:prstGeom prst="rect">
            <a:avLst/>
          </a:prstGeom>
          <a:no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205"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207"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272"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273"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274"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275"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277"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2"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3"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94"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5"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6"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297"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299"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301"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306"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307"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308"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310"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327"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328"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329"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330"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331"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2"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333"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334"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335"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6"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337"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339"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341"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342"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344"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5"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6"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350"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51"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352"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353"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354"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355"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358"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60"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63"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5"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371"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4"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5"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376"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377"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378"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79"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380"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381"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2"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3"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4"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385"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386"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387"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388"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9"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390"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392"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394"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398"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7"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9"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0"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1"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2"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5"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6"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417"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418"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419"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420"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421"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422"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423"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424"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425"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426"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427"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428"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1"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31"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44"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445"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46"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447"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48"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449"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50"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451"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452"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53"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54"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55"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56"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57"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458"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61"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462"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8"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9"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470"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1"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2"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3"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4"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475"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76"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77"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78"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79"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80"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1"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2"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3"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4"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5"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6"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7"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8"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489"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490"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491"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492"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93"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95"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6"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7"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499"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501"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503"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504"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505"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507"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12"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513"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514"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515"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16"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517"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521"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23"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28"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29"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0"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531"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7"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538"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9"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540"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544"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5"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546"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548"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550"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4"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555"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556"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571"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572"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573"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574"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75"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577"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584"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585"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586"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587"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588"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89"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90"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591"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593"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596"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597"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03"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604"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5"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606"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9"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610"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611"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1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24"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25"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6"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7"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28"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3"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58"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1"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4"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5"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6"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1"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2"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42"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43"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644"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5"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46"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7"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8"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49"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0"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1"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4"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55"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6"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7"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8"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659"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660"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661"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663"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65"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666"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672"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673"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674"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675"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77"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67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681"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682"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4"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685"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686"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8"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689"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690"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691"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692"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94"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695"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696"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711"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1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1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2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2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2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26"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727"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728"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37"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738"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739"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740"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50"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751"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752"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755"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76"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1"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62"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63"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64"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65"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6"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7"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68"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70"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771"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772"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773"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774"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775"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776"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777"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5"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7"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4"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5"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796"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03"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04"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05"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06"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7"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8"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09"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11"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2"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813"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814"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5"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6"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7"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8"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9"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0"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1"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2"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3"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4"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5"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6"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7"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8"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9"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0"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1"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2"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3"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834"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835"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836"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837"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8"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9"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0"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1"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2"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4"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5"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6"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7"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848"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849"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850"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851"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852"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3"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4"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55"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56"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7"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8"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9"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0"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1"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2"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64"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865"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78"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83"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86"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87"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92"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95"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96"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97"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98"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99"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00"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01"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03"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109"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0"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1"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112"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3"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22"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125"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128"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31"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32"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133"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34"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35"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6"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7"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8"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9"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0"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3"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44"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147"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48"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149"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50"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151"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53"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55"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0"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3"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64"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5"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6"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7"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9"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75"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177"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78"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179"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80"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84"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86"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7"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8"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89"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0"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1"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93"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94"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195"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196"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197"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198"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199"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201"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203"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