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B95D01-2C91-4BB1-8712-B5590DCCA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URSE NOTES OW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 Name: 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  774-5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  rconn@ada2.crd.g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149868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 </a:t>
            </a:r>
            <a:fld id="{5415B2B6-AAC2-4FED-98CC-684965CB3BAF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19120" y="928800"/>
            <a:ext cx="6994440" cy="1938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38720" y="6141960"/>
            <a:ext cx="38512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Prepared by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17840" y="3094200"/>
            <a:ext cx="4667400" cy="33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Number 20-260-635-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Cincinn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artment of Electrica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ncinnati,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43040" y="6141960"/>
            <a:ext cx="1420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,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795760" y="600120"/>
            <a:ext cx="4543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19000" y="1189080"/>
            <a:ext cx="2459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9200" y="2408400"/>
            <a:ext cx="25495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10120" y="3780000"/>
            <a:ext cx="1541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19640" y="4923000"/>
            <a:ext cx="28717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80" y="11336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71880" y="235260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357192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58080" y="47912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52560" y="6010200"/>
            <a:ext cx="6629400" cy="7621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9920" y="6218280"/>
            <a:ext cx="1560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43480" y="1590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72080" y="15908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3680" y="2886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53160" y="2886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040" y="41054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81960" y="41054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19440" y="60012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7640" y="1438200"/>
            <a:ext cx="8534520" cy="59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nd Software Enginee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 and Graphical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bject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, 2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Based Programming Languages - 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9,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-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, 3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view and Evalu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62040" y="5781600"/>
            <a:ext cx="64008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lasses are in Baldwin 862, 9:20-12:00AM, Satur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617920" y="600120"/>
            <a:ext cx="4900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JECT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04840" y="1514520"/>
            <a:ext cx="784872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am Selection, Analysis Beg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Analysis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esign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Prototyp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type Analysis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ed Design Complete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l Code with Demonstration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2200" y="6205680"/>
            <a:ext cx="4673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marks (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ndicate grad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62200" y="5913360"/>
            <a:ext cx="50925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 are due for each grad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641680" y="600120"/>
            <a:ext cx="4853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857240"/>
            <a:ext cx="7772400" cy="39830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- Roadmap, Schedule, Materials List, Gr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son Plan and Student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mplates: SDP, SRS, SDD, SUM, IV&amp;V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Ada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C++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ctur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:  Grady Booch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 with Appl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Benjamin/Cummings Publishing Company, 1991, ISBN 0-8053-0091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8880" y="4867200"/>
            <a:ext cx="76960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36960" y="60012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R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23960" y="1133640"/>
            <a:ext cx="83818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Att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5% Required to Pass Course (negot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ework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idterm Exam, 4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Subprojects and IV&amp;V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 Grades (NA=0, SA=5, A=10, E=15 poin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cceptable (NA) - Subproject Does Not Meet Minimum Qualit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sceptable to Being Made Acceptable (SA) - Subproject Could be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ptable (A) - Subproject is Satis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ptional (E) - Subproject is Above and Beyond th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 Homework Assignments and Subprojects: -10% p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324480" y="866880"/>
            <a:ext cx="2819520" cy="2946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=90-100, B=80-89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Possi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