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972640" y="6675480"/>
            <a:ext cx="361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C96D8E1B-5510-4E48-A253-22CF12E443BB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142920"/>
            <a:ext cx="9677520" cy="708660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74880" y="1133640"/>
            <a:ext cx="7881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ELECTED OFTEN-USED CLIP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CK CONN AND HAL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400480" y="3876840"/>
            <a:ext cx="51814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ptember 28, 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5118120" y="3648240"/>
            <a:ext cx="10968120" cy="2305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89120" y="371520"/>
            <a:ext cx="465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AIGHT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76640" y="202896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48240" y="2695680"/>
            <a:ext cx="26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19440" y="34765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62040" y="2676600"/>
            <a:ext cx="26478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15080" y="36482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67160" y="113364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IRCULAR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62280" y="1895400"/>
            <a:ext cx="201924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838160"/>
            <a:ext cx="1714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920" y="295200"/>
            <a:ext cx="4657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7000" y="1476360"/>
            <a:ext cx="7201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14720" y="1133640"/>
            <a:ext cx="54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HECK AND NO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2200320"/>
            <a:ext cx="1962000" cy="26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2181240"/>
            <a:ext cx="1790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7480" y="-37136520"/>
            <a:ext cx="1665360" cy="4088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5880" y="1133640"/>
            <a:ext cx="411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R ON A 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76680" y="1876320"/>
            <a:ext cx="217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24440" y="1133640"/>
            <a:ext cx="17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680" y="17812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86360" y="1800360"/>
            <a:ext cx="316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028960" y="1133640"/>
            <a:ext cx="577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ORM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3240" y="1704960"/>
            <a:ext cx="5276880" cy="37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18120" y="3648240"/>
            <a:ext cx="23159880" cy="1956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7640" y="1133640"/>
            <a:ext cx="439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5118120" y="3648240"/>
            <a:ext cx="23464800" cy="2379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19600" y="1133640"/>
            <a:ext cx="219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08200" y="600120"/>
            <a:ext cx="64152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LOBAL VIEW/BIG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40040" y="2009880"/>
            <a:ext cx="5762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51160" y="1133640"/>
            <a:ext cx="1528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00240" y="1704960"/>
            <a:ext cx="75438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 flipV="1">
            <a:off x="4915080" y="3673440"/>
            <a:ext cx="22956480" cy="225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41280" y="676440"/>
            <a:ext cx="7500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EOPLE (GROUP OR SEPARA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85920" y="1647720"/>
            <a:ext cx="93348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33680" y="1762200"/>
            <a:ext cx="933480" cy="348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14360" y="1609560"/>
            <a:ext cx="89532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43280" y="1590840"/>
            <a:ext cx="99072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695760" y="1647720"/>
            <a:ext cx="1219320" cy="355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73560" y="1704960"/>
            <a:ext cx="1219320" cy="354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054760" y="1628640"/>
            <a:ext cx="97164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02400" y="1704960"/>
            <a:ext cx="8571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178680" y="1857240"/>
            <a:ext cx="876240" cy="352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43040" y="1800360"/>
            <a:ext cx="78120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601040" y="3571920"/>
            <a:ext cx="180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3440" y="523800"/>
            <a:ext cx="49766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ES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03720" y="295200"/>
            <a:ext cx="14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40" y="885960"/>
            <a:ext cx="537228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48200" y="3476520"/>
            <a:ext cx="354312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3800520"/>
            <a:ext cx="52959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57040" y="3648240"/>
            <a:ext cx="4686120" cy="1935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24160" y="523800"/>
            <a:ext cx="3381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6360" y="17812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8360" y="35146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62640" y="4581360"/>
            <a:ext cx="2533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7640" y="1133640"/>
            <a:ext cx="4395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60028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95920" y="2790720"/>
            <a:ext cx="327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90720" y="1133640"/>
            <a:ext cx="4248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8560" y="1762200"/>
            <a:ext cx="3714840" cy="27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3320" y="1914480"/>
            <a:ext cx="400068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440" y="5019840"/>
            <a:ext cx="990720" cy="99072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4943520"/>
            <a:ext cx="1219320" cy="114300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9435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22640" y="1133640"/>
            <a:ext cx="178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05000" y="1895400"/>
            <a:ext cx="100980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228840"/>
            <a:ext cx="371484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10360" y="296244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49840" y="1895400"/>
            <a:ext cx="90792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4915080" y="3648240"/>
            <a:ext cx="1317600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90920" y="1133640"/>
            <a:ext cx="2847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0440" y="1803240"/>
            <a:ext cx="4213080" cy="18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4105440"/>
            <a:ext cx="750564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01080" y="1952640"/>
            <a:ext cx="99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03440" y="295200"/>
            <a:ext cx="3024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7160" y="1619280"/>
            <a:ext cx="8115480" cy="454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5118120" y="3648240"/>
            <a:ext cx="28138320" cy="282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38360" y="447840"/>
            <a:ext cx="4753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ONAL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52760" y="199080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91040" y="2009880"/>
            <a:ext cx="24004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355284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962000" y="353376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