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47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chael Groh, Mid-Atlantic Database Solutions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4882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80FEE4C-24F6-437C-9021-7ED0EAF86979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99444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2DD8DE6F-DED3-47EB-9FA8-1E5509DE9A0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533520" y="1295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 and Access 2.0: The Dynamic D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819520"/>
            <a:ext cx="6400800" cy="30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xamine the VB-to-Access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vey the VB databa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ok at VB cod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etermine “fit” for your work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s Available to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Access Basic code, forms, reports, or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base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re part of VB 3.0 Standa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reate n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tive” format is Access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 2.0, 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BASE III,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dox 3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Manager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OLO20.MDB and look at structure an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added to any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and update data in a single databas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add multiple Data Controls to a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Control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 at ROLO20.MDB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Database Language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DL = Data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ML = Data Manipula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uilt on Data Access Object (DAO)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D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scribes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M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ing, updating, and maintaining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... and the methods to contro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04920" y="3124080"/>
            <a:ext cx="69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roduct Director of Windows and Database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Riders Publishing, a division of MacMillan Compute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ame family as Que, Sams, Brady, Hayden, Alph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Data Access Object (DA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O is how VB connects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DAO is a hierarchical arrangemen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= “Container” for all data-related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syntax in Access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 are containers for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th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: Performs action 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O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 </a:t>
            </a: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ave a physical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e referenced through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ymbols that represent 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bName” is the symbolic representation of “ROLO20.MD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miliar Object No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are referenced with familiar VB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.TableDefs(0).Fields(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is line refers to the first field of the first TableDef object in the database represented by db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Definition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fine the structure of the datab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(Access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609480" y="320040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derstanding Coll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ctio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 all of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f a particula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Users, Groups,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Workspac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l of the Access sessions in operation at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Databases, Groups, and Users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include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eginTrans, Rollback, CommitT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reateDatabase, Open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er for all objects related to Acces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sts of a single “MDB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pen Access Database obje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ses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s 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to using VB for database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lease! No complaints about “too basic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es only Microsoft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plies to 1.x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ached tables (like FoxPro) are “normal” Table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 queries are Query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table objects (TableDefs) in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MDB file contains zero or more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ne TableDef member for each table in the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me of th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urce of table (attach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nect (connect string needed to access 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e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pdatable, Last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990720" y="3124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d as Table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‘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Next line references 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d = db.TableDefs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td.Updatable = True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ebug.Print “Table is upda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cordset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2.0,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replaces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bject (same as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 object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bl a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bl = db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bl.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t of records drawn from tables in a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ynam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ta Control creates only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 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trSQL As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trSQL = “SELECT * FROM tblPeop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FName.Text = ds("Fir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LName.Text = ds("La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napshot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53352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ilar to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at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not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de is essentially the same as Dyn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s As 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ss = db.CreateSnapsho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838080" y="28195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ch TableDef contains a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Zero or more Field objects in each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 of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 of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nt of fields in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 VB as an addition to the Access developer’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ine the database tools i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udy some of the VB code required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 object contains the actu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yp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ing a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b.TableDefs("tblPeople").Fields(0)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ored query definition or SQL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Quer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pecific to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, etc. use SQL statement to create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new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CreateQueryDef(“People”, “SELECT * FROM 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dynaset from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“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ng Record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pply to all Recordset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, Dynasets,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76320" y="289548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Next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s.EOF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Next.Enabled = 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Pre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Prev.Enabled =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Find Methods to Locate Specific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nd Methods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09480" y="3124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MyCriteria As String, MyDB As Database, MySet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Criteria = "State = 'NY'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DB = OpenDatabase("ROLO20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Set = MyDB.CreateDynaset("qryPeopl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Firs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ata1.Recordset.NoMatch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Nex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1. Must use Recordset Edit method to enable changes on a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. After Edit method, set current record in Recordset to ne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3. Then use Update method to mak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ChangeField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Enable dynaset for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Set current record to text 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First Name") = txtFir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Last Name") = txtLa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Parameter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st satisfy the query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ainful synta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Access “Jet” 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MDB is “native” databas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s many VB concepts: objects, properties, and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o ODBC, no add-on librari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time royalty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arameterized Query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533520" y="3124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 in 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query parame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s return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inpu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fields, navigation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 Access QBE Gri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o retrieve names from tblPeople,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 "*" if name not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QBE gr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Like [Forms]![frmLookupCriteria]![LastName] Or Is N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ry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quer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"ROLO"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CR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first and las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data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BF implement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Code to Implement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914400" y="28954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Form_Load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20.MDB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La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La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Fir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Fir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.Close ' Close QueryDef; we have dyn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Problem with Access 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OLE objects are "wrapped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't just link an image control to Access OL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ecial VB code is necessary to unwrap OL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e OLEDEM.ZIP in Library 10 of MSBASIC forum on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3.0 and Access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on't work without "compatibility laye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ffice Developer's Kit (OD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Developer's Toolkit (AD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DK: CD produc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 Develop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ISBN 0-672-30453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ning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ohn Viescas,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Cook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is St. Valentine, Addison-Wesley, ISBN 0-201-62636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533520" y="3124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Developer’s Guide with V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       ISBN 0-672-30440-6 ($44.95, 12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Super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ill Potter, et al, Waite Group Press,             ISBN 1-878739-50-6 ($44.95, 16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Database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Karen Watterson, Addison-Wesley,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 ISBN 0-201-62661-6 ($34.95, 400+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Use V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imit user to 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: All interfaces are M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VBXs i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untim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it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atively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ames Conger, Waite Group Press,     ISBN 1-878739-15-8 ($44.95, 10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im Conger, Waite Group Press,             ISBN 1-878739-37-9 ($39.95, 1000 pg, 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lease provide feedba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 (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4670 (f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available upon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GO MCP, Databas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asons to Not Use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2.0 much more powerful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ccess &amp; VB know OLE 2 objects and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.0: better security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me Access 2.0 tools are better tha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f You Are Not Yet Using VB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syntax is nearly identical to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A: Excel 5.0, Project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st likely in next versions of Word and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70% to 80% of VB = Access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rosoft has a clear and obvious committment to VB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for Applications (VB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ring 94: featured in only one Microsoft Office application (Exc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VBA engine on PCs and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sy to implement OLE Automation with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LE Automation is also easy with Access Basic and 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Groh</dc:creator>
  <dc:description/>
  <dc:language>en-US</dc:language>
  <cp:lastModifiedBy>Michael Groh</cp:lastModifiedBy>
  <cp:revision>0</cp:revision>
  <dc:subject>Dynamic Duo: Access and VB</dc:subject>
  <dc:title>Mid-Atlantic Database Solutions Workshop - May 6, 1994</dc:title>
</cp:coreProperties>
</file>