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</p:sldIdLst>
  <p:sldSz cx="7772400" cy="100584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8440" y="401040"/>
            <a:ext cx="6994800" cy="167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8440" y="2353320"/>
            <a:ext cx="699480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8440" y="5400360"/>
            <a:ext cx="699480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88440" y="401040"/>
            <a:ext cx="6994800" cy="167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88440" y="2353320"/>
            <a:ext cx="3413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972600" y="2353320"/>
            <a:ext cx="3413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88440" y="5400360"/>
            <a:ext cx="3413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972600" y="5400360"/>
            <a:ext cx="3413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8440" y="401040"/>
            <a:ext cx="6994800" cy="167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88440" y="2353320"/>
            <a:ext cx="2252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753640" y="2353320"/>
            <a:ext cx="2252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118840" y="2353320"/>
            <a:ext cx="2252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88440" y="5400360"/>
            <a:ext cx="2252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753640" y="5400360"/>
            <a:ext cx="2252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118840" y="5400360"/>
            <a:ext cx="2252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8440" y="401040"/>
            <a:ext cx="6994800" cy="167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88440" y="2353320"/>
            <a:ext cx="6994800" cy="583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8440" y="401040"/>
            <a:ext cx="6994800" cy="167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8440" y="2353320"/>
            <a:ext cx="6994800" cy="583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8440" y="401040"/>
            <a:ext cx="6994800" cy="167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88440" y="2353320"/>
            <a:ext cx="3413160" cy="583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3972600" y="2353320"/>
            <a:ext cx="3413160" cy="583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8440" y="401040"/>
            <a:ext cx="6994800" cy="167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88440" y="401040"/>
            <a:ext cx="6994800" cy="77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8440" y="401040"/>
            <a:ext cx="6994800" cy="167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88440" y="2353320"/>
            <a:ext cx="3413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3972600" y="2353320"/>
            <a:ext cx="3413160" cy="583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88440" y="5400360"/>
            <a:ext cx="3413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88440" y="401040"/>
            <a:ext cx="6994800" cy="167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88440" y="2353320"/>
            <a:ext cx="3413160" cy="583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3972600" y="2353320"/>
            <a:ext cx="3413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972600" y="5400360"/>
            <a:ext cx="3413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88440" y="401040"/>
            <a:ext cx="6994800" cy="167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8440" y="2353320"/>
            <a:ext cx="3413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972600" y="2353320"/>
            <a:ext cx="3413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8440" y="5400360"/>
            <a:ext cx="699480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143000" y="2571840"/>
            <a:ext cx="9132840" cy="152280"/>
            <a:chOff x="-1143000" y="2571840"/>
            <a:chExt cx="9132840" cy="152280"/>
          </a:xfrm>
        </p:grpSpPr>
        <p:sp>
          <p:nvSpPr>
            <p:cNvPr id="1" name=""/>
            <p:cNvSpPr/>
            <p:nvPr/>
          </p:nvSpPr>
          <p:spPr>
            <a:xfrm>
              <a:off x="-1143000" y="2571840"/>
              <a:ext cx="9132840" cy="74520"/>
            </a:xfrm>
            <a:prstGeom prst="rect">
              <a:avLst/>
            </a:prstGeom>
            <a:gradFill rotWithShape="0">
              <a:gsLst>
                <a:gs pos="0">
                  <a:srgbClr val="006f65"/>
                </a:gs>
                <a:gs pos="50000">
                  <a:srgbClr val="00dfca"/>
                </a:gs>
                <a:gs pos="100000">
                  <a:srgbClr val="006f65"/>
                </a:gs>
              </a:gsLst>
              <a:lin ang="0"/>
            </a:gradFill>
            <a:ln w="0">
              <a:noFill/>
            </a:ln>
          </p:spPr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1143000" y="268596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975f80"/>
                </a:gs>
                <a:gs pos="50000">
                  <a:srgbClr val="d989b8"/>
                </a:gs>
                <a:gs pos="100000">
                  <a:srgbClr val="975f80"/>
                </a:gs>
              </a:gsLst>
              <a:lin ang="0"/>
            </a:gradFill>
            <a:ln w="0">
              <a:noFill/>
            </a:ln>
          </p:spPr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"/>
          <p:cNvSpPr txBox="1"/>
          <p:nvPr/>
        </p:nvSpPr>
        <p:spPr>
          <a:xfrm>
            <a:off x="-1052640" y="7628040"/>
            <a:ext cx="47102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Michael Groh, Mid-Atlantic Database Solutions Worksho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 txBox="1"/>
          <p:nvPr/>
        </p:nvSpPr>
        <p:spPr>
          <a:xfrm>
            <a:off x="6488280" y="7628040"/>
            <a:ext cx="282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fld id="{58D9E3C0-562D-4732-A896-C726D35EC0EE}" type="datetime"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 txBox="1"/>
          <p:nvPr/>
        </p:nvSpPr>
        <p:spPr>
          <a:xfrm>
            <a:off x="6994440" y="7628040"/>
            <a:ext cx="382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fld id="{1DF90714-1F3D-4F66-95DC-B9B627A27063}" type="slidenum"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8440" y="401040"/>
            <a:ext cx="6994800" cy="167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388440" y="2353320"/>
            <a:ext cx="6994800" cy="583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-533520" y="1295280"/>
            <a:ext cx="777240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Visual Basic 3.0 and Access 2.0: The Dynamic Du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0" y="2819520"/>
            <a:ext cx="6400800" cy="30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Objectiv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39852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Examine the VB-to-Access conne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39852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Survey the VB database too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39852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Look at VB code ele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39852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Determine “fit” for your work environ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-533520" y="1371600"/>
            <a:ext cx="784872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Access Database Objects Available to VB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-533520" y="3124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Tab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34776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Struc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34776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Da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Quer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34776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Parame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34776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Recordse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Can’t use Access Basic code, forms, reports, or macr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-533520" y="1371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The VB Database Too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-533520" y="3124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Data Manag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Data Contr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Both are part of VB 3.0 Standard Edi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-533520" y="1371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Access Database Dem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-533520" y="3124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ROLO20.MD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-533520" y="1371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The VB Data Manag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-533520" y="3124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View database fi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34776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Structure and Da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Create new database fi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“</a:t>
            </a: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Native” format is Access MD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34776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FoxPro 2.0, 2.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34776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dBASE III, IV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34776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Paradox 3.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34776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BTRIE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-533520" y="1371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Data Manager Dem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-533520" y="3124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Access ROLO20.MDB and look at structure and da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-533520" y="1371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The VB Data Contro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-533520" y="3124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Can be added to any for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View and update data in a single database fi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Can add multiple Data Controls to a for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-533520" y="1371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Data Control Dem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-533520" y="3124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Look at ROLO20.MDB da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-533520" y="1371600"/>
            <a:ext cx="784872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VB Database Language Eleme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-533520" y="3124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DDL = Data Definition Langu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DML = Data Manipulation Langu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Built on Data Access Object (DAO) termin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-533520" y="1371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DDL Terminolog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-533520" y="3124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Describes how data is stor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34776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Datab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34776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TableDef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34776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Fiel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34776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Index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-533520" y="1371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DML Terminolog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-533520" y="3124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Accessing, updating, and maintaining the datab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34776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T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34776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Dyna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34776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Snapsho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34776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Query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34776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... and the methods to control th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-533520" y="1371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Who Am I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-304920" y="3124080"/>
            <a:ext cx="6934320" cy="387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Michael Gro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804960" indent="-34776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Product Director of Windows and Database boo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04960" indent="-34776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New Riders Publishing, a division of MacMillan Computer Publish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04960" indent="-34776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Same family as Que, Sams, Brady, Hayden, Alpha, et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249200" indent="-33012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(317) 581-3724</a:t>
            </a: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70031,223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-533520" y="1371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The Data Access Object (DAO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-533520" y="3124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The DAO is how VB connects to datab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The VB DAO is a hierarchical arrangement of ob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DAO = “Container” for all data-related ob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Same syntax in Access and VB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-533520" y="1371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Objec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-533520" y="3124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Objects are containers for </a:t>
            </a:r>
            <a:r>
              <a:rPr b="1" i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properties</a:t>
            </a: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 and </a:t>
            </a:r>
            <a:r>
              <a:rPr b="1" i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other ob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Methods: Performs action on obj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34776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Database Object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249200" indent="-33012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Create </a:t>
            </a:r>
            <a:r>
              <a:rPr b="1" i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dbName</a:t>
            </a: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 As Datab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34776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Database Method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249200" indent="-330120">
              <a:lnSpc>
                <a:spcPct val="100000"/>
              </a:lnSpc>
              <a:spcBef>
                <a:spcPts val="479"/>
              </a:spcBef>
            </a:pPr>
            <a:r>
              <a:rPr b="1" i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dbName</a:t>
            </a: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.OpenTable(“tblPeople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-533520" y="1371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Database Objec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-533520" y="3124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Have a physical existe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Are referenced through </a:t>
            </a:r>
            <a:r>
              <a:rPr b="1" i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variab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-533520" y="1371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Variabl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-533520" y="3124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Symbols that represent physical ob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804960" indent="-34776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Dim dbName As Datab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04960" indent="-34776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Set dbName = OpenDatabase(“ROLO20.MDB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“</a:t>
            </a: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dbName” is the symbolic representation of “ROLO20.MDB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-533520" y="1371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Familiar Object Not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-533520" y="3124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DAO are referenced with familiar VB notatio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804960" indent="-34776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dbName.TableDefs(0).Fields(0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This line refers to the first field of the first TableDef object in the database represented by dbNa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-533520" y="1371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Data Definition Objec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-533520" y="3124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Define the structure of the databas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34776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Datab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34776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Recordset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04960" indent="-34776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T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04960" indent="-34776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Dyna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04960" indent="-34776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Snapsho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34776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QueryDef (Access query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-533520" y="1371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DAO Examp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-609480" y="3200400"/>
            <a:ext cx="82296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38040" indent="-33804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Dim db As Datab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Dim qd As Query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Dim ds As Dyna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Set db = OpenDatabase("rolo.mdb"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Set qd = db.OpenQueryDef("qryLookup"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Set ds = qd.CreateDynaset(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-533520" y="1371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Understanding Collec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533520" y="3124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i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Collections</a:t>
            </a: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 contain all of the </a:t>
            </a:r>
            <a:r>
              <a:rPr b="1" i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objects</a:t>
            </a: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 of a particular typ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Exampl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34776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Fiel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34776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Tab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34776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QueryDef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Also: Users, Groups, Workspa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-533520" y="1371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The Workspace Colle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-533520" y="3124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All of the Access sessions in operation at one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Contains Databases, Groups, and Users colle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Methods include transa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34776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BeginTrans, Rollback, CommitTra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Methods to work with datab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34776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CreateDatabase, OpenDatab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-533520" y="1371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Database Object 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-533520" y="3124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Container for all objects related to Access datab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Consists of a single “MDB” fi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Open Access Database object with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804960" indent="-34776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Dim dbName as Datab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04960" indent="-34776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Set dbName = OpenDatabase(“ROLO20.MDB”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-533520" y="1371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This session..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-533520" y="3124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Is an </a:t>
            </a:r>
            <a:r>
              <a:rPr b="1" i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introduction</a:t>
            </a: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 to using VB for database fun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34776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Please! No complaints about “too basic”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Discusses only Microsoft Access 2.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34776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Applies to 1.x as we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-533520" y="1371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Database Object 2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-533520" y="3124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Access database object contain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34776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TableDefs Colle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34776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Recordset Object cla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34776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QueryDef Obje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Attached tables (like FoxPro) are “normal” TableDef ob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SQL queries are QueryDef ob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-533520" y="1371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Table Colle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-533520" y="3124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Contains the table objects (TableDefs) in the datab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Access MDB file contains zero or more tab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One TableDef member for each table in the MD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-533520" y="1371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TableDef Propert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-533520" y="3124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Name of the t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Source of table (attached?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Attribu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Connect (connect string needed to access tabl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DateCrea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Updatable, LastUpda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-533520" y="1371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TableDef Code Examp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-990720" y="3124080"/>
            <a:ext cx="8915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04960" indent="-347760">
              <a:lnSpc>
                <a:spcPct val="9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Dim db as Datab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04960" indent="-347760">
              <a:lnSpc>
                <a:spcPct val="9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Dim td as Table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04960" indent="-347760">
              <a:lnSpc>
                <a:spcPct val="9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Set  db = OpenDatabase(“ROLO.MDB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04960" indent="-347760">
              <a:lnSpc>
                <a:spcPct val="9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‘ </a:t>
            </a: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Next line references TableDefs colle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04960" indent="-347760">
              <a:lnSpc>
                <a:spcPct val="9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Set td = db.TableDefs(“tblPeople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04960" indent="-347760">
              <a:lnSpc>
                <a:spcPct val="9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If td.Updatable = True Th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04960" indent="-347760">
              <a:lnSpc>
                <a:spcPct val="9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	</a:t>
            </a: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Debug.Print “Table is updatable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04960" indent="-347760">
              <a:lnSpc>
                <a:spcPct val="9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End I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-533520" y="1371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Recordset Colle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-533520" y="3124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In Access 2.0, </a:t>
            </a:r>
            <a:r>
              <a:rPr b="1" i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Recordset</a:t>
            </a: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 replaces </a:t>
            </a:r>
            <a:r>
              <a:rPr b="1" i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Table</a:t>
            </a: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 object (same as VB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The VB </a:t>
            </a:r>
            <a:r>
              <a:rPr b="1" i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Recordset object</a:t>
            </a: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 contain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34776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Table Obje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34776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Dynaset Obje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34776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Snapshot Obje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-533520" y="1371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Table Objec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-533520" y="3124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Table object sample co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804960" indent="-34776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Dim db as Datab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04960" indent="-34776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Dim tbl as T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04960" indent="-34776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Set db = OpenDatabase(“ROLO.MDB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04960" indent="-34776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Set tbl = db.OpenTable(“tblPeople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04960" indent="-34776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tbl.Clo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-533520" y="1371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Dynaset Objec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-533520" y="3124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Set of records drawn from tables in a datab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Dynamic obj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Can be upda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The Data Control creates only dynase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-533520" y="1371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Dynaset Object Sample Co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-533520" y="3124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04960" indent="-34776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Dim db as Datab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04960" indent="-34776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Dim ds as Dyna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04960" indent="-34776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Dim strSQL As St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04960" indent="-34776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Set db = OpenDatabase(“ROLO.MDB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04960" indent="-34776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strSQL = “SELECT * FROM tblPeople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04960" indent="-34776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Set ds = db.CreateDynaset(strSQ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04960" indent="-34776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txtFName.Text = ds("First Name"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04960" indent="-34776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txtLName.Text = ds("Last Name"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-533520" y="1371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Snapshot Objec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-533520" y="312408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Similar to dynase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Static obj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Cannot be upda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Code is essentially the same as Dynas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804960" indent="-347760">
              <a:lnSpc>
                <a:spcPct val="7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Dim ss As Snapsho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04960" indent="-347760">
              <a:lnSpc>
                <a:spcPct val="7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04960" indent="-347760">
              <a:lnSpc>
                <a:spcPct val="7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Set ss = db.CreateSnapshot(strSQ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-533520" y="1371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The Field Colle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-838080" y="281952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Each TableDef contains a </a:t>
            </a:r>
            <a:r>
              <a:rPr b="1" i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Fields</a:t>
            </a: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 coll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Zero or more Field objects in each Fields coll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Properties of Fields coll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34776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Name of fiel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34776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Count of fields in colle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-533520" y="1371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Objectiv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-533520" y="3124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Discuss VB as an addition to the Access developer’s toolk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Examine the database tools in V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Study some of the VB code required to work with datab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-533520" y="1371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The Field Objec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-914400" y="3124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Field object contains the actual da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Properti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34776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i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Name</a:t>
            </a: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 of fiel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34776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i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Type</a:t>
            </a: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 of da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34776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i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Valu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34776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et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Referencing a field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804960" indent="-347760">
              <a:lnSpc>
                <a:spcPct val="10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afd00"/>
                </a:solidFill>
                <a:latin typeface="Courier New"/>
                <a:ea typeface="Courier New"/>
              </a:rPr>
              <a:t>db.TableDefs("tblPeople").Fields(0).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-533520" y="1371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QueryDef Objec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-533520" y="3124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Stored query definition or SQL stat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Access Query obj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34776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Specific to Ac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34776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FoxPro, etc. use SQL statement to create Query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-533520" y="1371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QueryDef Code Examp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-914400" y="312408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04960" indent="-347760">
              <a:lnSpc>
                <a:spcPct val="9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Dim db as Datab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04960" indent="-347760">
              <a:lnSpc>
                <a:spcPct val="9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Dim qd as Query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04960" indent="-347760">
              <a:lnSpc>
                <a:spcPct val="9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Dim ds as Dyna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04960" indent="-347760">
              <a:lnSpc>
                <a:spcPct val="9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Set db = OpenDatabse(“ROLO20.MDB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04960" indent="-34776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' Create new Query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04960" indent="-347760">
              <a:lnSpc>
                <a:spcPct val="9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Set qd = db.CreateQueryDef(“People”, “SELECT * FROM tblPeople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04960" indent="-34776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' Create dynaset from Query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04960" indent="-347760">
              <a:lnSpc>
                <a:spcPct val="9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Set ds = db.CreateDynaset(“People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-533520" y="1371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Navigating Recordse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-533520" y="3124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MoveFir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MoveLa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MoveNex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MovePrevi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Mo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Apply to all Recordset typ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804960" indent="-34776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Tables, Dynasets, Snapsho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-533520" y="1371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Navigation Examp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-76320" y="2895480"/>
            <a:ext cx="6248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38040" indent="-338040">
              <a:lnSpc>
                <a:spcPct val="8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Sub cmdNext_Click (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 </a:t>
            </a: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ds.MoveNex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 </a:t>
            </a: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If Not ds.EOF Th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   </a:t>
            </a: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DisplayRecor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 </a:t>
            </a: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El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04960" indent="-34776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 </a:t>
            </a: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cmdNext.Enabled = Fal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04960" indent="-34776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 </a:t>
            </a: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ds.MovePrevio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 </a:t>
            </a: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End I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 </a:t>
            </a: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cmdPrev.Enabled = Tru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End Su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-533520" y="1371600"/>
            <a:ext cx="784872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Using Find Methods to Locate Specific Record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-533520" y="3124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FindFir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FindLa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FindPrevi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FindNex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-533520" y="1371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Find Methods Examp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-609480" y="3124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38040" indent="-338040">
              <a:lnSpc>
                <a:spcPct val="8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Dim MyCriteria As String, MyDB As Database, MySet As Dyna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MyCriteria = "State = 'NY'"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Set MyDB = OpenDatabase("ROLO20.MDB"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Set MySet = MyDB.CreateDynaset("qryPeople"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MySet.FindFirst MyCriter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If Not Data1.Recordset.NoMatch Th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MySet.FindNext MyCriter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-533520" y="1371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Updating Record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-533520" y="3124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52520" indent="-452520"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1. Must use Recordset Edit method to enable changes on a fiel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2520" indent="-452520"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2. After Edit method, set current record in Recordset to new da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2520" indent="-452520"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3. Then use Update method to make chang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-533520" y="1371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Updating Records Co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-914400" y="3124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38040" indent="-338040">
              <a:lnSpc>
                <a:spcPct val="8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Sub cmdChangeField_Click (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 </a:t>
            </a: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'Enable dynaset for edi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 </a:t>
            </a: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ds.Ed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 </a:t>
            </a: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'Set current record to text on for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 </a:t>
            </a: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ds("First Name") = txtFirstName.Tex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 </a:t>
            </a: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ds("Last Name") = txtLastName.Tex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 </a:t>
            </a: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ds.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 </a:t>
            </a: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ds.MoveNex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Courier New"/>
                <a:ea typeface="Courier New"/>
              </a:rPr>
              <a:t>End Su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-533520" y="1371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Using Parameter Quer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-533520" y="3124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Must satisfy the query parame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Painful syntax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-533520" y="1371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Visual Basic 3.0..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-533520" y="3124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Contains the Access “Jet” eng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34776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Access MDB is “native” database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Uses many VB concepts: objects, properties, and metho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No ODBC, no add-on libraries, et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Runtime royalty-fr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-533520" y="1371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Parameterized Query Examp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-533520" y="3124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2 Forms in ROLO20.MD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frmLookup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34776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Input query parameter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249200" indent="-33012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First Na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249200" indent="-33012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Last Na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frmLooku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34776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Displays returned da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-533520" y="1371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Examine Access Form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-533520" y="3124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frmLookup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34776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Notice input fiel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frmLooku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34776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Display fields, navigation butt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-533520" y="1371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In the Access QBE Grid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-914400" y="312408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To retrieve names from tblPeople, we need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34776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First Na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34776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Last Na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Use "*" if name not giv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In Access QBE grid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afd00"/>
                </a:solidFill>
                <a:latin typeface="Courier New"/>
                <a:ea typeface="Courier New"/>
              </a:rPr>
              <a:t>Like [Forms]![frmLookupCriteria]![LastName] Or Is Nul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-533520" y="1371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Examine Access Quer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-533520" y="3124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qryLooku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34776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Notice query parame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-533520" y="1371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VB "ROLO" Applic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-533520" y="3124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2 For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LOOKUPCR.FR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34776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Input first and last nam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LOOKUP.FR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34776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Display data return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34776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CBF implements que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-533520" y="1371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VB Code to Implement Quer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-914400" y="2895480"/>
            <a:ext cx="8686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38040" indent="-338040">
              <a:lnSpc>
                <a:spcPct val="9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afd00"/>
                </a:solidFill>
                <a:latin typeface="Courier New"/>
                <a:ea typeface="Courier New"/>
              </a:rPr>
              <a:t>Sub Form_Load 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9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afd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fafd00"/>
                </a:solidFill>
                <a:latin typeface="Courier New"/>
                <a:ea typeface="Courier New"/>
              </a:rPr>
              <a:t>Set db = OpenDatabase("ROLO20.MDB"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9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afd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fafd00"/>
                </a:solidFill>
                <a:latin typeface="Courier New"/>
                <a:ea typeface="Courier New"/>
              </a:rPr>
              <a:t>Set qd = db.OpenQueryDef("qryLookup"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9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afd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fafd00"/>
                </a:solidFill>
                <a:latin typeface="Courier New"/>
                <a:ea typeface="Courier New"/>
              </a:rPr>
              <a:t>qd![Forms!frmLookupCriteria!LastName] =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9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afd00"/>
                </a:solidFill>
                <a:latin typeface="Courier New"/>
                <a:ea typeface="Courier New"/>
              </a:rPr>
              <a:t>        </a:t>
            </a:r>
            <a:r>
              <a:rPr b="1" lang="en-US" sz="2400" spc="-1" strike="noStrike">
                <a:solidFill>
                  <a:srgbClr val="fafd00"/>
                </a:solidFill>
                <a:latin typeface="Courier New"/>
                <a:ea typeface="Courier New"/>
              </a:rPr>
              <a:t>frmLookupCriteria.txtLastName.Tex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9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afd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fafd00"/>
                </a:solidFill>
                <a:latin typeface="Courier New"/>
                <a:ea typeface="Courier New"/>
              </a:rPr>
              <a:t>qd![Forms!frmLookupCriteria!FirstName] =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9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afd00"/>
                </a:solidFill>
                <a:latin typeface="Courier New"/>
                <a:ea typeface="Courier New"/>
              </a:rPr>
              <a:t>        </a:t>
            </a:r>
            <a:r>
              <a:rPr b="1" lang="en-US" sz="2400" spc="-1" strike="noStrike">
                <a:solidFill>
                  <a:srgbClr val="fafd00"/>
                </a:solidFill>
                <a:latin typeface="Courier New"/>
                <a:ea typeface="Courier New"/>
              </a:rPr>
              <a:t>frmLookupCriteria.txtFirstName.Tex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9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afd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fafd00"/>
                </a:solidFill>
                <a:latin typeface="Courier New"/>
                <a:ea typeface="Courier New"/>
              </a:rPr>
              <a:t>Set ds = qd.CreateDynaset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9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afd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fafd00"/>
                </a:solidFill>
                <a:latin typeface="Courier New"/>
                <a:ea typeface="Courier New"/>
              </a:rPr>
              <a:t>qd.Close ' Close QueryDef; we have dynas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9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afd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fafd00"/>
                </a:solidFill>
                <a:latin typeface="Courier New"/>
                <a:ea typeface="Courier New"/>
              </a:rPr>
              <a:t>DisplayReco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9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afd00"/>
                </a:solidFill>
                <a:latin typeface="Courier New"/>
                <a:ea typeface="Courier New"/>
              </a:rPr>
              <a:t>End 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-533520" y="1371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The Problem with Access O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-533520" y="3124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Access OLE objects are "wrapped"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Can't just link an image control to Access OLE fiel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Special VB code is necessary to unwrap OLE ob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See OLEDEM.ZIP in Library 10 of MSBASIC forum on CompuSer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-533520" y="1371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VB 3.0 and Access 2.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-533520" y="3124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Won't work without "compatibility layer"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2 Sourc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34776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Office Developer's Kit (ODK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34776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Access Developer's Toolkit (AD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ODK: CD product on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-533520" y="1371600"/>
            <a:ext cx="784872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Access Book Recommenda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-533520" y="3124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Access 2 Developer’s Gui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34776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Roger Jennings, Sams Publishing, ISBN 0-672-30453-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Running Access 2.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34776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John Viescas, Microsoft Pr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Access Basic Cookboo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34776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Chris St. Valentine, Addison-Wesley, ISBN 0-201-62636-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-533520" y="1371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VB Book Recommenda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-533520" y="3124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Database Developer’s Guide with VB 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34776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Roger Jennings, Sams Publishing,        ISBN 0-672-30440-6 ($44.95, 1200 pg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Visual Basic SuperB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34776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Bill Potter, et al, Waite Group Press,             ISBN 1-878739-50-6 ($44.95, 1600 pg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Visual Basic Database Programm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34776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Karen Watterson, Addison-Wesley, </a:t>
            </a: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  ISBN 0-201-62661-6 ($34.95, 400+ pg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-533520" y="1371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Why Use VB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-533520" y="3124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Limit user to specific da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Access: All interfaces are MD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Can’t use VBXs in Ac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Access runtime i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34776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Quite lar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34776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Relatively slo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34776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Resource intens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-533520" y="1371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Other Book Recommenda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-533520" y="3124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Windows API B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34776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James Conger, Waite Group Press,     ISBN 1-878739-15-8 ($44.95, 1000 pg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Windows API New Testa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34776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Jim Conger, Waite Group Press,             ISBN 1-878739-37-9 ($39.95, 1000 pg, CD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-533520" y="1371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Questions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-533520" y="3124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-533520" y="1371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Thank you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-533520" y="3124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Please provide feedback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34776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Michael Gro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34776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(317) 581-3724 (voic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34776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(317) 581-4670 (fa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34776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70031,223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Disk available upon reque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Also: GO MCP, Database Libra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-533520" y="1371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Reasons to Not Use VB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-533520" y="3124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Access Basic 2.0 much more powerful than 1.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Both Access &amp; VB know OLE 2 objects and autom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Access 2.0: better security than 1.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Some Access 2.0 tools are better than V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-533520" y="1371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If You Are Not Yet Using VB..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-533520" y="3124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VB syntax is nearly identical to VB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VBA: Excel 5.0, Project 4.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Most likely in next versions of Word and Ac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70% to 80% of VB = Access Bas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Microsoft has a clear and obvious committment to VB and VB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-533520" y="1371600"/>
            <a:ext cx="784872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Visual Basic for Applications (VBA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-533520" y="3124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Spring 94: featured in only one Microsoft Office application (Exce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Same VBA engine on PCs and Ma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Easy to implement OLE Automation with VB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34776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OLE Automation is also easy with Access Basic and Visual Bas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Groh</dc:creator>
  <dc:description/>
  <dc:language>en-US</dc:language>
  <cp:lastModifiedBy>Michael Groh</cp:lastModifiedBy>
  <cp:revision>0</cp:revision>
  <dc:subject>Dynamic Duo: Access and VB</dc:subject>
  <dc:title>Mid-Atlantic Database Solutions Workshop - May 6, 1994</dc:title>
</cp:coreProperties>
</file>