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09480" y="457200"/>
            <a:ext cx="686160" cy="686160"/>
          </a:xfrm>
          <a:custGeom>
            <a:avLst/>
            <a:gdLst/>
            <a:ahLst/>
            <a:rect l="0" t="0" r="r" b="b"/>
            <a:pathLst>
              <a:path w="1906" h="1906">
                <a:moveTo>
                  <a:pt x="952" y="0"/>
                </a:moveTo>
                <a:lnTo>
                  <a:pt x="729" y="729"/>
                </a:lnTo>
                <a:lnTo>
                  <a:pt x="0" y="729"/>
                </a:lnTo>
                <a:lnTo>
                  <a:pt x="592" y="1182"/>
                </a:lnTo>
                <a:lnTo>
                  <a:pt x="370" y="1906"/>
                </a:lnTo>
                <a:lnTo>
                  <a:pt x="952" y="1486"/>
                </a:lnTo>
                <a:lnTo>
                  <a:pt x="1535" y="1906"/>
                </a:lnTo>
                <a:lnTo>
                  <a:pt x="1311" y="1182"/>
                </a:lnTo>
                <a:lnTo>
                  <a:pt x="1906" y="728"/>
                </a:lnTo>
                <a:lnTo>
                  <a:pt x="1175" y="728"/>
                </a:lnTo>
                <a:lnTo>
                  <a:pt x="952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600200" y="1371600"/>
            <a:ext cx="686160" cy="762480"/>
          </a:xfrm>
          <a:custGeom>
            <a:avLst/>
            <a:gdLst/>
            <a:ahLst/>
            <a:rect l="0" t="0" r="r" b="b"/>
            <a:pathLst>
              <a:path w="1906" h="2118">
                <a:moveTo>
                  <a:pt x="952" y="0"/>
                </a:moveTo>
                <a:lnTo>
                  <a:pt x="729" y="811"/>
                </a:lnTo>
                <a:lnTo>
                  <a:pt x="0" y="811"/>
                </a:lnTo>
                <a:lnTo>
                  <a:pt x="592" y="1313"/>
                </a:lnTo>
                <a:lnTo>
                  <a:pt x="370" y="2118"/>
                </a:lnTo>
                <a:lnTo>
                  <a:pt x="952" y="1653"/>
                </a:lnTo>
                <a:lnTo>
                  <a:pt x="1535" y="2118"/>
                </a:lnTo>
                <a:lnTo>
                  <a:pt x="1311" y="1313"/>
                </a:lnTo>
                <a:lnTo>
                  <a:pt x="1906" y="809"/>
                </a:lnTo>
                <a:lnTo>
                  <a:pt x="1175" y="809"/>
                </a:lnTo>
                <a:lnTo>
                  <a:pt x="952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1432080" y="395280"/>
            <a:ext cx="682164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b50069"/>
                </a:solidFill>
                <a:latin typeface="USABlack"/>
                <a:ea typeface="USABlack"/>
              </a:rPr>
              <a:t>WORD PROCES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422440" y="1386000"/>
            <a:ext cx="347652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500093"/>
                </a:solidFill>
                <a:latin typeface="USABlack"/>
                <a:ea typeface="USABlack"/>
              </a:rPr>
              <a:t>RESUM</a:t>
            </a:r>
            <a:r>
              <a:rPr b="1" lang="en-US" sz="4800" spc="-1" strike="noStrike">
                <a:solidFill>
                  <a:srgbClr val="500093"/>
                </a:solidFill>
                <a:latin typeface="PosterBodoni BT"/>
                <a:ea typeface="PosterBodoni BT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0760" y="3281400"/>
            <a:ext cx="8940960" cy="1819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paniHeavy"/>
                <a:ea typeface="TimpaniHeavy"/>
              </a:rPr>
              <a:t>Businesses or persons who would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paniHeavy"/>
                <a:ea typeface="TimpaniHeavy"/>
              </a:rPr>
              <a:t>their letters, or documents done for j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paniHeavy"/>
                <a:ea typeface="TimpaniHeavy"/>
              </a:rPr>
              <a:t>$25 dollars an hour. Please call the number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57400" y="5486400"/>
            <a:ext cx="5029200" cy="1219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5080" y="5560920"/>
            <a:ext cx="4968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47) 699-06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R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26120" y="1100160"/>
            <a:ext cx="248436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2880" y="5486400"/>
            <a:ext cx="2006640" cy="101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906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sell Lindsay Meyers</dc:creator>
  <dc:description/>
  <dc:language>en-US</dc:language>
  <cp:lastModifiedBy>Russell Lindsay Meyers</cp:lastModifiedBy>
  <cp:revision>0</cp:revision>
  <dc:subject>For Business Purposes</dc:subject>
  <dc:title>Word Processing Template</dc:title>
</cp:coreProperties>
</file>