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73600" y="33480"/>
            <a:ext cx="3457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Xhibition ‘93 (2nd talk) 6/93 </a:t>
            </a:r>
            <a:fld id="{7F264723-DDEE-483C-8677-645A9B73CF8A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249200"/>
            <a:ext cx="81723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uning You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3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3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362240" y="2227320"/>
            <a:ext cx="6419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protection dominates graphics performance issu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ing of calls on client-side for amortizing cost of client-server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 of values on client side to avoid client-server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9120" y="228600"/>
            <a:ext cx="81057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22800" y="5492880"/>
            <a:ext cx="3886200" cy="569880"/>
          </a:xfrm>
          <a:prstGeom prst="rect">
            <a:avLst/>
          </a:prstGeom>
          <a:gradFill rotWithShape="0">
            <a:gsLst>
              <a:gs pos="0">
                <a:srgbClr val="c55167"/>
              </a:gs>
              <a:gs pos="50000">
                <a:srgbClr val="f76681"/>
              </a:gs>
              <a:gs pos="100000">
                <a:srgbClr val="c5516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22800" y="5492880"/>
            <a:ext cx="636480" cy="27936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100000">
                <a:srgbClr val="b760f9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17600" y="5492880"/>
            <a:ext cx="2905200" cy="56988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17600" y="4292640"/>
            <a:ext cx="6791400" cy="1200240"/>
          </a:xfrm>
          <a:prstGeom prst="rect">
            <a:avLst/>
          </a:prstGeom>
          <a:gradFill rotWithShape="0">
            <a:gsLst>
              <a:gs pos="0">
                <a:srgbClr val="b00067"/>
              </a:gs>
              <a:gs pos="50000">
                <a:srgbClr val="dc0081"/>
              </a:gs>
              <a:gs pos="100000">
                <a:srgbClr val="b0006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17600" y="6058080"/>
            <a:ext cx="679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17600" y="5492880"/>
            <a:ext cx="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8109000" y="5492880"/>
            <a:ext cx="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17600" y="5492880"/>
            <a:ext cx="643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4600" y="549288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218120" y="5775480"/>
            <a:ext cx="636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8120" y="577548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149880" y="5646600"/>
            <a:ext cx="64944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33840" y="5140440"/>
            <a:ext cx="5375160" cy="352440"/>
          </a:xfrm>
          <a:prstGeom prst="rect">
            <a:avLst/>
          </a:prstGeom>
          <a:gradFill rotWithShape="0">
            <a:gsLst>
              <a:gs pos="0">
                <a:srgbClr val="c8ca00"/>
              </a:gs>
              <a:gs pos="50000">
                <a:srgbClr val="fafd00"/>
              </a:gs>
              <a:gs pos="100000">
                <a:srgbClr val="c8ca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87760" y="5195880"/>
            <a:ext cx="227952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ve support routin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140600" y="4422600"/>
            <a:ext cx="839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537160" y="4422600"/>
            <a:ext cx="13478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oces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170240" y="4424400"/>
            <a:ext cx="1141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24200" y="4424400"/>
            <a:ext cx="11430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anagemen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7716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212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766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7338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17600" y="4857840"/>
            <a:ext cx="920880" cy="63504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27200" y="4352760"/>
            <a:ext cx="655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  syste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57200" y="4927680"/>
            <a:ext cx="833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45120" y="3782880"/>
            <a:ext cx="8892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17600" y="3992400"/>
            <a:ext cx="6791400" cy="282600"/>
            <a:chOff x="1317600" y="3992400"/>
            <a:chExt cx="6791400" cy="282600"/>
          </a:xfrm>
        </p:grpSpPr>
        <p:sp>
          <p:nvSpPr>
            <p:cNvPr id="98" name=""/>
            <p:cNvSpPr/>
            <p:nvPr/>
          </p:nvSpPr>
          <p:spPr>
            <a:xfrm>
              <a:off x="1317600" y="3992400"/>
              <a:ext cx="6791400" cy="282600"/>
            </a:xfrm>
            <a:prstGeom prst="rect">
              <a:avLst/>
            </a:prstGeom>
            <a:gradFill rotWithShape="0">
              <a:gsLst>
                <a:gs pos="0">
                  <a:srgbClr val="924cc7"/>
                </a:gs>
                <a:gs pos="50000">
                  <a:srgbClr val="b760f9"/>
                </a:gs>
                <a:gs pos="100000">
                  <a:srgbClr val="924cc7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3905280" y="4010040"/>
              <a:ext cx="175572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ivileged boundary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"/>
          <p:cNvSpPr txBox="1"/>
          <p:nvPr/>
        </p:nvSpPr>
        <p:spPr>
          <a:xfrm>
            <a:off x="1654200" y="5624640"/>
            <a:ext cx="24480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graphical device driver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035000" y="1708200"/>
            <a:ext cx="6954840" cy="2230560"/>
            <a:chOff x="1035000" y="1708200"/>
            <a:chExt cx="6954840" cy="2230560"/>
          </a:xfrm>
        </p:grpSpPr>
        <p:sp>
          <p:nvSpPr>
            <p:cNvPr id="102" name=""/>
            <p:cNvSpPr/>
            <p:nvPr/>
          </p:nvSpPr>
          <p:spPr>
            <a:xfrm>
              <a:off x="3440160" y="2455920"/>
              <a:ext cx="2617920" cy="988920"/>
            </a:xfrm>
            <a:prstGeom prst="ellipse">
              <a:avLst/>
            </a:prstGeom>
            <a:gradFill rotWithShape="0">
              <a:gsLst>
                <a:gs pos="0">
                  <a:srgbClr val="cc9e57"/>
                </a:gs>
                <a:gs pos="100000">
                  <a:srgbClr val="ffc66d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4457880" y="2560680"/>
              <a:ext cx="6033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SRS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3537000" y="2843280"/>
              <a:ext cx="41904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se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952880" y="2984400"/>
              <a:ext cx="3999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DI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6553080" y="2527200"/>
              <a:ext cx="1436760" cy="776160"/>
            </a:xfrm>
            <a:prstGeom prst="rect">
              <a:avLst/>
            </a:prstGeom>
            <a:gradFill rotWithShape="0">
              <a:gsLst>
                <a:gs pos="0">
                  <a:srgbClr val="4364b1"/>
                </a:gs>
                <a:gs pos="100000">
                  <a:srgbClr val="618ffd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raphical devi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0760" y="1708200"/>
              <a:ext cx="887400" cy="43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5376960" y="3054240"/>
              <a:ext cx="4557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D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916600" y="3021120"/>
              <a:ext cx="636480" cy="141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4103640" y="3125880"/>
              <a:ext cx="56520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RNL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13120" y="3444840"/>
              <a:ext cx="0" cy="493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794040" y="2879640"/>
              <a:ext cx="567000" cy="424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784760" y="2951280"/>
              <a:ext cx="0" cy="493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784760" y="2809800"/>
              <a:ext cx="1203120" cy="141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2738520"/>
              <a:ext cx="1203480" cy="212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349960" y="3021120"/>
              <a:ext cx="63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49960" y="3021120"/>
              <a:ext cx="0" cy="35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035000" y="1820880"/>
              <a:ext cx="1839960" cy="2117880"/>
              <a:chOff x="1035000" y="1820880"/>
              <a:chExt cx="1839960" cy="2117880"/>
            </a:xfrm>
          </p:grpSpPr>
          <p:sp>
            <p:nvSpPr>
              <p:cNvPr id="119" name=""/>
              <p:cNvSpPr/>
              <p:nvPr/>
            </p:nvSpPr>
            <p:spPr>
              <a:xfrm>
                <a:off x="1035000" y="1820880"/>
                <a:ext cx="1414440" cy="127152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76480" y="1962000"/>
                <a:ext cx="141444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317600" y="2103480"/>
                <a:ext cx="141588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59080" y="2244600"/>
                <a:ext cx="141588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1909800" y="2347920"/>
                <a:ext cx="45072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PP.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2343240" y="2984400"/>
                <a:ext cx="41904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User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1981080" y="3195720"/>
                <a:ext cx="39996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GDI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1486080" y="2984400"/>
                <a:ext cx="56520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KRNL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166840" y="3514680"/>
                <a:ext cx="0" cy="42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1743120" y="3092400"/>
                <a:ext cx="352440" cy="281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95560" y="3092400"/>
                <a:ext cx="566640" cy="21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2238480" y="2951280"/>
                <a:ext cx="0" cy="18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38480" y="2951280"/>
                <a:ext cx="636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2025720" y="2951280"/>
                <a:ext cx="0" cy="210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1459080" y="2951280"/>
                <a:ext cx="566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30360" y="2668680"/>
                <a:ext cx="1273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1698480" y="2706840"/>
                <a:ext cx="103824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Win 32</a:t>
                </a:r>
                <a:r>
                  <a:rPr b="1" lang="en-US" sz="13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™</a:t>
                </a: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API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"/>
          <p:cNvSpPr txBox="1"/>
          <p:nvPr/>
        </p:nvSpPr>
        <p:spPr>
          <a:xfrm>
            <a:off x="779400" y="228600"/>
            <a:ext cx="7585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503360" y="2085840"/>
            <a:ext cx="613728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put functions that return a Boolean can be batc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PIs GdiGetBatchLimit, GdiSetBatchLimit, GdiFl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limit as high as possible while avoiding jerky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1720" y="228600"/>
            <a:ext cx="8080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57360" y="2263680"/>
            <a:ext cx="60292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user calls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calls which return a handle or a number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the following do not flush the b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fo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bru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p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28720" y="228600"/>
            <a:ext cx="74865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822320" y="2351160"/>
            <a:ext cx="54990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bitmaps and regions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WorldTransform, SetMapMode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78040" y="228600"/>
            <a:ext cx="7388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919160" y="2351160"/>
            <a:ext cx="530532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batching to one i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want to see error retu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want to profile API calls (covered later in slid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46000" y="228600"/>
            <a:ext cx="7451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46160" y="2244600"/>
            <a:ext cx="5251320" cy="34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e new poly...calls as much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Poly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lin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 and PolyBezier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92000" y="228600"/>
            <a:ext cx="7559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90720" y="2244600"/>
            <a:ext cx="716292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private functions to anticipate the following new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Text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itB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or development now, then discard on release of Win3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08200" y="228600"/>
            <a:ext cx="75279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35120" y="228600"/>
            <a:ext cx="7674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9600" y="2351160"/>
            <a:ext cx="8524800" cy="379728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07960" y="2682720"/>
            <a:ext cx="73119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  WINAPI  PolyTextO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C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c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handle to the DC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TEXT         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lpto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inter to array of structur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trings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number of the structur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ptions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tio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85800" y="4657680"/>
            <a:ext cx="715968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 are ETO_OPAQUE, ETO_CLIPPED, and ETO_DELTAVECTO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n ExtTextou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TRUE on success, FALSE otherwis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57360" y="228600"/>
            <a:ext cx="7829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" y="2016000"/>
            <a:ext cx="8877240" cy="427356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05040" y="2151000"/>
            <a:ext cx="74073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 struct  _POLYTEX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x logical co-ord to start outp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y logical co-ord for outp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behavior controlled by SetTextAlign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these do not use nor affect the curr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posi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number of characters in str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TSTR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tstr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inter to the str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aqing/clipping rectangle for th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tring; ignored if doing neith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dx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widths in logical co-ords of each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tring char; ignored if no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TO_DELTAVECTO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19040" y="2494080"/>
            <a:ext cx="65055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ining high performance in Win32 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easurement tools for tuning applic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8240" y="22860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uning You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335320" y="2144880"/>
            <a:ext cx="4473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voi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following common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former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95160" y="228600"/>
            <a:ext cx="775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839960" y="2316240"/>
            <a:ext cx="546408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ea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the foll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, create, creat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20640" y="228600"/>
            <a:ext cx="7902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90720" y="2044800"/>
            <a:ext cx="7162920" cy="34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ach DC, attempt to use the same attributes in a row as much as possibl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y, black, gray, black, g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y, gray, gray, black, bl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avoids cache lookup for pens, fonts, colors, palettes, brus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68440" y="228600"/>
            <a:ext cx="8008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224460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wnDC as much as you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s need for GetDC and Release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reateWindow, Get OwnDC, and proce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43040" y="228600"/>
            <a:ext cx="7658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09840" y="2065320"/>
            <a:ext cx="61246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s are no longer prec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eed to use PeekMessage as frequ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to UNICODE to avoid translation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93640" y="228600"/>
            <a:ext cx="7956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Use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65400" y="2068560"/>
            <a:ext cx="6613560" cy="36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sure to alig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s on word boundaries and double words on doubleword bound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r pragma for handling misaligned file or network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handling for data alignment can destroy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2286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MIP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2840" y="2014560"/>
            <a:ext cx="67183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you did all of the above, and performance is still an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ya gonna ca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erformance Tool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778040" y="1785960"/>
            <a:ext cx="55879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gram analysis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resource 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55920" y="228600"/>
            <a:ext cx="6032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 Stati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58840" y="1857240"/>
            <a:ext cx="682632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ver which Win32 calls use time and/or are frequently ca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time in each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 to each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=&gt; Average time per API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, min., max. call time p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127160" y="228600"/>
            <a:ext cx="6889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90880" y="2076480"/>
            <a:ext cx="885960" cy="51444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414600" y="2678040"/>
            <a:ext cx="565200" cy="493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47960" y="3595680"/>
            <a:ext cx="54000" cy="353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34040" y="2678040"/>
            <a:ext cx="0" cy="493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34040" y="373680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7920" y="2678040"/>
            <a:ext cx="530280" cy="424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48480" y="3543480"/>
            <a:ext cx="212760" cy="406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82760" y="394956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537160" y="394956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73600" y="4019400"/>
            <a:ext cx="9208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46680" y="2502000"/>
            <a:ext cx="2193840" cy="635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503360" y="2430360"/>
            <a:ext cx="2317680" cy="51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36480" y="296064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14440" y="386064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288200" y="3878280"/>
            <a:ext cx="134316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R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973080" y="3490920"/>
            <a:ext cx="19548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58040" y="3595680"/>
            <a:ext cx="47772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325600" y="3049560"/>
            <a:ext cx="12924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49760" y="317196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129280" y="297828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27760" y="3049560"/>
            <a:ext cx="12906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62040" y="1828800"/>
            <a:ext cx="6019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ules have cha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nsive Win16 items are cheap on Win32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cheap Win16 items are expensive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79400" y="228600"/>
            <a:ext cx="7585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805040" y="1685880"/>
            <a:ext cx="553392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inter-module calls without recompi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pile application for complete dynamic call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ombine the above two methods in a single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789120" y="228600"/>
            <a:ext cx="7566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733400" y="1576440"/>
            <a:ext cx="5676840" cy="32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s dynamic program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in each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in functio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each callee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 from each function to each cal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838160" y="228600"/>
            <a:ext cx="5467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64120" y="1457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164120" y="145728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4246560"/>
            <a:ext cx="84780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492360" y="4246560"/>
            <a:ext cx="84780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267480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819520" y="267480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b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82680" y="4229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82680" y="422892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95840" y="2711520"/>
            <a:ext cx="849240" cy="6872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95840" y="2711520"/>
            <a:ext cx="84924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03840" y="4229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603840" y="422892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f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492360" y="2057400"/>
            <a:ext cx="777960" cy="7063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60760" y="3328920"/>
            <a:ext cx="336600" cy="917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68520" y="3346560"/>
            <a:ext cx="441360" cy="900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71880" y="2092320"/>
            <a:ext cx="884520" cy="7063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03960" y="3328920"/>
            <a:ext cx="584280" cy="93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295880" y="43527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395360" y="4352760"/>
            <a:ext cx="8319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478640" y="4405320"/>
            <a:ext cx="1046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435720" y="281628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22560" y="1579680"/>
            <a:ext cx="992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755880" y="24987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5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38760" y="345132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597120" y="348768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241960" y="19335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3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87440" y="350532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838760" y="125568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280120" y="328608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253200" y="484020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627280" y="242100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627280" y="485784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151160" y="487512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131920" y="2646360"/>
            <a:ext cx="7300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407960" y="228600"/>
            <a:ext cx="6327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911240" y="1517760"/>
            <a:ext cx="5321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of running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prio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processor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vs. privileged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memory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49120" y="228600"/>
            <a:ext cx="8647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bugger Performance Comma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90720" y="220968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t &lt;addr&gt; command for tracing calls and returns and the number of instructions between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kernel debugger:  wt, and also !time &lt;addr&gt; for timing sections of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440000" y="228600"/>
            <a:ext cx="6264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90720" y="1976400"/>
            <a:ext cx="716292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resource uti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tleneck detection and capacity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graphing, alerts, logging, and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monitoring of multip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562040" y="228600"/>
            <a:ext cx="6019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353960" y="1857240"/>
            <a:ext cx="643572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ers maintained by system are polled at user selectable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vailable through a registry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, memory, disk, cache, 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,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2 counters so f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795240" y="228600"/>
            <a:ext cx="7553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68560" y="2104920"/>
            <a:ext cx="1909800" cy="1901880"/>
          </a:xfrm>
          <a:prstGeom prst="roundRect">
            <a:avLst/>
          </a:prstGeom>
          <a:gradFill rotWithShape="0">
            <a:gsLst>
              <a:gs pos="0">
                <a:srgbClr val="cc9e57"/>
              </a:gs>
              <a:gs pos="50000">
                <a:srgbClr val="ffc66d"/>
              </a:gs>
              <a:gs pos="100000">
                <a:srgbClr val="cc9e5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84840" y="281160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01760" y="2171520"/>
            <a:ext cx="16398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5960" y="295272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67440" y="309420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281560" y="3178080"/>
            <a:ext cx="17035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363760" y="2865600"/>
            <a:ext cx="13082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005360" y="2881440"/>
            <a:ext cx="84924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4005360" y="3164040"/>
            <a:ext cx="990360" cy="353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4005360" y="3446640"/>
            <a:ext cx="1133280" cy="423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812880" y="228600"/>
            <a:ext cx="75182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92120" y="2475000"/>
            <a:ext cx="2038320" cy="1670040"/>
          </a:xfrm>
          <a:prstGeom prst="roundRect">
            <a:avLst/>
          </a:prstGeom>
          <a:gradFill rotWithShape="0">
            <a:gsLst>
              <a:gs pos="0">
                <a:srgbClr val="cc9e57"/>
              </a:gs>
              <a:gs pos="50000">
                <a:srgbClr val="ffc66d"/>
              </a:gs>
              <a:gs pos="100000">
                <a:srgbClr val="cc9e5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90840" y="2550960"/>
            <a:ext cx="16398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87880" y="2449440"/>
            <a:ext cx="3687840" cy="295272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319640" y="2546280"/>
            <a:ext cx="340992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under measur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89240" y="3282840"/>
            <a:ext cx="20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521000" y="3363840"/>
            <a:ext cx="178128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87880" y="3057480"/>
            <a:ext cx="2033640" cy="723960"/>
          </a:xfrm>
          <a:prstGeom prst="rect">
            <a:avLst/>
          </a:prstGeom>
          <a:gradFill rotWithShape="0">
            <a:gsLst>
              <a:gs pos="0">
                <a:srgbClr val="8901f3"/>
              </a:gs>
              <a:gs pos="100000">
                <a:srgbClr val="5f00aa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227480" y="3054240"/>
            <a:ext cx="139716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87880" y="4587840"/>
            <a:ext cx="1033560" cy="52848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332240" y="4578480"/>
            <a:ext cx="74772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27800" y="4594320"/>
            <a:ext cx="1285920" cy="51768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813280" y="4705200"/>
            <a:ext cx="72396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75240" y="3786120"/>
            <a:ext cx="690480" cy="67644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453360" y="3976560"/>
            <a:ext cx="54468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98600" y="4626000"/>
            <a:ext cx="1447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6181560" y="3781440"/>
            <a:ext cx="185760" cy="326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491080" y="3852720"/>
            <a:ext cx="527040" cy="723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740120" y="3781440"/>
            <a:ext cx="398520" cy="795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22760" y="3005280"/>
            <a:ext cx="212760" cy="10587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935520" y="342900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40160" y="342900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22760" y="314640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22760" y="335916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22760" y="349884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22760" y="378144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368520" y="4064040"/>
            <a:ext cx="425520" cy="565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819680" y="3076560"/>
            <a:ext cx="1060560" cy="70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76960" y="3270240"/>
            <a:ext cx="73656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lib/.dl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833400" y="228600"/>
            <a:ext cx="7478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20880" y="1892160"/>
            <a:ext cx="730260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counters from multiple systems graphed simultane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graph, and histogram (for many items, for example, threa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value, avg., max., min. of selected i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90800" y="2144880"/>
            <a:ext cx="51624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virtual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ard old custom virtual memory schem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emory-mapping for read-only file acc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1440" y="228600"/>
            <a:ext cx="80614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608040" y="228600"/>
            <a:ext cx="7929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371600" y="1857240"/>
            <a:ext cx="640080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lerts from multiple systems monitored simultane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for counter over/under value across polling inter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 can popup, beep, system event log, or network al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03360" y="228600"/>
            <a:ext cx="793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486080" y="1857240"/>
            <a:ext cx="61722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 counters from multiple systems simultaneously to one log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 log file back into Performance Monitor for graphing, alerting, reporting, or filtered lo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logged data for spreadsheet or data bas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565200" y="228600"/>
            <a:ext cx="80136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-Performance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12720" y="1857240"/>
            <a:ext cx="6118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ddress space, threads, and file mapp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 and batching influence choice and order of graphics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nput model  reduces PeekMessage ca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428840" y="228600"/>
            <a:ext cx="6286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90720" y="1790640"/>
            <a:ext cx="71629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gram analysis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resource 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53960" y="2158920"/>
            <a:ext cx="64357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large data address spaces, but only commit what you n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amed shared segments (faster than files or named pip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95160" y="228600"/>
            <a:ext cx="775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12840" y="2254320"/>
            <a:ext cx="67183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equential I/O, use 4K blocks and parse them you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reads to utilize multiple processors and enhance concurr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09640" y="228600"/>
            <a:ext cx="7524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92280" y="1900080"/>
            <a:ext cx="595944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files open as opposed to repeated open/use/clo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d in pas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and local allocation are the same (except  DDESH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-critical priority for data communicatio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-locking API is provided for time-critica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0160" y="228600"/>
            <a:ext cx="748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17600" y="1849320"/>
            <a:ext cx="470844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ew data type MULTI_SZ in configuration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22160" y="228600"/>
            <a:ext cx="7699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93760" y="3622680"/>
            <a:ext cx="6756480" cy="134316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92240" y="3686040"/>
            <a:ext cx="14130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\AppValu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240" y="4075200"/>
            <a:ext cx="530712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Properties = “Black border” “Red Pointer” “Inverted”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5240" y="4411800"/>
            <a:ext cx="4265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Timing = “Slow Blinking” “Rapid Update”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2209680"/>
            <a:ext cx="716292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the application using UNICODE to avoid translation l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d in pa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iskcache tuning required:  Pageable memory not in use by apps. is used for a single disk cache by all f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3160" y="228600"/>
            <a:ext cx="7740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