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224760" y="57240"/>
            <a:ext cx="29066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 Ramsey93101 Xhibition ‘93 6/93 </a:t>
            </a:r>
            <a:fld id="{7C94A0BC-0B4C-42B5-B431-C91395433ABF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838080" y="1219320"/>
            <a:ext cx="746748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DK Development Environment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uce Ramsey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Developer Support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33480" y="228600"/>
            <a:ext cx="7277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- March 199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05000" y="1085760"/>
            <a:ext cx="6534000" cy="51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functionality is 99.9% compl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ng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D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 SFM  - enters beta s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Is exist and tes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elease criterion is s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development team self-hosted since 6/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81200" y="228600"/>
            <a:ext cx="7581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s Prelimin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42840" y="1028880"/>
            <a:ext cx="7257960" cy="55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things may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 disk format (unlikel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format (possi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ing convention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able format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e format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K updates will no longer require reinstalling Windows NT (recommend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K updates will require rebuilding your application (no mo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42840" y="228600"/>
            <a:ext cx="7257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 -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81200" y="1467000"/>
            <a:ext cx="758196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versions of Windows 3.x functionality, including Multimedia, OLE, DDEML, TrueTyp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32-bit functionality - threads, GDI enhancements, virtual memory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95560" y="228600"/>
            <a:ext cx="4952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ilding:  Nmak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66880" y="1504800"/>
            <a:ext cx="741060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version of Windows 3.1 Nm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twin32.mak include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macros for Win32 compiler, linker, rc swit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es environment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vs. M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vs. Win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285920" y="228600"/>
            <a:ext cx="65721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Build Proces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0" y="2048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316400" y="2048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/C+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35200" y="4010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35200" y="4010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35400" y="4010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35400" y="4010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vp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63920" y="313380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363920" y="504828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87480" y="5724360"/>
            <a:ext cx="1486080" cy="685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787480" y="5724360"/>
            <a:ext cx="1486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inDebu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83200" y="5743440"/>
            <a:ext cx="1295280" cy="6667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983200" y="5743440"/>
            <a:ext cx="129528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Nt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040" y="269568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16680" y="3695760"/>
            <a:ext cx="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26040" y="466740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324320" y="122868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06960" y="1762200"/>
            <a:ext cx="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595920" y="3201840"/>
            <a:ext cx="1397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ff/cv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595920" y="506880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/cv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20760" y="220032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8560" y="315288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068560" y="315288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c/cvt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78240" y="2714760"/>
            <a:ext cx="28548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54440" y="3591000"/>
            <a:ext cx="28584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247760" y="228600"/>
            <a:ext cx="6648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- Comp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4720" y="1162080"/>
            <a:ext cx="81342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-based equivalent of Microsoft C 7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tructured 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and M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nt-end-compatible with C 7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MFC/C++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 have differences from x86, that’s been corr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771560" y="228600"/>
            <a:ext cx="5600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source Comp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38240" y="1638360"/>
            <a:ext cx="70675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 syntax is same as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ID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res is incorporated at link time, not after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09880" y="228600"/>
            <a:ext cx="1523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38160" y="1714680"/>
            <a:ext cx="546732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32.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s called COF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when building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s both .lib and .ex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exp must be linked with rest of DLL to create ex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400560" y="228600"/>
            <a:ext cx="2343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52360" y="1657440"/>
            <a:ext cx="683892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32.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s called COF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portable execu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witches/libraries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ces described in release n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acros to isolate differences (ntwin32.ma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895400" y="228600"/>
            <a:ext cx="5353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ebug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162080"/>
            <a:ext cx="792468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debu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on same mach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QCWin debu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debugging multiple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enhancements since July 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nd machine via comm port or named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-mortem, or attach to runn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838160" y="228600"/>
            <a:ext cx="5467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-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895400" y="1619280"/>
            <a:ext cx="53532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development environment for 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ly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migration from Microsof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419640" y="228600"/>
            <a:ext cx="2305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TS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014560" y="1523880"/>
            <a:ext cx="51166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deb-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debugging from second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commended otherwise, and since WinDbg now does that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305080" y="228600"/>
            <a:ext cx="4533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cumen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28640" y="1352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help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- run 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7500 pages of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script files for all printed documentation - user and develo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048120" y="228600"/>
            <a:ext cx="3048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ad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009880" y="1676520"/>
            <a:ext cx="51246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.h includes everything (for example, ddeml.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Windows 3.1 “strict”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29040" y="228600"/>
            <a:ext cx="3086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fi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48040" y="1714680"/>
            <a:ext cx="504828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s use of Win32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s application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-set tu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467000" y="228600"/>
            <a:ext cx="6210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76320" y="1676520"/>
            <a:ext cx="53910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shipped wit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useful for applicatio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/memory utilization, threads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695680" y="228600"/>
            <a:ext cx="3753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ther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000160" y="1314360"/>
            <a:ext cx="514368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, icon, font edi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, qgr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ing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P (edit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bg is also an MDI ed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076480" y="228600"/>
            <a:ext cx="4991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ings To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0640" y="1143000"/>
            <a:ext cx="556272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gs now in March SD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bg debugging from second mach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support on M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t to 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/debugging 16-bit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etup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905120" y="228600"/>
            <a:ext cx="5334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ird-Party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85920" y="1390680"/>
            <a:ext cx="65721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tool in late 1991 - Slick Editor from Micro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Tools Conference 1/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ty tool vendors showing Win32-based tools at July92 P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ter/Spring 93 Development Tools for Windows NT Catalog - 126 pages of Windows NT and Win32 development too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209680" y="22860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Is Here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00240" y="1886040"/>
            <a:ext cx="6743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environment is very similar to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stable and pro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809720" y="228600"/>
            <a:ext cx="5524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DK Distribu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47880" y="1657440"/>
            <a:ext cx="5448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to any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 through Microsoft Developer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227-46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50,000 SDK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371680" y="228600"/>
            <a:ext cx="4400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wo Pack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09600" y="1542960"/>
            <a:ext cx="672480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and final 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and final SDK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compiler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399: 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69:  no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828800" y="228600"/>
            <a:ext cx="5486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cense Agre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90520" y="1962000"/>
            <a:ext cx="67626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on-disclosure cl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third parties to ship based on early Windows N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38200" y="228600"/>
            <a:ext cx="6267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pported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66880" y="1390680"/>
            <a:ext cx="7410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designed to support broad range of hard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notes contain list of machines, devices known to run Windows NT as of March 19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d list will always be available on 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ch 1993 SDK release:  12 MB minimum, 16 MB recomme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9280" y="228600"/>
            <a:ext cx="5905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lling The SD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295280"/>
            <a:ext cx="6858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on CD-ROM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 Technologies CD-ROM drive discou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CD-ROM dr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, Windows NT-based inst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network CD-ROM drive, or CD-ROM drive not yet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in-place inst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71520" y="228600"/>
            <a:ext cx="4800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ting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04840" y="1352520"/>
            <a:ext cx="693432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 via Compu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foru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MSWIN32 - programming/development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WINNT - user/product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accoun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848-8199, operator 2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86080" y="228600"/>
            <a:ext cx="6172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Cont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24200" y="1638360"/>
            <a:ext cx="52959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DK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