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34080" y="0"/>
            <a:ext cx="3397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(1st talk) Xhibition ‘93 6/93 </a:t>
            </a:r>
            <a:fld id="{74E24596-9228-46C2-8F40-8754C59B5154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31880"/>
            <a:ext cx="817236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rnel,  Executive, And Subsystems Architecture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X ISV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lew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771560" y="228600"/>
            <a:ext cx="5600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14360" y="17431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processors of like type (symmetric, uniform memory access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erformance that scales with addition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executes on any 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952720" y="228600"/>
            <a:ext cx="3238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28640" y="1600200"/>
            <a:ext cx="58863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DI s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Banyan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428920" y="228600"/>
            <a:ext cx="4286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rnation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40" y="1866960"/>
            <a:ext cx="8115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oc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trings UNICODE in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supports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 support for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71760" y="21924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19160" y="228600"/>
            <a:ext cx="7105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Windows NT Kerne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00200" y="2133720"/>
            <a:ext cx="59436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layer in the   Windows NT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rocessor architecture-specifi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west level synchronization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609560" y="228600"/>
            <a:ext cx="592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62000"/>
            <a:ext cx="66103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, well-contained body of code that impl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and context swi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and interrupt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hardwa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60k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638360" y="228600"/>
            <a:ext cx="586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752480"/>
            <a:ext cx="71629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pageable, nonpreemptable, but interrup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abstractions in the form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er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generic wait operations with time-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express client-server wait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atche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57400" y="1143000"/>
            <a:ext cx="50292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cheduling and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“signal” state and are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ual ex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181240" y="228600"/>
            <a:ext cx="4781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81160" y="1104840"/>
            <a:ext cx="67816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executive and device driv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“signal” state and not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procedure call (A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rred procedure call (D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67000" y="228600"/>
            <a:ext cx="2610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1676520"/>
            <a:ext cx="4572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/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9120" y="22860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78680" y="1658880"/>
            <a:ext cx="1200240" cy="716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3720" y="1658880"/>
            <a:ext cx="1085760" cy="74304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4160" y="1658880"/>
            <a:ext cx="1022400" cy="63036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3440" y="1873080"/>
            <a:ext cx="1220760" cy="7160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8640" y="1658880"/>
            <a:ext cx="1087560" cy="684360"/>
          </a:xfrm>
          <a:prstGeom prst="rect">
            <a:avLst/>
          </a:prstGeom>
          <a:solidFill>
            <a:srgbClr val="4e4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2880" y="1363680"/>
            <a:ext cx="868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EM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33680" y="1363680"/>
            <a:ext cx="851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29280" y="1363680"/>
            <a:ext cx="1351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74000" y="1363680"/>
            <a:ext cx="1239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60" y="3587760"/>
            <a:ext cx="7426440" cy="422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9840" y="4010040"/>
            <a:ext cx="1131840" cy="59832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010040"/>
            <a:ext cx="1131840" cy="620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1960" y="4008600"/>
            <a:ext cx="1162080" cy="60480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4200" y="4013280"/>
            <a:ext cx="1114560" cy="609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3280" y="4010040"/>
            <a:ext cx="1147680" cy="6174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4013280"/>
            <a:ext cx="1765440" cy="62244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4595760"/>
            <a:ext cx="6167520" cy="357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9080" y="4881600"/>
            <a:ext cx="3724200" cy="4255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4881600"/>
            <a:ext cx="3708360" cy="4237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38320" y="5010120"/>
            <a:ext cx="3409920" cy="29520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45080" y="5060880"/>
            <a:ext cx="1900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02040" y="5396040"/>
            <a:ext cx="14954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42320" y="5740560"/>
            <a:ext cx="1295280" cy="50148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87880" y="5740560"/>
            <a:ext cx="1055520" cy="50148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5740560"/>
            <a:ext cx="990720" cy="50148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46440" y="5740560"/>
            <a:ext cx="915840" cy="50148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57600" y="5740560"/>
            <a:ext cx="1085760" cy="501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3360" y="5740560"/>
            <a:ext cx="1019160" cy="50148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62520" y="5740560"/>
            <a:ext cx="1162080" cy="50148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92520" y="331776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1008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9764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9368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7640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8320" y="5800680"/>
            <a:ext cx="76356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 ma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040280" y="5800680"/>
            <a:ext cx="604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s/ti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73480" y="5800680"/>
            <a:ext cx="739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67520" y="580068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dispa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72360" y="5800680"/>
            <a:ext cx="9208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07240" y="5002200"/>
            <a:ext cx="5000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90760" y="4967280"/>
            <a:ext cx="1023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27560" y="4656240"/>
            <a:ext cx="26496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67040" y="4095720"/>
            <a:ext cx="793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ni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49720" y="4095720"/>
            <a:ext cx="4525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48360" y="4095720"/>
            <a:ext cx="762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75520" y="409572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77120" y="4095720"/>
            <a:ext cx="789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96920" y="3994200"/>
            <a:ext cx="889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60440" y="4081320"/>
            <a:ext cx="787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0880" y="4406760"/>
            <a:ext cx="15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20880" y="4367160"/>
            <a:ext cx="1541520" cy="514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7080" y="4487760"/>
            <a:ext cx="8715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1873080"/>
            <a:ext cx="1158840" cy="671400"/>
          </a:xfrm>
          <a:prstGeom prst="rect">
            <a:avLst/>
          </a:prstGeom>
          <a:solidFill>
            <a:srgbClr val="31650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57400" y="2160720"/>
            <a:ext cx="1158840" cy="644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9960" y="2374920"/>
            <a:ext cx="1160640" cy="600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2584440"/>
            <a:ext cx="1065240" cy="60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4600" y="1905120"/>
            <a:ext cx="588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0160" y="2165400"/>
            <a:ext cx="777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98440" y="2376360"/>
            <a:ext cx="6303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8960" y="2652840"/>
            <a:ext cx="9619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mana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1873080"/>
            <a:ext cx="1157400" cy="6843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6480" y="2160720"/>
            <a:ext cx="1085760" cy="6444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7600" y="2374920"/>
            <a:ext cx="1085760" cy="612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1440" y="2598840"/>
            <a:ext cx="1063800" cy="6048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78160" y="1922400"/>
            <a:ext cx="774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760" y="2165400"/>
            <a:ext cx="503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30480" y="2367000"/>
            <a:ext cx="561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03600" y="2652840"/>
            <a:ext cx="9144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1900080"/>
            <a:ext cx="1063800" cy="6048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7840" y="2160720"/>
            <a:ext cx="1093680" cy="617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374920"/>
            <a:ext cx="1135080" cy="60480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1160" y="2616120"/>
            <a:ext cx="1063800" cy="6048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86480" y="1663560"/>
            <a:ext cx="487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8800" y="19162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14840" y="2381400"/>
            <a:ext cx="12222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W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68840" y="2695680"/>
            <a:ext cx="622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56000" y="3670200"/>
            <a:ext cx="226044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4520" y="2160720"/>
            <a:ext cx="1235160" cy="6444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0" y="2374920"/>
            <a:ext cx="1297080" cy="63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56240" y="2616120"/>
            <a:ext cx="1168560" cy="6174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462800" y="166356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30960" y="1916280"/>
            <a:ext cx="6476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SE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18200" y="2162160"/>
            <a:ext cx="939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l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786720" y="2390760"/>
            <a:ext cx="10112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Perfec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78800" y="2671920"/>
            <a:ext cx="538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2-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5440" y="319572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544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904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0360" y="320508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0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7976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224160"/>
            <a:ext cx="0" cy="8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448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323388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801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8812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62400" y="2179800"/>
            <a:ext cx="554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33480" y="16606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988400" y="5311800"/>
            <a:ext cx="36360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88400" y="5526000"/>
            <a:ext cx="36360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4920" y="5311800"/>
            <a:ext cx="21924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61840" y="5526000"/>
            <a:ext cx="29232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1840" y="5740560"/>
            <a:ext cx="7490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11520" y="165564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828880" y="228600"/>
            <a:ext cx="348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95480" y="1486080"/>
            <a:ext cx="6953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- no scheduler per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prio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 at real-tim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boosts/decay at variabl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 priority thread guaranteed ru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52640" y="228600"/>
            <a:ext cx="5238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oluntary Swi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09560" y="1790640"/>
            <a:ext cx="5924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wait for dispatcher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t priority to lower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76400" y="1714680"/>
            <a:ext cx="6991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object to attain sign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sing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multiple objects - any/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time-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314360" y="229536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14360" y="22860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57280" y="150480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ed on top of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to user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 separate components with formal interfaces - allows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P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86080" y="23796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81240" y="1390680"/>
            <a:ext cx="478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685880" y="228600"/>
            <a:ext cx="5772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1447920"/>
            <a:ext cx="6095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nam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process object 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 via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unctions to build user visible objects (processes, threads, events, fil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76240" y="1486080"/>
            <a:ext cx="739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, 4 GB,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copy-on-writ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aging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Cache Manag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Sub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33480" y="1314360"/>
            <a:ext cx="72770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model with 64-bit fil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ile objects which have open, operate, clos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ervices for drivers and file system through form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and file systems i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ingle global cache integrated with 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1906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228600"/>
            <a:ext cx="6858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System (NTF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47600" y="1790640"/>
            <a:ext cx="7048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large disks and files, uses 64 bits for files sizes and off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sh recovery for large volumes takes seconds not minutes or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file names on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with autogenerated 8.3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19480" y="228600"/>
            <a:ext cx="2705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F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409760"/>
            <a:ext cx="6858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ACLs on files available through NT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- enhancements can be added without obsoleting existing vol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utilities from FAT and HPFS to NTFS will b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14360" y="14479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mmunication mechanism for client-server (subsyste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ast local RP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impersonate” clients’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971720" y="228600"/>
            <a:ext cx="5200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7480" y="1657440"/>
            <a:ext cx="66294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ierarchy, grouping, or process relationships imposed by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quota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67200" y="228600"/>
            <a:ext cx="3009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23960" y="1790640"/>
            <a:ext cx="76960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profile per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ccess validation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file system on disk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49280" y="2193840"/>
            <a:ext cx="6445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685960" y="228600"/>
            <a:ext cx="3772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23920" y="1486080"/>
            <a:ext cx="689616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create emul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, POSIX, and OS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bsolutely control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.1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DM/Emulation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68280" y="5530680"/>
            <a:ext cx="8553600" cy="476280"/>
          </a:xfrm>
          <a:prstGeom prst="rect">
            <a:avLst/>
          </a:pr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520" y="2165400"/>
            <a:ext cx="8832960" cy="0"/>
          </a:xfrm>
          <a:prstGeom prst="line">
            <a:avLst/>
          </a:prstGeom>
          <a:ln w="1522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266000" y="2552760"/>
            <a:ext cx="137880" cy="1794960"/>
            <a:chOff x="4266000" y="2552760"/>
            <a:chExt cx="137880" cy="1794960"/>
          </a:xfrm>
        </p:grpSpPr>
        <p:sp>
          <p:nvSpPr>
            <p:cNvPr id="235" name=""/>
            <p:cNvSpPr/>
            <p:nvPr/>
          </p:nvSpPr>
          <p:spPr>
            <a:xfrm>
              <a:off x="434016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600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6636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53560" y="2552760"/>
            <a:ext cx="137880" cy="1794960"/>
            <a:chOff x="6253560" y="2552760"/>
            <a:chExt cx="137880" cy="1794960"/>
          </a:xfrm>
        </p:grpSpPr>
        <p:sp>
          <p:nvSpPr>
            <p:cNvPr id="239" name=""/>
            <p:cNvSpPr/>
            <p:nvPr/>
          </p:nvSpPr>
          <p:spPr>
            <a:xfrm>
              <a:off x="63277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356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392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003520" y="2552760"/>
            <a:ext cx="136800" cy="1794960"/>
            <a:chOff x="8003520" y="2552760"/>
            <a:chExt cx="136800" cy="1794960"/>
          </a:xfrm>
        </p:grpSpPr>
        <p:sp>
          <p:nvSpPr>
            <p:cNvPr id="243" name=""/>
            <p:cNvSpPr/>
            <p:nvPr/>
          </p:nvSpPr>
          <p:spPr>
            <a:xfrm>
              <a:off x="80755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3520" y="4067280"/>
              <a:ext cx="136800" cy="280440"/>
            </a:xfrm>
            <a:custGeom>
              <a:avLst/>
              <a:gdLst/>
              <a:ahLst/>
              <a:rect l="0" t="0" r="r" b="b"/>
              <a:pathLst>
                <a:path w="380" h="779">
                  <a:moveTo>
                    <a:pt x="189" y="779"/>
                  </a:moveTo>
                  <a:lnTo>
                    <a:pt x="380" y="34"/>
                  </a:lnTo>
                  <a:lnTo>
                    <a:pt x="380" y="34"/>
                  </a:lnTo>
                  <a:cubicBezTo>
                    <a:pt x="318" y="11"/>
                    <a:pt x="254" y="0"/>
                    <a:pt x="190" y="0"/>
                  </a:cubicBezTo>
                  <a:cubicBezTo>
                    <a:pt x="126" y="0"/>
                    <a:pt x="62" y="11"/>
                    <a:pt x="0" y="34"/>
                  </a:cubicBezTo>
                  <a:lnTo>
                    <a:pt x="189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03520" y="2552760"/>
              <a:ext cx="136440" cy="281520"/>
            </a:xfrm>
            <a:custGeom>
              <a:avLst/>
              <a:gdLst/>
              <a:ahLst/>
              <a:rect l="0" t="0" r="r" b="b"/>
              <a:pathLst>
                <a:path w="379" h="782">
                  <a:moveTo>
                    <a:pt x="189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1" y="770"/>
                    <a:pt x="125" y="782"/>
                    <a:pt x="190" y="782"/>
                  </a:cubicBezTo>
                  <a:cubicBezTo>
                    <a:pt x="254" y="782"/>
                    <a:pt x="318" y="770"/>
                    <a:pt x="379" y="748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352680" y="3522600"/>
            <a:ext cx="137160" cy="977400"/>
            <a:chOff x="3352680" y="3522600"/>
            <a:chExt cx="137160" cy="977400"/>
          </a:xfrm>
        </p:grpSpPr>
        <p:sp>
          <p:nvSpPr>
            <p:cNvPr id="247" name=""/>
            <p:cNvSpPr/>
            <p:nvPr/>
          </p:nvSpPr>
          <p:spPr>
            <a:xfrm>
              <a:off x="3425760" y="3724200"/>
              <a:ext cx="0" cy="569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4081320"/>
              <a:ext cx="137160" cy="418680"/>
            </a:xfrm>
            <a:custGeom>
              <a:avLst/>
              <a:gdLst/>
              <a:ahLst/>
              <a:rect l="0" t="0" r="r" b="b"/>
              <a:pathLst>
                <a:path w="381" h="1163">
                  <a:moveTo>
                    <a:pt x="190" y="1163"/>
                  </a:moveTo>
                  <a:lnTo>
                    <a:pt x="381" y="51"/>
                  </a:lnTo>
                  <a:lnTo>
                    <a:pt x="381" y="51"/>
                  </a:lnTo>
                  <a:cubicBezTo>
                    <a:pt x="319" y="17"/>
                    <a:pt x="255" y="0"/>
                    <a:pt x="190" y="0"/>
                  </a:cubicBezTo>
                  <a:cubicBezTo>
                    <a:pt x="126" y="0"/>
                    <a:pt x="62" y="17"/>
                    <a:pt x="0" y="51"/>
                  </a:cubicBezTo>
                  <a:lnTo>
                    <a:pt x="190" y="11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3522600"/>
              <a:ext cx="136800" cy="419400"/>
            </a:xfrm>
            <a:custGeom>
              <a:avLst/>
              <a:gdLst/>
              <a:ahLst/>
              <a:rect l="0" t="0" r="r" b="b"/>
              <a:pathLst>
                <a:path w="380" h="1165">
                  <a:moveTo>
                    <a:pt x="189" y="0"/>
                  </a:moveTo>
                  <a:lnTo>
                    <a:pt x="0" y="1114"/>
                  </a:lnTo>
                  <a:lnTo>
                    <a:pt x="0" y="1114"/>
                  </a:lnTo>
                  <a:cubicBezTo>
                    <a:pt x="62" y="1148"/>
                    <a:pt x="126" y="1165"/>
                    <a:pt x="190" y="1165"/>
                  </a:cubicBezTo>
                  <a:cubicBezTo>
                    <a:pt x="254" y="1165"/>
                    <a:pt x="318" y="1148"/>
                    <a:pt x="380" y="1114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1066680" y="228600"/>
            <a:ext cx="7010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67120" y="2552760"/>
            <a:ext cx="137880" cy="1794960"/>
            <a:chOff x="1167120" y="2552760"/>
            <a:chExt cx="137880" cy="1794960"/>
          </a:xfrm>
        </p:grpSpPr>
        <p:sp>
          <p:nvSpPr>
            <p:cNvPr id="252" name=""/>
            <p:cNvSpPr/>
            <p:nvPr/>
          </p:nvSpPr>
          <p:spPr>
            <a:xfrm>
              <a:off x="124128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6712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6748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114560" y="228600"/>
            <a:ext cx="6915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057400" y="1467000"/>
            <a:ext cx="50292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S-DOS and Windows 3.x wra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subsystem (16 b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609560" y="228600"/>
            <a:ext cx="592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86040" y="1200240"/>
            <a:ext cx="537228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emulated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s arguments and calls subsystem via 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functions may be handled in the DLL without calling the sub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/stop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glob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57240" y="228600"/>
            <a:ext cx="5429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90760" y="1162080"/>
            <a:ext cx="43624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2287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19480" y="228600"/>
            <a:ext cx="2705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ort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657440"/>
            <a:ext cx="77151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hardware architectures (Intel 386/486/Pentium,      MIPS R4x00, DEC Alpha AXP, Intergraph Clip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-dependent parts isolated in specific components (HAL, kernel, V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- hardware abstraction layer - provides platform-independence and allow hardware vendors to innov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05000" y="228600"/>
            <a:ext cx="293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ecu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05040" y="1866960"/>
            <a:ext cx="73342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be DOD C2 certif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level - discretionary access control on all potentially sharable objects via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8120" y="228600"/>
            <a:ext cx="3048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mpat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19440" y="1743120"/>
            <a:ext cx="55054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 (FAT, HP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16-bit char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971800" y="228600"/>
            <a:ext cx="320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1440" y="1790640"/>
            <a:ext cx="68007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s without privilege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network redir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14720" y="228600"/>
            <a:ext cx="2914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obus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4920" y="1771560"/>
            <a:ext cx="6197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behaved applications can’t cras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user quotas to protect system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return an error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