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9400" y="12600"/>
            <a:ext cx="34020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’93 (1st talk) 6/93 </a:t>
            </a:r>
            <a:fld id="{BAF9D952-A592-4547-91B6-B61B5EEA200D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85960" y="789120"/>
            <a:ext cx="737244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For The UNIX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Familiar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04920" y="1866960"/>
            <a:ext cx="49338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cod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19280" y="228600"/>
            <a:ext cx="5905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09600" y="1987560"/>
            <a:ext cx="67248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doesn’t run on local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ay have different look and f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’t take advantage of features like OLE and 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s not a         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52360" y="1657440"/>
            <a:ext cx="6838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eature-rich programming interface for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 with ANSI C, C run-tim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or GUI applications, or a hybrid of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2920" y="228600"/>
            <a:ext cx="88581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eas For Attention When Porting To Windows 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47840" y="1841400"/>
            <a:ext cx="46483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/I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Hints: 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54160" y="1365120"/>
            <a:ext cx="683748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C run time FIRST to determine if your functionality is supporte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pplications move easily since C run times are similar; most “section 2” AP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lp32.exe, msc.hlp contains online C run-time re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for side effects:  e.g. signals, file descriptor inheritanc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686040"/>
            <a:ext cx="62866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Mod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95280" y="144792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process and thread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...) almost == fork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” processes ar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control includes “real-time” priority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can be used for pause() and waitpi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4360" y="228600"/>
            <a:ext cx="8854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UNIX Fork And Exe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5880" y="1203480"/>
            <a:ext cx="5772240" cy="515304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rudimentary fork example for Unix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pid; /* process i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d = fork(); /* new  process created her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pid&gt;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((int *)0); printf("Completed\n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if  (0==pid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l("/bin/ls","ls","-l",(char *)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ror("execl failed!\n");exit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ork didn't work 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305000" y="228600"/>
            <a:ext cx="6534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9040" y="1619280"/>
            <a:ext cx="8305920" cy="49816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window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MAXNAMELE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CMDLI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/c di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IMAGENA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\\nt\\bin\\cmd.ex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WINTITL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CreateProcess DEM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,fEx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ExitCode,d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INF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_INFORMA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,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cb =sizeof(STARTUPINFO); SI.lpReserved = NULL;SI.lpDesktop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lpTitle="CreateProcess DEMO";SI.cbReserved2=0;SI.lpReserved2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28680" y="228600"/>
            <a:ext cx="6686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0600" y="1730520"/>
            <a:ext cx="8362800" cy="451332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 = CreateProcess((LPTSTR)IMAGENAME, (LPTSTR)CMD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OOL)TRUE,(DWORD)0,NULL,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TARTUPINFO)&amp;SI,(LPPROCESS_INFORMATION)&amp;p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fSuccess) {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 = pi.hProcess;    hThread = pi.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Process Id = %d\nThread Id = %d\n",pi.dwProcessId,pi.dwThread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 = WaitForSingleObject(hProcess, INFINIT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dw != 0xFFFFFFFF) { /* if we saw success ...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pick up an exit code for the proc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xit = GetExitCodeProcess(hProcess, &amp;dwExit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lose the process and thread object handle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(hThread) ;    CloseHandle(hProcess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COMPLETED!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ailed to CreateProcess\n"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gn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0200" y="1467000"/>
            <a:ext cx="8283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n signal types supported:  SIGFPE, SIGILL, SIGSEGV, SIGINT, SIGBREAK,  SIGABRT, SIGTER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ABRT and SIGTERM signalled by raise(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ed on thread that caused sig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ther functionality, use asynchronous I/O structures (callbacks), or wait on handles   (e.g. SIGCHL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ructured exception handl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962000" y="228600"/>
            <a:ext cx="521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fferent Aspec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314440" y="1903320"/>
            <a:ext cx="4514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environment/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60240" y="1492200"/>
            <a:ext cx="7823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standard C run time (fopen, fread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ovides 64-bit file access - SetFilePoint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use non-blocking file I/O, use Win32 APIs CreateFile(), ReadFile(), Write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ncurrent access, consider using memory-mapped files, or LockFile()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97160"/>
            <a:ext cx="71629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file names (see File System in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s will do “right thing” with ‘/’ file sepa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descriptors 0, 1, 2 correspond to stdin, stdout, stderr (no number guarant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inode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.st_ino is z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479600"/>
            <a:ext cx="788688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 accommodates different file system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, NTFS, network redirecto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ode may have to  deal with case insensitivity, 8.3 file names, drive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inks in Win32, no mounts (Hint:  use POSIX subsystem to perform ln(), if you need it - only supported on NTF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4880" y="1752480"/>
            <a:ext cx="82738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has concept of “drive volumes” and current directory on each drive              (e.g. “a:\; c:\fubar;d:\NTFS_file_direct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etVolumeInformation() to find out about file systems/redir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rminal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47600" y="1498680"/>
            <a:ext cx="70484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nsole functions, in general, to move character applications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es functionality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Data, Citrix will have “dumb” terminal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uent can drive X terminals with their X client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52360" y="1428840"/>
            <a:ext cx="6838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bjects in Windows NT have security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nd processes have security IDs (SI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threads/processes execute at minimum level of permission, in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ID” accomplished through 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282680"/>
            <a:ext cx="81342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vides multiple redirector (file system) interf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:  pipes, named pipes, named shared memory, semaphores, mutexes,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can be nam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“gives away” access to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exposed through WINSOCK API; moving socket code generally eas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used internally for protocol stac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360" y="1130400"/>
            <a:ext cx="81532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lient utilities provided in Windows NT product -- FTP server to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CP/IP server utilities available via Internet and CompuServe (source form!) (e.g. NFS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, available from Sun, FTP Software, NetManage, Frontier, Beam and Whitesid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nnection-oriented RPC available in the box - ONC RPC available from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040" y="1308240"/>
            <a:ext cx="83059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brk or sbrk - use standard memory management functions (malloc, free, etc.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your code by using virtual and  heap allocation metho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vs. comm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map and shm* functionality - see CreateFileMapping(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stack growt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aphics Compatibi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3320" y="1460520"/>
            <a:ext cx="76770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functionality in general a superset of X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libnt.zip available on CompuServe and Internet - provides Xlib functionality on top of GD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GL - third parti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st way to develop GUI applications with some of great tools from Blue Sky, Protoview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Tradeoffs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33640" y="1486080"/>
            <a:ext cx="687708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for programmer vs. utility  for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and complexity of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scellaneous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Techni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09600" y="203976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information in registry vs. in separate text files; registry maintaine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threads - multiprocessing will be ubiquitous and CHEA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elp in your application - easy, very good for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 -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276200"/>
            <a:ext cx="7162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 Windows NT programming tools shipping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ools section in cata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s -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NU tools - Congruent,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Aids - DataFocus, Congruent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gu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00280" y="1733400"/>
            <a:ext cx="7543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, C++ - Watcom, Borland, Zortech, Silicon Valley Software, Microsoft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TRAN - Microsoft, Silicon Valley Software, D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- Silicon Valley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environments, specialty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52600" y="1727280"/>
            <a:ext cx="80391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News, UUCP, mail - help@kew.com, martin@iastate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client built in, SMTP connectivy pieces through 3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I - Resour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3640" y="1390680"/>
            <a:ext cx="7418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forum:  MS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newsgroups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.windows.ms.programmer.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s:  CompuServe, Internet sit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uu.net, ftp.cica.indiana.edu,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hino.microsoft.c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 CD-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catalog l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181160"/>
            <a:ext cx="68580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NOT UNIX, but has the all of the characteristics required to support technical workstation and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UNIX-familiar utilities, resources alread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else do you requi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back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Kind Of UNIX Programs Do You Hav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81240" y="2228760"/>
            <a:ext cx="478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tential Porting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1905120"/>
            <a:ext cx="44197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SIX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80960" y="1809720"/>
            <a:ext cx="6381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interaction with Windows NT advanc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62080" y="1733400"/>
            <a:ext cx="681984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way to move POSIX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s POSIX sourc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ies government requirements for delivery platfor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52680" y="228600"/>
            <a:ext cx="6039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80960" y="2266920"/>
            <a:ext cx="63817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Win32 graphical API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advanced featur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screen control/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04840" y="1752480"/>
            <a:ext cx="69343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vailable from NCD, DEC, Hummingbird, o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terminal on the Windows desk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