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6160" y="17640"/>
            <a:ext cx="3465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2nd talk) 6/93 </a:t>
            </a:r>
            <a:fld id="{8AD52D98-BFF4-4992-BE2D-B7D7BB871FE6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11200" y="1407960"/>
            <a:ext cx="8121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MP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,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62160" y="209520"/>
            <a:ext cx="481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57360" y="1733400"/>
            <a:ext cx="78296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or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instruction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view of physic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access to de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keep caches coh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247840" y="209520"/>
            <a:ext cx="4648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95600" y="1733400"/>
            <a:ext cx="5753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-back secondary c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internal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path t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tter/gather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43000" y="1581120"/>
            <a:ext cx="68580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8259 is not designed to be a multiprocessor interrupt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ontroller should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le interrupt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ed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interru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394080" y="1371600"/>
            <a:ext cx="4335480" cy="2057400"/>
            <a:chOff x="3394080" y="1371600"/>
            <a:chExt cx="4335480" cy="2057400"/>
          </a:xfrm>
        </p:grpSpPr>
        <p:sp>
          <p:nvSpPr>
            <p:cNvPr id="175" name=""/>
            <p:cNvSpPr/>
            <p:nvPr/>
          </p:nvSpPr>
          <p:spPr>
            <a:xfrm>
              <a:off x="4495680" y="281952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479840" y="292572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489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33920" y="228600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76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36226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290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3940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0798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8512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8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4632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775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34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918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7913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394080" y="4191120"/>
            <a:ext cx="4335480" cy="2057040"/>
            <a:chOff x="3394080" y="4191120"/>
            <a:chExt cx="4335480" cy="2057040"/>
          </a:xfrm>
        </p:grpSpPr>
        <p:sp>
          <p:nvSpPr>
            <p:cNvPr id="197" name=""/>
            <p:cNvSpPr/>
            <p:nvPr/>
          </p:nvSpPr>
          <p:spPr>
            <a:xfrm>
              <a:off x="4495680" y="563868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4479840" y="574524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489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33920" y="510552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8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4632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91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775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4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6918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91120" y="5029200"/>
              <a:ext cx="990360" cy="6094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576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90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3940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62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0798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36226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8512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 txBox="1"/>
          <p:nvPr/>
        </p:nvSpPr>
        <p:spPr>
          <a:xfrm>
            <a:off x="517680" y="1638360"/>
            <a:ext cx="281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-direc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.  Used for I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93640" y="4621320"/>
            <a:ext cx="2660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be use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-levels (DPC, AP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32200" y="5373720"/>
            <a:ext cx="1605240" cy="1144800"/>
            <a:chOff x="3832200" y="5373720"/>
            <a:chExt cx="1605240" cy="1144800"/>
          </a:xfrm>
        </p:grpSpPr>
        <p:sp>
          <p:nvSpPr>
            <p:cNvPr id="221" name=""/>
            <p:cNvSpPr/>
            <p:nvPr/>
          </p:nvSpPr>
          <p:spPr>
            <a:xfrm>
              <a:off x="5207040" y="5681520"/>
              <a:ext cx="230400" cy="152640"/>
            </a:xfrm>
            <a:custGeom>
              <a:avLst/>
              <a:gdLst/>
              <a:ahLst/>
              <a:rect l="0" t="0" r="r" b="b"/>
              <a:pathLst>
                <a:path w="640" h="424">
                  <a:moveTo>
                    <a:pt x="0" y="0"/>
                  </a:moveTo>
                  <a:lnTo>
                    <a:pt x="640" y="0"/>
                  </a:lnTo>
                  <a:lnTo>
                    <a:pt x="640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32200" y="5681520"/>
              <a:ext cx="236880" cy="151200"/>
            </a:xfrm>
            <a:custGeom>
              <a:avLst/>
              <a:gdLst/>
              <a:ahLst/>
              <a:rect l="0" t="0" r="r" b="b"/>
              <a:pathLst>
                <a:path w="658" h="420">
                  <a:moveTo>
                    <a:pt x="0" y="0"/>
                  </a:moveTo>
                  <a:lnTo>
                    <a:pt x="644" y="0"/>
                  </a:lnTo>
                  <a:lnTo>
                    <a:pt x="6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36880" y="5373720"/>
              <a:ext cx="1597320" cy="992520"/>
            </a:xfrm>
            <a:custGeom>
              <a:avLst/>
              <a:gdLst/>
              <a:ahLst/>
              <a:rect l="0" t="0" r="r" b="b"/>
              <a:pathLst>
                <a:path w="4437" h="2757">
                  <a:moveTo>
                    <a:pt x="2191" y="0"/>
                  </a:moveTo>
                  <a:lnTo>
                    <a:pt x="0" y="855"/>
                  </a:lnTo>
                  <a:lnTo>
                    <a:pt x="635" y="855"/>
                  </a:lnTo>
                  <a:lnTo>
                    <a:pt x="211" y="2757"/>
                  </a:lnTo>
                  <a:lnTo>
                    <a:pt x="4225" y="2757"/>
                  </a:lnTo>
                  <a:lnTo>
                    <a:pt x="3806" y="855"/>
                  </a:lnTo>
                  <a:lnTo>
                    <a:pt x="4437" y="855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13200" y="6365880"/>
              <a:ext cx="1445040" cy="152640"/>
            </a:xfrm>
            <a:custGeom>
              <a:avLst/>
              <a:gdLst/>
              <a:ahLst/>
              <a:rect l="0" t="0" r="r" b="b"/>
              <a:pathLst>
                <a:path w="4014" h="424">
                  <a:moveTo>
                    <a:pt x="0" y="0"/>
                  </a:moveTo>
                  <a:lnTo>
                    <a:pt x="4014" y="0"/>
                  </a:lnTo>
                  <a:lnTo>
                    <a:pt x="4014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4572000" y="3535200"/>
            <a:ext cx="4226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can route interrupts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with the lower IR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93640" y="1127160"/>
            <a:ext cx="367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46280" y="1905120"/>
            <a:ext cx="1315800" cy="1219320"/>
            <a:chOff x="746280" y="1905120"/>
            <a:chExt cx="1315800" cy="1219320"/>
          </a:xfrm>
        </p:grpSpPr>
        <p:sp>
          <p:nvSpPr>
            <p:cNvPr id="228" name=""/>
            <p:cNvSpPr/>
            <p:nvPr/>
          </p:nvSpPr>
          <p:spPr>
            <a:xfrm>
              <a:off x="76212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74628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388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47960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4098960" y="5614920"/>
            <a:ext cx="1085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200400"/>
            <a:ext cx="628560" cy="139068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4495680"/>
            <a:ext cx="243828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5b307c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413160" y="4678200"/>
            <a:ext cx="2349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727360" y="1905120"/>
            <a:ext cx="1311120" cy="1219320"/>
            <a:chOff x="2727360" y="1905120"/>
            <a:chExt cx="1311120" cy="1219320"/>
          </a:xfrm>
        </p:grpSpPr>
        <p:sp>
          <p:nvSpPr>
            <p:cNvPr id="237" name=""/>
            <p:cNvSpPr/>
            <p:nvPr/>
          </p:nvSpPr>
          <p:spPr>
            <a:xfrm>
              <a:off x="27432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27273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5320" y="2571840"/>
              <a:ext cx="457200" cy="39996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4513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708440" y="1905120"/>
            <a:ext cx="1316160" cy="1219320"/>
            <a:chOff x="4708440" y="1905120"/>
            <a:chExt cx="1316160" cy="1219320"/>
          </a:xfrm>
        </p:grpSpPr>
        <p:sp>
          <p:nvSpPr>
            <p:cNvPr id="242" name=""/>
            <p:cNvSpPr/>
            <p:nvPr/>
          </p:nvSpPr>
          <p:spPr>
            <a:xfrm>
              <a:off x="472428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470844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86400" y="2305080"/>
              <a:ext cx="457200" cy="66672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54421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613560" y="1905120"/>
            <a:ext cx="1315800" cy="1219320"/>
            <a:chOff x="6613560" y="1905120"/>
            <a:chExt cx="1315800" cy="1219320"/>
          </a:xfrm>
        </p:grpSpPr>
        <p:sp>
          <p:nvSpPr>
            <p:cNvPr id="247" name=""/>
            <p:cNvSpPr/>
            <p:nvPr/>
          </p:nvSpPr>
          <p:spPr>
            <a:xfrm>
              <a:off x="66294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135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734688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86000" y="124776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314360"/>
            <a:ext cx="7772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erialization primitives are M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multiprocessor system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reads will run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way to improve performance in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utilize multiple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rocessor scheduling with 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81200" y="1371600"/>
            <a:ext cx="75819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209600" y="1638360"/>
            <a:ext cx="6724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ortable 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9040" y="2495520"/>
            <a:ext cx="8305920" cy="312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31800" y="2743200"/>
            <a:ext cx="78660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rtable, Multiprocessor Safe,  way to atomic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ncrement a shared memory reference counter witho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any other serializ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OfResult = InterlockedIncrement (&amp;ReferenceCoun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86080" y="3500280"/>
            <a:ext cx="871920" cy="1357560"/>
          </a:xfrm>
          <a:custGeom>
            <a:avLst/>
            <a:gdLst/>
            <a:ahLst/>
            <a:rect l="0" t="0" r="r" b="b"/>
            <a:pathLst>
              <a:path fill="none" w="2422" h="3771">
                <a:moveTo>
                  <a:pt x="0" y="0"/>
                </a:moveTo>
                <a:lnTo>
                  <a:pt x="0" y="0"/>
                </a:lnTo>
                <a:cubicBezTo>
                  <a:pt x="0" y="662"/>
                  <a:pt x="112" y="1312"/>
                  <a:pt x="324" y="1886"/>
                </a:cubicBezTo>
                <a:cubicBezTo>
                  <a:pt x="537" y="2459"/>
                  <a:pt x="843" y="2935"/>
                  <a:pt x="1211" y="3266"/>
                </a:cubicBezTo>
                <a:cubicBezTo>
                  <a:pt x="1579" y="3597"/>
                  <a:pt x="1997" y="3771"/>
                  <a:pt x="2422" y="3771"/>
                </a:cubicBezTo>
              </a:path>
            </a:pathLst>
          </a:custGeom>
          <a:ln w="76320">
            <a:solidFill>
              <a:srgbClr val="51dc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600440" y="3471840"/>
            <a:ext cx="543240" cy="986040"/>
          </a:xfrm>
          <a:prstGeom prst="line">
            <a:avLst/>
          </a:prstGeom>
          <a:ln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27000" y="2176560"/>
            <a:ext cx="1311120" cy="1219320"/>
            <a:chOff x="927000" y="2176560"/>
            <a:chExt cx="1311120" cy="1219320"/>
          </a:xfrm>
        </p:grpSpPr>
        <p:sp>
          <p:nvSpPr>
            <p:cNvPr id="269" name=""/>
            <p:cNvSpPr/>
            <p:nvPr/>
          </p:nvSpPr>
          <p:spPr>
            <a:xfrm>
              <a:off x="9428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9270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628640" y="2328840"/>
              <a:ext cx="535320" cy="914760"/>
              <a:chOff x="1628640" y="2328840"/>
              <a:chExt cx="535320" cy="914760"/>
            </a:xfrm>
          </p:grpSpPr>
          <p:sp>
            <p:nvSpPr>
              <p:cNvPr id="272" name=""/>
              <p:cNvSpPr/>
              <p:nvPr/>
            </p:nvSpPr>
            <p:spPr>
              <a:xfrm>
                <a:off x="18381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1628640" y="2328840"/>
                <a:ext cx="379800" cy="914760"/>
                <a:chOff x="1628640" y="2328840"/>
                <a:chExt cx="379800" cy="914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16286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6794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2908440" y="2176560"/>
            <a:ext cx="1311120" cy="1219320"/>
            <a:chOff x="2908440" y="2176560"/>
            <a:chExt cx="1311120" cy="1219320"/>
          </a:xfrm>
        </p:grpSpPr>
        <p:sp>
          <p:nvSpPr>
            <p:cNvPr id="277" name=""/>
            <p:cNvSpPr/>
            <p:nvPr/>
          </p:nvSpPr>
          <p:spPr>
            <a:xfrm>
              <a:off x="292428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90844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610080" y="2328840"/>
              <a:ext cx="535320" cy="914760"/>
              <a:chOff x="3610080" y="2328840"/>
              <a:chExt cx="535320" cy="914760"/>
            </a:xfrm>
          </p:grpSpPr>
          <p:sp>
            <p:nvSpPr>
              <p:cNvPr id="280" name=""/>
              <p:cNvSpPr/>
              <p:nvPr/>
            </p:nvSpPr>
            <p:spPr>
              <a:xfrm>
                <a:off x="381960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3610080" y="2328840"/>
                <a:ext cx="379800" cy="914760"/>
                <a:chOff x="3610080" y="2328840"/>
                <a:chExt cx="379800" cy="9147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61008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66084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4" name=""/>
          <p:cNvSpPr/>
          <p:nvPr/>
        </p:nvSpPr>
        <p:spPr>
          <a:xfrm>
            <a:off x="2390760" y="4500720"/>
            <a:ext cx="236232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813200" y="2176560"/>
            <a:ext cx="1311120" cy="1219320"/>
            <a:chOff x="4813200" y="2176560"/>
            <a:chExt cx="1311120" cy="1219320"/>
          </a:xfrm>
        </p:grpSpPr>
        <p:sp>
          <p:nvSpPr>
            <p:cNvPr id="286" name=""/>
            <p:cNvSpPr/>
            <p:nvPr/>
          </p:nvSpPr>
          <p:spPr>
            <a:xfrm>
              <a:off x="48290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48132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514840" y="2328840"/>
              <a:ext cx="535320" cy="914760"/>
              <a:chOff x="5514840" y="2328840"/>
              <a:chExt cx="535320" cy="91476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43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514840" y="2328840"/>
                <a:ext cx="379800" cy="914760"/>
                <a:chOff x="5514840" y="2328840"/>
                <a:chExt cx="379800" cy="9147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5148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5656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"/>
          <p:cNvSpPr txBox="1"/>
          <p:nvPr/>
        </p:nvSpPr>
        <p:spPr>
          <a:xfrm>
            <a:off x="2908440" y="4697280"/>
            <a:ext cx="1270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537160" y="3706920"/>
            <a:ext cx="3473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priority processor is interrupted to run new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00600" y="4924440"/>
            <a:ext cx="2286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00600" y="5381640"/>
            <a:ext cx="228600" cy="22860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27840" y="4859280"/>
            <a:ext cx="2435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27840" y="5335560"/>
            <a:ext cx="2378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429240" y="1719360"/>
            <a:ext cx="457920" cy="762480"/>
            <a:chOff x="6429240" y="1719360"/>
            <a:chExt cx="457920" cy="762480"/>
          </a:xfrm>
        </p:grpSpPr>
        <p:sp>
          <p:nvSpPr>
            <p:cNvPr id="300" name=""/>
            <p:cNvSpPr/>
            <p:nvPr/>
          </p:nvSpPr>
          <p:spPr>
            <a:xfrm>
              <a:off x="6608880" y="1719360"/>
              <a:ext cx="278280" cy="762480"/>
            </a:xfrm>
            <a:custGeom>
              <a:avLst/>
              <a:gdLst/>
              <a:ahLst/>
              <a:rect l="0" t="0" r="r" b="b"/>
              <a:pathLst>
                <a:path w="773" h="2118">
                  <a:moveTo>
                    <a:pt x="383" y="0"/>
                  </a:moveTo>
                  <a:lnTo>
                    <a:pt x="24" y="0"/>
                  </a:lnTo>
                  <a:lnTo>
                    <a:pt x="78" y="23"/>
                  </a:lnTo>
                  <a:lnTo>
                    <a:pt x="124" y="60"/>
                  </a:lnTo>
                  <a:lnTo>
                    <a:pt x="165" y="109"/>
                  </a:lnTo>
                  <a:lnTo>
                    <a:pt x="204" y="164"/>
                  </a:lnTo>
                  <a:lnTo>
                    <a:pt x="242" y="244"/>
                  </a:lnTo>
                  <a:lnTo>
                    <a:pt x="275" y="329"/>
                  </a:lnTo>
                  <a:lnTo>
                    <a:pt x="303" y="425"/>
                  </a:lnTo>
                  <a:lnTo>
                    <a:pt x="329" y="547"/>
                  </a:lnTo>
                  <a:lnTo>
                    <a:pt x="347" y="648"/>
                  </a:lnTo>
                  <a:lnTo>
                    <a:pt x="362" y="755"/>
                  </a:lnTo>
                  <a:lnTo>
                    <a:pt x="369" y="864"/>
                  </a:lnTo>
                  <a:lnTo>
                    <a:pt x="376" y="996"/>
                  </a:lnTo>
                  <a:lnTo>
                    <a:pt x="376" y="1167"/>
                  </a:lnTo>
                  <a:lnTo>
                    <a:pt x="363" y="1313"/>
                  </a:lnTo>
                  <a:lnTo>
                    <a:pt x="349" y="1441"/>
                  </a:lnTo>
                  <a:lnTo>
                    <a:pt x="327" y="1579"/>
                  </a:lnTo>
                  <a:lnTo>
                    <a:pt x="303" y="1690"/>
                  </a:lnTo>
                  <a:lnTo>
                    <a:pt x="277" y="1776"/>
                  </a:lnTo>
                  <a:lnTo>
                    <a:pt x="247" y="1850"/>
                  </a:lnTo>
                  <a:lnTo>
                    <a:pt x="226" y="1903"/>
                  </a:lnTo>
                  <a:lnTo>
                    <a:pt x="204" y="1949"/>
                  </a:lnTo>
                  <a:lnTo>
                    <a:pt x="169" y="1994"/>
                  </a:lnTo>
                  <a:lnTo>
                    <a:pt x="146" y="2031"/>
                  </a:lnTo>
                  <a:lnTo>
                    <a:pt x="112" y="2066"/>
                  </a:lnTo>
                  <a:lnTo>
                    <a:pt x="95" y="2082"/>
                  </a:lnTo>
                  <a:lnTo>
                    <a:pt x="71" y="2098"/>
                  </a:lnTo>
                  <a:lnTo>
                    <a:pt x="43" y="2109"/>
                  </a:lnTo>
                  <a:lnTo>
                    <a:pt x="0" y="2118"/>
                  </a:lnTo>
                  <a:lnTo>
                    <a:pt x="410" y="2118"/>
                  </a:lnTo>
                  <a:lnTo>
                    <a:pt x="450" y="2110"/>
                  </a:lnTo>
                  <a:lnTo>
                    <a:pt x="489" y="2086"/>
                  </a:lnTo>
                  <a:lnTo>
                    <a:pt x="522" y="2061"/>
                  </a:lnTo>
                  <a:lnTo>
                    <a:pt x="546" y="2031"/>
                  </a:lnTo>
                  <a:lnTo>
                    <a:pt x="569" y="2003"/>
                  </a:lnTo>
                  <a:lnTo>
                    <a:pt x="591" y="1969"/>
                  </a:lnTo>
                  <a:lnTo>
                    <a:pt x="612" y="1931"/>
                  </a:lnTo>
                  <a:lnTo>
                    <a:pt x="637" y="1880"/>
                  </a:lnTo>
                  <a:lnTo>
                    <a:pt x="659" y="1826"/>
                  </a:lnTo>
                  <a:lnTo>
                    <a:pt x="681" y="1765"/>
                  </a:lnTo>
                  <a:lnTo>
                    <a:pt x="701" y="1696"/>
                  </a:lnTo>
                  <a:lnTo>
                    <a:pt x="721" y="1616"/>
                  </a:lnTo>
                  <a:lnTo>
                    <a:pt x="738" y="1520"/>
                  </a:lnTo>
                  <a:lnTo>
                    <a:pt x="753" y="1410"/>
                  </a:lnTo>
                  <a:lnTo>
                    <a:pt x="767" y="1276"/>
                  </a:lnTo>
                  <a:lnTo>
                    <a:pt x="773" y="1149"/>
                  </a:lnTo>
                  <a:lnTo>
                    <a:pt x="773" y="985"/>
                  </a:lnTo>
                  <a:lnTo>
                    <a:pt x="767" y="851"/>
                  </a:lnTo>
                  <a:lnTo>
                    <a:pt x="760" y="768"/>
                  </a:lnTo>
                  <a:lnTo>
                    <a:pt x="751" y="693"/>
                  </a:lnTo>
                  <a:lnTo>
                    <a:pt x="742" y="625"/>
                  </a:lnTo>
                  <a:lnTo>
                    <a:pt x="731" y="571"/>
                  </a:lnTo>
                  <a:lnTo>
                    <a:pt x="720" y="502"/>
                  </a:lnTo>
                  <a:lnTo>
                    <a:pt x="701" y="425"/>
                  </a:lnTo>
                  <a:lnTo>
                    <a:pt x="685" y="368"/>
                  </a:lnTo>
                  <a:lnTo>
                    <a:pt x="665" y="309"/>
                  </a:lnTo>
                  <a:lnTo>
                    <a:pt x="653" y="278"/>
                  </a:lnTo>
                  <a:lnTo>
                    <a:pt x="638" y="239"/>
                  </a:lnTo>
                  <a:lnTo>
                    <a:pt x="622" y="202"/>
                  </a:lnTo>
                  <a:lnTo>
                    <a:pt x="598" y="158"/>
                  </a:lnTo>
                  <a:lnTo>
                    <a:pt x="581" y="131"/>
                  </a:lnTo>
                  <a:lnTo>
                    <a:pt x="565" y="109"/>
                  </a:lnTo>
                  <a:lnTo>
                    <a:pt x="548" y="85"/>
                  </a:lnTo>
                  <a:lnTo>
                    <a:pt x="527" y="61"/>
                  </a:lnTo>
                  <a:lnTo>
                    <a:pt x="508" y="43"/>
                  </a:lnTo>
                  <a:lnTo>
                    <a:pt x="482" y="23"/>
                  </a:lnTo>
                  <a:lnTo>
                    <a:pt x="455" y="10"/>
                  </a:lnTo>
                  <a:lnTo>
                    <a:pt x="432" y="3"/>
                  </a:lnTo>
                  <a:lnTo>
                    <a:pt x="409" y="0"/>
                  </a:lnTo>
                  <a:lnTo>
                    <a:pt x="383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429240" y="1719360"/>
              <a:ext cx="324360" cy="762120"/>
              <a:chOff x="6429240" y="1719360"/>
              <a:chExt cx="324360" cy="762120"/>
            </a:xfrm>
          </p:grpSpPr>
          <p:sp>
            <p:nvSpPr>
              <p:cNvPr id="302" name=""/>
              <p:cNvSpPr/>
              <p:nvPr/>
            </p:nvSpPr>
            <p:spPr>
              <a:xfrm>
                <a:off x="6429240" y="1719360"/>
                <a:ext cx="317880" cy="394200"/>
              </a:xfrm>
              <a:custGeom>
                <a:avLst/>
                <a:gdLst/>
                <a:ahLst/>
                <a:rect l="0" t="0" r="r" b="b"/>
                <a:pathLst>
                  <a:path w="883" h="1095">
                    <a:moveTo>
                      <a:pt x="518" y="0"/>
                    </a:moveTo>
                    <a:lnTo>
                      <a:pt x="495" y="0"/>
                    </a:lnTo>
                    <a:lnTo>
                      <a:pt x="461" y="4"/>
                    </a:lnTo>
                    <a:lnTo>
                      <a:pt x="421" y="18"/>
                    </a:lnTo>
                    <a:lnTo>
                      <a:pt x="391" y="40"/>
                    </a:lnTo>
                    <a:lnTo>
                      <a:pt x="361" y="68"/>
                    </a:lnTo>
                    <a:lnTo>
                      <a:pt x="337" y="97"/>
                    </a:lnTo>
                    <a:lnTo>
                      <a:pt x="317" y="129"/>
                    </a:lnTo>
                    <a:lnTo>
                      <a:pt x="290" y="174"/>
                    </a:lnTo>
                    <a:lnTo>
                      <a:pt x="265" y="217"/>
                    </a:lnTo>
                    <a:lnTo>
                      <a:pt x="245" y="267"/>
                    </a:lnTo>
                    <a:lnTo>
                      <a:pt x="223" y="329"/>
                    </a:lnTo>
                    <a:lnTo>
                      <a:pt x="199" y="398"/>
                    </a:lnTo>
                    <a:lnTo>
                      <a:pt x="189" y="444"/>
                    </a:lnTo>
                    <a:lnTo>
                      <a:pt x="174" y="497"/>
                    </a:lnTo>
                    <a:lnTo>
                      <a:pt x="166" y="546"/>
                    </a:lnTo>
                    <a:lnTo>
                      <a:pt x="158" y="591"/>
                    </a:lnTo>
                    <a:lnTo>
                      <a:pt x="153" y="625"/>
                    </a:lnTo>
                    <a:lnTo>
                      <a:pt x="148" y="659"/>
                    </a:lnTo>
                    <a:lnTo>
                      <a:pt x="141" y="712"/>
                    </a:lnTo>
                    <a:lnTo>
                      <a:pt x="136" y="769"/>
                    </a:lnTo>
                    <a:lnTo>
                      <a:pt x="129" y="838"/>
                    </a:lnTo>
                    <a:lnTo>
                      <a:pt x="0" y="838"/>
                    </a:lnTo>
                    <a:lnTo>
                      <a:pt x="317" y="1095"/>
                    </a:lnTo>
                    <a:lnTo>
                      <a:pt x="675" y="838"/>
                    </a:lnTo>
                    <a:lnTo>
                      <a:pt x="530" y="838"/>
                    </a:lnTo>
                    <a:lnTo>
                      <a:pt x="535" y="791"/>
                    </a:lnTo>
                    <a:lnTo>
                      <a:pt x="541" y="739"/>
                    </a:lnTo>
                    <a:lnTo>
                      <a:pt x="549" y="682"/>
                    </a:lnTo>
                    <a:lnTo>
                      <a:pt x="556" y="625"/>
                    </a:lnTo>
                    <a:lnTo>
                      <a:pt x="566" y="575"/>
                    </a:lnTo>
                    <a:lnTo>
                      <a:pt x="574" y="530"/>
                    </a:lnTo>
                    <a:lnTo>
                      <a:pt x="591" y="453"/>
                    </a:lnTo>
                    <a:lnTo>
                      <a:pt x="608" y="386"/>
                    </a:lnTo>
                    <a:lnTo>
                      <a:pt x="622" y="338"/>
                    </a:lnTo>
                    <a:lnTo>
                      <a:pt x="634" y="300"/>
                    </a:lnTo>
                    <a:lnTo>
                      <a:pt x="649" y="260"/>
                    </a:lnTo>
                    <a:lnTo>
                      <a:pt x="663" y="231"/>
                    </a:lnTo>
                    <a:lnTo>
                      <a:pt x="678" y="199"/>
                    </a:lnTo>
                    <a:lnTo>
                      <a:pt x="690" y="174"/>
                    </a:lnTo>
                    <a:lnTo>
                      <a:pt x="704" y="151"/>
                    </a:lnTo>
                    <a:lnTo>
                      <a:pt x="717" y="129"/>
                    </a:lnTo>
                    <a:lnTo>
                      <a:pt x="735" y="104"/>
                    </a:lnTo>
                    <a:lnTo>
                      <a:pt x="749" y="86"/>
                    </a:lnTo>
                    <a:lnTo>
                      <a:pt x="767" y="66"/>
                    </a:lnTo>
                    <a:lnTo>
                      <a:pt x="783" y="50"/>
                    </a:lnTo>
                    <a:lnTo>
                      <a:pt x="798" y="38"/>
                    </a:lnTo>
                    <a:lnTo>
                      <a:pt x="816" y="25"/>
                    </a:lnTo>
                    <a:lnTo>
                      <a:pt x="834" y="15"/>
                    </a:lnTo>
                    <a:lnTo>
                      <a:pt x="850" y="9"/>
                    </a:lnTo>
                    <a:lnTo>
                      <a:pt x="864" y="4"/>
                    </a:lnTo>
                    <a:lnTo>
                      <a:pt x="883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72080" y="2097000"/>
                <a:ext cx="281520" cy="384480"/>
              </a:xfrm>
              <a:custGeom>
                <a:avLst/>
                <a:gdLst/>
                <a:ahLst/>
                <a:rect l="0" t="0" r="r" b="b"/>
                <a:pathLst>
                  <a:path w="782" h="1068">
                    <a:moveTo>
                      <a:pt x="405" y="0"/>
                    </a:moveTo>
                    <a:lnTo>
                      <a:pt x="192" y="152"/>
                    </a:lnTo>
                    <a:lnTo>
                      <a:pt x="0" y="9"/>
                    </a:lnTo>
                    <a:lnTo>
                      <a:pt x="0" y="73"/>
                    </a:lnTo>
                    <a:lnTo>
                      <a:pt x="2" y="164"/>
                    </a:lnTo>
                    <a:lnTo>
                      <a:pt x="9" y="244"/>
                    </a:lnTo>
                    <a:lnTo>
                      <a:pt x="17" y="333"/>
                    </a:lnTo>
                    <a:lnTo>
                      <a:pt x="29" y="424"/>
                    </a:lnTo>
                    <a:lnTo>
                      <a:pt x="44" y="513"/>
                    </a:lnTo>
                    <a:lnTo>
                      <a:pt x="56" y="568"/>
                    </a:lnTo>
                    <a:lnTo>
                      <a:pt x="73" y="636"/>
                    </a:lnTo>
                    <a:lnTo>
                      <a:pt x="88" y="697"/>
                    </a:lnTo>
                    <a:lnTo>
                      <a:pt x="105" y="747"/>
                    </a:lnTo>
                    <a:lnTo>
                      <a:pt x="123" y="793"/>
                    </a:lnTo>
                    <a:lnTo>
                      <a:pt x="143" y="845"/>
                    </a:lnTo>
                    <a:lnTo>
                      <a:pt x="163" y="884"/>
                    </a:lnTo>
                    <a:lnTo>
                      <a:pt x="185" y="922"/>
                    </a:lnTo>
                    <a:lnTo>
                      <a:pt x="208" y="956"/>
                    </a:lnTo>
                    <a:lnTo>
                      <a:pt x="226" y="979"/>
                    </a:lnTo>
                    <a:lnTo>
                      <a:pt x="246" y="999"/>
                    </a:lnTo>
                    <a:lnTo>
                      <a:pt x="264" y="1017"/>
                    </a:lnTo>
                    <a:lnTo>
                      <a:pt x="291" y="1038"/>
                    </a:lnTo>
                    <a:lnTo>
                      <a:pt x="313" y="1049"/>
                    </a:lnTo>
                    <a:lnTo>
                      <a:pt x="335" y="1059"/>
                    </a:lnTo>
                    <a:lnTo>
                      <a:pt x="355" y="1065"/>
                    </a:lnTo>
                    <a:lnTo>
                      <a:pt x="375" y="1068"/>
                    </a:lnTo>
                    <a:lnTo>
                      <a:pt x="395" y="1068"/>
                    </a:lnTo>
                    <a:lnTo>
                      <a:pt x="782" y="1068"/>
                    </a:lnTo>
                    <a:lnTo>
                      <a:pt x="755" y="1063"/>
                    </a:lnTo>
                    <a:lnTo>
                      <a:pt x="730" y="1056"/>
                    </a:lnTo>
                    <a:lnTo>
                      <a:pt x="705" y="1045"/>
                    </a:lnTo>
                    <a:lnTo>
                      <a:pt x="680" y="1029"/>
                    </a:lnTo>
                    <a:lnTo>
                      <a:pt x="656" y="1007"/>
                    </a:lnTo>
                    <a:lnTo>
                      <a:pt x="633" y="983"/>
                    </a:lnTo>
                    <a:lnTo>
                      <a:pt x="610" y="954"/>
                    </a:lnTo>
                    <a:lnTo>
                      <a:pt x="584" y="915"/>
                    </a:lnTo>
                    <a:lnTo>
                      <a:pt x="558" y="867"/>
                    </a:lnTo>
                    <a:lnTo>
                      <a:pt x="544" y="837"/>
                    </a:lnTo>
                    <a:lnTo>
                      <a:pt x="527" y="797"/>
                    </a:lnTo>
                    <a:lnTo>
                      <a:pt x="513" y="758"/>
                    </a:lnTo>
                    <a:lnTo>
                      <a:pt x="498" y="713"/>
                    </a:lnTo>
                    <a:lnTo>
                      <a:pt x="488" y="676"/>
                    </a:lnTo>
                    <a:lnTo>
                      <a:pt x="469" y="602"/>
                    </a:lnTo>
                    <a:lnTo>
                      <a:pt x="454" y="539"/>
                    </a:lnTo>
                    <a:lnTo>
                      <a:pt x="441" y="463"/>
                    </a:lnTo>
                    <a:lnTo>
                      <a:pt x="426" y="374"/>
                    </a:lnTo>
                    <a:lnTo>
                      <a:pt x="415" y="285"/>
                    </a:lnTo>
                    <a:lnTo>
                      <a:pt x="410" y="217"/>
                    </a:lnTo>
                    <a:lnTo>
                      <a:pt x="405" y="139"/>
                    </a:lnTo>
                    <a:lnTo>
                      <a:pt x="403" y="52"/>
                    </a:lnTo>
                    <a:lnTo>
                      <a:pt x="405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 flipV="1">
            <a:off x="6276960" y="225252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356000" y="36543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184800" y="1673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79360" y="35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00160" y="3902040"/>
            <a:ext cx="1601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847960" y="209520"/>
            <a:ext cx="3448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090440"/>
            <a:ext cx="71629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design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for an symmetric multiprocesso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sp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, utiliz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, coding to support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V="1">
            <a:off x="2062080" y="350820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76560" y="152100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452920" y="152100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7440" y="4910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333520" y="489600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9800" y="35002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25720" y="3862440"/>
            <a:ext cx="76320" cy="1649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4795920"/>
            <a:ext cx="304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3652920"/>
            <a:ext cx="121932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58760" y="1909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764480" y="1909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38120" y="556272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7440" y="1981080"/>
            <a:ext cx="1600200" cy="2743560"/>
            <a:chOff x="2287440" y="1981080"/>
            <a:chExt cx="1600200" cy="2743560"/>
          </a:xfrm>
        </p:grpSpPr>
        <p:sp>
          <p:nvSpPr>
            <p:cNvPr id="323" name=""/>
            <p:cNvSpPr/>
            <p:nvPr/>
          </p:nvSpPr>
          <p:spPr>
            <a:xfrm>
              <a:off x="228744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744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744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744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744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744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744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8744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8744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34718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7860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405160" y="28926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515960" y="1994040"/>
            <a:ext cx="228600" cy="2743200"/>
            <a:chOff x="1515960" y="1994040"/>
            <a:chExt cx="228600" cy="2743200"/>
          </a:xfrm>
        </p:grpSpPr>
        <p:sp>
          <p:nvSpPr>
            <p:cNvPr id="336" name=""/>
            <p:cNvSpPr/>
            <p:nvPr/>
          </p:nvSpPr>
          <p:spPr>
            <a:xfrm>
              <a:off x="1515960" y="1994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15960" y="2298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15960" y="26035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15960" y="2908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5960" y="3213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15960" y="3517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5960" y="38228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15960" y="4127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15960" y="4432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>
            <a:off x="1481040" y="2257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81040" y="28670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1040" y="1952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11880" y="1981080"/>
            <a:ext cx="1600200" cy="2743560"/>
            <a:chOff x="5411880" y="1981080"/>
            <a:chExt cx="1600200" cy="2743560"/>
          </a:xfrm>
        </p:grpSpPr>
        <p:sp>
          <p:nvSpPr>
            <p:cNvPr id="349" name=""/>
            <p:cNvSpPr/>
            <p:nvPr/>
          </p:nvSpPr>
          <p:spPr>
            <a:xfrm>
              <a:off x="541188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188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188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188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1188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188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188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188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1188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"/>
          <p:cNvSpPr txBox="1"/>
          <p:nvPr/>
        </p:nvSpPr>
        <p:spPr>
          <a:xfrm>
            <a:off x="5452920" y="34894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452920" y="2879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452920" y="44038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469280" y="1981080"/>
            <a:ext cx="228600" cy="2743560"/>
            <a:chOff x="7469280" y="1981080"/>
            <a:chExt cx="228600" cy="2743560"/>
          </a:xfrm>
        </p:grpSpPr>
        <p:sp>
          <p:nvSpPr>
            <p:cNvPr id="362" name=""/>
            <p:cNvSpPr/>
            <p:nvPr/>
          </p:nvSpPr>
          <p:spPr>
            <a:xfrm>
              <a:off x="7469280" y="1981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69280" y="2286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69280" y="2590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69280" y="2895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69280" y="3200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9280" y="3505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69280" y="3809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69280" y="41148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9280" y="44197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7434360" y="2892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434360" y="44164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434360" y="35020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166920" y="19782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176560" y="13730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445000" y="13730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25680" y="1790640"/>
            <a:ext cx="228600" cy="2743560"/>
            <a:chOff x="1525680" y="1790640"/>
            <a:chExt cx="228600" cy="2743560"/>
          </a:xfrm>
        </p:grpSpPr>
        <p:sp>
          <p:nvSpPr>
            <p:cNvPr id="378" name=""/>
            <p:cNvSpPr/>
            <p:nvPr/>
          </p:nvSpPr>
          <p:spPr>
            <a:xfrm>
              <a:off x="152568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568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568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568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568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568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568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2568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568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211480" y="47624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257560" y="4748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90760" y="20588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90760" y="3306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33480" y="236232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986120" y="1790640"/>
            <a:ext cx="1825560" cy="2743560"/>
            <a:chOff x="1986120" y="1790640"/>
            <a:chExt cx="1825560" cy="2743560"/>
          </a:xfrm>
        </p:grpSpPr>
        <p:sp>
          <p:nvSpPr>
            <p:cNvPr id="393" name=""/>
            <p:cNvSpPr/>
            <p:nvPr/>
          </p:nvSpPr>
          <p:spPr>
            <a:xfrm>
              <a:off x="22114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114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114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114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14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114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114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114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114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986120" y="2370240"/>
              <a:ext cx="0" cy="304560"/>
            </a:xfrm>
            <a:prstGeom prst="line">
              <a:avLst/>
            </a:prstGeom>
            <a:ln w="76320">
              <a:solidFill>
                <a:srgbClr val="b760f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62520" y="3505320"/>
            <a:ext cx="121896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90760" y="26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58760" y="17622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756560" y="17622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338120" y="528156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49400" y="2712960"/>
            <a:ext cx="79200" cy="2554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457200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392960" y="1790640"/>
            <a:ext cx="228600" cy="2743560"/>
            <a:chOff x="7392960" y="1790640"/>
            <a:chExt cx="228600" cy="2743560"/>
          </a:xfrm>
        </p:grpSpPr>
        <p:sp>
          <p:nvSpPr>
            <p:cNvPr id="412" name=""/>
            <p:cNvSpPr/>
            <p:nvPr/>
          </p:nvSpPr>
          <p:spPr>
            <a:xfrm>
              <a:off x="739296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9296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296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9296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296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9296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9296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9296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9296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 txBox="1"/>
          <p:nvPr/>
        </p:nvSpPr>
        <p:spPr>
          <a:xfrm>
            <a:off x="3462480" y="26510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776680" y="2041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3623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12408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411880" y="1790640"/>
            <a:ext cx="1600200" cy="2743560"/>
            <a:chOff x="5411880" y="1790640"/>
            <a:chExt cx="1600200" cy="2743560"/>
          </a:xfrm>
        </p:grpSpPr>
        <p:sp>
          <p:nvSpPr>
            <p:cNvPr id="426" name=""/>
            <p:cNvSpPr/>
            <p:nvPr/>
          </p:nvSpPr>
          <p:spPr>
            <a:xfrm>
              <a:off x="54118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18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118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118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18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118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118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18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118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5521320" y="3278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521320" y="3887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521320" y="41925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3501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350120" y="38876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350120" y="41925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871640" y="16016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757840" y="16016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06560" y="4991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952640" y="49766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83320" y="2332080"/>
            <a:ext cx="79200" cy="255420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20040" y="495288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62720" y="2317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62720" y="4765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88160" y="532908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34240" y="5315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54200" y="1990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069400" y="1990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624120" y="2309760"/>
            <a:ext cx="192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FindNext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20760" y="2019240"/>
            <a:ext cx="228600" cy="2743560"/>
            <a:chOff x="1220760" y="2019240"/>
            <a:chExt cx="228600" cy="2743560"/>
          </a:xfrm>
        </p:grpSpPr>
        <p:sp>
          <p:nvSpPr>
            <p:cNvPr id="456" name=""/>
            <p:cNvSpPr/>
            <p:nvPr/>
          </p:nvSpPr>
          <p:spPr>
            <a:xfrm>
              <a:off x="122076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2076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2076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2076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2076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2076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2076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2076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2076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"/>
          <p:cNvSpPr txBox="1"/>
          <p:nvPr/>
        </p:nvSpPr>
        <p:spPr>
          <a:xfrm>
            <a:off x="118584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85840" y="28972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18584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18584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906560" y="2019240"/>
            <a:ext cx="1600200" cy="2743560"/>
            <a:chOff x="1906560" y="2019240"/>
            <a:chExt cx="1600200" cy="2743560"/>
          </a:xfrm>
        </p:grpSpPr>
        <p:sp>
          <p:nvSpPr>
            <p:cNvPr id="470" name=""/>
            <p:cNvSpPr/>
            <p:nvPr/>
          </p:nvSpPr>
          <p:spPr>
            <a:xfrm>
              <a:off x="190656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0656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656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656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0656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0656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0656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0656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0656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 txBox="1"/>
          <p:nvPr/>
        </p:nvSpPr>
        <p:spPr>
          <a:xfrm>
            <a:off x="31669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4811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100240" y="2897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86236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4811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640480" y="2019240"/>
            <a:ext cx="1600200" cy="2743560"/>
            <a:chOff x="5640480" y="2019240"/>
            <a:chExt cx="1600200" cy="2743560"/>
          </a:xfrm>
        </p:grpSpPr>
        <p:sp>
          <p:nvSpPr>
            <p:cNvPr id="485" name=""/>
            <p:cNvSpPr/>
            <p:nvPr/>
          </p:nvSpPr>
          <p:spPr>
            <a:xfrm>
              <a:off x="564048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4048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048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4048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4048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4048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4048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4048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4048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 txBox="1"/>
          <p:nvPr/>
        </p:nvSpPr>
        <p:spPr>
          <a:xfrm>
            <a:off x="5757840" y="38116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757840" y="4421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773840" y="2019240"/>
            <a:ext cx="228600" cy="2743560"/>
            <a:chOff x="7773840" y="2019240"/>
            <a:chExt cx="228600" cy="2743560"/>
          </a:xfrm>
        </p:grpSpPr>
        <p:sp>
          <p:nvSpPr>
            <p:cNvPr id="497" name=""/>
            <p:cNvSpPr/>
            <p:nvPr/>
          </p:nvSpPr>
          <p:spPr>
            <a:xfrm>
              <a:off x="777384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7384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7384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7384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384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7384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7384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7384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7384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"/>
          <p:cNvSpPr txBox="1"/>
          <p:nvPr/>
        </p:nvSpPr>
        <p:spPr>
          <a:xfrm>
            <a:off x="77389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738920" y="44211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2286000" y="126684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286000" y="2286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00120" y="1467000"/>
            <a:ext cx="79437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 model includes supporting multiprocessor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conforming to the device driver model are portable and MP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writers must take extra steps to ensure their drivers are multiprocessor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execute on any pro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, DPC, ISR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7600" y="1276200"/>
            <a:ext cx="70484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iority level at which the processor is 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ISRs run at a priority level corresponding to the priority of th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 runs at the lowest IRQ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 can occur at IRQLs below DPC (or dispatch)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65160" y="628344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471680" y="1409760"/>
            <a:ext cx="620064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via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nitializ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with IS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SynchronizeExection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90720" y="1581120"/>
            <a:ext cx="71629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d DPC-level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At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From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aiseIrql(...) / KeLowerIrq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expedit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81200" y="1249200"/>
            <a:ext cx="75819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mon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895320" y="1333440"/>
            <a:ext cx="73533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Spin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interlocked, SpinLock is not mixed with other SpinLock functions - interlock functions synchronize from any IRQ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mixed for synchronization, only use at 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M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7080" y="1562040"/>
            <a:ext cx="7629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built into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kernels UP and MP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-enabled kernel included standard with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ice drivers are MP 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16 symmetric processor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hardware features supported outside the kernel (H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23920" y="1219320"/>
            <a:ext cx="68961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AddU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Increment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DecrementLong(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352600" y="228600"/>
            <a:ext cx="4438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14240" y="1333440"/>
            <a:ext cx="771516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LONG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ment and decrement are 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ed result is tri-state E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mixable with InterlockedAdd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uaranteed to be synchronized with other SpinLock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 for shared-reference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non-zero-based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higher level lo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2400480" y="22860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08120" y="1592280"/>
            <a:ext cx="76770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ample of negative one (-1) based shared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Incre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Zero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our first connectio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op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Decr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Negativ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last connection was just dropped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1886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AL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933480" y="1428840"/>
            <a:ext cx="72770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s Windows NT from specific hardwar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hrink-wrapped OS on wide range of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uniform model for devic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driver on systems with different I/O 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system-specific optim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1704960" y="228600"/>
            <a:ext cx="573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57320" y="1733400"/>
            <a:ext cx="702936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-specific I/O   system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s (or multiple system b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1600200" y="228600"/>
            <a:ext cx="594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228680" y="1581120"/>
            <a:ext cx="66866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ti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cache cohe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flu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ystems without DMA coh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symmetric multiprocesso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504800" y="1467000"/>
            <a:ext cx="613404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TranslateBusAddres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any bus address to a system usable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InterruptVecto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s bus interrupt to a system v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BusData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3080" y="1257480"/>
            <a:ext cx="8415360" cy="53053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25480" y="1434960"/>
            <a:ext cx="73915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Space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space or 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HalTranslateBusAddress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RelativeAddr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AddressSpac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emory, I/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TranslatedAddress 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!AddressSpac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Required =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 = MmMapIoSpace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Cache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08120" y="1592280"/>
            <a:ext cx="71262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PORT_ULONG (TranslatedAddre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PORT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variations are read/write: uchar, ushort, ulong, buffer_ucha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buffer_ushort, buffer_ulo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REGISTER_ULONG (TranslatedAddres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REGISTER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46160" y="1054080"/>
            <a:ext cx="6253560" cy="5048640"/>
            <a:chOff x="1046160" y="1054080"/>
            <a:chExt cx="6253560" cy="5048640"/>
          </a:xfrm>
        </p:grpSpPr>
        <p:sp>
          <p:nvSpPr>
            <p:cNvPr id="46" name=""/>
            <p:cNvSpPr txBox="1"/>
            <p:nvPr/>
          </p:nvSpPr>
          <p:spPr>
            <a:xfrm>
              <a:off x="1046160" y="1898640"/>
              <a:ext cx="150480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oft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047600" y="5027760"/>
              <a:ext cx="170352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ard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6544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66880" y="5270400"/>
              <a:ext cx="1111680" cy="213120"/>
            </a:xfrm>
            <a:custGeom>
              <a:avLst/>
              <a:gdLst/>
              <a:ahLst/>
              <a:rect l="0" t="0" r="r" b="b"/>
              <a:pathLst>
                <a:path w="3088" h="592">
                  <a:moveTo>
                    <a:pt x="3076" y="0"/>
                  </a:moveTo>
                  <a:lnTo>
                    <a:pt x="649" y="0"/>
                  </a:lnTo>
                  <a:lnTo>
                    <a:pt x="649" y="16"/>
                  </a:lnTo>
                  <a:lnTo>
                    <a:pt x="0" y="580"/>
                  </a:lnTo>
                  <a:lnTo>
                    <a:pt x="12" y="584"/>
                  </a:lnTo>
                  <a:lnTo>
                    <a:pt x="2422" y="584"/>
                  </a:lnTo>
                  <a:lnTo>
                    <a:pt x="2435" y="592"/>
                  </a:lnTo>
                  <a:lnTo>
                    <a:pt x="3088" y="16"/>
                  </a:lnTo>
                  <a:lnTo>
                    <a:pt x="3076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29360" y="5472000"/>
              <a:ext cx="59040" cy="628920"/>
            </a:xfrm>
            <a:custGeom>
              <a:avLst/>
              <a:gdLst/>
              <a:ahLst/>
              <a:rect l="0" t="0" r="r" b="b"/>
              <a:pathLst>
                <a:path w="164" h="1747">
                  <a:moveTo>
                    <a:pt x="0" y="146"/>
                  </a:moveTo>
                  <a:lnTo>
                    <a:pt x="164" y="0"/>
                  </a:lnTo>
                  <a:lnTo>
                    <a:pt x="164" y="4"/>
                  </a:lnTo>
                  <a:lnTo>
                    <a:pt x="164" y="1604"/>
                  </a:lnTo>
                  <a:lnTo>
                    <a:pt x="4" y="1747"/>
                  </a:lnTo>
                  <a:lnTo>
                    <a:pt x="0" y="1743"/>
                  </a:lnTo>
                  <a:lnTo>
                    <a:pt x="0" y="14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59040" y="1684440"/>
              <a:ext cx="4416480" cy="333684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1600" y="1120680"/>
              <a:ext cx="4421160" cy="50976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53120" y="3882960"/>
              <a:ext cx="246600" cy="1246680"/>
            </a:xfrm>
            <a:custGeom>
              <a:avLst/>
              <a:gdLst/>
              <a:ahLst/>
              <a:rect l="0" t="0" r="r" b="b"/>
              <a:pathLst>
                <a:path w="685" h="3463">
                  <a:moveTo>
                    <a:pt x="681" y="2881"/>
                  </a:moveTo>
                  <a:lnTo>
                    <a:pt x="16" y="3459"/>
                  </a:lnTo>
                  <a:lnTo>
                    <a:pt x="4" y="3463"/>
                  </a:lnTo>
                  <a:lnTo>
                    <a:pt x="4" y="594"/>
                  </a:lnTo>
                  <a:lnTo>
                    <a:pt x="0" y="594"/>
                  </a:lnTo>
                  <a:lnTo>
                    <a:pt x="685" y="0"/>
                  </a:lnTo>
                  <a:lnTo>
                    <a:pt x="685" y="2869"/>
                  </a:lnTo>
                  <a:lnTo>
                    <a:pt x="681" y="2881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21480" y="3979800"/>
              <a:ext cx="1467360" cy="117720"/>
            </a:xfrm>
            <a:custGeom>
              <a:avLst/>
              <a:gdLst/>
              <a:ahLst/>
              <a:rect l="0" t="0" r="r" b="b"/>
              <a:pathLst>
                <a:path w="4076" h="327">
                  <a:moveTo>
                    <a:pt x="4064" y="0"/>
                  </a:moveTo>
                  <a:lnTo>
                    <a:pt x="373" y="0"/>
                  </a:lnTo>
                  <a:lnTo>
                    <a:pt x="0" y="323"/>
                  </a:lnTo>
                  <a:lnTo>
                    <a:pt x="3703" y="323"/>
                  </a:lnTo>
                  <a:lnTo>
                    <a:pt x="3707" y="327"/>
                  </a:lnTo>
                  <a:lnTo>
                    <a:pt x="4076" y="8"/>
                  </a:lnTo>
                  <a:lnTo>
                    <a:pt x="4064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75080" y="4802040"/>
              <a:ext cx="2691000" cy="127440"/>
            </a:xfrm>
            <a:custGeom>
              <a:avLst/>
              <a:gdLst/>
              <a:ahLst/>
              <a:rect l="0" t="0" r="r" b="b"/>
              <a:pathLst>
                <a:path w="7475" h="354">
                  <a:moveTo>
                    <a:pt x="196" y="189"/>
                  </a:moveTo>
                  <a:lnTo>
                    <a:pt x="1453" y="189"/>
                  </a:lnTo>
                  <a:lnTo>
                    <a:pt x="1466" y="189"/>
                  </a:lnTo>
                  <a:lnTo>
                    <a:pt x="1646" y="16"/>
                  </a:lnTo>
                  <a:lnTo>
                    <a:pt x="1654" y="0"/>
                  </a:lnTo>
                  <a:lnTo>
                    <a:pt x="6235" y="0"/>
                  </a:lnTo>
                  <a:lnTo>
                    <a:pt x="6235" y="8"/>
                  </a:lnTo>
                  <a:lnTo>
                    <a:pt x="6235" y="202"/>
                  </a:lnTo>
                  <a:lnTo>
                    <a:pt x="6239" y="202"/>
                  </a:lnTo>
                  <a:lnTo>
                    <a:pt x="7475" y="202"/>
                  </a:lnTo>
                  <a:lnTo>
                    <a:pt x="7299" y="354"/>
                  </a:lnTo>
                  <a:lnTo>
                    <a:pt x="8" y="354"/>
                  </a:lnTo>
                  <a:lnTo>
                    <a:pt x="0" y="354"/>
                  </a:lnTo>
                  <a:lnTo>
                    <a:pt x="180" y="202"/>
                  </a:lnTo>
                  <a:lnTo>
                    <a:pt x="196" y="189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70400" y="4927680"/>
              <a:ext cx="2627280" cy="2570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b200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94160" y="5526000"/>
              <a:ext cx="876600" cy="576720"/>
            </a:xfrm>
            <a:custGeom>
              <a:avLst/>
              <a:gdLst/>
              <a:ahLst/>
              <a:rect l="0" t="0" r="r" b="b"/>
              <a:pathLst>
                <a:path w="2435" h="1602">
                  <a:moveTo>
                    <a:pt x="0" y="0"/>
                  </a:moveTo>
                  <a:lnTo>
                    <a:pt x="0" y="1602"/>
                  </a:lnTo>
                  <a:lnTo>
                    <a:pt x="2435" y="1602"/>
                  </a:lnTo>
                  <a:lnTo>
                    <a:pt x="243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49880" y="5526000"/>
              <a:ext cx="879840" cy="576720"/>
            </a:xfrm>
            <a:custGeom>
              <a:avLst/>
              <a:gdLst/>
              <a:ahLst/>
              <a:rect l="0" t="0" r="r" b="b"/>
              <a:pathLst>
                <a:path w="2444" h="1602">
                  <a:moveTo>
                    <a:pt x="0" y="0"/>
                  </a:moveTo>
                  <a:lnTo>
                    <a:pt x="0" y="1602"/>
                  </a:lnTo>
                  <a:lnTo>
                    <a:pt x="2444" y="1602"/>
                  </a:lnTo>
                  <a:lnTo>
                    <a:pt x="244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67160" y="5522760"/>
              <a:ext cx="876240" cy="57312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8660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64280" y="5275440"/>
              <a:ext cx="233640" cy="779760"/>
            </a:xfrm>
            <a:custGeom>
              <a:avLst/>
              <a:gdLst/>
              <a:ahLst/>
              <a:rect l="0" t="0" r="r" b="b"/>
              <a:pathLst>
                <a:path w="649" h="2166">
                  <a:moveTo>
                    <a:pt x="8" y="2166"/>
                  </a:moveTo>
                  <a:lnTo>
                    <a:pt x="649" y="1608"/>
                  </a:lnTo>
                  <a:lnTo>
                    <a:pt x="649" y="1595"/>
                  </a:lnTo>
                  <a:lnTo>
                    <a:pt x="649" y="0"/>
                  </a:lnTo>
                  <a:lnTo>
                    <a:pt x="640" y="4"/>
                  </a:lnTo>
                  <a:lnTo>
                    <a:pt x="0" y="562"/>
                  </a:lnTo>
                  <a:lnTo>
                    <a:pt x="0" y="2153"/>
                  </a:lnTo>
                  <a:lnTo>
                    <a:pt x="8" y="216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6280" y="1065240"/>
              <a:ext cx="4482000" cy="60840"/>
            </a:xfrm>
            <a:custGeom>
              <a:avLst/>
              <a:gdLst/>
              <a:ahLst/>
              <a:rect l="0" t="0" r="r" b="b"/>
              <a:pathLst>
                <a:path w="12450" h="169">
                  <a:moveTo>
                    <a:pt x="12450" y="0"/>
                  </a:moveTo>
                  <a:lnTo>
                    <a:pt x="188" y="0"/>
                  </a:lnTo>
                  <a:lnTo>
                    <a:pt x="175" y="4"/>
                  </a:lnTo>
                  <a:lnTo>
                    <a:pt x="0" y="165"/>
                  </a:lnTo>
                  <a:lnTo>
                    <a:pt x="12266" y="165"/>
                  </a:lnTo>
                  <a:lnTo>
                    <a:pt x="12278" y="169"/>
                  </a:lnTo>
                  <a:lnTo>
                    <a:pt x="12450" y="16"/>
                  </a:lnTo>
                  <a:lnTo>
                    <a:pt x="12450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7440" y="1071720"/>
              <a:ext cx="60840" cy="565560"/>
            </a:xfrm>
            <a:custGeom>
              <a:avLst/>
              <a:gdLst/>
              <a:ahLst/>
              <a:rect l="0" t="0" r="r" b="b"/>
              <a:pathLst>
                <a:path w="169" h="1571">
                  <a:moveTo>
                    <a:pt x="0" y="1563"/>
                  </a:moveTo>
                  <a:lnTo>
                    <a:pt x="0" y="159"/>
                  </a:lnTo>
                  <a:lnTo>
                    <a:pt x="0" y="150"/>
                  </a:lnTo>
                  <a:lnTo>
                    <a:pt x="169" y="4"/>
                  </a:lnTo>
                  <a:lnTo>
                    <a:pt x="169" y="0"/>
                  </a:lnTo>
                  <a:lnTo>
                    <a:pt x="169" y="1416"/>
                  </a:lnTo>
                  <a:lnTo>
                    <a:pt x="169" y="1425"/>
                  </a:lnTo>
                  <a:lnTo>
                    <a:pt x="0" y="1571"/>
                  </a:lnTo>
                  <a:lnTo>
                    <a:pt x="0" y="1563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62280" y="1635120"/>
              <a:ext cx="4476960" cy="52920"/>
            </a:xfrm>
            <a:custGeom>
              <a:avLst/>
              <a:gdLst/>
              <a:ahLst/>
              <a:rect l="0" t="0" r="r" b="b"/>
              <a:pathLst>
                <a:path w="12436" h="147">
                  <a:moveTo>
                    <a:pt x="12436" y="4"/>
                  </a:moveTo>
                  <a:lnTo>
                    <a:pt x="12277" y="147"/>
                  </a:lnTo>
                  <a:lnTo>
                    <a:pt x="12268" y="147"/>
                  </a:lnTo>
                  <a:lnTo>
                    <a:pt x="4" y="147"/>
                  </a:lnTo>
                  <a:lnTo>
                    <a:pt x="0" y="147"/>
                  </a:lnTo>
                  <a:lnTo>
                    <a:pt x="159" y="8"/>
                  </a:lnTo>
                  <a:lnTo>
                    <a:pt x="167" y="0"/>
                  </a:lnTo>
                  <a:lnTo>
                    <a:pt x="12428" y="0"/>
                  </a:lnTo>
                  <a:lnTo>
                    <a:pt x="12436" y="4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80200" y="1584360"/>
              <a:ext cx="119520" cy="2400840"/>
            </a:xfrm>
            <a:custGeom>
              <a:avLst/>
              <a:gdLst/>
              <a:ahLst/>
              <a:rect l="0" t="0" r="r" b="b"/>
              <a:pathLst>
                <a:path w="332" h="6669">
                  <a:moveTo>
                    <a:pt x="0" y="288"/>
                  </a:moveTo>
                  <a:lnTo>
                    <a:pt x="328" y="0"/>
                  </a:lnTo>
                  <a:lnTo>
                    <a:pt x="328" y="6384"/>
                  </a:lnTo>
                  <a:lnTo>
                    <a:pt x="332" y="6384"/>
                  </a:lnTo>
                  <a:lnTo>
                    <a:pt x="4" y="6669"/>
                  </a:lnTo>
                  <a:lnTo>
                    <a:pt x="0" y="6669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86600" y="5272200"/>
              <a:ext cx="1109880" cy="206640"/>
            </a:xfrm>
            <a:custGeom>
              <a:avLst/>
              <a:gdLst/>
              <a:ahLst/>
              <a:rect l="0" t="0" r="r" b="b"/>
              <a:pathLst>
                <a:path w="3083" h="574">
                  <a:moveTo>
                    <a:pt x="636" y="16"/>
                  </a:moveTo>
                  <a:lnTo>
                    <a:pt x="12" y="557"/>
                  </a:lnTo>
                  <a:lnTo>
                    <a:pt x="0" y="570"/>
                  </a:lnTo>
                  <a:lnTo>
                    <a:pt x="2425" y="570"/>
                  </a:lnTo>
                  <a:lnTo>
                    <a:pt x="2434" y="574"/>
                  </a:lnTo>
                  <a:lnTo>
                    <a:pt x="3083" y="4"/>
                  </a:lnTo>
                  <a:lnTo>
                    <a:pt x="3083" y="0"/>
                  </a:lnTo>
                  <a:lnTo>
                    <a:pt x="661" y="0"/>
                  </a:lnTo>
                  <a:lnTo>
                    <a:pt x="636" y="1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05040" y="2921040"/>
              <a:ext cx="3543480" cy="52920"/>
            </a:xfrm>
            <a:custGeom>
              <a:avLst/>
              <a:gdLst/>
              <a:ahLst/>
              <a:rect l="0" t="0" r="r" b="b"/>
              <a:pathLst>
                <a:path w="9843" h="147">
                  <a:moveTo>
                    <a:pt x="9843" y="0"/>
                  </a:moveTo>
                  <a:lnTo>
                    <a:pt x="163" y="0"/>
                  </a:lnTo>
                  <a:lnTo>
                    <a:pt x="163" y="4"/>
                  </a:lnTo>
                  <a:lnTo>
                    <a:pt x="0" y="147"/>
                  </a:lnTo>
                  <a:lnTo>
                    <a:pt x="4" y="147"/>
                  </a:lnTo>
                  <a:lnTo>
                    <a:pt x="9667" y="147"/>
                  </a:lnTo>
                  <a:lnTo>
                    <a:pt x="9675" y="147"/>
                  </a:lnTo>
                  <a:lnTo>
                    <a:pt x="9835" y="4"/>
                  </a:lnTo>
                  <a:lnTo>
                    <a:pt x="9843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84800" y="2922480"/>
              <a:ext cx="70200" cy="1117800"/>
            </a:xfrm>
            <a:custGeom>
              <a:avLst/>
              <a:gdLst/>
              <a:ahLst/>
              <a:rect l="0" t="0" r="r" b="b"/>
              <a:pathLst>
                <a:path w="195" h="3105">
                  <a:moveTo>
                    <a:pt x="4" y="3105"/>
                  </a:moveTo>
                  <a:lnTo>
                    <a:pt x="190" y="2937"/>
                  </a:lnTo>
                  <a:lnTo>
                    <a:pt x="195" y="2929"/>
                  </a:lnTo>
                  <a:lnTo>
                    <a:pt x="195" y="0"/>
                  </a:lnTo>
                  <a:lnTo>
                    <a:pt x="173" y="0"/>
                  </a:lnTo>
                  <a:lnTo>
                    <a:pt x="8" y="138"/>
                  </a:lnTo>
                  <a:lnTo>
                    <a:pt x="0" y="155"/>
                  </a:lnTo>
                  <a:lnTo>
                    <a:pt x="0" y="3080"/>
                  </a:lnTo>
                  <a:lnTo>
                    <a:pt x="4" y="3105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41680" y="4037040"/>
              <a:ext cx="1425960" cy="63720"/>
            </a:xfrm>
            <a:custGeom>
              <a:avLst/>
              <a:gdLst/>
              <a:ahLst/>
              <a:rect l="0" t="0" r="r" b="b"/>
              <a:pathLst>
                <a:path w="3961" h="177">
                  <a:moveTo>
                    <a:pt x="3945" y="8"/>
                  </a:moveTo>
                  <a:lnTo>
                    <a:pt x="200" y="8"/>
                  </a:lnTo>
                  <a:lnTo>
                    <a:pt x="188" y="0"/>
                  </a:lnTo>
                  <a:lnTo>
                    <a:pt x="0" y="168"/>
                  </a:lnTo>
                  <a:lnTo>
                    <a:pt x="12" y="177"/>
                  </a:lnTo>
                  <a:lnTo>
                    <a:pt x="3781" y="177"/>
                  </a:lnTo>
                  <a:lnTo>
                    <a:pt x="3961" y="12"/>
                  </a:lnTo>
                  <a:lnTo>
                    <a:pt x="3945" y="8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87680" y="5273640"/>
              <a:ext cx="2932560" cy="252720"/>
            </a:xfrm>
            <a:custGeom>
              <a:avLst/>
              <a:gdLst/>
              <a:ahLst/>
              <a:rect l="0" t="0" r="r" b="b"/>
              <a:pathLst>
                <a:path w="8146" h="702">
                  <a:moveTo>
                    <a:pt x="0" y="697"/>
                  </a:moveTo>
                  <a:lnTo>
                    <a:pt x="795" y="12"/>
                  </a:lnTo>
                  <a:lnTo>
                    <a:pt x="816" y="0"/>
                  </a:lnTo>
                  <a:lnTo>
                    <a:pt x="8146" y="0"/>
                  </a:lnTo>
                  <a:lnTo>
                    <a:pt x="8138" y="12"/>
                  </a:lnTo>
                  <a:lnTo>
                    <a:pt x="7338" y="702"/>
                  </a:lnTo>
                  <a:lnTo>
                    <a:pt x="7330" y="702"/>
                  </a:lnTo>
                  <a:lnTo>
                    <a:pt x="16" y="702"/>
                  </a:lnTo>
                  <a:lnTo>
                    <a:pt x="16" y="697"/>
                  </a:lnTo>
                  <a:lnTo>
                    <a:pt x="7326" y="697"/>
                  </a:lnTo>
                  <a:lnTo>
                    <a:pt x="0" y="697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370400" y="5273640"/>
              <a:ext cx="29520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249880" y="5273640"/>
              <a:ext cx="29376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21480" y="4097160"/>
              <a:ext cx="1335600" cy="1038600"/>
            </a:xfrm>
            <a:custGeom>
              <a:avLst/>
              <a:gdLst/>
              <a:ahLst/>
              <a:rect l="0" t="0" r="r" b="b"/>
              <a:pathLst>
                <a:path w="3710" h="2885">
                  <a:moveTo>
                    <a:pt x="3706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0" y="2160"/>
                  </a:lnTo>
                  <a:lnTo>
                    <a:pt x="1239" y="2160"/>
                  </a:lnTo>
                  <a:lnTo>
                    <a:pt x="1239" y="2885"/>
                  </a:lnTo>
                  <a:lnTo>
                    <a:pt x="1244" y="2885"/>
                  </a:lnTo>
                  <a:lnTo>
                    <a:pt x="3706" y="2885"/>
                  </a:lnTo>
                  <a:lnTo>
                    <a:pt x="3710" y="2885"/>
                  </a:lnTo>
                  <a:lnTo>
                    <a:pt x="3710" y="4"/>
                  </a:lnTo>
                  <a:lnTo>
                    <a:pt x="370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02360" y="4875120"/>
              <a:ext cx="66960" cy="316440"/>
            </a:xfrm>
            <a:custGeom>
              <a:avLst/>
              <a:gdLst/>
              <a:ahLst/>
              <a:rect l="0" t="0" r="r" b="b"/>
              <a:pathLst>
                <a:path w="186" h="879">
                  <a:moveTo>
                    <a:pt x="186" y="0"/>
                  </a:moveTo>
                  <a:lnTo>
                    <a:pt x="4" y="154"/>
                  </a:lnTo>
                  <a:lnTo>
                    <a:pt x="0" y="162"/>
                  </a:lnTo>
                  <a:lnTo>
                    <a:pt x="0" y="875"/>
                  </a:lnTo>
                  <a:lnTo>
                    <a:pt x="0" y="879"/>
                  </a:lnTo>
                  <a:lnTo>
                    <a:pt x="181" y="724"/>
                  </a:lnTo>
                  <a:lnTo>
                    <a:pt x="181" y="720"/>
                  </a:lnTo>
                  <a:lnTo>
                    <a:pt x="181" y="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6840" y="2979720"/>
              <a:ext cx="3476880" cy="1822680"/>
            </a:xfrm>
            <a:custGeom>
              <a:avLst/>
              <a:gdLst/>
              <a:ahLst/>
              <a:rect l="0" t="0" r="r" b="b"/>
              <a:pathLst>
                <a:path w="9658" h="5063">
                  <a:moveTo>
                    <a:pt x="0" y="0"/>
                  </a:moveTo>
                  <a:lnTo>
                    <a:pt x="9658" y="0"/>
                  </a:lnTo>
                  <a:lnTo>
                    <a:pt x="9658" y="8"/>
                  </a:lnTo>
                  <a:lnTo>
                    <a:pt x="9658" y="2932"/>
                  </a:lnTo>
                  <a:lnTo>
                    <a:pt x="9658" y="2936"/>
                  </a:lnTo>
                  <a:lnTo>
                    <a:pt x="8552" y="2936"/>
                  </a:lnTo>
                  <a:lnTo>
                    <a:pt x="8544" y="2940"/>
                  </a:lnTo>
                  <a:lnTo>
                    <a:pt x="8372" y="3091"/>
                  </a:lnTo>
                  <a:lnTo>
                    <a:pt x="8368" y="3099"/>
                  </a:lnTo>
                  <a:lnTo>
                    <a:pt x="8368" y="5063"/>
                  </a:lnTo>
                  <a:lnTo>
                    <a:pt x="8368" y="5059"/>
                  </a:lnTo>
                  <a:lnTo>
                    <a:pt x="3781" y="5059"/>
                  </a:lnTo>
                  <a:lnTo>
                    <a:pt x="3781" y="5063"/>
                  </a:lnTo>
                  <a:lnTo>
                    <a:pt x="3781" y="2936"/>
                  </a:lnTo>
                  <a:lnTo>
                    <a:pt x="0" y="2936"/>
                  </a:lnTo>
                  <a:lnTo>
                    <a:pt x="0" y="293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05040" y="2976480"/>
              <a:ext cx="0" cy="1060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1320" y="4035600"/>
              <a:ext cx="39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8880" y="4041720"/>
              <a:ext cx="73440" cy="827280"/>
            </a:xfrm>
            <a:custGeom>
              <a:avLst/>
              <a:gdLst/>
              <a:ahLst/>
              <a:rect l="0" t="0" r="r" b="b"/>
              <a:pathLst>
                <a:path w="204" h="2298">
                  <a:moveTo>
                    <a:pt x="4" y="176"/>
                  </a:moveTo>
                  <a:lnTo>
                    <a:pt x="200" y="0"/>
                  </a:lnTo>
                  <a:lnTo>
                    <a:pt x="200" y="8"/>
                  </a:lnTo>
                  <a:lnTo>
                    <a:pt x="200" y="2130"/>
                  </a:lnTo>
                  <a:lnTo>
                    <a:pt x="204" y="2130"/>
                  </a:lnTo>
                  <a:lnTo>
                    <a:pt x="12" y="2298"/>
                  </a:lnTo>
                  <a:lnTo>
                    <a:pt x="0" y="2298"/>
                  </a:lnTo>
                  <a:lnTo>
                    <a:pt x="0" y="201"/>
                  </a:lnTo>
                  <a:lnTo>
                    <a:pt x="4" y="17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8440" y="4097160"/>
              <a:ext cx="1364040" cy="1033920"/>
            </a:xfrm>
            <a:custGeom>
              <a:avLst/>
              <a:gdLst/>
              <a:ahLst/>
              <a:rect l="0" t="0" r="r" b="b"/>
              <a:pathLst>
                <a:path w="3789" h="2872">
                  <a:moveTo>
                    <a:pt x="2502" y="2146"/>
                  </a:moveTo>
                  <a:lnTo>
                    <a:pt x="3773" y="2146"/>
                  </a:lnTo>
                  <a:lnTo>
                    <a:pt x="3785" y="2146"/>
                  </a:lnTo>
                  <a:lnTo>
                    <a:pt x="3785" y="12"/>
                  </a:lnTo>
                  <a:lnTo>
                    <a:pt x="3789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2872"/>
                  </a:lnTo>
                  <a:lnTo>
                    <a:pt x="2313" y="2872"/>
                  </a:lnTo>
                  <a:lnTo>
                    <a:pt x="2318" y="2872"/>
                  </a:lnTo>
                  <a:lnTo>
                    <a:pt x="2318" y="2315"/>
                  </a:lnTo>
                  <a:lnTo>
                    <a:pt x="2326" y="2315"/>
                  </a:lnTo>
                  <a:lnTo>
                    <a:pt x="2510" y="2160"/>
                  </a:lnTo>
                  <a:lnTo>
                    <a:pt x="2502" y="2146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3925800" y="1054080"/>
              <a:ext cx="160164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3511440" y="1353960"/>
              <a:ext cx="2549520" cy="53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User-mode instruction set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879640" y="1838160"/>
              <a:ext cx="4114800" cy="59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NT Executive and Subsystem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724200" y="2206800"/>
              <a:ext cx="246528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Windows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™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- OS/2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724200" y="2541600"/>
              <a:ext cx="213840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POSIX          - Etc.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692520" y="3278160"/>
              <a:ext cx="139392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 system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784600" y="4189320"/>
              <a:ext cx="965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2784600" y="4524480"/>
              <a:ext cx="9507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river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5967360" y="4363920"/>
              <a:ext cx="9349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erne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4457880" y="4889520"/>
              <a:ext cx="749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894040" y="5545080"/>
              <a:ext cx="3780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2738520" y="5732640"/>
              <a:ext cx="6318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522600" y="5597640"/>
              <a:ext cx="828720" cy="441360"/>
              <a:chOff x="3522600" y="5597640"/>
              <a:chExt cx="828720" cy="441360"/>
            </a:xfrm>
          </p:grpSpPr>
          <p:sp>
            <p:nvSpPr>
              <p:cNvPr id="93" name=""/>
              <p:cNvSpPr txBox="1"/>
              <p:nvPr/>
            </p:nvSpPr>
            <p:spPr>
              <a:xfrm>
                <a:off x="3541680" y="5597640"/>
                <a:ext cx="80964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MA/Bu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3522600" y="578484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roll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4440240" y="5719680"/>
              <a:ext cx="6066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307120" y="5616720"/>
              <a:ext cx="766800" cy="438120"/>
              <a:chOff x="5307120" y="5616720"/>
              <a:chExt cx="766800" cy="438120"/>
            </a:xfrm>
          </p:grpSpPr>
          <p:sp>
            <p:nvSpPr>
              <p:cNvPr id="97" name=""/>
              <p:cNvSpPr txBox="1"/>
              <p:nvPr/>
            </p:nvSpPr>
            <p:spPr>
              <a:xfrm>
                <a:off x="5381640" y="5616720"/>
                <a:ext cx="6523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aches,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5307120" y="5800680"/>
                <a:ext cx="7668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terrup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127920" y="5457960"/>
              <a:ext cx="936720" cy="627120"/>
              <a:chOff x="6127920" y="5457960"/>
              <a:chExt cx="936720" cy="627120"/>
            </a:xfrm>
          </p:grpSpPr>
          <p:sp>
            <p:nvSpPr>
              <p:cNvPr id="100" name=""/>
              <p:cNvSpPr txBox="1"/>
              <p:nvPr/>
            </p:nvSpPr>
            <p:spPr>
              <a:xfrm>
                <a:off x="6388200" y="5457960"/>
                <a:ext cx="4716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P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6195960" y="564516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rivilege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127920" y="5830920"/>
                <a:ext cx="936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rchitectu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543120" y="209520"/>
            <a:ext cx="205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19200" y="1295280"/>
            <a:ext cx="790560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manages “adapter objec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access to system 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system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Adapt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AllocateAdapterChannel(...) IoFreeAdapterChannel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er transfer access to system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733920" y="209520"/>
            <a:ext cx="1676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282680" y="1333440"/>
            <a:ext cx="657864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MapTransf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s DMA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mes full memory scatter/gather DMA and full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HAL to thunk DMA transfers if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FlushAdapterBuffer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819440" y="209520"/>
            <a:ext cx="5505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rupt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04880" y="1428840"/>
            <a:ext cx="77342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functions to enable/disable v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Begin/EndSystemInterrupt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E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priorities are abstra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 (IR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assigns device interrupt IRQ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IRQ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Interru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4280" y="928800"/>
            <a:ext cx="8415360" cy="573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811080" y="1042920"/>
            <a:ext cx="742320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 = HalGetInterruptVector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Leve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AffinityMask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terruptObject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ConnectInterrupt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pInterruptObjec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erviceRoutin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Context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(device objec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L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al PKSPIN_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yncrhonize Ir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Mod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lusive or sha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AffinityMas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SR uses floating-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1571760" y="1468440"/>
            <a:ext cx="60008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440" y="2362320"/>
            <a:ext cx="8420040" cy="342900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5920" y="2644920"/>
            <a:ext cx="768996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HalStartNextProcessor (pLoaderBlock, pProcessor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NoMoreProcess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ProcessorState into a new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324480" y="3886200"/>
            <a:ext cx="1828800" cy="1523880"/>
            <a:chOff x="6324480" y="3886200"/>
            <a:chExt cx="1828800" cy="1523880"/>
          </a:xfrm>
        </p:grpSpPr>
        <p:sp>
          <p:nvSpPr>
            <p:cNvPr id="565" name=""/>
            <p:cNvSpPr/>
            <p:nvPr/>
          </p:nvSpPr>
          <p:spPr>
            <a:xfrm>
              <a:off x="6324480" y="3886200"/>
              <a:ext cx="1828800" cy="15238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6346800" y="389880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00800" y="4419720"/>
              <a:ext cx="1676520" cy="91440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6402240" y="4402080"/>
              <a:ext cx="1598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gister fi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771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771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816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816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8660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8660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15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915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71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816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8660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915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960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60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960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209680" y="4495680"/>
            <a:ext cx="4038840" cy="533880"/>
          </a:xfrm>
          <a:custGeom>
            <a:avLst/>
            <a:gdLst/>
            <a:ahLst/>
            <a:rect l="0" t="0" r="r" b="b"/>
            <a:pathLst>
              <a:path fill="none" w="11219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518" y="516"/>
                  <a:pt x="1503" y="742"/>
                </a:cubicBezTo>
                <a:cubicBezTo>
                  <a:pt x="2488" y="967"/>
                  <a:pt x="3904" y="1154"/>
                  <a:pt x="5610" y="1284"/>
                </a:cubicBezTo>
                <a:cubicBezTo>
                  <a:pt x="7315" y="1414"/>
                  <a:pt x="9250" y="1483"/>
                  <a:pt x="11219" y="1483"/>
                </a:cubicBezTo>
              </a:path>
            </a:pathLst>
          </a:custGeom>
          <a:ln w="38160">
            <a:solidFill>
              <a:srgbClr val="fafd00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1400040" y="1468440"/>
            <a:ext cx="6343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1800" y="2666880"/>
            <a:ext cx="842004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5920" y="2720880"/>
            <a:ext cx="71308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 HalInitializeProcessor (pLoaderBloc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l internal initialization of the Processor Control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133720" y="19044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606680" y="1390680"/>
            <a:ext cx="593100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RequestIPI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interprocessor interrupt to specifie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0440" y="3314880"/>
            <a:ext cx="822312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876240" y="3478320"/>
            <a:ext cx="50688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HalRequestIPI (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)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IPIPort = ProcessorMas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43120" y="3506760"/>
            <a:ext cx="1225800" cy="396720"/>
            <a:chOff x="3543120" y="3506760"/>
            <a:chExt cx="1225800" cy="396720"/>
          </a:xfrm>
        </p:grpSpPr>
        <p:sp>
          <p:nvSpPr>
            <p:cNvPr id="596" name=""/>
            <p:cNvSpPr/>
            <p:nvPr/>
          </p:nvSpPr>
          <p:spPr>
            <a:xfrm>
              <a:off x="35784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35431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356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40006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70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37717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928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44578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642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42289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635800" y="3924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600520" y="3887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35800" y="5067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600520" y="5030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635800" y="4305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600520" y="4268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35800" y="468648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600520" y="4649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35800" y="5448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600520" y="5411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000840" y="3878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000840" y="4259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1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000840" y="464040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2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000840" y="5402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4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000840" y="5021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882960" y="4000680"/>
            <a:ext cx="1524240" cy="533880"/>
          </a:xfrm>
          <a:custGeom>
            <a:avLst/>
            <a:gdLst/>
            <a:ahLst/>
            <a:rect l="0" t="0" r="r" b="b"/>
            <a:pathLst>
              <a:path fill="none" w="4234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196" y="516"/>
                  <a:pt x="567" y="742"/>
                </a:cubicBezTo>
                <a:cubicBezTo>
                  <a:pt x="939" y="967"/>
                  <a:pt x="1473" y="1154"/>
                  <a:pt x="2117" y="1284"/>
                </a:cubicBezTo>
                <a:cubicBezTo>
                  <a:pt x="2761" y="1414"/>
                  <a:pt x="3491" y="1483"/>
                  <a:pt x="4234" y="1483"/>
                </a:cubicBezTo>
              </a:path>
            </a:pathLst>
          </a:custGeom>
          <a:ln w="76320">
            <a:solidFill>
              <a:srgbClr val="fafd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Tim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247760" y="1352520"/>
            <a:ext cx="66484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ic c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periodic intervals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specified rate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PerformanceCounter for fine grain tim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clock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,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485640" y="230184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1960" y="1619280"/>
            <a:ext cx="80200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utomatically detects proper HAL to install shipped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will automatically install MP kernel on recognized MP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 HALs supported by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or MP kernel installed based on setup information file on 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052640"/>
            <a:ext cx="84963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HALs inclu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486c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with 486 c stepping 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mca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H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ast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 Manhatt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cbus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llary MP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ncr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R MP product lines (3x ser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oli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ivette LSX50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sp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Q SYSTEMPRO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SYSTEMPRO/XL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r, ALR, ICL, Micro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wyse7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se 740 and 76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s, others v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 diskette during Set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zed Windows NT rese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809880"/>
            <a:ext cx="6934320" cy="380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9320" y="3809880"/>
            <a:ext cx="69343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ystem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4495680"/>
            <a:ext cx="1600200" cy="167652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42200" y="4784760"/>
            <a:ext cx="126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495680"/>
            <a:ext cx="1371600" cy="68580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89280" y="4525920"/>
            <a:ext cx="1278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e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1814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7400" y="5486400"/>
            <a:ext cx="838440" cy="838440"/>
            <a:chOff x="2057400" y="5486400"/>
            <a:chExt cx="838440" cy="838440"/>
          </a:xfrm>
        </p:grpSpPr>
        <p:sp>
          <p:nvSpPr>
            <p:cNvPr id="122" name=""/>
            <p:cNvSpPr/>
            <p:nvPr/>
          </p:nvSpPr>
          <p:spPr>
            <a:xfrm>
              <a:off x="2057400" y="54864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62320" y="54864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6386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56386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7400" y="57913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2320" y="57913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59436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2320" y="59436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7400" y="60958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2320" y="60958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7400" y="62485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62485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1927080" y="4811760"/>
            <a:ext cx="1222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ISA 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2286000"/>
            <a:ext cx="914400" cy="1341360"/>
            <a:chOff x="1295280" y="2286000"/>
            <a:chExt cx="914400" cy="1341360"/>
          </a:xfrm>
        </p:grpSpPr>
        <p:sp>
          <p:nvSpPr>
            <p:cNvPr id="139" name=""/>
            <p:cNvSpPr/>
            <p:nvPr/>
          </p:nvSpPr>
          <p:spPr>
            <a:xfrm>
              <a:off x="12952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3557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13557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24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90920" y="2286000"/>
            <a:ext cx="914400" cy="1341360"/>
            <a:chOff x="2590920" y="2286000"/>
            <a:chExt cx="914400" cy="1341360"/>
          </a:xfrm>
        </p:grpSpPr>
        <p:sp>
          <p:nvSpPr>
            <p:cNvPr id="145" name=""/>
            <p:cNvSpPr/>
            <p:nvPr/>
          </p:nvSpPr>
          <p:spPr>
            <a:xfrm>
              <a:off x="259092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92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65104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65104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886200" y="2286000"/>
            <a:ext cx="914400" cy="1341360"/>
            <a:chOff x="3886200" y="2286000"/>
            <a:chExt cx="914400" cy="1341360"/>
          </a:xfrm>
        </p:grpSpPr>
        <p:sp>
          <p:nvSpPr>
            <p:cNvPr id="151" name=""/>
            <p:cNvSpPr/>
            <p:nvPr/>
          </p:nvSpPr>
          <p:spPr>
            <a:xfrm>
              <a:off x="388620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620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94668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94668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181480" y="2286000"/>
            <a:ext cx="914400" cy="1341360"/>
            <a:chOff x="5181480" y="2286000"/>
            <a:chExt cx="914400" cy="1341360"/>
          </a:xfrm>
        </p:grpSpPr>
        <p:sp>
          <p:nvSpPr>
            <p:cNvPr id="157" name=""/>
            <p:cNvSpPr/>
            <p:nvPr/>
          </p:nvSpPr>
          <p:spPr>
            <a:xfrm>
              <a:off x="51814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14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2419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2419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1047600" y="1373040"/>
            <a:ext cx="3238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85920" y="1733400"/>
            <a:ext cx="6572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ility of S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execution can occur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s (deferred procedure call) can be executed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interrupts can be serviced by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076480" y="20952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42840" y="1523880"/>
            <a:ext cx="72579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provide atomic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be able to interrupt any other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eriodic timer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rofil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