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AA3190-B80B-4A09-9534-D1F960522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hasize that the Mac has had more than one file system -- first, the Macintosh File System (MFS), then the Hierarchical File System (HFS).  NTFS is a similar evolution from FAT, but going much far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nal bullet seems to run off of the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es beyond the peer-to-peer capabilities of W4W or Mac System 7.0; it’s like having AppleShare built-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Lanman be two words, e.g., LAN Manager?  These guys will, many of them, never heard of it before, so we ought not abbrevi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564160" y="12600"/>
            <a:ext cx="35593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ug Henrich93101 (2nd talk) Xhibition ‘93 6/93 </a:t>
            </a:r>
            <a:fld id="{20390A54-5409-477F-8C3E-40083ED1F5EE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114560" y="861840"/>
            <a:ext cx="691524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latforms For Win32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Applications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ug Henrich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oup Manag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Relation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68120" y="228600"/>
            <a:ext cx="8807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Conceptua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124080" y="1371600"/>
            <a:ext cx="3429000" cy="125748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09960" y="2743200"/>
            <a:ext cx="36576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55600" y="2373480"/>
            <a:ext cx="180972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nk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er DL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2857680"/>
            <a:ext cx="3429000" cy="1600200"/>
          </a:xfrm>
          <a:prstGeom prst="rect">
            <a:avLst/>
          </a:prstGeom>
          <a:gradFill rotWithShape="0">
            <a:gsLst>
              <a:gs pos="0">
                <a:srgbClr val="14d3c1"/>
              </a:gs>
              <a:gs pos="100000">
                <a:srgbClr val="0c7e73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52720" y="3763800"/>
            <a:ext cx="20289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956040" y="3138480"/>
            <a:ext cx="160668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1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93640" y="5051520"/>
            <a:ext cx="79567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Win32 calls are thunked to 16-b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flipH="1">
            <a:off x="3962520" y="1219320"/>
            <a:ext cx="1523880" cy="685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43080" y="6019920"/>
            <a:ext cx="8458200" cy="51444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99960" y="5334120"/>
            <a:ext cx="1733400" cy="49536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bd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305080" y="5353200"/>
            <a:ext cx="1771560" cy="49536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210200" y="5334120"/>
            <a:ext cx="171468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991040" y="4191120"/>
            <a:ext cx="129528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010280" y="4191120"/>
            <a:ext cx="198108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2sys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162920" y="3200400"/>
            <a:ext cx="167652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6200" y="4191120"/>
            <a:ext cx="99072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952720" y="4191120"/>
            <a:ext cx="81900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71600" y="3200400"/>
            <a:ext cx="236232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16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419720" y="3200400"/>
            <a:ext cx="205740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600" y="1905120"/>
            <a:ext cx="251460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2sKrnl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00400" y="1905120"/>
            <a:ext cx="175248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34120" y="1905120"/>
            <a:ext cx="175248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315200" y="1905120"/>
            <a:ext cx="167652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5029200"/>
            <a:ext cx="765828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2666880"/>
            <a:ext cx="1600560" cy="2591280"/>
          </a:xfrm>
          <a:custGeom>
            <a:avLst/>
            <a:gdLst/>
            <a:ahLst/>
            <a:rect l="0" t="0" r="r" b="b"/>
            <a:pathLst>
              <a:path fill="none" w="4446" h="7198">
                <a:moveTo>
                  <a:pt x="0" y="0"/>
                </a:moveTo>
                <a:lnTo>
                  <a:pt x="0" y="0"/>
                </a:lnTo>
                <a:cubicBezTo>
                  <a:pt x="0" y="1264"/>
                  <a:pt x="205" y="2505"/>
                  <a:pt x="596" y="3599"/>
                </a:cubicBezTo>
                <a:cubicBezTo>
                  <a:pt x="986" y="4693"/>
                  <a:pt x="1547" y="5602"/>
                  <a:pt x="2223" y="6234"/>
                </a:cubicBezTo>
                <a:cubicBezTo>
                  <a:pt x="2899" y="6865"/>
                  <a:pt x="3666" y="7198"/>
                  <a:pt x="4446" y="7198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3809880"/>
            <a:ext cx="0" cy="1371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259092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666880" y="2590920"/>
            <a:ext cx="13716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276720" y="2590920"/>
            <a:ext cx="27432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809880" y="2590920"/>
            <a:ext cx="41148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324480" y="1219320"/>
            <a:ext cx="5040" cy="6094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38880" y="1371600"/>
            <a:ext cx="1067040" cy="457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35053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001000" y="38098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3809880"/>
            <a:ext cx="609840" cy="304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3809880"/>
            <a:ext cx="106668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3733920"/>
            <a:ext cx="2133360" cy="3045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480060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2895480"/>
            <a:ext cx="77724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22280" y="4853160"/>
            <a:ext cx="825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22280" y="1119240"/>
            <a:ext cx="82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2280" y="3557520"/>
            <a:ext cx="82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61960" y="810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tailed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44197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838080"/>
            <a:ext cx="2971800" cy="533520"/>
          </a:xfrm>
          <a:prstGeom prst="rect">
            <a:avLst/>
          </a:prstGeom>
          <a:gradFill rotWithShape="0">
            <a:gsLst>
              <a:gs pos="0">
                <a:srgbClr val="8043ae"/>
              </a:gs>
              <a:gs pos="100000">
                <a:srgbClr val="b760f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73200" y="1162080"/>
            <a:ext cx="7797960" cy="52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al tools required to build Win32 apps. for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al build process or unique link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ing Win32s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SDK on Windows 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vendors will provide MS-DO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         Windows 3.1-hosted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 WinDbg on Windows NT will remotely debug Win32 apps. on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47640" y="228600"/>
            <a:ext cx="7848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hipping Win32 Applications For Windows 3.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09640" y="1943280"/>
            <a:ext cx="752472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xD and DLLs approximately 500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rovides Win32s setup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if Win32s already insta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Win32 app. and Win32s on Windows 3.1 (running in enhanced m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install Win32 app. on Windows NT  (not Win32s compon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version checks Win32s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400" y="1282680"/>
            <a:ext cx="731520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Windows 3.1 running in enhanced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cooperative message-based non-preemptive multitas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ous input mode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ures compatibility in multitasking Windows NT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14400" y="1371600"/>
            <a:ext cx="7315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d memory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rotection from other processes (16 or 32-b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shared DLL data (no instance da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 and memory usage of each process affects every other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3 FAT fil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long filenames, async file I/O or AC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relies on Windows 3.1 GD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aths, advanced transforms or bezier cur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Unicod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1.0 API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4520" y="933480"/>
            <a:ext cx="6114960" cy="57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al 1.0  shipped with March Windows NT SD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flat address space (512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rse memory (VirtualAllo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management (HeapAllo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shared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LS (API and compiler suppor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exception handling (SE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message seman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 AP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1.1 API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859040" y="1581120"/>
            <a:ext cx="542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ps simultaneously with Windows NT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features provided by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ion 1.0 features plu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-mapped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P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a version of OLE 2.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57320" y="1523880"/>
            <a:ext cx="702936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le and sca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86 uniprocessor, x86 multiprocessor, MIPS R4000, DEC Alpha, Intergrap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rtifiable at DOD C2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Win16, Win32, MS-DOS, POSIX, OS/2 16-bit character ap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486080" y="1314360"/>
            <a:ext cx="61722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 address spaces, exception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 transport and third-party network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s, remote configuration, workgroup cap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Is:  The 16-Bit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1290600"/>
            <a:ext cx="71629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be supported by all platforms, now and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2.0 last major enhan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373560" y="4348080"/>
            <a:ext cx="1996920" cy="102384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(Windows for Workgroup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697360" y="4348080"/>
            <a:ext cx="2054160" cy="106200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49400" y="4348080"/>
            <a:ext cx="1996920" cy="102384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ular Windows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49400" y="3257640"/>
            <a:ext cx="6645240" cy="914400"/>
          </a:xfrm>
          <a:prstGeom prst="rect">
            <a:avLst/>
          </a:prstGeom>
          <a:gradFill rotWithShape="0">
            <a:gsLst>
              <a:gs pos="0">
                <a:srgbClr val="12bdad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16-bit (Win16) application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27000" y="6113520"/>
            <a:ext cx="12477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181160" y="1486080"/>
            <a:ext cx="6781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s. gain capacity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-process 32-bit flat address space (2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-performance on MP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message queues for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79280" y="228600"/>
            <a:ext cx="8785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8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ystem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79280" y="228600"/>
            <a:ext cx="8785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8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ystem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73160" y="1246320"/>
            <a:ext cx="699768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ble fil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T, HPF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y-recoverable (no long FSC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4-bit addressing - removes lim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name support (8.3 auto-gener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lt-toler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t fix support for bad disk s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S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rroring, duplexing, spanning, striping, RAID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701640" y="228600"/>
            <a:ext cx="7740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Configur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90720" y="1486080"/>
            <a:ext cx="7162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erarchical registration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s  textual setup files (*.ini and config.sy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ward-compatible with Windows 3.1 reg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 dataspace per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/not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 APIs m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acce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123920" y="228600"/>
            <a:ext cx="6896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3.1 Integrated Networ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2280" y="2185920"/>
            <a:ext cx="8299440" cy="33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server and works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ntegrated with the base 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ward compatible with LAN Manager 2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multiple third-party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ell, Banyan, NFS in pro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s - TCP/IP, NetBEUI, DL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066680" y="228600"/>
            <a:ext cx="7010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national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90400" y="1941480"/>
            <a:ext cx="79628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Win32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LS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 conversion, sorting, date/time form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 5 international 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ized versions of 1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nch, German, Spanish, Italian, Swedish, Du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targeted at Japanese mar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months after Windows NT sh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990720" y="228600"/>
            <a:ext cx="7162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ggested Action I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74840" y="1257480"/>
            <a:ext cx="81946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Win32s for products with Windows 3.1 supported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Windows NT f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graphics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client-server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sion critical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-critical applications running on MP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written for Win32s are real 32-bit apps. that are binary-compatible on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Win32 apps. on Win32s and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front-end tools to construct graphical user interface on top of non-GUI UNIX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746440" y="3848040"/>
            <a:ext cx="4572000" cy="1905120"/>
          </a:xfrm>
          <a:prstGeom prst="rect">
            <a:avLst/>
          </a:prstGeom>
          <a:gradFill rotWithShape="0">
            <a:gsLst>
              <a:gs pos="0">
                <a:srgbClr val="a2005e"/>
              </a:gs>
              <a:gs pos="100000">
                <a:srgbClr val="b5006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OLE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228600"/>
            <a:ext cx="7162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Is:  The 32-Bit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746440" y="4743360"/>
            <a:ext cx="3651120" cy="100980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OLE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628640" y="1177920"/>
            <a:ext cx="5888160" cy="20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 for new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dge provided for installed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provide compatibility across Window family platforms (binary compatibility when on x8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41520" y="4956120"/>
            <a:ext cx="147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16000" y="5200560"/>
            <a:ext cx="6922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41120" y="3924360"/>
            <a:ext cx="197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16000" y="4152960"/>
            <a:ext cx="6922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nd Win32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08080" y="1542960"/>
            <a:ext cx="692784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Win32 versions of existing 16-bit applications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/API features determine the platform you deploy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s. have the performance and feature advantage on all Windows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Target Windows 3.1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47800" y="1085760"/>
            <a:ext cx="744840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 25 million copies shipp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 1 million copies shipping month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 plat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programming model (win32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 (Vx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6 MB virtual address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, multiple protocol support (NFS, NetWare, Banyan, SNA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 built-in gam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Target Win32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87400" y="1095480"/>
            <a:ext cx="736920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ge installed base to sell i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Win32 plat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/capacity improv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have linear address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gments (0:3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binaries run Windows 3.1 and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PI is fully compatible subset of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written to Win32s API run as native Win32 applications on Windows 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fines An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57160" y="1371600"/>
            <a:ext cx="742968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API stretched to 32-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et of Win32 API that is compatible with Win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equivalents for Windows 3.1 APIs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s several powerful Windows NT features for Win32 apps.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Is Also A Produ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204920" y="1619280"/>
            <a:ext cx="673416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is distributed in toolk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censed to tool vend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DLLs (Shared Librar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s ship DLLs and VxD with their 32-bit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and VxD run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09640" y="1600200"/>
            <a:ext cx="75247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-compatible with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Executable file form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-compatible with Windows NT on x86, MIP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400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DE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p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written to Win32s API are real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