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754600" y="0"/>
            <a:ext cx="33764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ive Tools93101 Xhibition ‘93  6/93 </a:t>
            </a:r>
            <a:fld id="{34E9259F-5BCE-4E92-8386-13975308E42D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22440" y="1046160"/>
            <a:ext cx="7899480" cy="293760"/>
          </a:xfrm>
          <a:prstGeom prst="rect">
            <a:avLst/>
          </a:prstGeom>
          <a:solidFill>
            <a:srgbClr val="00279f"/>
          </a:solidFill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1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   E   C   H   N   I   C   A   L             I   N   F   O   R   M   A   T   I   O  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2786040" y="1738440"/>
            <a:ext cx="35719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 Profile Edi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71560" y="1581120"/>
            <a:ext cx="6477120" cy="43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e per-user environment pro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een col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datory User Pro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sonal User Pro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ault User Pro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User Pro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719280" y="2749680"/>
            <a:ext cx="4137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Domain 2\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GlobalGroup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Local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Domain2\GlobalGroup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4360" y="1181160"/>
            <a:ext cx="3192480" cy="174456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42880" y="39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ount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344760" y="198108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039680" y="2270160"/>
            <a:ext cx="391320" cy="464040"/>
            <a:chOff x="1039680" y="2270160"/>
            <a:chExt cx="391320" cy="464040"/>
          </a:xfrm>
        </p:grpSpPr>
        <p:sp>
          <p:nvSpPr>
            <p:cNvPr id="70" name=""/>
            <p:cNvSpPr/>
            <p:nvPr/>
          </p:nvSpPr>
          <p:spPr>
            <a:xfrm>
              <a:off x="1071720" y="230508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39680" y="227016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1595520" y="2270160"/>
            <a:ext cx="390960" cy="464040"/>
            <a:chOff x="1595520" y="2270160"/>
            <a:chExt cx="390960" cy="464040"/>
          </a:xfrm>
        </p:grpSpPr>
        <p:sp>
          <p:nvSpPr>
            <p:cNvPr id="73" name=""/>
            <p:cNvSpPr/>
            <p:nvPr/>
          </p:nvSpPr>
          <p:spPr>
            <a:xfrm>
              <a:off x="1627200" y="230508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95520" y="227016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098800" y="2249640"/>
            <a:ext cx="390960" cy="465480"/>
            <a:chOff x="2098800" y="2249640"/>
            <a:chExt cx="390960" cy="465480"/>
          </a:xfrm>
        </p:grpSpPr>
        <p:sp>
          <p:nvSpPr>
            <p:cNvPr id="76" name=""/>
            <p:cNvSpPr/>
            <p:nvPr/>
          </p:nvSpPr>
          <p:spPr>
            <a:xfrm>
              <a:off x="2130480" y="228600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98800" y="2249640"/>
              <a:ext cx="362160" cy="433800"/>
            </a:xfrm>
            <a:custGeom>
              <a:avLst/>
              <a:gdLst/>
              <a:ahLst/>
              <a:rect l="0" t="0" r="r" b="b"/>
              <a:pathLst>
                <a:path w="1006" h="1205">
                  <a:moveTo>
                    <a:pt x="502" y="0"/>
                  </a:moveTo>
                  <a:lnTo>
                    <a:pt x="0" y="1205"/>
                  </a:lnTo>
                  <a:lnTo>
                    <a:pt x="1006" y="1205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04800" y="1517760"/>
            <a:ext cx="482760" cy="344520"/>
            <a:chOff x="604800" y="1517760"/>
            <a:chExt cx="482760" cy="344520"/>
          </a:xfrm>
        </p:grpSpPr>
        <p:sp>
          <p:nvSpPr>
            <p:cNvPr id="79" name=""/>
            <p:cNvSpPr/>
            <p:nvPr/>
          </p:nvSpPr>
          <p:spPr>
            <a:xfrm>
              <a:off x="641520" y="1557360"/>
              <a:ext cx="4460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4800" y="151776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468440" y="1238400"/>
            <a:ext cx="482760" cy="342720"/>
            <a:chOff x="1468440" y="1238400"/>
            <a:chExt cx="482760" cy="342720"/>
          </a:xfrm>
        </p:grpSpPr>
        <p:sp>
          <p:nvSpPr>
            <p:cNvPr id="82" name=""/>
            <p:cNvSpPr/>
            <p:nvPr/>
          </p:nvSpPr>
          <p:spPr>
            <a:xfrm>
              <a:off x="1503360" y="127620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68440" y="1238400"/>
              <a:ext cx="446040" cy="3031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282760" y="1565280"/>
            <a:ext cx="482760" cy="344520"/>
            <a:chOff x="2282760" y="1565280"/>
            <a:chExt cx="482760" cy="344520"/>
          </a:xfrm>
        </p:grpSpPr>
        <p:sp>
          <p:nvSpPr>
            <p:cNvPr id="85" name=""/>
            <p:cNvSpPr/>
            <p:nvPr/>
          </p:nvSpPr>
          <p:spPr>
            <a:xfrm>
              <a:off x="2317680" y="160488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82760" y="1565280"/>
              <a:ext cx="4460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4754520" y="1123920"/>
            <a:ext cx="3192480" cy="174456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62000" y="1851120"/>
            <a:ext cx="1446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omai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649840" y="2212920"/>
            <a:ext cx="390960" cy="464040"/>
            <a:chOff x="5649840" y="2212920"/>
            <a:chExt cx="390960" cy="464040"/>
          </a:xfrm>
        </p:grpSpPr>
        <p:sp>
          <p:nvSpPr>
            <p:cNvPr id="90" name=""/>
            <p:cNvSpPr/>
            <p:nvPr/>
          </p:nvSpPr>
          <p:spPr>
            <a:xfrm>
              <a:off x="5681520" y="224784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49840" y="221292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205680" y="2212920"/>
            <a:ext cx="390960" cy="464040"/>
            <a:chOff x="6205680" y="2212920"/>
            <a:chExt cx="390960" cy="464040"/>
          </a:xfrm>
        </p:grpSpPr>
        <p:sp>
          <p:nvSpPr>
            <p:cNvPr id="93" name=""/>
            <p:cNvSpPr/>
            <p:nvPr/>
          </p:nvSpPr>
          <p:spPr>
            <a:xfrm>
              <a:off x="6237360" y="224784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05680" y="221292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708600" y="2192400"/>
            <a:ext cx="391320" cy="465480"/>
            <a:chOff x="6708600" y="2192400"/>
            <a:chExt cx="391320" cy="465480"/>
          </a:xfrm>
        </p:grpSpPr>
        <p:sp>
          <p:nvSpPr>
            <p:cNvPr id="96" name=""/>
            <p:cNvSpPr/>
            <p:nvPr/>
          </p:nvSpPr>
          <p:spPr>
            <a:xfrm>
              <a:off x="6740640" y="222876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708600" y="2192400"/>
              <a:ext cx="362160" cy="433800"/>
            </a:xfrm>
            <a:custGeom>
              <a:avLst/>
              <a:gdLst/>
              <a:ahLst/>
              <a:rect l="0" t="0" r="r" b="b"/>
              <a:pathLst>
                <a:path w="1006" h="1205">
                  <a:moveTo>
                    <a:pt x="502" y="0"/>
                  </a:moveTo>
                  <a:lnTo>
                    <a:pt x="0" y="1205"/>
                  </a:lnTo>
                  <a:lnTo>
                    <a:pt x="1006" y="1205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310360" y="1574640"/>
            <a:ext cx="482400" cy="344880"/>
            <a:chOff x="5310360" y="1574640"/>
            <a:chExt cx="482400" cy="344880"/>
          </a:xfrm>
        </p:grpSpPr>
        <p:sp>
          <p:nvSpPr>
            <p:cNvPr id="99" name=""/>
            <p:cNvSpPr/>
            <p:nvPr/>
          </p:nvSpPr>
          <p:spPr>
            <a:xfrm>
              <a:off x="5346720" y="1614600"/>
              <a:ext cx="4460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10360" y="1574640"/>
              <a:ext cx="447840" cy="3049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116760" y="1238400"/>
            <a:ext cx="482760" cy="342720"/>
            <a:chOff x="6116760" y="1238400"/>
            <a:chExt cx="482760" cy="342720"/>
          </a:xfrm>
        </p:grpSpPr>
        <p:sp>
          <p:nvSpPr>
            <p:cNvPr id="102" name=""/>
            <p:cNvSpPr/>
            <p:nvPr/>
          </p:nvSpPr>
          <p:spPr>
            <a:xfrm>
              <a:off x="6151680" y="1276200"/>
              <a:ext cx="4478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16760" y="1238400"/>
              <a:ext cx="446040" cy="3031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6950160" y="1469880"/>
            <a:ext cx="482760" cy="344880"/>
            <a:chOff x="6950160" y="1469880"/>
            <a:chExt cx="482760" cy="344880"/>
          </a:xfrm>
        </p:grpSpPr>
        <p:sp>
          <p:nvSpPr>
            <p:cNvPr id="105" name=""/>
            <p:cNvSpPr/>
            <p:nvPr/>
          </p:nvSpPr>
          <p:spPr>
            <a:xfrm>
              <a:off x="6985080" y="1509840"/>
              <a:ext cx="4478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950160" y="1469880"/>
              <a:ext cx="446040" cy="3049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 txBox="1"/>
          <p:nvPr/>
        </p:nvSpPr>
        <p:spPr>
          <a:xfrm>
            <a:off x="5192640" y="2949480"/>
            <a:ext cx="380844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omain1\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GlobalGroup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Local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omain1\GlobalGroup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767560" y="1812960"/>
            <a:ext cx="1446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Domai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 Manager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onitor and control network server u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209600" y="1790640"/>
            <a:ext cx="67248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 and delete connections to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and stop services on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directory re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ale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y domain contro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manage other dom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799400" y="5470560"/>
            <a:ext cx="123336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772400" y="5586480"/>
            <a:ext cx="985680" cy="8953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08160" y="228600"/>
            <a:ext cx="6729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Monito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1790640"/>
            <a:ext cx="74692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96880" indent="-596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-time graphing of system cou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er” to notify on alert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going performance lo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y “remoteab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7839000" y="5643720"/>
            <a:ext cx="843120" cy="782640"/>
            <a:chOff x="7839000" y="5643720"/>
            <a:chExt cx="843120" cy="782640"/>
          </a:xfrm>
        </p:grpSpPr>
        <p:sp>
          <p:nvSpPr>
            <p:cNvPr id="116" name=""/>
            <p:cNvSpPr/>
            <p:nvPr/>
          </p:nvSpPr>
          <p:spPr>
            <a:xfrm>
              <a:off x="7940520" y="6354720"/>
              <a:ext cx="623880" cy="0"/>
            </a:xfrm>
            <a:prstGeom prst="line">
              <a:avLst/>
            </a:prstGeom>
            <a:ln w="2556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35840" y="6254640"/>
              <a:ext cx="643320" cy="157680"/>
            </a:xfrm>
            <a:custGeom>
              <a:avLst/>
              <a:gdLst/>
              <a:ahLst/>
              <a:rect l="0" t="0" r="r" b="b"/>
              <a:pathLst>
                <a:path w="1787" h="438">
                  <a:moveTo>
                    <a:pt x="0" y="438"/>
                  </a:moveTo>
                  <a:lnTo>
                    <a:pt x="1787" y="438"/>
                  </a:lnTo>
                  <a:lnTo>
                    <a:pt x="1787" y="345"/>
                  </a:lnTo>
                  <a:lnTo>
                    <a:pt x="1284" y="345"/>
                  </a:lnTo>
                  <a:lnTo>
                    <a:pt x="1284" y="0"/>
                  </a:lnTo>
                  <a:lnTo>
                    <a:pt x="343" y="39"/>
                  </a:lnTo>
                  <a:lnTo>
                    <a:pt x="343" y="332"/>
                  </a:lnTo>
                  <a:lnTo>
                    <a:pt x="0" y="332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cecece"/>
            </a:solidFill>
            <a:ln w="25560">
              <a:solidFill>
                <a:srgbClr val="cecece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050320" y="6235560"/>
              <a:ext cx="538560" cy="190800"/>
            </a:xfrm>
            <a:custGeom>
              <a:avLst/>
              <a:gdLst/>
              <a:ahLst/>
              <a:rect l="0" t="0" r="r" b="b"/>
              <a:pathLst>
                <a:path w="1496" h="530">
                  <a:moveTo>
                    <a:pt x="0" y="0"/>
                  </a:moveTo>
                  <a:lnTo>
                    <a:pt x="1085" y="13"/>
                  </a:lnTo>
                  <a:lnTo>
                    <a:pt x="1085" y="211"/>
                  </a:lnTo>
                  <a:lnTo>
                    <a:pt x="993" y="211"/>
                  </a:lnTo>
                  <a:lnTo>
                    <a:pt x="993" y="358"/>
                  </a:lnTo>
                  <a:lnTo>
                    <a:pt x="1496" y="358"/>
                  </a:lnTo>
                  <a:lnTo>
                    <a:pt x="1496" y="530"/>
                  </a:lnTo>
                  <a:lnTo>
                    <a:pt x="609" y="530"/>
                  </a:lnTo>
                  <a:lnTo>
                    <a:pt x="609" y="384"/>
                  </a:lnTo>
                  <a:lnTo>
                    <a:pt x="0" y="384"/>
                  </a:lnTo>
                  <a:lnTo>
                    <a:pt x="0" y="292"/>
                  </a:lnTo>
                  <a:lnTo>
                    <a:pt x="768" y="292"/>
                  </a:lnTo>
                  <a:lnTo>
                    <a:pt x="768" y="224"/>
                  </a:lnTo>
                  <a:lnTo>
                    <a:pt x="0" y="2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839000" y="5643720"/>
              <a:ext cx="843120" cy="642960"/>
            </a:xfrm>
            <a:prstGeom prst="roundRect">
              <a:avLst/>
            </a:prstGeom>
            <a:solidFill>
              <a:srgbClr val="cecece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859880" y="5668920"/>
              <a:ext cx="800280" cy="600120"/>
            </a:xfrm>
            <a:prstGeom prst="roundRect">
              <a:avLst/>
            </a:prstGeom>
            <a:noFill/>
            <a:ln w="25560">
              <a:solidFill>
                <a:srgbClr val="cecece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878600" y="5694480"/>
              <a:ext cx="762120" cy="539640"/>
            </a:xfrm>
            <a:prstGeom prst="roundRect">
              <a:avLst/>
            </a:prstGeom>
            <a:solidFill>
              <a:srgbClr val="3365fb"/>
            </a:solidFill>
            <a:ln w="25560">
              <a:solidFill>
                <a:srgbClr val="3365fb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902720" y="5711760"/>
              <a:ext cx="714240" cy="504720"/>
            </a:xfrm>
            <a:prstGeom prst="roundRect">
              <a:avLst/>
            </a:prstGeom>
            <a:blipFill rotWithShape="0">
              <a:blip r:embed="rId1"/>
              <a:tile tx="0" ty="0" sx="133018" sy="133018" algn="ctr"/>
            </a:blipFill>
            <a:ln w="25560">
              <a:solidFill>
                <a:srgbClr val="081d58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931160" y="5802480"/>
              <a:ext cx="652680" cy="324360"/>
            </a:xfrm>
            <a:custGeom>
              <a:avLst/>
              <a:gdLst/>
              <a:ahLst/>
              <a:rect l="0" t="0" r="r" b="b"/>
              <a:pathLst>
                <a:path fill="none" w="1813" h="901">
                  <a:moveTo>
                    <a:pt x="0" y="305"/>
                  </a:moveTo>
                  <a:lnTo>
                    <a:pt x="185" y="397"/>
                  </a:lnTo>
                  <a:lnTo>
                    <a:pt x="449" y="66"/>
                  </a:lnTo>
                  <a:lnTo>
                    <a:pt x="714" y="901"/>
                  </a:lnTo>
                  <a:lnTo>
                    <a:pt x="1032" y="0"/>
                  </a:lnTo>
                  <a:lnTo>
                    <a:pt x="1218" y="543"/>
                  </a:lnTo>
                  <a:lnTo>
                    <a:pt x="1522" y="158"/>
                  </a:lnTo>
                  <a:lnTo>
                    <a:pt x="1813" y="450"/>
                  </a:lnTo>
                </a:path>
              </a:pathLst>
            </a:custGeom>
            <a:ln w="25560">
              <a:solidFill>
                <a:srgbClr val="fc0128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126280" y="5735520"/>
              <a:ext cx="0" cy="457200"/>
            </a:xfrm>
            <a:prstGeom prst="line">
              <a:avLst/>
            </a:prstGeom>
            <a:ln w="25560">
              <a:solidFill>
                <a:srgbClr val="00b7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478720" y="6240600"/>
              <a:ext cx="71280" cy="334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87400" y="228600"/>
            <a:ext cx="7370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rol Panel Appl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173240" y="1314360"/>
            <a:ext cx="6799320" cy="44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pp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o’s connected to what resour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app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/Stop/Pausing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s app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and startup inf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app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operating system to b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settings (VMM, process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121600" y="5900760"/>
            <a:ext cx="920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95200" y="304920"/>
            <a:ext cx="85154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Control Panel Applet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figuration of computer network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57360" y="2209680"/>
            <a:ext cx="782964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and configure network adap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and configure network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e network bi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computer name and specify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464600" y="5343480"/>
            <a:ext cx="135252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571760" y="268200"/>
            <a:ext cx="6000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obustn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19120" y="1623960"/>
            <a:ext cx="755028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pe back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k Manager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GUI+FDISK+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n Sets (a.k.a. Volume Se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rro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pe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pe Sets with parity (RAID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icky Drive Let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nterrupted Power Supply (UP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118360" y="2090880"/>
            <a:ext cx="507960" cy="557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65240" y="618336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699000" y="1581120"/>
            <a:ext cx="5223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547040" y="5357880"/>
            <a:ext cx="5223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66560" y="1620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etup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mainten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95480" y="1733400"/>
            <a:ext cx="69534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system configuration sett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a new device 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/Remove SCSI disk drives and tape dr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/Remove Windows NT compon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ete user pro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tore system with the repair d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200240" y="1790640"/>
            <a:ext cx="674388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shell very similar to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ment and new tools to manage increased functi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dmin tools are remote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ools have a G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23920" y="1584360"/>
            <a:ext cx="689616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</a:t>
            </a:r>
            <a:r>
              <a:rPr b="1" lang="en-US" sz="40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® 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3600" spc="-1" strike="noStrike" baseline="5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Administration Tools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You Will Lear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09640" y="1828800"/>
            <a:ext cx="752472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Shell Ut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dministration Ut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dvanced Server Admin Ut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884240" y="231840"/>
            <a:ext cx="537696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he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36720" y="1362240"/>
            <a:ext cx="727092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2120" indent="-492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794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Microsoft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.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2120" indent="-492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794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 shell functionality the sam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88840" indent="-395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3973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 Manager, Control Panel, Access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2120" indent="-492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794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enhanc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88840" indent="-395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3973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Manager, Print Manager, Server Manager, Event Viewer, Control Panel Applets, Performance monitor, Backup, User Manag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8840" indent="-395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3973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Command Shel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31280" y="5595840"/>
            <a:ext cx="103680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801720" y="231840"/>
            <a:ext cx="754056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File Manag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71440" y="1638360"/>
            <a:ext cx="8601120" cy="36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features beyond Microsoft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bar, with integrated network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Windows NT functi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 shared files and direc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network provider brow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long and 8.3 file name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92080" y="2824200"/>
            <a:ext cx="7245360" cy="301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013600" y="5500800"/>
            <a:ext cx="66816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579600" y="371520"/>
            <a:ext cx="80992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rint Manag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20560" y="1562040"/>
            <a:ext cx="81025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UI features beyond Windows 3.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bar, shows entire network queu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browser shows all printers on the n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Viewers” enable remote administratio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driver setup only required for locally connected print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 Manager manages net print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35120" y="2655720"/>
            <a:ext cx="7466040" cy="331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997760" y="5811840"/>
            <a:ext cx="82548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066680" y="228600"/>
            <a:ext cx="701028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vent Viewer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View and control event service lo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143000" y="1905120"/>
            <a:ext cx="6858000" cy="42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facility for logging events by system and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e (3) logs def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, Security, 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terable view of event lo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 event logs as text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manages logs on any server or works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864560" y="5510160"/>
            <a:ext cx="9302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50920" y="228600"/>
            <a:ext cx="8643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dvanced Serv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1581120"/>
            <a:ext cx="71629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ility to act as a domain contro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Network Log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 re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fault-tolerant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rror/Duplexing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pe set with parity (Raid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able”, full-featured versions of administration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838080" y="255600"/>
            <a:ext cx="746748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 Manager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rol “User-level” security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104840" y="1828800"/>
            <a:ext cx="6934320" cy="37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users and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/delete, modify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security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rights, account policy, aud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dom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administer other domains*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827840" y="5516640"/>
            <a:ext cx="110484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