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6769B8-B74F-4693-9B8B-C915166D2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G also defining embedded SQL.  This is an alternative programming method.  Makes more sense for apps talking to multiple DB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 is based on SQL, but in no way means that only talks to SQL or relational dbms.  Just a good choice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ata is remote, need comm /networking (asynch, 3270, named pipes, net bios)....ODBC spec designe d to work with vendor-supplied communicatio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ments for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ODBC get implemented in Applications?  Again, let's go back to the printer ana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YF vision means ability to browse, manipulate all data from you PC. It's the main "window" to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ta get to it.  Many different kinds of data, different formats, from SQL to file-based, to hierarchical to home-br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data, server-based, mini, or mainframe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ifferent OS's, communication/net to get there......it's a complicated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application developers, corporate developers (lots of proprietary data), and people who need to install, support, and mai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% of S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turnout given that design review las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what support m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applications that make ODBC calls to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ng, inst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hat Microsoft is developing a few drivers ourselves to bootstrap the driver effort, but expect lots of third-party work (reference lessons of early Win/OS/2 printer driv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in an ope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other environm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Macinto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s  talk to dBase, SQL Server, Oracle, Paradox, but not alot of support for others.  Far from getting at all data within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API's and APP api's for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pp vendor, each database is a new, unique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is the beginning of a standard, but are differences  in syn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in dbms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 SQL doesn't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existing solutions: DAL, EDA, Datalens, SQL-Link.  All do about same thing,  but suffer from one or more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ot open (not a system SW mind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ven't generated critical mass (resources, commitment, strate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  ultimately a sys sw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00600" y="33480"/>
            <a:ext cx="34815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 ‘93 (2rd talk) 6/93 </a:t>
            </a:r>
            <a:fld id="{936C8782-F52B-4812-8341-F1CE2C9CA006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0.wmf"/><Relationship Id="rId8" Type="http://schemas.openxmlformats.org/officeDocument/2006/relationships/image" Target="../media/image14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2.wmf"/><Relationship Id="rId6" Type="http://schemas.openxmlformats.org/officeDocument/2006/relationships/image" Target="../media/image10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174680"/>
            <a:ext cx="817236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7800" y="228600"/>
            <a:ext cx="852948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 (ODBC)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19040" y="1943280"/>
            <a:ext cx="7162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for connecting to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SQL Access Group (SAG) C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industr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 API in a future version of Window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08680" y="1293840"/>
            <a:ext cx="2021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035080" y="228600"/>
            <a:ext cx="5073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Provides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22480" y="1436760"/>
            <a:ext cx="6821640" cy="4886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362400" y="3532320"/>
            <a:ext cx="2257560" cy="8794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84360" y="2824200"/>
            <a:ext cx="25970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527800" y="2631960"/>
            <a:ext cx="14191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113360" y="2438280"/>
            <a:ext cx="8287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70040" y="1366920"/>
            <a:ext cx="12096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427800" y="1409760"/>
            <a:ext cx="18399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84480" y="1389240"/>
            <a:ext cx="1133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90680" y="5481720"/>
            <a:ext cx="11714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70040" y="6167520"/>
            <a:ext cx="1285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0280" y="5289480"/>
            <a:ext cx="1514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27680" y="6167520"/>
            <a:ext cx="17049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127920" y="5524560"/>
            <a:ext cx="150480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55800" y="228600"/>
            <a:ext cx="7232760" cy="13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</a:t>
            </a:r>
            <a:br>
              <a:rPr sz="4500"/>
            </a:b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A Standard API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9242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databas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calability fo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ens application support for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development bu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API con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0960" y="228600"/>
            <a:ext cx="8183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Technical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38400" y="1333440"/>
            <a:ext cx="66675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Level Interface (C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-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QL and non-SQ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G spec plus enhancement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y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ollable cur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38280" y="228600"/>
            <a:ext cx="606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22240" y="1589040"/>
            <a:ext cx="3254400" cy="8110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12880" y="3386160"/>
            <a:ext cx="3262320" cy="88092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22240" y="2486160"/>
            <a:ext cx="3244680" cy="81432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03160" y="2443320"/>
            <a:ext cx="4538880" cy="7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6160" bIns="-56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0280" y="334152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75240" y="2214720"/>
            <a:ext cx="193356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553000" y="303372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98480" y="4348080"/>
            <a:ext cx="3257640" cy="81756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8480" y="430524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84960" y="4011480"/>
            <a:ext cx="30369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6400" y="5819760"/>
            <a:ext cx="194616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00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7240" y="228600"/>
            <a:ext cx="9031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22240" y="1389240"/>
            <a:ext cx="3297240" cy="83340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12880" y="3108240"/>
            <a:ext cx="3305160" cy="7524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22240" y="2293920"/>
            <a:ext cx="3287880" cy="75708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03160" y="2251080"/>
            <a:ext cx="453888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240" y="3084480"/>
            <a:ext cx="44960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18080" y="2021040"/>
            <a:ext cx="20257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532480" y="279720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12880" y="3875040"/>
            <a:ext cx="3305160" cy="7016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3400" y="4656240"/>
            <a:ext cx="3286080" cy="701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41320" y="38988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3400" y="4608360"/>
            <a:ext cx="456732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551560" y="4264200"/>
            <a:ext cx="219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570640" y="3540240"/>
            <a:ext cx="1830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386400" y="5911920"/>
            <a:ext cx="246708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18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4320" y="228600"/>
            <a:ext cx="7515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e Tier Driver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09520" y="1143000"/>
            <a:ext cx="87249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file access (dBASE,    Paradox) "Engine in a Driver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and thre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database servers, intelligent backends, gateways (Oracle, SQL Server, DEC Rdb, Ingres, Teradata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Passthru" logic (where applic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317600" y="700200"/>
            <a:ext cx="6462720" cy="4832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017800" y="4191120"/>
            <a:ext cx="15382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575160" y="2608200"/>
            <a:ext cx="987480" cy="1382760"/>
          </a:xfrm>
          <a:prstGeom prst="rect">
            <a:avLst/>
          </a:prstGeom>
          <a:gradFill rotWithShape="0">
            <a:gsLst>
              <a:gs pos="0">
                <a:srgbClr val="36001f"/>
              </a:gs>
              <a:gs pos="100000">
                <a:srgbClr val="b5006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36960" y="1508040"/>
            <a:ext cx="2952720" cy="487440"/>
          </a:xfrm>
          <a:prstGeom prst="rect">
            <a:avLst/>
          </a:prstGeom>
          <a:gradFill rotWithShape="0">
            <a:gsLst>
              <a:gs pos="0">
                <a:srgbClr val="063f39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400040" y="454644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860480" y="5494320"/>
            <a:ext cx="1371600" cy="65736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VAX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10080" y="2608200"/>
            <a:ext cx="1003320" cy="1382760"/>
          </a:xfrm>
          <a:prstGeom prst="rect">
            <a:avLst/>
          </a:prstGeom>
          <a:gradFill rotWithShape="0">
            <a:gsLst>
              <a:gs pos="0">
                <a:srgbClr val="00201d"/>
              </a:gs>
              <a:gs pos="100000">
                <a:srgbClr val="006b6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634080" y="487692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562720" y="5613480"/>
            <a:ext cx="1943280" cy="34920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6320" y="2025720"/>
            <a:ext cx="2954160" cy="625320"/>
          </a:xfrm>
          <a:prstGeom prst="rect">
            <a:avLst/>
          </a:prstGeom>
          <a:gradFill rotWithShape="0">
            <a:gsLst>
              <a:gs pos="0">
                <a:srgbClr val="003400"/>
              </a:gs>
              <a:gs pos="100000">
                <a:srgbClr val="00a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43160" y="14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55276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14520" y="228600"/>
            <a:ext cx="7915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 Architectur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ice 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71560" y="1947960"/>
            <a:ext cx="3247920" cy="1481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61840" y="4732200"/>
            <a:ext cx="3233880" cy="987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driver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60400" y="5695920"/>
            <a:ext cx="3254400" cy="7840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88840" y="3443400"/>
            <a:ext cx="3214800" cy="12826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.k.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0400" y="3457440"/>
            <a:ext cx="44816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60400" y="46944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6040" y="3241800"/>
            <a:ext cx="31212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lient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546880" y="4402080"/>
            <a:ext cx="2004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27440" y="2073240"/>
            <a:ext cx="41688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- calls ODBC fns - to submit SQL stmts/retrieve resul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76760" y="4959360"/>
            <a:ext cx="41702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ODBC fn calls, submits SQL requests to a specific database &amp; returns results to an applica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13320" y="3716280"/>
            <a:ext cx="41688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s the ODBC Driver for applica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2120" y="5122800"/>
            <a:ext cx="45072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562040" y="11793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08000" y="1876320"/>
            <a:ext cx="3565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76200" y="228600"/>
            <a:ext cx="6593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23760" y="228600"/>
            <a:ext cx="7296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At Your Fingerti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6680" y="4243320"/>
            <a:ext cx="1992240" cy="10717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440" y="3152880"/>
            <a:ext cx="1903320" cy="56988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9080" y="1076400"/>
            <a:ext cx="18478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 V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00640" y="990720"/>
            <a:ext cx="134316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04160" y="2533680"/>
            <a:ext cx="17524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0240" y="3765600"/>
            <a:ext cx="866880" cy="153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6320" y="3898800"/>
            <a:ext cx="3668760" cy="215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095640" y="5627520"/>
            <a:ext cx="2567160" cy="758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 flipV="1">
            <a:off x="3314880" y="3479760"/>
            <a:ext cx="836280" cy="585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36840" y="3457440"/>
            <a:ext cx="335160" cy="4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443320" y="2808360"/>
            <a:ext cx="1228680" cy="69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14880" y="3429000"/>
            <a:ext cx="671400" cy="636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857840" y="3414600"/>
            <a:ext cx="42840" cy="171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57840" y="2814480"/>
            <a:ext cx="771480" cy="77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986360" y="4243320"/>
            <a:ext cx="10429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815080" y="4243320"/>
            <a:ext cx="21420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815080" y="4143240"/>
            <a:ext cx="1271520" cy="2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524560" y="1494000"/>
            <a:ext cx="861840" cy="1533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089840" y="3117960"/>
            <a:ext cx="1476360" cy="2781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293840" y="1503360"/>
            <a:ext cx="11923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670040" y="120168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37024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15236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71720" y="1898640"/>
            <a:ext cx="354636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7012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29536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38400" y="228600"/>
            <a:ext cx="666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8920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359100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14680" y="2562120"/>
            <a:ext cx="1108080" cy="133344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88944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H="1">
            <a:off x="3989520" y="4191120"/>
            <a:ext cx="1199880" cy="12380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075280" y="3546360"/>
            <a:ext cx="1657440" cy="106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300320" y="228600"/>
            <a:ext cx="6545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17520" y="12081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917720" y="523872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31035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03440" y="5910120"/>
            <a:ext cx="194796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403440" y="526716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flipH="1">
            <a:off x="4046400" y="5272200"/>
            <a:ext cx="1271880" cy="2142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5480" y="1892160"/>
            <a:ext cx="3700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22760" y="3924360"/>
            <a:ext cx="75960" cy="13618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03640" y="3924360"/>
            <a:ext cx="180720" cy="1324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199120" y="5286240"/>
            <a:ext cx="90360" cy="208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189400" y="5124600"/>
            <a:ext cx="1343160" cy="399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280200" y="4691160"/>
            <a:ext cx="833400" cy="1581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6823080" y="463248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289560" y="2798640"/>
            <a:ext cx="838080" cy="1581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6894360" y="2981160"/>
            <a:ext cx="1695600" cy="6652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075280" y="4222800"/>
            <a:ext cx="95040" cy="3873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322800" y="6024600"/>
            <a:ext cx="2438280" cy="6429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84644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889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88960" y="39434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236600" y="228600"/>
            <a:ext cx="6670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onnectivit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0040" y="917640"/>
            <a:ext cx="6370560" cy="5121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446200" y="1476360"/>
            <a:ext cx="448776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125360" y="228600"/>
            <a:ext cx="68929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400040" y="895320"/>
            <a:ext cx="6370560" cy="5122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38480" y="1476360"/>
            <a:ext cx="112392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xc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303800" y="1481040"/>
            <a:ext cx="128124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o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373560" y="1476360"/>
            <a:ext cx="92880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559480" y="1476360"/>
            <a:ext cx="141588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c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032280" y="228600"/>
            <a:ext cx="3079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90720" y="12762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Preview held November '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Spec available now (in SD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-release SDK shipped March ‘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SDK shipped September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Conference March 9-10,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ackaged product Windows in '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185840" y="228600"/>
            <a:ext cx="6773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Microsoft Commitmen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514520" y="203832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Btr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d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Fox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do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X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 dri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Text (ASCII delim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5680" y="228600"/>
            <a:ext cx="897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itted ODBC Support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71680" y="1162080"/>
            <a:ext cx="80010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Andy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B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ll H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incom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mande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DEC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Ea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field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Fulcrum Technologi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Gup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wlett-Packar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ation Builder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gr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Q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Lo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db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Decision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ri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ust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C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n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ove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Ora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 Ahea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ione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ower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es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aim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et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hester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eimen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oftware 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bas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Tand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Uni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Vertisoft Researc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Wat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2527200" y="228600"/>
            <a:ext cx="4089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ODB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876320" y="1733400"/>
            <a:ext cx="5391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technical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reviewed by AN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nsored by X/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P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49280" y="228600"/>
            <a:ext cx="8247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Resour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34080" y="488628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48400" y="179064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012000" y="234324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297160" y="414504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078680" y="36766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635800" y="5600520"/>
            <a:ext cx="154296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257960" y="44146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7586640" y="4711680"/>
            <a:ext cx="11955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821200" y="5724360"/>
            <a:ext cx="11350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35640" y="3156120"/>
            <a:ext cx="101772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5022720"/>
            <a:ext cx="1243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476440" y="3290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71360" y="265752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5040" y="298116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6920" y="33004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5520" y="35290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4120" y="37576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97480" y="2595600"/>
            <a:ext cx="961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21320" y="3486240"/>
            <a:ext cx="1143360" cy="1200600"/>
          </a:xfrm>
          <a:custGeom>
            <a:avLst/>
            <a:gdLst/>
            <a:ahLst/>
            <a:rect l="0" t="0" r="r" b="b"/>
            <a:pathLst>
              <a:path w="3176" h="3335">
                <a:moveTo>
                  <a:pt x="0" y="841"/>
                </a:moveTo>
                <a:lnTo>
                  <a:pt x="1012" y="841"/>
                </a:lnTo>
                <a:lnTo>
                  <a:pt x="1342" y="549"/>
                </a:lnTo>
                <a:lnTo>
                  <a:pt x="1150" y="357"/>
                </a:lnTo>
                <a:lnTo>
                  <a:pt x="2461" y="0"/>
                </a:lnTo>
                <a:lnTo>
                  <a:pt x="1826" y="1032"/>
                </a:lnTo>
                <a:lnTo>
                  <a:pt x="1634" y="841"/>
                </a:lnTo>
                <a:lnTo>
                  <a:pt x="1342" y="1079"/>
                </a:lnTo>
                <a:lnTo>
                  <a:pt x="1342" y="1462"/>
                </a:lnTo>
                <a:lnTo>
                  <a:pt x="1826" y="1462"/>
                </a:lnTo>
                <a:lnTo>
                  <a:pt x="1826" y="1171"/>
                </a:lnTo>
                <a:lnTo>
                  <a:pt x="3176" y="1734"/>
                </a:lnTo>
                <a:lnTo>
                  <a:pt x="1826" y="2137"/>
                </a:lnTo>
                <a:lnTo>
                  <a:pt x="1826" y="1846"/>
                </a:lnTo>
                <a:lnTo>
                  <a:pt x="1342" y="1846"/>
                </a:lnTo>
                <a:lnTo>
                  <a:pt x="1342" y="2183"/>
                </a:lnTo>
                <a:lnTo>
                  <a:pt x="1634" y="2468"/>
                </a:lnTo>
                <a:lnTo>
                  <a:pt x="1826" y="2276"/>
                </a:lnTo>
                <a:lnTo>
                  <a:pt x="2342" y="3335"/>
                </a:lnTo>
                <a:lnTo>
                  <a:pt x="1111" y="2899"/>
                </a:lnTo>
                <a:lnTo>
                  <a:pt x="1342" y="2713"/>
                </a:lnTo>
                <a:lnTo>
                  <a:pt x="1012" y="2375"/>
                </a:lnTo>
                <a:lnTo>
                  <a:pt x="0" y="2375"/>
                </a:lnTo>
                <a:lnTo>
                  <a:pt x="0" y="841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0480" y="3776760"/>
            <a:ext cx="754560" cy="536760"/>
          </a:xfrm>
          <a:custGeom>
            <a:avLst/>
            <a:gdLst/>
            <a:ahLst/>
            <a:rect l="0" t="0" r="r" b="b"/>
            <a:pathLst>
              <a:path w="2096" h="1491">
                <a:moveTo>
                  <a:pt x="1332" y="351"/>
                </a:moveTo>
                <a:lnTo>
                  <a:pt x="0" y="351"/>
                </a:lnTo>
                <a:lnTo>
                  <a:pt x="0" y="1140"/>
                </a:lnTo>
                <a:lnTo>
                  <a:pt x="1367" y="1140"/>
                </a:lnTo>
                <a:lnTo>
                  <a:pt x="1367" y="1491"/>
                </a:lnTo>
                <a:lnTo>
                  <a:pt x="2096" y="760"/>
                </a:lnTo>
                <a:lnTo>
                  <a:pt x="1332" y="0"/>
                </a:lnTo>
                <a:lnTo>
                  <a:pt x="1332" y="35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050840" y="228600"/>
            <a:ext cx="704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ivity Toda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76240" y="1790640"/>
            <a:ext cx="739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terogeneity is a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are not widely conn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development is exp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8520" y="228600"/>
            <a:ext cx="83487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For An Open Services Architectu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4680" y="496584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56160" y="279072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819760" y="334332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190600" y="42451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415280" y="45910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508720" y="5637240"/>
            <a:ext cx="1542960" cy="928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237360" y="3433680"/>
            <a:ext cx="67644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380360" y="552276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7655040" y="5626080"/>
            <a:ext cx="138744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586480" y="5888160"/>
            <a:ext cx="13050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8086680" y="2212920"/>
            <a:ext cx="565200" cy="1163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7548480" y="3257640"/>
            <a:ext cx="1565280" cy="1057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105760" y="3505320"/>
            <a:ext cx="70632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905280"/>
            <a:ext cx="6462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051760" y="2833560"/>
            <a:ext cx="6303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404120" y="5119560"/>
            <a:ext cx="5666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29440" y="3768840"/>
            <a:ext cx="1017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43640" y="4757760"/>
            <a:ext cx="124308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2370240" y="339084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357200" y="1246320"/>
            <a:ext cx="64310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need standard API to access services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t systems have to work in a heterogeneous world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5160" y="275760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8480" y="308124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360" y="34005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60" y="36291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7560" y="38577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67360" y="3990960"/>
            <a:ext cx="957600" cy="462240"/>
          </a:xfrm>
          <a:custGeom>
            <a:avLst/>
            <a:gdLst/>
            <a:ahLst/>
            <a:rect l="0" t="0" r="r" b="b"/>
            <a:pathLst>
              <a:path w="2660" h="1284">
                <a:moveTo>
                  <a:pt x="1688" y="302"/>
                </a:moveTo>
                <a:lnTo>
                  <a:pt x="0" y="302"/>
                </a:lnTo>
                <a:lnTo>
                  <a:pt x="0" y="982"/>
                </a:lnTo>
                <a:lnTo>
                  <a:pt x="1739" y="982"/>
                </a:lnTo>
                <a:lnTo>
                  <a:pt x="1739" y="1284"/>
                </a:lnTo>
                <a:lnTo>
                  <a:pt x="2660" y="655"/>
                </a:lnTo>
                <a:lnTo>
                  <a:pt x="1688" y="0"/>
                </a:lnTo>
                <a:lnTo>
                  <a:pt x="1688" y="302"/>
                </a:lnTo>
                <a:close/>
              </a:path>
            </a:pathLst>
          </a:custGeom>
          <a:solidFill>
            <a:srgbClr val="ffbb5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17560" y="228600"/>
            <a:ext cx="7510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ervices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642000" y="375588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85880" y="4908600"/>
            <a:ext cx="1442880" cy="6588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65120" y="2789280"/>
            <a:ext cx="6386400" cy="906480"/>
          </a:xfrm>
          <a:prstGeom prst="rect">
            <a:avLst/>
          </a:prstGeom>
          <a:solidFill>
            <a:srgbClr val="8901f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85880" y="1008000"/>
            <a:ext cx="172260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94240" y="1000080"/>
            <a:ext cx="177804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47760" y="4680000"/>
            <a:ext cx="1566720" cy="74448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70440" y="4900680"/>
            <a:ext cx="1463760" cy="6033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41840" y="4672080"/>
            <a:ext cx="1463760" cy="717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1200" y="4965840"/>
            <a:ext cx="1608120" cy="571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8680" y="6033960"/>
            <a:ext cx="851364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27720" y="5541840"/>
            <a:ext cx="0" cy="473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550960" y="1914480"/>
            <a:ext cx="0" cy="912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456080" y="3784680"/>
            <a:ext cx="0" cy="9111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27640" y="188604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394320" y="188424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48040" y="377208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41400" y="2184480"/>
            <a:ext cx="73342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71640" y="3814920"/>
            <a:ext cx="7257960" cy="426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r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576760" y="1012680"/>
            <a:ext cx="1736640" cy="843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354400" y="2959200"/>
            <a:ext cx="45673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ng Syste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indows/MS-DOS and Windows NT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62320" y="580068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905440" y="4657680"/>
            <a:ext cx="1574640" cy="7174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398680" y="5570640"/>
            <a:ext cx="1800" cy="430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684840" y="5484960"/>
            <a:ext cx="0" cy="558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748480" y="5800680"/>
            <a:ext cx="1395360" cy="885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61840" y="577224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28800" y="5935680"/>
            <a:ext cx="14191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71680" y="5935680"/>
            <a:ext cx="1380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43680" y="5992920"/>
            <a:ext cx="8668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82640" y="228600"/>
            <a:ext cx="75801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 Heterogeneou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1320" y="35593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19160" y="2705040"/>
            <a:ext cx="932040" cy="731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7760" y="2395440"/>
            <a:ext cx="229392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56080" y="1355760"/>
            <a:ext cx="982800" cy="1628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319800" y="1136520"/>
            <a:ext cx="1541520" cy="1219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979960" y="3398760"/>
            <a:ext cx="738360" cy="1366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572160" y="312912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6375240" y="5659560"/>
            <a:ext cx="6508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43600" y="1438200"/>
            <a:ext cx="7905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994440" y="3367080"/>
            <a:ext cx="771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951440" y="5433840"/>
            <a:ext cx="480960" cy="981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5222880" y="49942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5427720" y="5208480"/>
            <a:ext cx="15177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47840" y="2776680"/>
            <a:ext cx="1824480" cy="1729080"/>
          </a:xfrm>
          <a:custGeom>
            <a:avLst/>
            <a:gdLst/>
            <a:ahLst/>
            <a:rect l="0" t="0" r="r" b="b"/>
            <a:pathLst>
              <a:path w="5068" h="4803">
                <a:moveTo>
                  <a:pt x="3368" y="18"/>
                </a:moveTo>
                <a:lnTo>
                  <a:pt x="4464" y="0"/>
                </a:lnTo>
                <a:lnTo>
                  <a:pt x="4102" y="1033"/>
                </a:lnTo>
                <a:lnTo>
                  <a:pt x="3909" y="811"/>
                </a:lnTo>
                <a:lnTo>
                  <a:pt x="3644" y="1040"/>
                </a:lnTo>
                <a:lnTo>
                  <a:pt x="3325" y="1276"/>
                </a:lnTo>
                <a:lnTo>
                  <a:pt x="3085" y="1461"/>
                </a:lnTo>
                <a:lnTo>
                  <a:pt x="2780" y="1662"/>
                </a:lnTo>
                <a:lnTo>
                  <a:pt x="2397" y="1879"/>
                </a:lnTo>
                <a:lnTo>
                  <a:pt x="1985" y="2048"/>
                </a:lnTo>
                <a:lnTo>
                  <a:pt x="4188" y="2050"/>
                </a:lnTo>
                <a:lnTo>
                  <a:pt x="4185" y="1773"/>
                </a:lnTo>
                <a:lnTo>
                  <a:pt x="5068" y="2390"/>
                </a:lnTo>
                <a:lnTo>
                  <a:pt x="4185" y="3011"/>
                </a:lnTo>
                <a:lnTo>
                  <a:pt x="4190" y="2738"/>
                </a:lnTo>
                <a:lnTo>
                  <a:pt x="1959" y="2738"/>
                </a:lnTo>
                <a:lnTo>
                  <a:pt x="2383" y="2918"/>
                </a:lnTo>
                <a:lnTo>
                  <a:pt x="2716" y="3089"/>
                </a:lnTo>
                <a:lnTo>
                  <a:pt x="3023" y="3293"/>
                </a:lnTo>
                <a:lnTo>
                  <a:pt x="3339" y="3531"/>
                </a:lnTo>
                <a:lnTo>
                  <a:pt x="3589" y="3709"/>
                </a:lnTo>
                <a:lnTo>
                  <a:pt x="3909" y="3975"/>
                </a:lnTo>
                <a:lnTo>
                  <a:pt x="4102" y="3772"/>
                </a:lnTo>
                <a:lnTo>
                  <a:pt x="4471" y="4803"/>
                </a:lnTo>
                <a:lnTo>
                  <a:pt x="3368" y="4777"/>
                </a:lnTo>
                <a:lnTo>
                  <a:pt x="3530" y="4521"/>
                </a:lnTo>
                <a:lnTo>
                  <a:pt x="3220" y="4322"/>
                </a:lnTo>
                <a:lnTo>
                  <a:pt x="2890" y="4086"/>
                </a:lnTo>
                <a:lnTo>
                  <a:pt x="2585" y="3892"/>
                </a:lnTo>
                <a:lnTo>
                  <a:pt x="2304" y="3721"/>
                </a:lnTo>
                <a:lnTo>
                  <a:pt x="2040" y="3575"/>
                </a:lnTo>
                <a:lnTo>
                  <a:pt x="1762" y="3434"/>
                </a:lnTo>
                <a:lnTo>
                  <a:pt x="1417" y="3281"/>
                </a:lnTo>
                <a:lnTo>
                  <a:pt x="1063" y="3212"/>
                </a:lnTo>
                <a:lnTo>
                  <a:pt x="0" y="3210"/>
                </a:lnTo>
                <a:lnTo>
                  <a:pt x="0" y="1604"/>
                </a:lnTo>
                <a:lnTo>
                  <a:pt x="1061" y="1604"/>
                </a:lnTo>
                <a:lnTo>
                  <a:pt x="1417" y="1532"/>
                </a:lnTo>
                <a:lnTo>
                  <a:pt x="1845" y="1341"/>
                </a:lnTo>
                <a:lnTo>
                  <a:pt x="2126" y="1181"/>
                </a:lnTo>
                <a:lnTo>
                  <a:pt x="2364" y="1045"/>
                </a:lnTo>
                <a:lnTo>
                  <a:pt x="2642" y="878"/>
                </a:lnTo>
                <a:lnTo>
                  <a:pt x="2906" y="707"/>
                </a:lnTo>
                <a:lnTo>
                  <a:pt x="3197" y="506"/>
                </a:lnTo>
                <a:lnTo>
                  <a:pt x="3539" y="272"/>
                </a:lnTo>
                <a:lnTo>
                  <a:pt x="3368" y="1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7520" y="228600"/>
            <a:ext cx="8508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9072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proprietary database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each database must be specially co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s support popular databases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do not support al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857240" y="1733400"/>
            <a:ext cx="5429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sol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critical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ystem softwar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limitat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