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915160" y="69840"/>
            <a:ext cx="32162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. Allard93101 Xhibition ‘93 (2nd talk) 6/93 </a:t>
            </a:r>
            <a:fld id="{EEE81960-30EB-4AD8-8F4E-94B9F74171CD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3843360" y="2724120"/>
            <a:ext cx="4692600" cy="2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J. Alla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 Manag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 Technolog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608040" y="1987560"/>
            <a:ext cx="2889360" cy="334656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 txBox="1"/>
          <p:nvPr/>
        </p:nvSpPr>
        <p:spPr>
          <a:xfrm>
            <a:off x="485640" y="5144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 Strateg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552600" y="228600"/>
            <a:ext cx="8039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 Of Windows NT Networ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057320" y="1714680"/>
            <a:ext cx="702936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asy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build well-integrated network services (file/print sharing, e-mail)  into the base operat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protect services and actions through centralized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dhere to open standards, collaboration with other vend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leverage built-in fault tole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operabl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support other types of networks, support third party eff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81480" y="2044800"/>
            <a:ext cx="1752480" cy="77472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719680" y="2967120"/>
            <a:ext cx="1214280" cy="533520"/>
          </a:xfrm>
          <a:prstGeom prst="rect">
            <a:avLst/>
          </a:prstGeom>
          <a:solidFill>
            <a:srgbClr val="50009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/Print Shar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19520" y="3573360"/>
            <a:ext cx="4000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056360" y="3467160"/>
            <a:ext cx="606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D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752560" y="5640480"/>
            <a:ext cx="3772080" cy="457200"/>
            <a:chOff x="2752560" y="5640480"/>
            <a:chExt cx="3772080" cy="457200"/>
          </a:xfrm>
        </p:grpSpPr>
        <p:sp>
          <p:nvSpPr>
            <p:cNvPr id="50" name=""/>
            <p:cNvSpPr/>
            <p:nvPr/>
          </p:nvSpPr>
          <p:spPr>
            <a:xfrm>
              <a:off x="2752560" y="5640480"/>
              <a:ext cx="3772080" cy="45720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 txBox="1"/>
            <p:nvPr/>
          </p:nvSpPr>
          <p:spPr>
            <a:xfrm>
              <a:off x="3197160" y="5724360"/>
              <a:ext cx="28843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Interface Driver(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5154480" y="3664080"/>
            <a:ext cx="1359000" cy="1782720"/>
            <a:chOff x="5154480" y="3664080"/>
            <a:chExt cx="1359000" cy="1782720"/>
          </a:xfrm>
        </p:grpSpPr>
        <p:sp>
          <p:nvSpPr>
            <p:cNvPr id="53" name=""/>
            <p:cNvSpPr/>
            <p:nvPr/>
          </p:nvSpPr>
          <p:spPr>
            <a:xfrm>
              <a:off x="5154480" y="3664080"/>
              <a:ext cx="1359000" cy="178272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5286240" y="4430880"/>
              <a:ext cx="1144440" cy="31608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BEU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 txBox="1"/>
          <p:nvPr/>
        </p:nvSpPr>
        <p:spPr>
          <a:xfrm>
            <a:off x="4640400" y="2973240"/>
            <a:ext cx="998640" cy="473040"/>
          </a:xfrm>
          <a:prstGeom prst="rect">
            <a:avLst/>
          </a:prstGeom>
          <a:solidFill>
            <a:srgbClr val="1f43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DD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30440" y="2967120"/>
            <a:ext cx="1065240" cy="473040"/>
          </a:xfrm>
          <a:prstGeom prst="rect">
            <a:avLst/>
          </a:prstGeom>
          <a:solidFill>
            <a:srgbClr val="712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57480" y="3597120"/>
            <a:ext cx="4900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81160" y="5546880"/>
            <a:ext cx="48783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989760" y="5380200"/>
            <a:ext cx="10317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3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58920" y="2890800"/>
            <a:ext cx="4891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809640" y="3070080"/>
            <a:ext cx="1420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AP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97160" y="2043000"/>
            <a:ext cx="2732040" cy="776160"/>
            <a:chOff x="2297160" y="2043000"/>
            <a:chExt cx="2732040" cy="776160"/>
          </a:xfrm>
        </p:grpSpPr>
        <p:sp>
          <p:nvSpPr>
            <p:cNvPr id="63" name=""/>
            <p:cNvSpPr/>
            <p:nvPr/>
          </p:nvSpPr>
          <p:spPr>
            <a:xfrm>
              <a:off x="2297160" y="2043000"/>
              <a:ext cx="2732040" cy="77616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 txBox="1"/>
            <p:nvPr/>
          </p:nvSpPr>
          <p:spPr>
            <a:xfrm>
              <a:off x="2900520" y="2171520"/>
              <a:ext cx="1571760" cy="51768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“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Aware”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pplicati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 txBox="1"/>
          <p:nvPr/>
        </p:nvSpPr>
        <p:spPr>
          <a:xfrm>
            <a:off x="5343480" y="2146320"/>
            <a:ext cx="1309680" cy="51768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vity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55840" y="4041720"/>
            <a:ext cx="782640" cy="1063800"/>
          </a:xfrm>
          <a:prstGeom prst="rect">
            <a:avLst/>
          </a:prstGeom>
          <a:solidFill>
            <a:srgbClr val="037c0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332160" y="4354560"/>
            <a:ext cx="630360" cy="473040"/>
          </a:xfrm>
          <a:prstGeom prst="rect">
            <a:avLst/>
          </a:prstGeom>
          <a:solidFill>
            <a:srgbClr val="037c0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65520" y="3664080"/>
            <a:ext cx="2263680" cy="2984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65520" y="5202360"/>
            <a:ext cx="2263680" cy="2840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65520" y="3664080"/>
            <a:ext cx="434880" cy="18223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847960" y="3890880"/>
            <a:ext cx="334800" cy="15127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70240" y="4041720"/>
            <a:ext cx="782640" cy="106380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313160" y="4344840"/>
            <a:ext cx="573120" cy="49212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X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87440" y="2967120"/>
            <a:ext cx="1065240" cy="473040"/>
          </a:xfrm>
          <a:prstGeom prst="rect">
            <a:avLst/>
          </a:prstGeom>
          <a:solidFill>
            <a:srgbClr val="b760f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/D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:  The Key To UNIX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Interoperabil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33360" y="1739880"/>
            <a:ext cx="847728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is recognized as the common-denominator protocol across many diverse platforms, including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on Windows NT offe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open, scalable networking protocol for the built-in networking services on Windows NT (file, print, e-mai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basis for connectivity to heterogeneous systems, including basic connectivity utilities such as FTP client and server, Telnet, and r* comma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framework for heterogeneous client-server development using Windows Sockets and DCE-compliant RP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And TCP/I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028880" y="1486080"/>
            <a:ext cx="708660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TCP/IP represents Microsoft’s strategic internetworking protocol for Scalable Windows Netwo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90720" y="3314880"/>
            <a:ext cx="7162920" cy="21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developments will focus on filling out our TCP/IP technologies to build very large, very manageable Windows ne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will continue to support third party development efforts to build quality connectivity applications and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0" y="228600"/>
            <a:ext cx="914400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ing: Connectivity Options Through ISV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76440" y="1733400"/>
            <a:ext cx="77914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:  client and server under development by several vendors, public domain server available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Windows: client development libraries and tools, several X server implementations under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SMTP, Telnet server, other network services and utilities under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Windows Sockets support allows emerging 16-bit applications to run unmodif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ling Out The Windows NT TCP/IP Pi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333600" y="4210200"/>
            <a:ext cx="2724120" cy="1047600"/>
          </a:xfrm>
          <a:prstGeom prst="rect">
            <a:avLst/>
          </a:prstGeom>
          <a:solidFill>
            <a:srgbClr val="006b61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84520" y="1938240"/>
            <a:ext cx="1943280" cy="641520"/>
          </a:xfrm>
          <a:prstGeom prst="rect">
            <a:avLst/>
          </a:prstGeom>
          <a:solidFill>
            <a:srgbClr val="006b61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FTP, r*, Teln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019240" y="3443400"/>
            <a:ext cx="2108160" cy="641520"/>
          </a:xfrm>
          <a:prstGeom prst="rect">
            <a:avLst/>
          </a:prstGeom>
          <a:solidFill>
            <a:srgbClr val="006b61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9360" y="2948040"/>
            <a:ext cx="1320840" cy="366840"/>
          </a:xfrm>
          <a:prstGeom prst="rect">
            <a:avLst/>
          </a:prstGeom>
          <a:solidFill>
            <a:srgbClr val="bc37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479840" y="3462480"/>
            <a:ext cx="615960" cy="366840"/>
          </a:xfrm>
          <a:prstGeom prst="rect">
            <a:avLst/>
          </a:prstGeom>
          <a:solidFill>
            <a:srgbClr val="bc37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334120" y="3443400"/>
            <a:ext cx="2400480" cy="641520"/>
          </a:xfrm>
          <a:prstGeom prst="rect">
            <a:avLst/>
          </a:prstGeom>
          <a:solidFill>
            <a:srgbClr val="bc37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 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289480" y="2128680"/>
            <a:ext cx="1981080" cy="641520"/>
          </a:xfrm>
          <a:prstGeom prst="rect">
            <a:avLst/>
          </a:prstGeom>
          <a:solidFill>
            <a:srgbClr val="bc37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Xlib, ONC/RP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77960" y="2662200"/>
            <a:ext cx="1892160" cy="641520"/>
          </a:xfrm>
          <a:prstGeom prst="rect">
            <a:avLst/>
          </a:prstGeom>
          <a:solidFill>
            <a:srgbClr val="006b61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DDE, R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42960" y="5715000"/>
            <a:ext cx="647640" cy="399960"/>
          </a:xfrm>
          <a:prstGeom prst="rect">
            <a:avLst/>
          </a:prstGeom>
          <a:solidFill>
            <a:srgbClr val="bc37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327400" y="5767560"/>
            <a:ext cx="5168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d by third parties, or research commu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251400" y="2948040"/>
            <a:ext cx="1657440" cy="366840"/>
          </a:xfrm>
          <a:prstGeom prst="rect">
            <a:avLst/>
          </a:prstGeom>
          <a:solidFill>
            <a:srgbClr val="bc37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pher, W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62040" y="6248520"/>
            <a:ext cx="647640" cy="399960"/>
          </a:xfrm>
          <a:prstGeom prst="rect">
            <a:avLst/>
          </a:prstGeom>
          <a:solidFill>
            <a:srgbClr val="006b6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346480" y="6319800"/>
            <a:ext cx="304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with Windows 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