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91240" y="0"/>
            <a:ext cx="34401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Lewin93101 Xhibition ‘93 (3rd talk) 6/93 </a:t>
            </a:r>
            <a:fld id="{37BCE9E1-D7D6-4147-B181-E673C55F6CFA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457280" y="1112760"/>
            <a:ext cx="622944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king Advantage of the Win32</a:t>
            </a:r>
            <a:r>
              <a:rPr b="1" lang="en-US" sz="4800" spc="-1" strike="noStrike" baseline="3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PI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Lewi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390680" y="228600"/>
            <a:ext cx="6362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1200" y="1467000"/>
            <a:ext cx="7581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ce in paging file reserved for each potentially writable page (commit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cation APIs will fail if space cannot be committed in paging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expected failures, for example, won’t fail when touching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pped files don’t need paging fil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019240" y="228600"/>
            <a:ext cx="5105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81160" y="1371600"/>
            <a:ext cx="678168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- fast mutual exclusion for threads within a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- signals the occurrence of an event; sharable between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 - sharable critical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 - traditional counting semaphore; sha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wait on single/mult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33400" y="228600"/>
            <a:ext cx="5676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52520" y="1428840"/>
            <a:ext cx="64389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and ANSI entry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file names (on appropriate F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support via ReadFile, ReadFileEx, WriteFile, and WriteFile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backs and waitable objects, not Sign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771640" y="228600"/>
            <a:ext cx="3600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ol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139068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-driven debug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att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/Write/Query/Set memory of an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Handle to an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819520" y="228600"/>
            <a:ext cx="3505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85960" y="1428840"/>
            <a:ext cx="7372440" cy="48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ized, structured repository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s the need for tex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as a multiway tree of nodes called k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key has an access control list (A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key is time-stamped (last writ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contain child keys and multiple values per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343240" y="228600"/>
            <a:ext cx="4457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447920"/>
            <a:ext cx="71629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OpenKeyEx - Opens key relative to a predefined handle (for example, HKEY_CURRENT_USER) or previously opened han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reateKeyEx - Opens or creates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SetValueEx - Writes values for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09680" y="22860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62080" y="1409760"/>
            <a:ext cx="68198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QueryValueEx - Reads values for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QueryInfoKey - Returns information for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FlushKey - Commits changes to backing st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loseKey - Closes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57440" y="1676520"/>
            <a:ext cx="58294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- Berkeley flav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, mailsl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419120" y="228600"/>
            <a:ext cx="6305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’s Interes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162160" y="1352520"/>
            <a:ext cx="48196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cellane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91040" y="228600"/>
            <a:ext cx="2762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1390680"/>
            <a:ext cx="6858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threads p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re p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may make graphics and window management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l thread local storage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synchronize thread access to memory (multiprocessor saf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81320" y="228600"/>
            <a:ext cx="2781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146700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prior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have per-process initialization and termination rout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-thread err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33600" y="1371600"/>
            <a:ext cx="6076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Thread/WaitForEx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hreadExit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eThread/Exit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pend/Resume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Pri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95440" y="228600"/>
            <a:ext cx="6153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25640" y="1542960"/>
            <a:ext cx="709452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 {                                                   tr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ry body                                         // finally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 ( expression() ) {                   finall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xception handler                         // finally hand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190600" y="228600"/>
            <a:ext cx="4762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09600" y="1981080"/>
            <a:ext cx="672480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, growable he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, low overhead, thread-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can use these for per-proces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00040" y="228600"/>
            <a:ext cx="6343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85760" y="1409760"/>
            <a:ext cx="69724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support sparse allocation of address space and provide control of page protection and attrib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stack expansion (can fail due to commit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00040" y="228600"/>
            <a:ext cx="6343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pped 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43040" y="1428840"/>
            <a:ext cx="765828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Mapping - returns handle to mapping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used to create named shared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ViewOfFile - maps virtual memory to specified mapping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mapViewOfFile - unmaps specified ma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Handle - close handle to file mapping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