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578560" y="76320"/>
            <a:ext cx="336384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k Igra(1) 93006 OLE 2.0 PDC 5/93 </a:t>
            </a:r>
            <a:fld id="{4E5750DB-91F6-4CC6-B553-7CA67097F03E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952560" y="824040"/>
            <a:ext cx="723888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mplementing Application Automation</a:t>
            </a:r>
            <a:br>
              <a:rPr sz="4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rk Igra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 Manag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ispatch Defini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720" y="1736640"/>
            <a:ext cx="7162920" cy="39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interface IDispatch : IUnknown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HRESULT GetTypeInfoCount(UINT * pctinfo) =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HRESULT GetTypeInfo(UINT itinfo, LCID lcid,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ITypeInfo ** pptinfo) =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HRESULT GetIDsOfNames(REFIID riid, char *rgszNames[], UINT cNames,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LCID lcid, DISPID rgdispid[]) =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HRESULT Invoke(LONG dispidMember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REFIID riid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LCID lcid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WORD wFlags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DISPPARAMS * pdispparams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VARIANTARG * pvargResult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EXCEPINFO * pexcepinfo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UINT * puArgErr) =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ispatch::Invok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11160" y="1736640"/>
            <a:ext cx="7321680" cy="29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::Invoke Parame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 of method or property to be acc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ssigns IDs for methods and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ray of arguments to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va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assing Argum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93680" y="1736640"/>
            <a:ext cx="695628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argument is a tagged union of type vari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s in union include string, date, object, and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atted data is passed using IData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ich Data In Varia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25480" y="1736640"/>
            <a:ext cx="749304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ataObject can hold multiple data representations like a clip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ed using the VT_UNKNOWN ta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erty set data format used for tagge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perty set has a GU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perty has a variant type tag, a 32-bit ID an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mplementation Out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71680" y="1736640"/>
            <a:ext cx="800100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 the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CHello, the controlling IUnkn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CHelloCF, hello’s class fac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 the programmability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the standard dispatch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Hello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738440" y="1736640"/>
            <a:ext cx="5667480" cy="303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window with a “Say Hello” button and a text b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er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“SayHello” meth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“HelloMessage” proper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reating Type Inform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040" y="1736640"/>
            <a:ext cx="8143920" cy="29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created using Object Definition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kTypLib compiles OD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created using DispCreateTypeIn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CreateTypeInfo accepts a data structure as inp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kTypLib Inpu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80960" y="1271520"/>
            <a:ext cx="81835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[uuid(25D9EAC2-8B93-1068-9A4C-08002B2E143C), helpstring(“Hello world version 1.0”), version(0.100)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library hel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mportlib("C:\\ole2\\beta\\debug\\stdole.tlb")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[uuid(25D9EAC3-8B93-1068-9A4C-08002B2E143C)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nterface _IHelloProgrammability : IUnknow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[helpstring(“Get or set the message used in SayHello”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propput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 HelloMessage ([in] BSTR newMessag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[propget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STR HelloMessage 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STR SayHello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[uuid(25D9EAC4-8B93-1068-9A4C-08002B2E143C)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oclass Hello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nterface _IHelloProgrammability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spTypeInfo Inpu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49320" y="1114560"/>
            <a:ext cx="7245360" cy="55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atic METHODDATA NEAR rgmdataHelloObj[]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"HelloMessage",        // Human readable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pdSetHelloMsg,         // Parameter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DMEMBER_HELLOMSG,     // Member I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METH_SETHELLOMSG,     // Method 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C_CDECL,              // Calling conven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,                     // Argument cou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DISPATCH_PROPERTYPUT,  // One of DISPATCH_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T_EMPTY               // Return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 "HelloMessage",        // Human readable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NULL,                  // Parameter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DMEMBER_HELLOMSG,     // Member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METH_GETHELLOMSG,     // Method 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C_CDECL,              // Calling conven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0,                     // Argument cou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DISPATCH_PROPERTYGET,  // One of DISPATCH_*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T_BSTR                // Return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Hello Declar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-23760" y="1392120"/>
            <a:ext cx="9191520" cy="50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 CHello : public _IHelloProgramm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// Standard OLE stuff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QueryInterface)(REFIID riid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 FAR* FAR* ppv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ULONG, AddRef)(voi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ULONG, Release)(voi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/* _IHelloProgrammability methods 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void, put_HelloMessage)(THIS_ BSTR Messag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BSTR, get_HelloMessage)(THI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BSTR, SayHello)(THI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HWND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_hwnd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ST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_bstrHelloMsg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utomation U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797120" y="1736640"/>
            <a:ext cx="5549760" cy="36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ing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ing and customizing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ail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house custom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-user custom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ng end-user tas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Hello Implement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357200" y="1104840"/>
            <a:ext cx="6429240" cy="55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 _export CDEC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Hello::put_HelloMessage(BSTR 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ysReAllocString(&amp;m_bstrHelloMsg, b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STR _export CDEC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Hello::get_HelloMessage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eturn SysAllocString(m_bstrHelloMsg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STR _export CDEC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Hello::SayHello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STR b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 = SysAllocString(m_bstrHelloMsg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etDlgItemText(m_hwnd, IDC_HELLOAREA, b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eturn b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ndard Dispatch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78000" y="1260360"/>
            <a:ext cx="8389800" cy="50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tdDispatch creates an IDispatch imple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suppl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Unknown for reference cou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ability interface poin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Info describing programmability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retu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client asks for IDispatch, return the standard dispatch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ndard Dispatch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76240" y="1104840"/>
            <a:ext cx="73915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//Creating: During constru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hresult = LoadTypeLib("hellotyp.tlb", &amp;ptlib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//Check err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hresult = ptlib-&gt;GetTypeInfoOfGuid(CLSID_CHelloTlb, &amp;ptinfo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hresult = CreateStdDispatch((IUnknown FAR *) phello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(void FAR*)(_IHelloProgrammability FAR*) phello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ptinf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&amp;punkStdDisp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//Using: Query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f (riid == IID_IUnknow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*ppv = thi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f (riid == IID_IDispatc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etur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_punkStdDisp-&gt;QueryInterface(riid, ppv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ing DispTest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836720" y="1736640"/>
            <a:ext cx="54720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ing an In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ting an Active In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ing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erty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xed 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ection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spTest Limitations/Workaroun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90720" y="1974960"/>
            <a:ext cx="7162920" cy="32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Array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Indexed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ollection Enumeration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manual it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Named Parame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al parameters are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8160" y="228600"/>
            <a:ext cx="9067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utomation Compon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55680" y="1736640"/>
            <a:ext cx="4834080" cy="33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2.0 infra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l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s scripting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952560" y="228600"/>
            <a:ext cx="7238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livery Schedu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28720" y="1346040"/>
            <a:ext cx="748656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OLE 2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 released and redistribu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2DISP.DLL, OLE2NLS.D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 Libraries first be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LIB.DLL MkTypLib.E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TEST.EXE available as testing t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3 ‘9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 Type Libr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LIB.DLL will be redistribu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79840" y="338292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utomation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66800" y="1581120"/>
            <a:ext cx="761220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 manipulated via methods     and 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resent actions (e.g., Print) or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 arg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as member functions on inte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ly set via assignment-like synta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ispatch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23960" y="1736640"/>
            <a:ext cx="769788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 is an OLE-defined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run-time-bound access to methods and 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scripting languages to manipulate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a building block for system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ispatch 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44640" y="1736640"/>
            <a:ext cx="725472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a property, get a property, or call a method using IDispatch::Invo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 object’s capabilities using IDispatch::GetTypeIn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ispatch Vs. ITypeInf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379520" y="1736640"/>
            <a:ext cx="638640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ypeInfo is used to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rib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 class or 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ke an .h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 is used to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ipulat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 in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 can return ITypeIn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90440" y="228600"/>
            <a:ext cx="876312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ispatch And Custom Interfa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95360" y="1447920"/>
            <a:ext cx="8153280" cy="27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custom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has “Automation”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IDispatch to expose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scripting tools and interproce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 information can automate deleg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62320" y="4578480"/>
            <a:ext cx="5624640" cy="17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