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7C9167F-279E-4537-9B3D-F5D93E59E2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ample is IAdviseSink2; added late in the game; easy for containers to indicate they want the information; just respond properly to Q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ow risk because all original scenarios still supported; no leap or wide gap to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et compound documents and automation working to start; add others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ass id doesn’t change with additions (changes with changes in bi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w we can move past the generalities into more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ter session goes into detail on vtables, initialization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inter to in-process implementation may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nce defined, only fully compatible changes (e.g., reserved -&gt; u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ust verify reserved params are 0/NU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terfaces have no data and no access to class with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ithin comp object, can have C++ classes used directl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.g., cache deals with internal cache node object; is C+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 data so remoting is trans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s OMG interface similar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ased on DCE standard; different name; same meaning and 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re than enough bits to number every known molecule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niker registration likely to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talk solely from component object persp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ll users, whether shipping with OLE2 or later, are equal in nature and valid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e as mantra: when skiing, biking, knitting, medit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mplementation inheritance: refinement, inverse dependency,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niversally, frameworks ship with co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cAp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F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bject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terVi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ecause of code, new versions can be very difficult to rel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sting hassle comes from inverse and ill specified dependency: operation of base class depends upon correct implementation in derived class (really a problem involving overridd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imilar problems when changing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scribe general nature of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liminates problems due to protected and overri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ince binary standard no 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ince interface is only way for interaction, no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rts of aggregate know n in advance; rarely indirect creation of p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ll interface pointers (derived from IUnknown) are ref coun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ach pointer must have a reference; common use is get, use, rel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ta pointers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ther kinds of pointers not ruled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n control life time of per-interface resources; special restrictions for aggregatable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 GC because no standard; no standard because no way to create one system which works for all 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thing special; a little more expensive for each pointer copy (i.e., each addref); deletion costs defered until last use rel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mon special cases to rules: in params; back poin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mart pointers using templates in C++ worthy idea; argument passing can be ineffec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metimes a block of memory serves more than one object (i.e., there is more than one reference count); in that case, the mantra becomes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ny examples; more: enumerators,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ittle bit of a chicken and egg problem; best examples overlap a bit with later tas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nly one interface to the component object model itself (the API on compobj.dll) and only one implementation (compobj.d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tarting point is familiar (a.k.a. bootstra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asier to ext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ven if interface, need at least one call to get pointer to 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lobal understanding; do not use what is not documen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nly use documented info; if you need to use, just ask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V info can be quite revealing; again, don’t code to it; may chang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ection classes and simple data types not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ame information may become clearer the day goe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ference counts buffered between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GetClassObject - may launch EXE or load DLL as necess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inly for 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ll to pCF-&gt;CreateInstance is special because connection is via channel, not pro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eeds more work; better 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ightweight - enums, monikers; may have custom marshaling to move themselves from one process to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osely releated to inter-process calls; object table, stub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chanis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arshalInte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et OID directly (for class object; no custom marshal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ockObjectExternal - operator on stub mgr di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leSetContainedObject - internal mos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mportant for apps to call CoFreeUnusedLibraries even though it does nothing 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plain why DLL can’t self unlo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rder a little different because of compobj view of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st of vtable is an extra param and indirect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terfaces are fixed once rele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ternal to object can use inheritance or any other private scheme; e.g. for memory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 access to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ther langauges: M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121360" y="76320"/>
            <a:ext cx="390852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aig Wittenberg(1) 93006 OLE 2.0 PDC 5/93 </a:t>
            </a:r>
            <a:fld id="{A8B23151-0EAB-4ACE-9599-3CD4C6ACAF2C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85640" y="1125360"/>
            <a:ext cx="8172360" cy="37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nent Object Model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raig Wittenberg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oftware Design Engine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LE Development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inary Standar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205080" y="3123360"/>
            <a:ext cx="1329480" cy="173160"/>
            <a:chOff x="3205080" y="3123360"/>
            <a:chExt cx="1329480" cy="173160"/>
          </a:xfrm>
        </p:grpSpPr>
        <p:sp>
          <p:nvSpPr>
            <p:cNvPr id="75" name=""/>
            <p:cNvSpPr/>
            <p:nvPr/>
          </p:nvSpPr>
          <p:spPr>
            <a:xfrm>
              <a:off x="3205080" y="3209760"/>
              <a:ext cx="114480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132440" y="3123360"/>
              <a:ext cx="402120" cy="173160"/>
            </a:xfrm>
            <a:custGeom>
              <a:avLst/>
              <a:gdLst/>
              <a:ahLst/>
              <a:rect l="0" t="0" r="r" b="b"/>
              <a:pathLst>
                <a:path w="1117" h="481">
                  <a:moveTo>
                    <a:pt x="1117" y="238"/>
                  </a:moveTo>
                  <a:lnTo>
                    <a:pt x="39" y="0"/>
                  </a:lnTo>
                  <a:lnTo>
                    <a:pt x="39" y="0"/>
                  </a:lnTo>
                  <a:cubicBezTo>
                    <a:pt x="13" y="77"/>
                    <a:pt x="0" y="157"/>
                    <a:pt x="0" y="238"/>
                  </a:cubicBezTo>
                  <a:cubicBezTo>
                    <a:pt x="0" y="320"/>
                    <a:pt x="13" y="402"/>
                    <a:pt x="41" y="481"/>
                  </a:cubicBezTo>
                  <a:lnTo>
                    <a:pt x="1117" y="238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 txBox="1"/>
          <p:nvPr/>
        </p:nvSpPr>
        <p:spPr>
          <a:xfrm>
            <a:off x="4857840" y="2630520"/>
            <a:ext cx="5684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Vtb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454120" y="2554200"/>
            <a:ext cx="816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82760" y="2994120"/>
            <a:ext cx="544680" cy="306360"/>
            <a:chOff x="482760" y="2994120"/>
            <a:chExt cx="544680" cy="306360"/>
          </a:xfrm>
        </p:grpSpPr>
        <p:sp>
          <p:nvSpPr>
            <p:cNvPr id="80" name=""/>
            <p:cNvSpPr/>
            <p:nvPr/>
          </p:nvSpPr>
          <p:spPr>
            <a:xfrm>
              <a:off x="482760" y="3036960"/>
              <a:ext cx="544680" cy="263520"/>
            </a:xfrm>
            <a:prstGeom prst="rect">
              <a:avLst/>
            </a:prstGeom>
            <a:solidFill>
              <a:srgbClr val="00279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 txBox="1"/>
            <p:nvPr/>
          </p:nvSpPr>
          <p:spPr>
            <a:xfrm>
              <a:off x="492120" y="2994120"/>
              <a:ext cx="49680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  <a:ea typeface="Arial"/>
                </a:rPr>
                <a:t>pintf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5778360" y="3122640"/>
            <a:ext cx="1260000" cy="176040"/>
            <a:chOff x="5778360" y="3122640"/>
            <a:chExt cx="1260000" cy="176040"/>
          </a:xfrm>
        </p:grpSpPr>
        <p:sp>
          <p:nvSpPr>
            <p:cNvPr id="83" name=""/>
            <p:cNvSpPr/>
            <p:nvPr/>
          </p:nvSpPr>
          <p:spPr>
            <a:xfrm>
              <a:off x="5778360" y="3209760"/>
              <a:ext cx="10954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703920" y="3122640"/>
              <a:ext cx="334440" cy="176040"/>
            </a:xfrm>
            <a:custGeom>
              <a:avLst/>
              <a:gdLst/>
              <a:ahLst/>
              <a:rect l="0" t="0" r="r" b="b"/>
              <a:pathLst>
                <a:path w="929" h="489">
                  <a:moveTo>
                    <a:pt x="929" y="240"/>
                  </a:moveTo>
                  <a:lnTo>
                    <a:pt x="34" y="0"/>
                  </a:lnTo>
                  <a:lnTo>
                    <a:pt x="34" y="0"/>
                  </a:lnTo>
                  <a:cubicBezTo>
                    <a:pt x="11" y="79"/>
                    <a:pt x="0" y="161"/>
                    <a:pt x="0" y="243"/>
                  </a:cubicBezTo>
                  <a:cubicBezTo>
                    <a:pt x="0" y="326"/>
                    <a:pt x="11" y="409"/>
                    <a:pt x="35" y="489"/>
                  </a:cubicBezTo>
                  <a:lnTo>
                    <a:pt x="929" y="24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7020000" y="2959200"/>
            <a:ext cx="1197000" cy="582480"/>
            <a:chOff x="7020000" y="2959200"/>
            <a:chExt cx="1197000" cy="582480"/>
          </a:xfrm>
        </p:grpSpPr>
        <p:sp>
          <p:nvSpPr>
            <p:cNvPr id="86" name=""/>
            <p:cNvSpPr/>
            <p:nvPr/>
          </p:nvSpPr>
          <p:spPr>
            <a:xfrm>
              <a:off x="7020000" y="2959200"/>
              <a:ext cx="1197000" cy="5824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 txBox="1"/>
            <p:nvPr/>
          </p:nvSpPr>
          <p:spPr>
            <a:xfrm>
              <a:off x="7211880" y="3087720"/>
              <a:ext cx="82692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thod0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4548240" y="3013200"/>
            <a:ext cx="1255680" cy="136512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48240" y="3282840"/>
            <a:ext cx="1255680" cy="82548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48240" y="3552840"/>
            <a:ext cx="1255680" cy="282600"/>
          </a:xfrm>
          <a:prstGeom prst="rect">
            <a:avLst/>
          </a:prstGeom>
          <a:solidFill>
            <a:srgbClr val="00279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960800" y="2994120"/>
            <a:ext cx="5047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pfn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960800" y="3257640"/>
            <a:ext cx="5047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pfn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960800" y="3546360"/>
            <a:ext cx="5047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pfn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076400" y="3073680"/>
            <a:ext cx="1346760" cy="174600"/>
            <a:chOff x="1076400" y="3073680"/>
            <a:chExt cx="1346760" cy="174600"/>
          </a:xfrm>
        </p:grpSpPr>
        <p:sp>
          <p:nvSpPr>
            <p:cNvPr id="95" name=""/>
            <p:cNvSpPr/>
            <p:nvPr/>
          </p:nvSpPr>
          <p:spPr>
            <a:xfrm>
              <a:off x="1076400" y="3160800"/>
              <a:ext cx="103500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089080" y="3073680"/>
              <a:ext cx="334080" cy="174600"/>
            </a:xfrm>
            <a:custGeom>
              <a:avLst/>
              <a:gdLst/>
              <a:ahLst/>
              <a:rect l="0" t="0" r="r" b="b"/>
              <a:pathLst>
                <a:path w="928" h="485">
                  <a:moveTo>
                    <a:pt x="928" y="242"/>
                  </a:moveTo>
                  <a:lnTo>
                    <a:pt x="34" y="0"/>
                  </a:lnTo>
                  <a:lnTo>
                    <a:pt x="34" y="0"/>
                  </a:lnTo>
                  <a:cubicBezTo>
                    <a:pt x="12" y="78"/>
                    <a:pt x="0" y="159"/>
                    <a:pt x="0" y="241"/>
                  </a:cubicBezTo>
                  <a:cubicBezTo>
                    <a:pt x="0" y="323"/>
                    <a:pt x="12" y="406"/>
                    <a:pt x="35" y="485"/>
                  </a:cubicBezTo>
                  <a:lnTo>
                    <a:pt x="928" y="242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 txBox="1"/>
          <p:nvPr/>
        </p:nvSpPr>
        <p:spPr>
          <a:xfrm>
            <a:off x="195120" y="2611440"/>
            <a:ext cx="1189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onsum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409840" y="2994120"/>
            <a:ext cx="992160" cy="1096920"/>
            <a:chOff x="2409840" y="2994120"/>
            <a:chExt cx="992160" cy="1096920"/>
          </a:xfrm>
        </p:grpSpPr>
        <p:grpSp>
          <p:nvGrpSpPr>
            <p:cNvPr id="99" name=""/>
            <p:cNvGrpSpPr/>
            <p:nvPr/>
          </p:nvGrpSpPr>
          <p:grpSpPr>
            <a:xfrm>
              <a:off x="2409840" y="2995560"/>
              <a:ext cx="992160" cy="1095480"/>
              <a:chOff x="2409840" y="2995560"/>
              <a:chExt cx="992160" cy="1095480"/>
            </a:xfrm>
          </p:grpSpPr>
          <p:sp>
            <p:nvSpPr>
              <p:cNvPr id="100" name=""/>
              <p:cNvSpPr/>
              <p:nvPr/>
            </p:nvSpPr>
            <p:spPr>
              <a:xfrm>
                <a:off x="2409840" y="2995560"/>
                <a:ext cx="982800" cy="1095480"/>
              </a:xfrm>
              <a:prstGeom prst="rect">
                <a:avLst/>
              </a:prstGeom>
              <a:solidFill>
                <a:srgbClr val="00279f"/>
              </a:solidFill>
              <a:ln w="25560">
                <a:solidFill>
                  <a:srgbClr val="ffffff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409840" y="3267000"/>
                <a:ext cx="982800" cy="554040"/>
              </a:xfrm>
              <a:prstGeom prst="rect">
                <a:avLst/>
              </a:prstGeom>
              <a:solidFill>
                <a:srgbClr val="00279f"/>
              </a:solidFill>
              <a:ln w="25560">
                <a:solidFill>
                  <a:srgbClr val="ffffff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409840" y="3538440"/>
                <a:ext cx="9921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3" name=""/>
            <p:cNvSpPr txBox="1"/>
            <p:nvPr/>
          </p:nvSpPr>
          <p:spPr>
            <a:xfrm>
              <a:off x="2643120" y="2994120"/>
              <a:ext cx="45864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  <a:ea typeface="Arial"/>
                </a:rPr>
                <a:t>vptr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603520" y="3303720"/>
              <a:ext cx="612720" cy="736560"/>
            </a:xfrm>
            <a:prstGeom prst="rect">
              <a:avLst/>
            </a:prstGeom>
            <a:solidFill>
              <a:srgbClr val="0027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2538360" y="3333600"/>
              <a:ext cx="679320" cy="725760"/>
              <a:chOff x="2538360" y="3333600"/>
              <a:chExt cx="679320" cy="725760"/>
            </a:xfrm>
          </p:grpSpPr>
          <p:sp>
            <p:nvSpPr>
              <p:cNvPr id="106" name=""/>
              <p:cNvSpPr txBox="1"/>
              <p:nvPr/>
            </p:nvSpPr>
            <p:spPr>
              <a:xfrm>
                <a:off x="2538360" y="3333600"/>
                <a:ext cx="679320" cy="290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rivate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 txBox="1"/>
              <p:nvPr/>
            </p:nvSpPr>
            <p:spPr>
              <a:xfrm>
                <a:off x="2538360" y="3549600"/>
                <a:ext cx="625320" cy="290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object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 txBox="1"/>
              <p:nvPr/>
            </p:nvSpPr>
            <p:spPr>
              <a:xfrm>
                <a:off x="2538360" y="3768840"/>
                <a:ext cx="541440" cy="290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13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tate</a:t>
                </a:r>
                <a:endParaRPr b="0" lang="en-US" sz="13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9" name=""/>
          <p:cNvGrpSpPr/>
          <p:nvPr/>
        </p:nvGrpSpPr>
        <p:grpSpPr>
          <a:xfrm>
            <a:off x="7020000" y="3720960"/>
            <a:ext cx="1197000" cy="582480"/>
            <a:chOff x="7020000" y="3720960"/>
            <a:chExt cx="1197000" cy="582480"/>
          </a:xfrm>
        </p:grpSpPr>
        <p:sp>
          <p:nvSpPr>
            <p:cNvPr id="110" name=""/>
            <p:cNvSpPr/>
            <p:nvPr/>
          </p:nvSpPr>
          <p:spPr>
            <a:xfrm>
              <a:off x="7020000" y="3720960"/>
              <a:ext cx="1197000" cy="5824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7211880" y="3849840"/>
              <a:ext cx="82692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300" spc="-1" strike="noStrike">
                  <a:solidFill>
                    <a:srgbClr val="ffffff"/>
                  </a:solidFill>
                  <a:latin typeface="Arial"/>
                  <a:ea typeface="Arial"/>
                </a:rPr>
                <a:t>method1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5816520" y="3400560"/>
            <a:ext cx="1221840" cy="583920"/>
            <a:chOff x="5816520" y="3400560"/>
            <a:chExt cx="1221840" cy="583920"/>
          </a:xfrm>
        </p:grpSpPr>
        <p:sp>
          <p:nvSpPr>
            <p:cNvPr id="113" name=""/>
            <p:cNvSpPr/>
            <p:nvPr/>
          </p:nvSpPr>
          <p:spPr>
            <a:xfrm>
              <a:off x="5816520" y="3400560"/>
              <a:ext cx="905040" cy="4762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703920" y="3808440"/>
              <a:ext cx="334440" cy="176040"/>
            </a:xfrm>
            <a:custGeom>
              <a:avLst/>
              <a:gdLst/>
              <a:ahLst/>
              <a:rect l="0" t="0" r="r" b="b"/>
              <a:pathLst>
                <a:path w="929" h="489">
                  <a:moveTo>
                    <a:pt x="929" y="240"/>
                  </a:moveTo>
                  <a:lnTo>
                    <a:pt x="34" y="0"/>
                  </a:lnTo>
                  <a:lnTo>
                    <a:pt x="34" y="0"/>
                  </a:lnTo>
                  <a:cubicBezTo>
                    <a:pt x="11" y="79"/>
                    <a:pt x="0" y="161"/>
                    <a:pt x="0" y="243"/>
                  </a:cubicBezTo>
                  <a:cubicBezTo>
                    <a:pt x="0" y="326"/>
                    <a:pt x="11" y="409"/>
                    <a:pt x="35" y="489"/>
                  </a:cubicBezTo>
                  <a:lnTo>
                    <a:pt x="929" y="24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 txBox="1"/>
          <p:nvPr/>
        </p:nvSpPr>
        <p:spPr>
          <a:xfrm>
            <a:off x="5006880" y="3813120"/>
            <a:ext cx="3222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Arial"/>
                <a:ea typeface="Arial"/>
              </a:rPr>
              <a:t>..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277040" y="4419720"/>
            <a:ext cx="68580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xtensible; Ope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300320" y="1405080"/>
            <a:ext cx="701352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 and EXE extensions loaded based on CLSID (e.g., insert objec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moniker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lace “built-in” functionality (e.g., handler, task allocato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or replaced functionality indistinguishable from origi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new; support old; low ris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fini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419200" y="1738440"/>
            <a:ext cx="430524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ence counting and poin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Interface Is The Contra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436760" y="1598760"/>
            <a:ext cx="627048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es meaning of inter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ludes IID, parameters, error codes, memory al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++ abstract class with certain calling conven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tion of implementation is transpa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Unkn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ing new ones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ClassFactory Interfa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28600" y="1619280"/>
            <a:ext cx="872496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DECLARE_INTERFACE_(IClassFactory, IUnknow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// *** IUnknown methods **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QueryInterface)(THIS_ REFIID riid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971640" indent="-417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LPVOID FAR* ppvObj) PUR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_(ULONG,AddRef)(THIS)  PUR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_(ULONG,Release)(THIS) PUR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// *** IClassFactory methods **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CreateInstance)(THIS_ LPUNKNOWN pUnkOuter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REFIID riid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LPVOID FAR* ppvObject) PUR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LockServer)(THIS_ BOOL fLock) PUR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}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typedef       IClassFactory FAR* LPCLASSFACTORY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hat Is The Object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90720" y="1428840"/>
            <a:ext cx="716292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one or mor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 access via interfaces; no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ak notion of class; some objects have n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rect creation if CLS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implementation inheritance; reuse via delegation and aggreg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 is class-specific (even if default handl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With Three Interfa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374920" y="2309760"/>
            <a:ext cx="4305600" cy="3137040"/>
            <a:chOff x="2374920" y="2309760"/>
            <a:chExt cx="4305600" cy="3137040"/>
          </a:xfrm>
        </p:grpSpPr>
        <p:sp>
          <p:nvSpPr>
            <p:cNvPr id="129" name=""/>
            <p:cNvSpPr/>
            <p:nvPr/>
          </p:nvSpPr>
          <p:spPr>
            <a:xfrm>
              <a:off x="4646520" y="2309760"/>
              <a:ext cx="2031840" cy="3137040"/>
            </a:xfrm>
            <a:prstGeom prst="rect">
              <a:avLst/>
            </a:prstGeom>
            <a:solidFill>
              <a:srgbClr val="0020a0"/>
            </a:solidFill>
            <a:ln w="38160">
              <a:solidFill>
                <a:srgbClr val="ffffff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73480" y="2592360"/>
              <a:ext cx="311040" cy="320760"/>
            </a:xfrm>
            <a:prstGeom prst="ellipse">
              <a:avLst/>
            </a:prstGeom>
            <a:solidFill>
              <a:srgbClr val="0020a0"/>
            </a:solidFill>
            <a:ln w="38160">
              <a:solidFill>
                <a:srgbClr val="ffffff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273480" y="3724200"/>
              <a:ext cx="311040" cy="320760"/>
            </a:xfrm>
            <a:prstGeom prst="ellipse">
              <a:avLst/>
            </a:prstGeom>
            <a:solidFill>
              <a:srgbClr val="0020a0"/>
            </a:solidFill>
            <a:ln w="38160">
              <a:solidFill>
                <a:srgbClr val="ffffff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273480" y="4856040"/>
              <a:ext cx="311040" cy="318960"/>
            </a:xfrm>
            <a:prstGeom prst="ellipse">
              <a:avLst/>
            </a:prstGeom>
            <a:solidFill>
              <a:srgbClr val="0020a0"/>
            </a:solidFill>
            <a:ln w="38160">
              <a:solidFill>
                <a:srgbClr val="ffffff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22680" y="2727360"/>
              <a:ext cx="104616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622680" y="3859200"/>
              <a:ext cx="104616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622680" y="4991040"/>
              <a:ext cx="1046160" cy="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 txBox="1"/>
            <p:nvPr/>
          </p:nvSpPr>
          <p:spPr>
            <a:xfrm>
              <a:off x="2381400" y="2400480"/>
              <a:ext cx="557280" cy="695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 txBox="1"/>
            <p:nvPr/>
          </p:nvSpPr>
          <p:spPr>
            <a:xfrm>
              <a:off x="2374920" y="3560760"/>
              <a:ext cx="557280" cy="695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 txBox="1"/>
            <p:nvPr/>
          </p:nvSpPr>
          <p:spPr>
            <a:xfrm>
              <a:off x="2374920" y="4686120"/>
              <a:ext cx="587520" cy="695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 txBox="1"/>
            <p:nvPr/>
          </p:nvSpPr>
          <p:spPr>
            <a:xfrm>
              <a:off x="4694400" y="2841480"/>
              <a:ext cx="1986120" cy="695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impl. of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 txBox="1"/>
            <p:nvPr/>
          </p:nvSpPr>
          <p:spPr>
            <a:xfrm>
              <a:off x="4865760" y="3549600"/>
              <a:ext cx="1643040" cy="695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,B,C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UI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90720" y="1585800"/>
            <a:ext cx="7162920" cy="44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o-wid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globally unique 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6 bytes l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for CLSID, IID and o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allocat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net card, run uuidgen.ex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se contact Microsoft for 256 or mo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t result in {} for regist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ingFromIID, StringFromCLS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UI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009800" y="1428840"/>
            <a:ext cx="716292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mple run of uuidg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C:&gt;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Courier New"/>
                <a:ea typeface="Courier New"/>
              </a:rPr>
              <a:t>uuid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DD04FB40-9813-1068-AC20-0080C70E55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ing form of sam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char * szGUID = “{DD04FB40-9813-1068-AC20-0080C70E5504}”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nary for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DEFINE_GUID(0xDD04FB40, 0x9813, 0x1068, 0xAC, 0x20, 0x00, 0x80, 0xC7, 0x0E, 0x55, 0x04}”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nimal Registr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90720" y="1738440"/>
            <a:ext cx="7162920" cy="37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ust need to list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 (when used) is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hard code info; may ch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example:  composite monik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HKEY_CLASSES_ROOT\CLSID\{00000309-0000-0000-C000-000000000046} = CompositeMonik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HKEY_CLASSES_ROOT\CLSID\{00000309-0000-0000-C000-000000000046}\InprocServer = ole2.d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Keys To Succes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236600" y="1738440"/>
            <a:ext cx="6670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nk global, act lo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alable; incremental benef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nary standard; open, exten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look under the h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stions and answ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mplementation Inheritan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282680" y="1422360"/>
            <a:ext cx="6578640" cy="491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od for fast develo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od for small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-trivial cases require sou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good for sensitive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sting hass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intenance probl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tly a problem with languages: no way to define a strict contract between base and derived cl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bclass Problem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90720" y="1733400"/>
            <a:ext cx="7162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class Window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based edit control 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int differen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ter ke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oid kill 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++ Frameworks:  InterViews, MacApp, MFC, ObjectWindo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abstract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ubclass Problem in Gener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009800" y="1390680"/>
            <a:ext cx="7162920" cy="51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class Bas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c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virtual M1() { ... this-&gt;M2() ...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virtual M2() { ...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}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class Derived : public 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virtual M1() { ... Base::M1() ...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}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ration of  Base different in context of Deriv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pecification of call to Base::M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ggreg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528920" y="1738440"/>
            <a:ext cx="608796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comes all problems with implementation inheri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fective, safe; completely encapsul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ource requi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ed at creation time on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ggregation - Diagra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596960" y="1695600"/>
            <a:ext cx="5988240" cy="3601800"/>
            <a:chOff x="1596960" y="1695600"/>
            <a:chExt cx="5988240" cy="3601800"/>
          </a:xfrm>
        </p:grpSpPr>
        <p:sp>
          <p:nvSpPr>
            <p:cNvPr id="157" name=""/>
            <p:cNvSpPr/>
            <p:nvPr/>
          </p:nvSpPr>
          <p:spPr>
            <a:xfrm>
              <a:off x="2595600" y="2584440"/>
              <a:ext cx="4989600" cy="2712960"/>
            </a:xfrm>
            <a:prstGeom prst="rect">
              <a:avLst/>
            </a:prstGeom>
            <a:solidFill>
              <a:srgbClr val="0020a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98880" y="3030480"/>
              <a:ext cx="1274760" cy="1469880"/>
            </a:xfrm>
            <a:prstGeom prst="rect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211480" y="3222720"/>
              <a:ext cx="19692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211480" y="3987720"/>
              <a:ext cx="19692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211480" y="4753080"/>
              <a:ext cx="19692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411280" y="3328920"/>
              <a:ext cx="6987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400480" y="4079880"/>
              <a:ext cx="70632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 txBox="1"/>
            <p:nvPr/>
          </p:nvSpPr>
          <p:spPr>
            <a:xfrm>
              <a:off x="1600200" y="3075120"/>
              <a:ext cx="438120" cy="50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3000" spc="-1" strike="noStrike">
                  <a:solidFill>
                    <a:srgbClr val="ffffff"/>
                  </a:solidFill>
                  <a:latin typeface="Arial"/>
                  <a:ea typeface="Arial"/>
                </a:rPr>
                <a:t>A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 txBox="1"/>
            <p:nvPr/>
          </p:nvSpPr>
          <p:spPr>
            <a:xfrm>
              <a:off x="1596960" y="3860640"/>
              <a:ext cx="438120" cy="50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3000" spc="-1" strike="noStrike">
                  <a:solidFill>
                    <a:srgbClr val="ffffff"/>
                  </a:solidFill>
                  <a:latin typeface="Arial"/>
                  <a:ea typeface="Arial"/>
                </a:rPr>
                <a:t>B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1596960" y="4621320"/>
              <a:ext cx="458640" cy="50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3000" spc="-1" strike="noStrike">
                  <a:solidFill>
                    <a:srgbClr val="ffffff"/>
                  </a:solidFill>
                  <a:latin typeface="Arial"/>
                  <a:ea typeface="Arial"/>
                </a:rPr>
                <a:t>C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423040" y="3867120"/>
              <a:ext cx="1900080" cy="1222200"/>
            </a:xfrm>
            <a:prstGeom prst="rect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 txBox="1"/>
            <p:nvPr/>
          </p:nvSpPr>
          <p:spPr>
            <a:xfrm>
              <a:off x="5481720" y="4275000"/>
              <a:ext cx="1814400" cy="50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3000" spc="-1" strike="noStrike">
                  <a:solidFill>
                    <a:srgbClr val="ffffff"/>
                  </a:solidFill>
                  <a:latin typeface="Arial"/>
                  <a:ea typeface="Arial"/>
                </a:rPr>
                <a:t>Impl. of C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713040" y="2328840"/>
              <a:ext cx="0" cy="6937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13320" y="2114640"/>
              <a:ext cx="19836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>
              <a:off x="2917800" y="1695600"/>
              <a:ext cx="1652760" cy="449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2600" spc="-1" strike="noStrike">
                  <a:solidFill>
                    <a:srgbClr val="ffffff"/>
                  </a:solidFill>
                  <a:latin typeface="Arial"/>
                  <a:ea typeface="Arial"/>
                </a:rPr>
                <a:t>IUnknown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340320" y="3481560"/>
              <a:ext cx="3240" cy="37440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240600" y="3297240"/>
              <a:ext cx="198360" cy="21420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 txBox="1"/>
            <p:nvPr/>
          </p:nvSpPr>
          <p:spPr>
            <a:xfrm>
              <a:off x="5551560" y="2868480"/>
              <a:ext cx="1652760" cy="449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2600" spc="-1" strike="noStrike">
                  <a:solidFill>
                    <a:srgbClr val="ffffff"/>
                  </a:solidFill>
                  <a:latin typeface="Arial"/>
                  <a:ea typeface="Arial"/>
                </a:rPr>
                <a:t>IUnknown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99000" y="3405240"/>
              <a:ext cx="2524320" cy="881280"/>
            </a:xfrm>
            <a:custGeom>
              <a:avLst/>
              <a:gdLst/>
              <a:ahLst/>
              <a:rect l="0" t="0" r="r" b="b"/>
              <a:pathLst>
                <a:path fill="none" w="7012" h="2448">
                  <a:moveTo>
                    <a:pt x="0" y="2448"/>
                  </a:moveTo>
                  <a:lnTo>
                    <a:pt x="2906" y="2439"/>
                  </a:lnTo>
                  <a:lnTo>
                    <a:pt x="3555" y="564"/>
                  </a:lnTo>
                  <a:lnTo>
                    <a:pt x="7012" y="0"/>
                  </a:lnTo>
                </a:path>
              </a:pathLst>
            </a:custGeom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716280" y="2774880"/>
              <a:ext cx="2202120" cy="1416240"/>
            </a:xfrm>
            <a:custGeom>
              <a:avLst/>
              <a:gdLst/>
              <a:ahLst/>
              <a:rect l="0" t="0" r="r" b="b"/>
              <a:pathLst>
                <a:path fill="none" w="6117" h="3934">
                  <a:moveTo>
                    <a:pt x="6117" y="3934"/>
                  </a:moveTo>
                  <a:lnTo>
                    <a:pt x="3846" y="3290"/>
                  </a:lnTo>
                  <a:lnTo>
                    <a:pt x="2368" y="2174"/>
                  </a:lnTo>
                  <a:lnTo>
                    <a:pt x="2368" y="0"/>
                  </a:lnTo>
                  <a:lnTo>
                    <a:pt x="0" y="0"/>
                  </a:lnTo>
                </a:path>
              </a:pathLst>
            </a:custGeom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5360" y="2619360"/>
              <a:ext cx="122760" cy="308160"/>
            </a:xfrm>
            <a:custGeom>
              <a:avLst/>
              <a:gdLst/>
              <a:ahLst/>
              <a:rect l="0" t="0" r="r" b="b"/>
              <a:pathLst>
                <a:path w="341" h="856">
                  <a:moveTo>
                    <a:pt x="0" y="433"/>
                  </a:moveTo>
                  <a:lnTo>
                    <a:pt x="341" y="0"/>
                  </a:lnTo>
                  <a:lnTo>
                    <a:pt x="341" y="856"/>
                  </a:lnTo>
                  <a:lnTo>
                    <a:pt x="0" y="433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107040" y="3265560"/>
              <a:ext cx="127440" cy="327240"/>
            </a:xfrm>
            <a:custGeom>
              <a:avLst/>
              <a:gdLst/>
              <a:ahLst/>
              <a:rect l="0" t="0" r="r" b="b"/>
              <a:pathLst>
                <a:path w="354" h="909">
                  <a:moveTo>
                    <a:pt x="354" y="379"/>
                  </a:moveTo>
                  <a:lnTo>
                    <a:pt x="0" y="0"/>
                  </a:lnTo>
                  <a:lnTo>
                    <a:pt x="52" y="909"/>
                  </a:lnTo>
                  <a:lnTo>
                    <a:pt x="354" y="379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 txBox="1"/>
            <p:nvPr/>
          </p:nvSpPr>
          <p:spPr>
            <a:xfrm>
              <a:off x="2997360" y="3306600"/>
              <a:ext cx="1433520" cy="50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3000" spc="-1" strike="noStrike">
                  <a:solidFill>
                    <a:srgbClr val="ffffff"/>
                  </a:solidFill>
                  <a:latin typeface="Arial"/>
                  <a:ea typeface="Arial"/>
                </a:rPr>
                <a:t>Impl. of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>
              <a:off x="3289320" y="3745080"/>
              <a:ext cx="798480" cy="50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3000" spc="-1" strike="noStrike">
                  <a:solidFill>
                    <a:srgbClr val="ffffff"/>
                  </a:solidFill>
                  <a:latin typeface="Arial"/>
                  <a:ea typeface="Arial"/>
                </a:rPr>
                <a:t>A,B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403360" y="4879800"/>
              <a:ext cx="30196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 txBox="1"/>
            <p:nvPr/>
          </p:nvSpPr>
          <p:spPr>
            <a:xfrm>
              <a:off x="2954160" y="2676600"/>
              <a:ext cx="623880" cy="449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  <a:ea typeface="Arial"/>
                </a:rPr>
                <a:t>O1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>
              <a:off x="6840360" y="3489480"/>
              <a:ext cx="623880" cy="449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2600" spc="-1" strike="noStrike">
                  <a:solidFill>
                    <a:srgbClr val="ffffff"/>
                  </a:solidFill>
                  <a:latin typeface="Arial"/>
                  <a:ea typeface="Arial"/>
                </a:rPr>
                <a:t>O2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 txBox="1"/>
            <p:nvPr/>
          </p:nvSpPr>
          <p:spPr>
            <a:xfrm>
              <a:off x="4327560" y="1893960"/>
              <a:ext cx="3254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 txBox="1"/>
            <p:nvPr/>
          </p:nvSpPr>
          <p:spPr>
            <a:xfrm>
              <a:off x="6970680" y="3112920"/>
              <a:ext cx="3254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10080" y="4178160"/>
              <a:ext cx="196920" cy="214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73760" y="4106880"/>
              <a:ext cx="198360" cy="2142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85640" y="214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o Aggregate Or No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697040" y="1738440"/>
            <a:ext cx="621504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quired for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common for handl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simple to make optionally aggrega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details in docu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ggregation - Examp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876320" y="1738440"/>
            <a:ext cx="539100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ault hand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 hand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cac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control that supports Drag and Dr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ggregation - Data Cach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146480" y="2971800"/>
            <a:ext cx="1900080" cy="1089000"/>
          </a:xfrm>
          <a:prstGeom prst="rect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487760" y="3303720"/>
            <a:ext cx="128592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Cach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5345280" y="2401920"/>
            <a:ext cx="198360" cy="558720"/>
            <a:chOff x="5345280" y="2401920"/>
            <a:chExt cx="198360" cy="558720"/>
          </a:xfrm>
        </p:grpSpPr>
        <p:sp>
          <p:nvSpPr>
            <p:cNvPr id="196" name=""/>
            <p:cNvSpPr/>
            <p:nvPr/>
          </p:nvSpPr>
          <p:spPr>
            <a:xfrm>
              <a:off x="5445000" y="2585880"/>
              <a:ext cx="3240" cy="37476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345280" y="2401920"/>
              <a:ext cx="198360" cy="21420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5543640" y="3116160"/>
            <a:ext cx="198360" cy="214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608280" y="2354400"/>
            <a:ext cx="165276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IUnknow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065560" y="2503440"/>
            <a:ext cx="325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087720" y="3127320"/>
            <a:ext cx="1089000" cy="212760"/>
            <a:chOff x="3087720" y="3127320"/>
            <a:chExt cx="1089000" cy="212760"/>
          </a:xfrm>
        </p:grpSpPr>
        <p:sp>
          <p:nvSpPr>
            <p:cNvPr id="202" name=""/>
            <p:cNvSpPr/>
            <p:nvPr/>
          </p:nvSpPr>
          <p:spPr>
            <a:xfrm>
              <a:off x="3087720" y="3127320"/>
              <a:ext cx="19692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287880" y="3233880"/>
              <a:ext cx="88884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4" name=""/>
          <p:cNvSpPr txBox="1"/>
          <p:nvPr/>
        </p:nvSpPr>
        <p:spPr>
          <a:xfrm>
            <a:off x="1371600" y="2832120"/>
            <a:ext cx="18097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View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3087720" y="3622680"/>
            <a:ext cx="1050840" cy="212760"/>
            <a:chOff x="3087720" y="3622680"/>
            <a:chExt cx="1050840" cy="212760"/>
          </a:xfrm>
        </p:grpSpPr>
        <p:sp>
          <p:nvSpPr>
            <p:cNvPr id="206" name=""/>
            <p:cNvSpPr/>
            <p:nvPr/>
          </p:nvSpPr>
          <p:spPr>
            <a:xfrm>
              <a:off x="3087720" y="3622680"/>
              <a:ext cx="19692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87880" y="3728880"/>
              <a:ext cx="8506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8" name=""/>
          <p:cNvSpPr txBox="1"/>
          <p:nvPr/>
        </p:nvSpPr>
        <p:spPr>
          <a:xfrm>
            <a:off x="1504800" y="3346560"/>
            <a:ext cx="162396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OleCac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43640" y="2552760"/>
            <a:ext cx="362160" cy="572040"/>
          </a:xfrm>
          <a:custGeom>
            <a:avLst/>
            <a:gdLst/>
            <a:ahLst/>
            <a:rect l="0" t="0" r="r" b="b"/>
            <a:pathLst>
              <a:path fill="none" w="1006" h="1589">
                <a:moveTo>
                  <a:pt x="476" y="1589"/>
                </a:moveTo>
                <a:lnTo>
                  <a:pt x="1006" y="583"/>
                </a:lnTo>
                <a:lnTo>
                  <a:pt x="0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ggregation - Default Handl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919240" y="1879560"/>
            <a:ext cx="4989600" cy="4446720"/>
          </a:xfrm>
          <a:prstGeom prst="rect">
            <a:avLst/>
          </a:prstGeom>
          <a:solidFill>
            <a:srgbClr val="0020a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346560" y="2325600"/>
            <a:ext cx="1332000" cy="1469880"/>
          </a:xfrm>
          <a:prstGeom prst="rect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46680" y="3162240"/>
            <a:ext cx="1900080" cy="1222200"/>
          </a:xfrm>
          <a:prstGeom prst="rect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5805360" y="3608280"/>
            <a:ext cx="18144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Remot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7040" y="1623960"/>
            <a:ext cx="0" cy="6937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36960" y="1409760"/>
            <a:ext cx="19836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241800" y="990720"/>
            <a:ext cx="165276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IUnknow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64320" y="2776680"/>
            <a:ext cx="3240" cy="3744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564240" y="2592360"/>
            <a:ext cx="198360" cy="21420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875200" y="2163600"/>
            <a:ext cx="165276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IUnknow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022640" y="2700360"/>
            <a:ext cx="2524320" cy="881280"/>
          </a:xfrm>
          <a:custGeom>
            <a:avLst/>
            <a:gdLst/>
            <a:ahLst/>
            <a:rect l="0" t="0" r="r" b="b"/>
            <a:pathLst>
              <a:path fill="none" w="7012" h="2448">
                <a:moveTo>
                  <a:pt x="0" y="2448"/>
                </a:moveTo>
                <a:lnTo>
                  <a:pt x="2906" y="2439"/>
                </a:lnTo>
                <a:lnTo>
                  <a:pt x="3555" y="564"/>
                </a:lnTo>
                <a:lnTo>
                  <a:pt x="7012" y="0"/>
                </a:lnTo>
              </a:path>
            </a:pathLst>
          </a:custGeom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040280" y="2070000"/>
            <a:ext cx="2202120" cy="1416240"/>
          </a:xfrm>
          <a:custGeom>
            <a:avLst/>
            <a:gdLst/>
            <a:ahLst/>
            <a:rect l="0" t="0" r="r" b="b"/>
            <a:pathLst>
              <a:path fill="none" w="6117" h="3934">
                <a:moveTo>
                  <a:pt x="6117" y="3934"/>
                </a:moveTo>
                <a:lnTo>
                  <a:pt x="3846" y="3290"/>
                </a:lnTo>
                <a:lnTo>
                  <a:pt x="2368" y="2174"/>
                </a:lnTo>
                <a:lnTo>
                  <a:pt x="2368" y="0"/>
                </a:lnTo>
                <a:lnTo>
                  <a:pt x="0" y="0"/>
                </a:lnTo>
              </a:path>
            </a:pathLst>
          </a:custGeom>
          <a:ln w="25560">
            <a:solidFill>
              <a:srgbClr val="ffffff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440080" y="6359400"/>
            <a:ext cx="19692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651200" y="1189080"/>
            <a:ext cx="325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7294680" y="2408400"/>
            <a:ext cx="325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33720" y="3473280"/>
            <a:ext cx="196920" cy="214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97760" y="3402000"/>
            <a:ext cx="198360" cy="214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517920" y="4705200"/>
            <a:ext cx="1900080" cy="1089000"/>
          </a:xfrm>
          <a:prstGeom prst="rect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859200" y="5037120"/>
            <a:ext cx="128592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Cach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4716360" y="4135320"/>
            <a:ext cx="198360" cy="559080"/>
            <a:chOff x="4716360" y="4135320"/>
            <a:chExt cx="198360" cy="559080"/>
          </a:xfrm>
        </p:grpSpPr>
        <p:sp>
          <p:nvSpPr>
            <p:cNvPr id="231" name=""/>
            <p:cNvSpPr/>
            <p:nvPr/>
          </p:nvSpPr>
          <p:spPr>
            <a:xfrm>
              <a:off x="4816440" y="4319640"/>
              <a:ext cx="3240" cy="37476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16360" y="4135320"/>
              <a:ext cx="198360" cy="21420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4915080" y="4849920"/>
            <a:ext cx="198360" cy="214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019400" y="2228760"/>
            <a:ext cx="1352880" cy="2667240"/>
          </a:xfrm>
          <a:custGeom>
            <a:avLst/>
            <a:gdLst/>
            <a:ahLst/>
            <a:rect l="0" t="0" r="r" b="b"/>
            <a:pathLst>
              <a:path fill="none" w="3758" h="7409">
                <a:moveTo>
                  <a:pt x="2911" y="7409"/>
                </a:moveTo>
                <a:lnTo>
                  <a:pt x="3758" y="4869"/>
                </a:lnTo>
                <a:lnTo>
                  <a:pt x="3758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057560" y="3619440"/>
            <a:ext cx="686160" cy="533880"/>
          </a:xfrm>
          <a:custGeom>
            <a:avLst/>
            <a:gdLst/>
            <a:ahLst/>
            <a:rect l="0" t="0" r="r" b="b"/>
            <a:pathLst>
              <a:path fill="none" w="1906" h="1483">
                <a:moveTo>
                  <a:pt x="0" y="0"/>
                </a:moveTo>
                <a:lnTo>
                  <a:pt x="899" y="741"/>
                </a:lnTo>
                <a:lnTo>
                  <a:pt x="190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2979720" y="4087800"/>
            <a:ext cx="165276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IUnknow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437000" y="4237200"/>
            <a:ext cx="325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325680" y="2583000"/>
            <a:ext cx="14130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Contro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2440080" y="2460600"/>
            <a:ext cx="898560" cy="212760"/>
            <a:chOff x="2440080" y="2460600"/>
            <a:chExt cx="898560" cy="212760"/>
          </a:xfrm>
        </p:grpSpPr>
        <p:sp>
          <p:nvSpPr>
            <p:cNvPr id="240" name=""/>
            <p:cNvSpPr/>
            <p:nvPr/>
          </p:nvSpPr>
          <p:spPr>
            <a:xfrm>
              <a:off x="2440080" y="2460600"/>
              <a:ext cx="19692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39880" y="2567160"/>
              <a:ext cx="6987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2" name=""/>
          <p:cNvSpPr txBox="1"/>
          <p:nvPr/>
        </p:nvSpPr>
        <p:spPr>
          <a:xfrm>
            <a:off x="952560" y="2127240"/>
            <a:ext cx="162396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Ole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2440080" y="2994120"/>
            <a:ext cx="898560" cy="212760"/>
            <a:chOff x="2440080" y="2994120"/>
            <a:chExt cx="898560" cy="212760"/>
          </a:xfrm>
        </p:grpSpPr>
        <p:sp>
          <p:nvSpPr>
            <p:cNvPr id="244" name=""/>
            <p:cNvSpPr/>
            <p:nvPr/>
          </p:nvSpPr>
          <p:spPr>
            <a:xfrm>
              <a:off x="2440080" y="2994120"/>
              <a:ext cx="19692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639880" y="3100320"/>
              <a:ext cx="6987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2440080" y="3489480"/>
            <a:ext cx="898560" cy="212760"/>
            <a:chOff x="2440080" y="3489480"/>
            <a:chExt cx="898560" cy="212760"/>
          </a:xfrm>
        </p:grpSpPr>
        <p:sp>
          <p:nvSpPr>
            <p:cNvPr id="247" name=""/>
            <p:cNvSpPr/>
            <p:nvPr/>
          </p:nvSpPr>
          <p:spPr>
            <a:xfrm>
              <a:off x="2440080" y="3489480"/>
              <a:ext cx="19692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639880" y="3595680"/>
              <a:ext cx="6987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9" name=""/>
          <p:cNvSpPr txBox="1"/>
          <p:nvPr/>
        </p:nvSpPr>
        <p:spPr>
          <a:xfrm>
            <a:off x="857160" y="2698920"/>
            <a:ext cx="165744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PersistSt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723960" y="3251160"/>
            <a:ext cx="179388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ata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2440080" y="4861080"/>
            <a:ext cx="1089000" cy="212760"/>
            <a:chOff x="2440080" y="4861080"/>
            <a:chExt cx="1089000" cy="212760"/>
          </a:xfrm>
        </p:grpSpPr>
        <p:sp>
          <p:nvSpPr>
            <p:cNvPr id="252" name=""/>
            <p:cNvSpPr/>
            <p:nvPr/>
          </p:nvSpPr>
          <p:spPr>
            <a:xfrm>
              <a:off x="2440080" y="4861080"/>
              <a:ext cx="19692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639880" y="4967280"/>
              <a:ext cx="88920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4" name=""/>
          <p:cNvSpPr txBox="1"/>
          <p:nvPr/>
        </p:nvSpPr>
        <p:spPr>
          <a:xfrm>
            <a:off x="743040" y="4565520"/>
            <a:ext cx="18097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View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2459160" y="5356080"/>
            <a:ext cx="1050840" cy="212760"/>
            <a:chOff x="2459160" y="5356080"/>
            <a:chExt cx="1050840" cy="212760"/>
          </a:xfrm>
        </p:grpSpPr>
        <p:sp>
          <p:nvSpPr>
            <p:cNvPr id="256" name=""/>
            <p:cNvSpPr/>
            <p:nvPr/>
          </p:nvSpPr>
          <p:spPr>
            <a:xfrm>
              <a:off x="2459160" y="5356080"/>
              <a:ext cx="19692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658960" y="5462640"/>
              <a:ext cx="85104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8" name=""/>
          <p:cNvSpPr txBox="1"/>
          <p:nvPr/>
        </p:nvSpPr>
        <p:spPr>
          <a:xfrm>
            <a:off x="876240" y="5079960"/>
            <a:ext cx="162396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OleCac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247680" y="6070680"/>
            <a:ext cx="26575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OleItemContai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647800" y="4381560"/>
            <a:ext cx="4001040" cy="2095920"/>
          </a:xfrm>
          <a:custGeom>
            <a:avLst/>
            <a:gdLst/>
            <a:ahLst/>
            <a:rect l="0" t="0" r="r" b="b"/>
            <a:pathLst>
              <a:path fill="none" w="11114" h="5822">
                <a:moveTo>
                  <a:pt x="0" y="5822"/>
                </a:moveTo>
                <a:lnTo>
                  <a:pt x="9103" y="5769"/>
                </a:lnTo>
                <a:lnTo>
                  <a:pt x="11114" y="2435"/>
                </a:lnTo>
                <a:lnTo>
                  <a:pt x="11114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690640" y="1860480"/>
            <a:ext cx="5370480" cy="4618080"/>
          </a:xfrm>
          <a:prstGeom prst="rect">
            <a:avLst/>
          </a:prstGeom>
          <a:solidFill>
            <a:srgbClr val="0020a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85640" y="233280"/>
            <a:ext cx="817236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ggregation - Custom Handl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748040" y="3156120"/>
            <a:ext cx="3179880" cy="3227400"/>
          </a:xfrm>
          <a:prstGeom prst="rect">
            <a:avLst/>
          </a:prstGeom>
          <a:solidFill>
            <a:srgbClr val="0020a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865840" y="2900520"/>
            <a:ext cx="0" cy="6937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765760" y="2685960"/>
            <a:ext cx="19836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5070600" y="2266920"/>
            <a:ext cx="165276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IUnknow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422600" y="1074600"/>
            <a:ext cx="325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306520" y="3641760"/>
            <a:ext cx="19692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506680" y="3747960"/>
            <a:ext cx="222264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819000" y="3308400"/>
            <a:ext cx="162396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Ole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306520" y="4175280"/>
            <a:ext cx="19692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506680" y="4281480"/>
            <a:ext cx="22366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306520" y="4670280"/>
            <a:ext cx="19692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506680" y="4757760"/>
            <a:ext cx="221760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723960" y="3879720"/>
            <a:ext cx="165744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PersistSt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90400" y="4432320"/>
            <a:ext cx="179388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ata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2058840" y="2403360"/>
            <a:ext cx="1089000" cy="212760"/>
            <a:chOff x="2058840" y="2403360"/>
            <a:chExt cx="1089000" cy="212760"/>
          </a:xfrm>
        </p:grpSpPr>
        <p:sp>
          <p:nvSpPr>
            <p:cNvPr id="278" name=""/>
            <p:cNvSpPr/>
            <p:nvPr/>
          </p:nvSpPr>
          <p:spPr>
            <a:xfrm>
              <a:off x="2058840" y="2403360"/>
              <a:ext cx="19692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259000" y="2509920"/>
              <a:ext cx="88884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0" name=""/>
          <p:cNvSpPr txBox="1"/>
          <p:nvPr/>
        </p:nvSpPr>
        <p:spPr>
          <a:xfrm>
            <a:off x="361800" y="2108160"/>
            <a:ext cx="18097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View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192400" y="5794200"/>
            <a:ext cx="19692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392200" y="5900760"/>
            <a:ext cx="2351160" cy="190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38520" bIns="-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060720" y="2192400"/>
            <a:ext cx="1389240" cy="1127160"/>
          </a:xfrm>
          <a:prstGeom prst="rect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751200" y="1490760"/>
            <a:ext cx="0" cy="6937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651120" y="1276200"/>
            <a:ext cx="19836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2955960" y="857160"/>
            <a:ext cx="165276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IUnknow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629160" y="2978280"/>
            <a:ext cx="196920" cy="214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040200" y="2449440"/>
            <a:ext cx="141300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Contro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09480" y="5518080"/>
            <a:ext cx="162396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OleCac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597640" y="4183200"/>
            <a:ext cx="15177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Defaul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Handl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809880" y="2800440"/>
            <a:ext cx="1981440" cy="2667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362720" y="3397320"/>
            <a:ext cx="196920" cy="214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753000" y="2038320"/>
            <a:ext cx="3715200" cy="1371960"/>
          </a:xfrm>
          <a:custGeom>
            <a:avLst/>
            <a:gdLst/>
            <a:ahLst/>
            <a:rect l="0" t="0" r="r" b="b"/>
            <a:pathLst>
              <a:path fill="none" w="10320" h="3811">
                <a:moveTo>
                  <a:pt x="10320" y="3811"/>
                </a:moveTo>
                <a:lnTo>
                  <a:pt x="8786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983040" y="5356080"/>
            <a:ext cx="19692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02280" y="5462640"/>
            <a:ext cx="52704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2838600" y="4927680"/>
            <a:ext cx="18097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View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537240" y="2465280"/>
            <a:ext cx="325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LE 2.0 Product 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981000" y="3419640"/>
            <a:ext cx="7182000" cy="1574640"/>
          </a:xfrm>
          <a:prstGeom prst="rect">
            <a:avLst/>
          </a:prstGeom>
          <a:gradFill rotWithShape="0">
            <a:gsLst>
              <a:gs pos="0">
                <a:srgbClr val="cc9e57"/>
              </a:gs>
              <a:gs pos="100000">
                <a:srgbClr val="ffc66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ra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ment, naming/enum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71640" indent="-417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face matching, activation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76040" y="2023920"/>
            <a:ext cx="1978200" cy="838080"/>
          </a:xfrm>
          <a:prstGeom prst="rect">
            <a:avLst/>
          </a:prstGeom>
          <a:gradFill rotWithShape="0">
            <a:gsLst>
              <a:gs pos="0">
                <a:srgbClr val="10a89a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259000" y="2023920"/>
            <a:ext cx="1444680" cy="826920"/>
          </a:xfrm>
          <a:prstGeom prst="rect">
            <a:avLst/>
          </a:prstGeom>
          <a:gradFill rotWithShape="0">
            <a:gsLst>
              <a:gs pos="0">
                <a:srgbClr val="10a89a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acti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755880" y="2004840"/>
            <a:ext cx="1258920" cy="857160"/>
          </a:xfrm>
          <a:prstGeom prst="rect">
            <a:avLst/>
          </a:prstGeom>
          <a:gradFill rotWithShape="0">
            <a:gsLst>
              <a:gs pos="0">
                <a:srgbClr val="10a89a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091120" y="2023920"/>
            <a:ext cx="1658880" cy="847800"/>
          </a:xfrm>
          <a:prstGeom prst="rect">
            <a:avLst/>
          </a:prstGeom>
          <a:gradFill rotWithShape="0">
            <a:gsLst>
              <a:gs pos="0">
                <a:srgbClr val="10a89a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04000" y="2023920"/>
            <a:ext cx="2327400" cy="838080"/>
          </a:xfrm>
          <a:prstGeom prst="rect">
            <a:avLst/>
          </a:prstGeom>
          <a:gradFill rotWithShape="0">
            <a:gsLst>
              <a:gs pos="0">
                <a:srgbClr val="10a89a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g and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2690640" y="1860480"/>
            <a:ext cx="5370480" cy="4618080"/>
          </a:xfrm>
          <a:prstGeom prst="rect">
            <a:avLst/>
          </a:prstGeom>
          <a:solidFill>
            <a:srgbClr val="0020a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85640" y="233280"/>
            <a:ext cx="817236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ggregation - Another 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748040" y="3975120"/>
            <a:ext cx="3218040" cy="2408400"/>
          </a:xfrm>
          <a:prstGeom prst="rect">
            <a:avLst/>
          </a:prstGeom>
          <a:solidFill>
            <a:srgbClr val="0020a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018120" y="3281400"/>
            <a:ext cx="0" cy="6937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918040" y="3067200"/>
            <a:ext cx="19836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5222880" y="2647800"/>
            <a:ext cx="165276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IUnknow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422600" y="1074600"/>
            <a:ext cx="325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306520" y="4670280"/>
            <a:ext cx="19692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506680" y="4757760"/>
            <a:ext cx="221760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90400" y="4432320"/>
            <a:ext cx="184464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Text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2058840" y="2403360"/>
            <a:ext cx="1089000" cy="212760"/>
            <a:chOff x="2058840" y="2403360"/>
            <a:chExt cx="1089000" cy="212760"/>
          </a:xfrm>
        </p:grpSpPr>
        <p:sp>
          <p:nvSpPr>
            <p:cNvPr id="309" name=""/>
            <p:cNvSpPr/>
            <p:nvPr/>
          </p:nvSpPr>
          <p:spPr>
            <a:xfrm>
              <a:off x="2058840" y="2403360"/>
              <a:ext cx="196920" cy="212760"/>
            </a:xfrm>
            <a:prstGeom prst="ellipse">
              <a:avLst/>
            </a:prstGeom>
            <a:solidFill>
              <a:srgbClr val="0020a0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259000" y="2509920"/>
              <a:ext cx="88884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1" name=""/>
          <p:cNvSpPr txBox="1"/>
          <p:nvPr/>
        </p:nvSpPr>
        <p:spPr>
          <a:xfrm>
            <a:off x="361800" y="2108160"/>
            <a:ext cx="189540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rop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92400" y="5794200"/>
            <a:ext cx="19692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392200" y="5900760"/>
            <a:ext cx="2351160" cy="190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38520" bIns="-38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060720" y="2192400"/>
            <a:ext cx="1655640" cy="1603440"/>
          </a:xfrm>
          <a:prstGeom prst="rect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751200" y="1490760"/>
            <a:ext cx="0" cy="69372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51120" y="1276200"/>
            <a:ext cx="198360" cy="21276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2955960" y="857160"/>
            <a:ext cx="165276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IUnknow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165480" y="2259000"/>
            <a:ext cx="14302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ra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r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257720" y="3416400"/>
            <a:ext cx="196920" cy="214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609480" y="5518080"/>
            <a:ext cx="162396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TextPie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5176800" y="4924440"/>
            <a:ext cx="239724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ext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4457880" y="3181320"/>
            <a:ext cx="1447560" cy="2858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439040" y="4254480"/>
            <a:ext cx="196920" cy="2142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753000" y="2038320"/>
            <a:ext cx="3791160" cy="2248200"/>
          </a:xfrm>
          <a:custGeom>
            <a:avLst/>
            <a:gdLst/>
            <a:ahLst/>
            <a:rect l="0" t="0" r="r" b="b"/>
            <a:pathLst>
              <a:path fill="none" w="10531" h="6245">
                <a:moveTo>
                  <a:pt x="10531" y="6245"/>
                </a:moveTo>
                <a:lnTo>
                  <a:pt x="8785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6689880" y="2846520"/>
            <a:ext cx="325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240000" y="3962520"/>
            <a:ext cx="212760" cy="196920"/>
          </a:xfrm>
          <a:prstGeom prst="ellipse">
            <a:avLst/>
          </a:prstGeom>
          <a:solidFill>
            <a:srgbClr val="0020a0"/>
          </a:soli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2838600" y="4127400"/>
            <a:ext cx="18097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ropTar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3346560" y="3755880"/>
            <a:ext cx="38160" cy="2034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ference Count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990720" y="1738440"/>
            <a:ext cx="716292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s lifetime of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automatic garbage col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ycles:  avoid or bre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ative to one process (more lat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rules provide for optim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() returns object ref count; debug code can verify final relea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et, Use, Relea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723960" y="2362320"/>
            <a:ext cx="8191440" cy="15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pDataObj-&gt;EnumFormatEtc(..., &amp;penum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penum-&gt;Next(...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penum-&gt;Release(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ointer Lifetim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708440" y="3125880"/>
            <a:ext cx="4100400" cy="14000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27040" y="2544840"/>
            <a:ext cx="4100400" cy="14000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063800" y="3952800"/>
            <a:ext cx="28512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sted lifeti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iminate A2 and R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5273640" y="4576680"/>
            <a:ext cx="30034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verlapping lifeti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iminate A2 and 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2606760" y="3533760"/>
            <a:ext cx="887760" cy="103680"/>
            <a:chOff x="2606760" y="3533760"/>
            <a:chExt cx="887760" cy="103680"/>
          </a:xfrm>
        </p:grpSpPr>
        <p:sp>
          <p:nvSpPr>
            <p:cNvPr id="339" name=""/>
            <p:cNvSpPr/>
            <p:nvPr/>
          </p:nvSpPr>
          <p:spPr>
            <a:xfrm>
              <a:off x="2606760" y="3584520"/>
              <a:ext cx="7286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338640" y="3533760"/>
              <a:ext cx="155880" cy="103680"/>
            </a:xfrm>
            <a:custGeom>
              <a:avLst/>
              <a:gdLst/>
              <a:ahLst/>
              <a:rect l="0" t="0" r="r" b="b"/>
              <a:pathLst>
                <a:path w="433" h="288">
                  <a:moveTo>
                    <a:pt x="0" y="0"/>
                  </a:moveTo>
                  <a:lnTo>
                    <a:pt x="433" y="144"/>
                  </a:lnTo>
                  <a:lnTo>
                    <a:pt x="0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1" name=""/>
          <p:cNvSpPr txBox="1"/>
          <p:nvPr/>
        </p:nvSpPr>
        <p:spPr>
          <a:xfrm>
            <a:off x="679320" y="2989440"/>
            <a:ext cx="10796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inter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679320" y="3400560"/>
            <a:ext cx="10796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inter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1654200" y="2752560"/>
            <a:ext cx="2764080" cy="103680"/>
            <a:chOff x="1654200" y="2752560"/>
            <a:chExt cx="2764080" cy="103680"/>
          </a:xfrm>
        </p:grpSpPr>
        <p:sp>
          <p:nvSpPr>
            <p:cNvPr id="344" name=""/>
            <p:cNvSpPr/>
            <p:nvPr/>
          </p:nvSpPr>
          <p:spPr>
            <a:xfrm>
              <a:off x="1654200" y="2803680"/>
              <a:ext cx="2617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267080" y="2752560"/>
              <a:ext cx="151200" cy="103680"/>
            </a:xfrm>
            <a:custGeom>
              <a:avLst/>
              <a:gdLst/>
              <a:ahLst/>
              <a:rect l="0" t="0" r="r" b="b"/>
              <a:pathLst>
                <a:path w="420" h="288">
                  <a:moveTo>
                    <a:pt x="0" y="0"/>
                  </a:moveTo>
                  <a:lnTo>
                    <a:pt x="420" y="142"/>
                  </a:lnTo>
                  <a:lnTo>
                    <a:pt x="0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6" name=""/>
          <p:cNvSpPr txBox="1"/>
          <p:nvPr/>
        </p:nvSpPr>
        <p:spPr>
          <a:xfrm>
            <a:off x="976320" y="2644920"/>
            <a:ext cx="692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2387520" y="3246480"/>
            <a:ext cx="463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235320" y="3246480"/>
            <a:ext cx="463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1865160" y="3133800"/>
            <a:ext cx="2164320" cy="97200"/>
            <a:chOff x="1865160" y="3133800"/>
            <a:chExt cx="2164320" cy="97200"/>
          </a:xfrm>
        </p:grpSpPr>
        <p:sp>
          <p:nvSpPr>
            <p:cNvPr id="350" name=""/>
            <p:cNvSpPr/>
            <p:nvPr/>
          </p:nvSpPr>
          <p:spPr>
            <a:xfrm>
              <a:off x="1865160" y="3181320"/>
              <a:ext cx="20224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890880" y="3133800"/>
              <a:ext cx="138600" cy="97200"/>
            </a:xfrm>
            <a:custGeom>
              <a:avLst/>
              <a:gdLst/>
              <a:ahLst/>
              <a:rect l="0" t="0" r="r" b="b"/>
              <a:pathLst>
                <a:path w="385" h="270">
                  <a:moveTo>
                    <a:pt x="0" y="0"/>
                  </a:moveTo>
                  <a:lnTo>
                    <a:pt x="385" y="135"/>
                  </a:lnTo>
                  <a:lnTo>
                    <a:pt x="0" y="2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46080" bIns="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2" name=""/>
          <p:cNvSpPr txBox="1"/>
          <p:nvPr/>
        </p:nvSpPr>
        <p:spPr>
          <a:xfrm>
            <a:off x="1641600" y="2838600"/>
            <a:ext cx="463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733920" y="2838600"/>
            <a:ext cx="463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797360" y="3592440"/>
            <a:ext cx="1095480" cy="3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inter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797360" y="4019400"/>
            <a:ext cx="1095480" cy="3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inter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776920" y="3406680"/>
            <a:ext cx="2595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8364600" y="3352680"/>
            <a:ext cx="152640" cy="106560"/>
          </a:xfrm>
          <a:custGeom>
            <a:avLst/>
            <a:gdLst/>
            <a:ahLst/>
            <a:rect l="0" t="0" r="r" b="b"/>
            <a:pathLst>
              <a:path w="424" h="296">
                <a:moveTo>
                  <a:pt x="0" y="0"/>
                </a:moveTo>
                <a:lnTo>
                  <a:pt x="424" y="150"/>
                </a:lnTo>
                <a:lnTo>
                  <a:pt x="0" y="29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5092560" y="3236760"/>
            <a:ext cx="708120" cy="3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496200" y="3857760"/>
            <a:ext cx="479520" cy="3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7574040" y="3857760"/>
            <a:ext cx="479520" cy="3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5824440" y="3440160"/>
            <a:ext cx="479520" cy="3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861240" y="3440160"/>
            <a:ext cx="479520" cy="3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016680" y="3797280"/>
            <a:ext cx="10033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942240" y="3741840"/>
            <a:ext cx="157680" cy="106560"/>
          </a:xfrm>
          <a:custGeom>
            <a:avLst/>
            <a:gdLst/>
            <a:ahLst/>
            <a:rect l="0" t="0" r="r" b="b"/>
            <a:pathLst>
              <a:path w="438" h="296">
                <a:moveTo>
                  <a:pt x="0" y="0"/>
                </a:moveTo>
                <a:lnTo>
                  <a:pt x="438" y="147"/>
                </a:lnTo>
                <a:lnTo>
                  <a:pt x="0" y="29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708600" y="4191120"/>
            <a:ext cx="1000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704000" y="4130640"/>
            <a:ext cx="155880" cy="108360"/>
          </a:xfrm>
          <a:custGeom>
            <a:avLst/>
            <a:gdLst/>
            <a:ahLst/>
            <a:rect l="0" t="0" r="r" b="b"/>
            <a:pathLst>
              <a:path w="433" h="301">
                <a:moveTo>
                  <a:pt x="0" y="0"/>
                </a:moveTo>
                <a:lnTo>
                  <a:pt x="433" y="153"/>
                </a:lnTo>
                <a:lnTo>
                  <a:pt x="0" y="30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ference Count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285840" y="1581120"/>
            <a:ext cx="857268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ver free memory before ref count is z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ver free memory before ref count is z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ver free memory before ref count is z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ver free memory before ref count is z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XX::Release(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777960" y="1752480"/>
            <a:ext cx="7588080" cy="33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IMP_(ULONG) CXX::Release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if (--m_refs == 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delete thi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return 0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return m_ref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 Look Under The Hoo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258920" y="1308240"/>
            <a:ext cx="6626160" cy="51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built upon itsel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ts of RPC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e, cach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ise hol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g and Drop source and targ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wind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interface to component object system itsel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 Look Under The Hoo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247760" y="1574640"/>
            <a:ext cx="6648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itia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ion scen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ation, lock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loading DLLs and EX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detail related to compound document scenarios in other tal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itializ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971640" y="1828800"/>
            <a:ext cx="7162920" cy="37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BuildVersion(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s major and minor build ver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to determine if new enou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Initialize(NULL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ed before most use of the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es task allocator; can repl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Uninitialize(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mple Obje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71680" y="990720"/>
            <a:ext cx="8140680" cy="55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FAR CDelayedRelease : public IUnkno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  public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DMETHOD(QueryInterface) (REFIID iid, LPVOID FAR* ppvObj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DMETHOD_(ULONG,AddRef) (void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DMETHOD_(ULONG,Release) (void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elayedRelease(IUnknown FAR* pUnk);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~CDelayedRelease (void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vate: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LONG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_ref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Unknown FAR *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_pUn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elayedRelease::CDelayedRelease (IUnknown FAR* pUnk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_refs = 1;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_pUnk = pUnk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 (pUnk)   pUnk-&gt;AddRef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elayedRelease::~CDelayedRelease (voi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 (m_pUnk)   m_pUnk-&gt;Release();    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nent Object View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681200" y="2019240"/>
            <a:ext cx="1978200" cy="838080"/>
          </a:xfrm>
          <a:prstGeom prst="rect">
            <a:avLst/>
          </a:prstGeom>
          <a:gradFill rotWithShape="0">
            <a:gsLst>
              <a:gs pos="0">
                <a:srgbClr val="10a89a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745080" y="2019240"/>
            <a:ext cx="1654200" cy="838080"/>
          </a:xfrm>
          <a:prstGeom prst="rect">
            <a:avLst/>
          </a:prstGeom>
          <a:gradFill rotWithShape="0">
            <a:gsLst>
              <a:gs pos="0">
                <a:srgbClr val="10a89a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g and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478480" y="2019240"/>
            <a:ext cx="1870200" cy="838080"/>
          </a:xfrm>
          <a:prstGeom prst="rect">
            <a:avLst/>
          </a:prstGeom>
          <a:gradFill rotWithShape="0">
            <a:gsLst>
              <a:gs pos="0">
                <a:srgbClr val="10a89a"/>
              </a:gs>
              <a:gs pos="100000">
                <a:srgbClr val="14d3c1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000080" y="3228840"/>
            <a:ext cx="2895480" cy="876240"/>
          </a:xfrm>
          <a:prstGeom prst="rect">
            <a:avLst/>
          </a:prstGeom>
          <a:gradFill rotWithShape="0">
            <a:gsLst>
              <a:gs pos="0">
                <a:srgbClr val="cc9e57"/>
              </a:gs>
              <a:gs pos="100000">
                <a:srgbClr val="ffc66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971880" y="3228840"/>
            <a:ext cx="1733400" cy="876240"/>
          </a:xfrm>
          <a:prstGeom prst="rect">
            <a:avLst/>
          </a:prstGeom>
          <a:gradFill rotWithShape="0">
            <a:gsLst>
              <a:gs pos="0">
                <a:srgbClr val="cc9e57"/>
              </a:gs>
              <a:gs pos="100000">
                <a:srgbClr val="ffc66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800680" y="3228840"/>
            <a:ext cx="2343240" cy="879480"/>
          </a:xfrm>
          <a:prstGeom prst="rect">
            <a:avLst/>
          </a:prstGeom>
          <a:gradFill rotWithShape="0">
            <a:gsLst>
              <a:gs pos="0">
                <a:srgbClr val="cc9e57"/>
              </a:gs>
              <a:gs pos="100000">
                <a:srgbClr val="ffc66d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form Data 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2600" y="4448160"/>
            <a:ext cx="9118440" cy="495360"/>
          </a:xfrm>
          <a:prstGeom prst="rect">
            <a:avLst/>
          </a:prstGeom>
          <a:gradFill rotWithShape="0">
            <a:gsLst>
              <a:gs pos="0">
                <a:srgbClr val="c90020"/>
              </a:gs>
              <a:gs pos="100000">
                <a:srgbClr val="fc0128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nent Object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85640" y="1922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mple Object 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	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704880" y="971640"/>
            <a:ext cx="7715160" cy="57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DMETHODIMP CDelayedRelease::QueryInterface(REFIID iid, LPLPVOID pp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iid == IID_IUnknown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ppv = thi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+m_refs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 NOERRO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 els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ppv = NUL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 ResultFromScode(E_NOINTERFAC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DMETHODIMP_(ULONG) CDelayedRelease::AddRef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    return ++m_refs;    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DMETHODIMP_(ULONG) CDelayedRelease::Release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(--m_refs == 0) {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ete this;    return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 m_ref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cess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328760" y="1063800"/>
            <a:ext cx="6486480" cy="543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 unique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 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xy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ident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table and other refer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mmetr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inters - one process on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pieces are component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cess - Diagra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562720" y="316224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343240" y="320040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124760" y="449568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753000" y="125748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2033640" y="4367160"/>
            <a:ext cx="180972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5605560" y="321156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3276720" y="2685960"/>
            <a:ext cx="495360" cy="743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200560" y="2190600"/>
            <a:ext cx="647640" cy="6858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0" y="521964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1143000" y="3828960"/>
            <a:ext cx="762120" cy="1352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1887480" y="3718080"/>
            <a:ext cx="441360" cy="98280"/>
            <a:chOff x="1887480" y="3718080"/>
            <a:chExt cx="441360" cy="98280"/>
          </a:xfrm>
        </p:grpSpPr>
        <p:sp>
          <p:nvSpPr>
            <p:cNvPr id="396" name=""/>
            <p:cNvSpPr/>
            <p:nvPr/>
          </p:nvSpPr>
          <p:spPr>
            <a:xfrm>
              <a:off x="1887480" y="371808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968480" y="376704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3754440" y="2327400"/>
            <a:ext cx="98280" cy="365040"/>
            <a:chOff x="3754440" y="2327400"/>
            <a:chExt cx="98280" cy="365040"/>
          </a:xfrm>
        </p:grpSpPr>
        <p:sp>
          <p:nvSpPr>
            <p:cNvPr id="399" name=""/>
            <p:cNvSpPr/>
            <p:nvPr/>
          </p:nvSpPr>
          <p:spPr>
            <a:xfrm>
              <a:off x="3754440" y="2590920"/>
              <a:ext cx="98280" cy="10152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3803760" y="2327400"/>
              <a:ext cx="0" cy="2635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402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92760" y="2860560"/>
            <a:ext cx="98280" cy="289080"/>
            <a:chOff x="5792760" y="2860560"/>
            <a:chExt cx="98280" cy="289080"/>
          </a:xfrm>
        </p:grpSpPr>
        <p:sp>
          <p:nvSpPr>
            <p:cNvPr id="405" name=""/>
            <p:cNvSpPr/>
            <p:nvPr/>
          </p:nvSpPr>
          <p:spPr>
            <a:xfrm>
              <a:off x="5792760" y="286056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842080" y="294156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6572160" y="3905280"/>
            <a:ext cx="914400" cy="3049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7072200" y="52434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647640" y="120024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 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542960" y="1486080"/>
            <a:ext cx="1067040" cy="1409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2592360" y="2936880"/>
            <a:ext cx="98280" cy="289080"/>
            <a:chOff x="2592360" y="2936880"/>
            <a:chExt cx="98280" cy="289080"/>
          </a:xfrm>
        </p:grpSpPr>
        <p:sp>
          <p:nvSpPr>
            <p:cNvPr id="412" name=""/>
            <p:cNvSpPr/>
            <p:nvPr/>
          </p:nvSpPr>
          <p:spPr>
            <a:xfrm>
              <a:off x="2592360" y="29368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641680" y="301788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4" name=""/>
          <p:cNvSpPr txBox="1"/>
          <p:nvPr/>
        </p:nvSpPr>
        <p:spPr>
          <a:xfrm>
            <a:off x="6724800" y="131436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5905440" y="1657440"/>
            <a:ext cx="1524240" cy="12189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591000" y="19051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-Process Creation - Step 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368960" y="211464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4065480" y="2346480"/>
            <a:ext cx="289080" cy="98280"/>
            <a:chOff x="4065480" y="2346480"/>
            <a:chExt cx="289080" cy="98280"/>
          </a:xfrm>
        </p:grpSpPr>
        <p:sp>
          <p:nvSpPr>
            <p:cNvPr id="420" name=""/>
            <p:cNvSpPr/>
            <p:nvPr/>
          </p:nvSpPr>
          <p:spPr>
            <a:xfrm>
              <a:off x="4065480" y="234648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146480" y="2395440"/>
              <a:ext cx="2080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2" name=""/>
          <p:cNvSpPr txBox="1"/>
          <p:nvPr/>
        </p:nvSpPr>
        <p:spPr>
          <a:xfrm>
            <a:off x="4545000" y="227160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914400" y="2400480"/>
            <a:ext cx="3143160" cy="7426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-Process Creation - Step 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368960" y="211464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4065480" y="2346480"/>
            <a:ext cx="289080" cy="98280"/>
            <a:chOff x="4065480" y="2346480"/>
            <a:chExt cx="289080" cy="98280"/>
          </a:xfrm>
        </p:grpSpPr>
        <p:sp>
          <p:nvSpPr>
            <p:cNvPr id="428" name=""/>
            <p:cNvSpPr/>
            <p:nvPr/>
          </p:nvSpPr>
          <p:spPr>
            <a:xfrm>
              <a:off x="4065480" y="234648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146480" y="2395440"/>
              <a:ext cx="2080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0" name=""/>
          <p:cNvSpPr txBox="1"/>
          <p:nvPr/>
        </p:nvSpPr>
        <p:spPr>
          <a:xfrm>
            <a:off x="4545000" y="227160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914400" y="2400480"/>
            <a:ext cx="3143160" cy="7426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381560" y="409572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4078440" y="4975200"/>
            <a:ext cx="288720" cy="98280"/>
            <a:chOff x="4078440" y="4975200"/>
            <a:chExt cx="288720" cy="98280"/>
          </a:xfrm>
        </p:grpSpPr>
        <p:sp>
          <p:nvSpPr>
            <p:cNvPr id="435" name=""/>
            <p:cNvSpPr/>
            <p:nvPr/>
          </p:nvSpPr>
          <p:spPr>
            <a:xfrm>
              <a:off x="4078440" y="497520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159080" y="5024520"/>
              <a:ext cx="2080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7" name=""/>
          <p:cNvSpPr txBox="1"/>
          <p:nvPr/>
        </p:nvSpPr>
        <p:spPr>
          <a:xfrm>
            <a:off x="4329000" y="48434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543120" y="2628720"/>
            <a:ext cx="1581480" cy="2362680"/>
          </a:xfrm>
          <a:custGeom>
            <a:avLst/>
            <a:gdLst/>
            <a:ahLst/>
            <a:rect l="0" t="0" r="r" b="b"/>
            <a:pathLst>
              <a:path fill="none" w="4393" h="6563">
                <a:moveTo>
                  <a:pt x="4393" y="0"/>
                </a:moveTo>
                <a:lnTo>
                  <a:pt x="529" y="2964"/>
                </a:lnTo>
                <a:lnTo>
                  <a:pt x="0" y="5875"/>
                </a:lnTo>
                <a:lnTo>
                  <a:pt x="1481" y="6563"/>
                </a:lnTo>
                <a:lnTo>
                  <a:pt x="1481" y="656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-Process Creation - Step 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368960" y="211464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4065480" y="2346480"/>
            <a:ext cx="289080" cy="98280"/>
            <a:chOff x="4065480" y="2346480"/>
            <a:chExt cx="289080" cy="98280"/>
          </a:xfrm>
        </p:grpSpPr>
        <p:sp>
          <p:nvSpPr>
            <p:cNvPr id="442" name=""/>
            <p:cNvSpPr/>
            <p:nvPr/>
          </p:nvSpPr>
          <p:spPr>
            <a:xfrm>
              <a:off x="4065480" y="234648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146480" y="2395440"/>
              <a:ext cx="2080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4" name=""/>
          <p:cNvSpPr txBox="1"/>
          <p:nvPr/>
        </p:nvSpPr>
        <p:spPr>
          <a:xfrm>
            <a:off x="4545000" y="227160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914400" y="2400480"/>
            <a:ext cx="3143160" cy="7426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381560" y="409572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4078440" y="4975200"/>
            <a:ext cx="288720" cy="98280"/>
            <a:chOff x="4078440" y="4975200"/>
            <a:chExt cx="288720" cy="98280"/>
          </a:xfrm>
        </p:grpSpPr>
        <p:sp>
          <p:nvSpPr>
            <p:cNvPr id="449" name=""/>
            <p:cNvSpPr/>
            <p:nvPr/>
          </p:nvSpPr>
          <p:spPr>
            <a:xfrm>
              <a:off x="4078440" y="497520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159080" y="5024520"/>
              <a:ext cx="20808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1" name=""/>
          <p:cNvSpPr txBox="1"/>
          <p:nvPr/>
        </p:nvSpPr>
        <p:spPr>
          <a:xfrm>
            <a:off x="4329000" y="48434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952560" y="3524400"/>
            <a:ext cx="3124440" cy="1467360"/>
          </a:xfrm>
          <a:custGeom>
            <a:avLst/>
            <a:gdLst/>
            <a:ahLst/>
            <a:rect l="0" t="0" r="r" b="b"/>
            <a:pathLst>
              <a:path fill="none" w="8679" h="4076">
                <a:moveTo>
                  <a:pt x="0" y="0"/>
                </a:moveTo>
                <a:lnTo>
                  <a:pt x="4975" y="2276"/>
                </a:lnTo>
                <a:lnTo>
                  <a:pt x="7197" y="3388"/>
                </a:lnTo>
                <a:lnTo>
                  <a:pt x="8679" y="4076"/>
                </a:lnTo>
                <a:lnTo>
                  <a:pt x="8679" y="4076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485640" y="23328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Creation #1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Object created first, then hand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1339920" y="1681200"/>
            <a:ext cx="646416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ing conn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GetClassObject(...., &amp;pCF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CF-&gt;CreateInstance(NULL, 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to class object’s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 from cre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object-side struc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hand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ok 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Creation #1 - Step 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591000" y="19051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000160" y="1771560"/>
            <a:ext cx="131436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753000" y="125748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1900080" y="1795320"/>
            <a:ext cx="1504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5200560" y="1428840"/>
            <a:ext cx="1200240" cy="743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1047600" y="2362320"/>
            <a:ext cx="495360" cy="7617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1544760" y="2289240"/>
            <a:ext cx="441360" cy="98280"/>
            <a:chOff x="1544760" y="2289240"/>
            <a:chExt cx="441360" cy="98280"/>
          </a:xfrm>
        </p:grpSpPr>
        <p:sp>
          <p:nvSpPr>
            <p:cNvPr id="468" name=""/>
            <p:cNvSpPr/>
            <p:nvPr/>
          </p:nvSpPr>
          <p:spPr>
            <a:xfrm>
              <a:off x="1544760" y="228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625760" y="233856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792600" y="2327400"/>
            <a:ext cx="98280" cy="288720"/>
            <a:chOff x="3792600" y="2327400"/>
            <a:chExt cx="98280" cy="288720"/>
          </a:xfrm>
        </p:grpSpPr>
        <p:sp>
          <p:nvSpPr>
            <p:cNvPr id="471" name=""/>
            <p:cNvSpPr/>
            <p:nvPr/>
          </p:nvSpPr>
          <p:spPr>
            <a:xfrm>
              <a:off x="3792600" y="253512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3841920" y="2327400"/>
              <a:ext cx="0" cy="2077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474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477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990880" y="2343240"/>
            <a:ext cx="819360" cy="457560"/>
          </a:xfrm>
          <a:custGeom>
            <a:avLst/>
            <a:gdLst/>
            <a:ahLst/>
            <a:rect l="0" t="0" r="r" b="b"/>
            <a:pathLst>
              <a:path fill="none" w="2276" h="1271">
                <a:moveTo>
                  <a:pt x="0" y="0"/>
                </a:moveTo>
                <a:lnTo>
                  <a:pt x="687" y="847"/>
                </a:lnTo>
                <a:lnTo>
                  <a:pt x="1641" y="1271"/>
                </a:lnTo>
                <a:lnTo>
                  <a:pt x="2276" y="741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1805040" y="25002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Creation #1 - Step 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591000" y="19051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000160" y="1771560"/>
            <a:ext cx="131436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3753000" y="125748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1900080" y="1795320"/>
            <a:ext cx="1504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5200560" y="1428840"/>
            <a:ext cx="1200240" cy="743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1047600" y="2362320"/>
            <a:ext cx="495360" cy="7617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1544760" y="2289240"/>
            <a:ext cx="441360" cy="98280"/>
            <a:chOff x="1544760" y="2289240"/>
            <a:chExt cx="441360" cy="98280"/>
          </a:xfrm>
        </p:grpSpPr>
        <p:sp>
          <p:nvSpPr>
            <p:cNvPr id="496" name=""/>
            <p:cNvSpPr/>
            <p:nvPr/>
          </p:nvSpPr>
          <p:spPr>
            <a:xfrm>
              <a:off x="1544760" y="228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625760" y="233856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3792600" y="2327400"/>
            <a:ext cx="98280" cy="288720"/>
            <a:chOff x="3792600" y="2327400"/>
            <a:chExt cx="98280" cy="288720"/>
          </a:xfrm>
        </p:grpSpPr>
        <p:sp>
          <p:nvSpPr>
            <p:cNvPr id="499" name=""/>
            <p:cNvSpPr/>
            <p:nvPr/>
          </p:nvSpPr>
          <p:spPr>
            <a:xfrm>
              <a:off x="3792600" y="253512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3841920" y="2327400"/>
              <a:ext cx="0" cy="2077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502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505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990880" y="2343240"/>
            <a:ext cx="819360" cy="457560"/>
          </a:xfrm>
          <a:custGeom>
            <a:avLst/>
            <a:gdLst/>
            <a:ahLst/>
            <a:rect l="0" t="0" r="r" b="b"/>
            <a:pathLst>
              <a:path fill="none" w="2276" h="1271">
                <a:moveTo>
                  <a:pt x="0" y="0"/>
                </a:moveTo>
                <a:lnTo>
                  <a:pt x="687" y="847"/>
                </a:lnTo>
                <a:lnTo>
                  <a:pt x="1641" y="1271"/>
                </a:lnTo>
                <a:lnTo>
                  <a:pt x="2276" y="741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1805040" y="25002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124760" y="449568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513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5" name=""/>
          <p:cNvSpPr txBox="1"/>
          <p:nvPr/>
        </p:nvSpPr>
        <p:spPr>
          <a:xfrm>
            <a:off x="7072200" y="52434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7581960" y="3219480"/>
            <a:ext cx="76320" cy="9716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Creation #1 - Step 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591000" y="19051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000160" y="1771560"/>
            <a:ext cx="131436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3753000" y="125748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1900080" y="1795320"/>
            <a:ext cx="1504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5200560" y="1428840"/>
            <a:ext cx="1200240" cy="743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1047600" y="2362320"/>
            <a:ext cx="495360" cy="7617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1544760" y="2289240"/>
            <a:ext cx="441360" cy="98280"/>
            <a:chOff x="1544760" y="2289240"/>
            <a:chExt cx="441360" cy="98280"/>
          </a:xfrm>
        </p:grpSpPr>
        <p:sp>
          <p:nvSpPr>
            <p:cNvPr id="530" name=""/>
            <p:cNvSpPr/>
            <p:nvPr/>
          </p:nvSpPr>
          <p:spPr>
            <a:xfrm>
              <a:off x="1544760" y="228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625760" y="233856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3792600" y="2327400"/>
            <a:ext cx="98280" cy="288720"/>
            <a:chOff x="3792600" y="2327400"/>
            <a:chExt cx="98280" cy="288720"/>
          </a:xfrm>
        </p:grpSpPr>
        <p:sp>
          <p:nvSpPr>
            <p:cNvPr id="533" name=""/>
            <p:cNvSpPr/>
            <p:nvPr/>
          </p:nvSpPr>
          <p:spPr>
            <a:xfrm>
              <a:off x="3792600" y="253512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3841920" y="2327400"/>
              <a:ext cx="0" cy="2077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536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539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1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990880" y="2343240"/>
            <a:ext cx="819360" cy="457560"/>
          </a:xfrm>
          <a:custGeom>
            <a:avLst/>
            <a:gdLst/>
            <a:ahLst/>
            <a:rect l="0" t="0" r="r" b="b"/>
            <a:pathLst>
              <a:path fill="none" w="2276" h="1271">
                <a:moveTo>
                  <a:pt x="0" y="0"/>
                </a:moveTo>
                <a:lnTo>
                  <a:pt x="687" y="847"/>
                </a:lnTo>
                <a:lnTo>
                  <a:pt x="1641" y="1271"/>
                </a:lnTo>
                <a:lnTo>
                  <a:pt x="2276" y="741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1805040" y="25002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124760" y="449568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547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9" name=""/>
          <p:cNvSpPr txBox="1"/>
          <p:nvPr/>
        </p:nvSpPr>
        <p:spPr>
          <a:xfrm>
            <a:off x="7072200" y="52434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551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3" name=""/>
          <p:cNvSpPr/>
          <p:nvPr/>
        </p:nvSpPr>
        <p:spPr>
          <a:xfrm>
            <a:off x="6705720" y="2362320"/>
            <a:ext cx="838440" cy="1848240"/>
          </a:xfrm>
          <a:custGeom>
            <a:avLst/>
            <a:gdLst/>
            <a:ahLst/>
            <a:rect l="0" t="0" r="r" b="b"/>
            <a:pathLst>
              <a:path fill="none" w="2329" h="5134">
                <a:moveTo>
                  <a:pt x="0" y="0"/>
                </a:moveTo>
                <a:lnTo>
                  <a:pt x="793" y="3652"/>
                </a:lnTo>
                <a:lnTo>
                  <a:pt x="2329" y="513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467320" y="428616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5510160" y="433548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6021360" y="3984480"/>
            <a:ext cx="98280" cy="289080"/>
            <a:chOff x="6021360" y="3984480"/>
            <a:chExt cx="98280" cy="289080"/>
          </a:xfrm>
        </p:grpSpPr>
        <p:sp>
          <p:nvSpPr>
            <p:cNvPr id="557" name=""/>
            <p:cNvSpPr/>
            <p:nvPr/>
          </p:nvSpPr>
          <p:spPr>
            <a:xfrm>
              <a:off x="6021360" y="3984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070680" y="406548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9" name=""/>
          <p:cNvSpPr/>
          <p:nvPr/>
        </p:nvSpPr>
        <p:spPr>
          <a:xfrm flipV="1">
            <a:off x="6572160" y="4210200"/>
            <a:ext cx="91440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6076800" y="2381400"/>
            <a:ext cx="552600" cy="16002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calable - Distance To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282680" y="1738440"/>
            <a:ext cx="657864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within an ap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 EXE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ter:  remote EXE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oice made primarily by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Creation #1 - Step 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591000" y="19051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000160" y="1771560"/>
            <a:ext cx="131436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3753000" y="125748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1900080" y="1795320"/>
            <a:ext cx="1504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5200560" y="1428840"/>
            <a:ext cx="1200240" cy="743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1047600" y="2362320"/>
            <a:ext cx="495360" cy="7617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1544760" y="2289240"/>
            <a:ext cx="441360" cy="98280"/>
            <a:chOff x="1544760" y="2289240"/>
            <a:chExt cx="441360" cy="98280"/>
          </a:xfrm>
        </p:grpSpPr>
        <p:sp>
          <p:nvSpPr>
            <p:cNvPr id="574" name=""/>
            <p:cNvSpPr/>
            <p:nvPr/>
          </p:nvSpPr>
          <p:spPr>
            <a:xfrm>
              <a:off x="1544760" y="228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625760" y="233856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3792600" y="2327400"/>
            <a:ext cx="98280" cy="288720"/>
            <a:chOff x="3792600" y="2327400"/>
            <a:chExt cx="98280" cy="288720"/>
          </a:xfrm>
        </p:grpSpPr>
        <p:sp>
          <p:nvSpPr>
            <p:cNvPr id="577" name=""/>
            <p:cNvSpPr/>
            <p:nvPr/>
          </p:nvSpPr>
          <p:spPr>
            <a:xfrm>
              <a:off x="3792600" y="253512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3841920" y="2327400"/>
              <a:ext cx="0" cy="2077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580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583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990880" y="2343240"/>
            <a:ext cx="819360" cy="457560"/>
          </a:xfrm>
          <a:custGeom>
            <a:avLst/>
            <a:gdLst/>
            <a:ahLst/>
            <a:rect l="0" t="0" r="r" b="b"/>
            <a:pathLst>
              <a:path fill="none" w="2276" h="1271">
                <a:moveTo>
                  <a:pt x="0" y="0"/>
                </a:moveTo>
                <a:lnTo>
                  <a:pt x="687" y="847"/>
                </a:lnTo>
                <a:lnTo>
                  <a:pt x="1641" y="1271"/>
                </a:lnTo>
                <a:lnTo>
                  <a:pt x="2276" y="741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1805040" y="25002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124760" y="449568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591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3" name=""/>
          <p:cNvSpPr txBox="1"/>
          <p:nvPr/>
        </p:nvSpPr>
        <p:spPr>
          <a:xfrm>
            <a:off x="7072200" y="52434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467320" y="428616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5510160" y="433548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597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6021360" y="3984480"/>
            <a:ext cx="98280" cy="289080"/>
            <a:chOff x="6021360" y="3984480"/>
            <a:chExt cx="98280" cy="289080"/>
          </a:xfrm>
        </p:grpSpPr>
        <p:sp>
          <p:nvSpPr>
            <p:cNvPr id="600" name=""/>
            <p:cNvSpPr/>
            <p:nvPr/>
          </p:nvSpPr>
          <p:spPr>
            <a:xfrm>
              <a:off x="6021360" y="3984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070680" y="406548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2" name=""/>
          <p:cNvSpPr/>
          <p:nvPr/>
        </p:nvSpPr>
        <p:spPr>
          <a:xfrm flipV="1">
            <a:off x="6572160" y="4210200"/>
            <a:ext cx="91440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238720" y="2800440"/>
            <a:ext cx="838080" cy="1181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607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9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914400" y="3578400"/>
            <a:ext cx="838080" cy="1047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Creation #1 - Step 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591000" y="19051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2000160" y="1771560"/>
            <a:ext cx="131436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753000" y="125748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1900080" y="1795320"/>
            <a:ext cx="15048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5200560" y="1428840"/>
            <a:ext cx="1200240" cy="743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1047600" y="2362320"/>
            <a:ext cx="495360" cy="7617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1544760" y="2289240"/>
            <a:ext cx="441360" cy="98280"/>
            <a:chOff x="1544760" y="2289240"/>
            <a:chExt cx="441360" cy="98280"/>
          </a:xfrm>
        </p:grpSpPr>
        <p:sp>
          <p:nvSpPr>
            <p:cNvPr id="624" name=""/>
            <p:cNvSpPr/>
            <p:nvPr/>
          </p:nvSpPr>
          <p:spPr>
            <a:xfrm>
              <a:off x="1544760" y="228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625760" y="233856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3792600" y="2327400"/>
            <a:ext cx="98280" cy="288720"/>
            <a:chOff x="3792600" y="2327400"/>
            <a:chExt cx="98280" cy="288720"/>
          </a:xfrm>
        </p:grpSpPr>
        <p:sp>
          <p:nvSpPr>
            <p:cNvPr id="627" name=""/>
            <p:cNvSpPr/>
            <p:nvPr/>
          </p:nvSpPr>
          <p:spPr>
            <a:xfrm>
              <a:off x="3792600" y="253512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3841920" y="2327400"/>
              <a:ext cx="0" cy="2077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630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633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5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2990880" y="2343240"/>
            <a:ext cx="819360" cy="457560"/>
          </a:xfrm>
          <a:custGeom>
            <a:avLst/>
            <a:gdLst/>
            <a:ahLst/>
            <a:rect l="0" t="0" r="r" b="b"/>
            <a:pathLst>
              <a:path fill="none" w="2276" h="1271">
                <a:moveTo>
                  <a:pt x="0" y="0"/>
                </a:moveTo>
                <a:lnTo>
                  <a:pt x="687" y="847"/>
                </a:lnTo>
                <a:lnTo>
                  <a:pt x="1641" y="1271"/>
                </a:lnTo>
                <a:lnTo>
                  <a:pt x="2276" y="741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1805040" y="25002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7124760" y="449568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641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3" name=""/>
          <p:cNvSpPr txBox="1"/>
          <p:nvPr/>
        </p:nvSpPr>
        <p:spPr>
          <a:xfrm>
            <a:off x="7072200" y="52434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467320" y="428616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5510160" y="433548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647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6021360" y="3984480"/>
            <a:ext cx="98280" cy="289080"/>
            <a:chOff x="6021360" y="3984480"/>
            <a:chExt cx="98280" cy="289080"/>
          </a:xfrm>
        </p:grpSpPr>
        <p:sp>
          <p:nvSpPr>
            <p:cNvPr id="650" name=""/>
            <p:cNvSpPr/>
            <p:nvPr/>
          </p:nvSpPr>
          <p:spPr>
            <a:xfrm>
              <a:off x="6021360" y="3984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070680" y="406548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2" name=""/>
          <p:cNvSpPr/>
          <p:nvPr/>
        </p:nvSpPr>
        <p:spPr>
          <a:xfrm flipV="1">
            <a:off x="6572160" y="4210200"/>
            <a:ext cx="91440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505480" y="3619440"/>
            <a:ext cx="571320" cy="362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914400" y="3578400"/>
            <a:ext cx="838080" cy="1047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658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0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3790800" y="298764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3314880" y="4149720"/>
            <a:ext cx="59040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3887640" y="3790800"/>
            <a:ext cx="98280" cy="365040"/>
            <a:chOff x="3887640" y="3790800"/>
            <a:chExt cx="98280" cy="365040"/>
          </a:xfrm>
        </p:grpSpPr>
        <p:sp>
          <p:nvSpPr>
            <p:cNvPr id="664" name=""/>
            <p:cNvSpPr/>
            <p:nvPr/>
          </p:nvSpPr>
          <p:spPr>
            <a:xfrm>
              <a:off x="3887640" y="4054320"/>
              <a:ext cx="98280" cy="10152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3936960" y="3790800"/>
              <a:ext cx="0" cy="2635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3629160" y="33685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 txBox="1"/>
          <p:nvPr/>
        </p:nvSpPr>
        <p:spPr>
          <a:xfrm>
            <a:off x="485640" y="23328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Creation #2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Handler created first, then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860400" y="1738440"/>
            <a:ext cx="7424640" cy="47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ainer and handler must be aware of the order of cre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Lo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GetClassObject(..., &amp;pCF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CF-&gt;CreateInstance(NULL, ..., &amp;pObj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bj-&gt;QI(IID_IPersistStorage, &amp;pP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PS-&gt;Load(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initi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’s process need not ex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Creation #2 - Step 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914400" y="3578400"/>
            <a:ext cx="838080" cy="1047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676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8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 txBox="1"/>
          <p:nvPr/>
        </p:nvSpPr>
        <p:spPr>
          <a:xfrm>
            <a:off x="485640" y="233280"/>
            <a:ext cx="817236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Creation #2</a:t>
            </a:r>
            <a:br>
              <a:rPr sz="4800"/>
            </a:br>
            <a:r>
              <a:rPr b="1" lang="en-US" sz="3200" spc="-1" strike="noStrike">
                <a:solidFill>
                  <a:srgbClr val="ffc66d"/>
                </a:solidFill>
                <a:latin typeface="Times New Roman"/>
                <a:ea typeface="Times New Roman"/>
              </a:rPr>
              <a:t>Handler created first, then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1057320" y="1922400"/>
            <a:ext cx="70293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Run (or pObj-&gt;DoVerb(...)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d class object; may run EX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 (speci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pCF-&gt;CreateInstance(NULL, 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 to class object’s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 with marshaled poin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ok up to existing hand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Creation #2 - Step 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914400" y="3578400"/>
            <a:ext cx="838080" cy="1047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688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0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695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7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698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0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7486560" y="952560"/>
            <a:ext cx="1562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6496200" y="1257480"/>
            <a:ext cx="1143000" cy="190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Creation #2 - Step 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914400" y="3578400"/>
            <a:ext cx="838080" cy="1047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711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3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718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721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7486560" y="952560"/>
            <a:ext cx="1562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 flipH="1">
            <a:off x="6496200" y="1257480"/>
            <a:ext cx="1143000" cy="190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591000" y="19051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3753000" y="125748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5200560" y="1467000"/>
            <a:ext cx="1200240" cy="704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0" name=""/>
          <p:cNvGrpSpPr/>
          <p:nvPr/>
        </p:nvGrpSpPr>
        <p:grpSpPr>
          <a:xfrm>
            <a:off x="3792600" y="2327400"/>
            <a:ext cx="98280" cy="288720"/>
            <a:chOff x="3792600" y="2327400"/>
            <a:chExt cx="98280" cy="288720"/>
          </a:xfrm>
        </p:grpSpPr>
        <p:sp>
          <p:nvSpPr>
            <p:cNvPr id="731" name=""/>
            <p:cNvSpPr/>
            <p:nvPr/>
          </p:nvSpPr>
          <p:spPr>
            <a:xfrm>
              <a:off x="3792600" y="253512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3841920" y="2327400"/>
              <a:ext cx="0" cy="2077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3" name=""/>
          <p:cNvSpPr/>
          <p:nvPr/>
        </p:nvSpPr>
        <p:spPr>
          <a:xfrm flipV="1">
            <a:off x="3276720" y="2610000"/>
            <a:ext cx="552240" cy="18856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Creation #2 - Step 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914400" y="3578400"/>
            <a:ext cx="838080" cy="1047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741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3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748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751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3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7486560" y="952560"/>
            <a:ext cx="1562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 flipH="1">
            <a:off x="6496200" y="1257480"/>
            <a:ext cx="1143000" cy="190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591000" y="19051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3753000" y="125748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5200560" y="1467000"/>
            <a:ext cx="1200240" cy="704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3792600" y="2327400"/>
            <a:ext cx="98280" cy="288720"/>
            <a:chOff x="3792600" y="2327400"/>
            <a:chExt cx="98280" cy="288720"/>
          </a:xfrm>
        </p:grpSpPr>
        <p:sp>
          <p:nvSpPr>
            <p:cNvPr id="761" name=""/>
            <p:cNvSpPr/>
            <p:nvPr/>
          </p:nvSpPr>
          <p:spPr>
            <a:xfrm>
              <a:off x="3792600" y="253512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 flipV="1">
              <a:off x="3841920" y="2327400"/>
              <a:ext cx="0" cy="2077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3" name=""/>
          <p:cNvSpPr/>
          <p:nvPr/>
        </p:nvSpPr>
        <p:spPr>
          <a:xfrm flipV="1">
            <a:off x="3276720" y="2610000"/>
            <a:ext cx="552240" cy="18856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7124760" y="449568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5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766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8" name=""/>
          <p:cNvSpPr txBox="1"/>
          <p:nvPr/>
        </p:nvSpPr>
        <p:spPr>
          <a:xfrm>
            <a:off x="7072200" y="52434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467320" y="428616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5510160" y="433548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772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6021360" y="3984480"/>
            <a:ext cx="98280" cy="289080"/>
            <a:chOff x="6021360" y="3984480"/>
            <a:chExt cx="98280" cy="289080"/>
          </a:xfrm>
        </p:grpSpPr>
        <p:sp>
          <p:nvSpPr>
            <p:cNvPr id="775" name=""/>
            <p:cNvSpPr/>
            <p:nvPr/>
          </p:nvSpPr>
          <p:spPr>
            <a:xfrm>
              <a:off x="6021360" y="3984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070680" y="406548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7" name=""/>
          <p:cNvSpPr/>
          <p:nvPr/>
        </p:nvSpPr>
        <p:spPr>
          <a:xfrm flipV="1">
            <a:off x="6572160" y="4210200"/>
            <a:ext cx="91440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238720" y="2800440"/>
            <a:ext cx="838080" cy="1181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Creation #2 - Step 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5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786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789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1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7124760" y="449568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795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7" name=""/>
          <p:cNvSpPr txBox="1"/>
          <p:nvPr/>
        </p:nvSpPr>
        <p:spPr>
          <a:xfrm>
            <a:off x="7072200" y="52434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5467320" y="428616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5510160" y="433548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0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801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3" name=""/>
          <p:cNvGrpSpPr/>
          <p:nvPr/>
        </p:nvGrpSpPr>
        <p:grpSpPr>
          <a:xfrm>
            <a:off x="6021360" y="3984480"/>
            <a:ext cx="98280" cy="289080"/>
            <a:chOff x="6021360" y="3984480"/>
            <a:chExt cx="98280" cy="289080"/>
          </a:xfrm>
        </p:grpSpPr>
        <p:sp>
          <p:nvSpPr>
            <p:cNvPr id="804" name=""/>
            <p:cNvSpPr/>
            <p:nvPr/>
          </p:nvSpPr>
          <p:spPr>
            <a:xfrm>
              <a:off x="6021360" y="3984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070680" y="406548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6" name=""/>
          <p:cNvSpPr/>
          <p:nvPr/>
        </p:nvSpPr>
        <p:spPr>
          <a:xfrm flipV="1">
            <a:off x="6572160" y="4210200"/>
            <a:ext cx="91440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5505480" y="3619440"/>
            <a:ext cx="571320" cy="362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914400" y="3578400"/>
            <a:ext cx="838080" cy="1047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1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812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4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3790800" y="298764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 flipV="1">
            <a:off x="3314880" y="4149720"/>
            <a:ext cx="59040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3887640" y="3790800"/>
            <a:ext cx="98280" cy="365040"/>
            <a:chOff x="3887640" y="3790800"/>
            <a:chExt cx="98280" cy="365040"/>
          </a:xfrm>
        </p:grpSpPr>
        <p:sp>
          <p:nvSpPr>
            <p:cNvPr id="818" name=""/>
            <p:cNvSpPr/>
            <p:nvPr/>
          </p:nvSpPr>
          <p:spPr>
            <a:xfrm>
              <a:off x="3887640" y="4054320"/>
              <a:ext cx="98280" cy="10152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 flipV="1">
              <a:off x="3936960" y="3790800"/>
              <a:ext cx="0" cy="2635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0" name=""/>
          <p:cNvSpPr/>
          <p:nvPr/>
        </p:nvSpPr>
        <p:spPr>
          <a:xfrm>
            <a:off x="3629160" y="33685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7486560" y="952560"/>
            <a:ext cx="1562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 flipH="1">
            <a:off x="6496200" y="1257480"/>
            <a:ext cx="1143000" cy="190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3591000" y="19051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3753000" y="125748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5200560" y="1467000"/>
            <a:ext cx="1200240" cy="704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6" name=""/>
          <p:cNvGrpSpPr/>
          <p:nvPr/>
        </p:nvGrpSpPr>
        <p:grpSpPr>
          <a:xfrm>
            <a:off x="3792600" y="2327400"/>
            <a:ext cx="98280" cy="288720"/>
            <a:chOff x="3792600" y="2327400"/>
            <a:chExt cx="98280" cy="288720"/>
          </a:xfrm>
        </p:grpSpPr>
        <p:sp>
          <p:nvSpPr>
            <p:cNvPr id="827" name=""/>
            <p:cNvSpPr/>
            <p:nvPr/>
          </p:nvSpPr>
          <p:spPr>
            <a:xfrm>
              <a:off x="3792600" y="253512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 flipV="1">
              <a:off x="3841920" y="2327400"/>
              <a:ext cx="0" cy="2077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9" name=""/>
          <p:cNvSpPr/>
          <p:nvPr/>
        </p:nvSpPr>
        <p:spPr>
          <a:xfrm flipV="1">
            <a:off x="3276720" y="2610000"/>
            <a:ext cx="552240" cy="18856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Creation #2 - Step 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837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9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840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2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124760" y="449568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5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846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8" name=""/>
          <p:cNvSpPr txBox="1"/>
          <p:nvPr/>
        </p:nvSpPr>
        <p:spPr>
          <a:xfrm>
            <a:off x="7072200" y="52434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5467320" y="428616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5510160" y="433548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852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6021360" y="3984480"/>
            <a:ext cx="98280" cy="289080"/>
            <a:chOff x="6021360" y="3984480"/>
            <a:chExt cx="98280" cy="289080"/>
          </a:xfrm>
        </p:grpSpPr>
        <p:sp>
          <p:nvSpPr>
            <p:cNvPr id="855" name=""/>
            <p:cNvSpPr/>
            <p:nvPr/>
          </p:nvSpPr>
          <p:spPr>
            <a:xfrm>
              <a:off x="6021360" y="3984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070680" y="406548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7" name=""/>
          <p:cNvSpPr/>
          <p:nvPr/>
        </p:nvSpPr>
        <p:spPr>
          <a:xfrm flipV="1">
            <a:off x="6572160" y="4210200"/>
            <a:ext cx="91440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5505480" y="3619440"/>
            <a:ext cx="571320" cy="362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914400" y="3578400"/>
            <a:ext cx="838080" cy="1047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2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863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5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3790800" y="298764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3314880" y="4149720"/>
            <a:ext cx="59040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8" name=""/>
          <p:cNvGrpSpPr/>
          <p:nvPr/>
        </p:nvGrpSpPr>
        <p:grpSpPr>
          <a:xfrm>
            <a:off x="3887640" y="3790800"/>
            <a:ext cx="98280" cy="365040"/>
            <a:chOff x="3887640" y="3790800"/>
            <a:chExt cx="98280" cy="365040"/>
          </a:xfrm>
        </p:grpSpPr>
        <p:sp>
          <p:nvSpPr>
            <p:cNvPr id="869" name=""/>
            <p:cNvSpPr/>
            <p:nvPr/>
          </p:nvSpPr>
          <p:spPr>
            <a:xfrm>
              <a:off x="3887640" y="4054320"/>
              <a:ext cx="98280" cy="10152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 flipV="1">
              <a:off x="3936960" y="3790800"/>
              <a:ext cx="0" cy="2635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71" name=""/>
          <p:cNvSpPr/>
          <p:nvPr/>
        </p:nvSpPr>
        <p:spPr>
          <a:xfrm>
            <a:off x="3629160" y="33685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7486560" y="952560"/>
            <a:ext cx="1562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 flipH="1">
            <a:off x="6496200" y="1257480"/>
            <a:ext cx="1143000" cy="190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calable - Siz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11160" y="1738440"/>
            <a:ext cx="732168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ghtweight objects - no CLS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dium-weight objects - O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vyweight - handler or local server fronts large network of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de possible by transparent nature of remot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bject Relea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1527120" y="1738440"/>
            <a:ext cx="608976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t release of poin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der same for both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bj-&gt;Release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 gets last rel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 cleans up and calls ProxyManager to disconn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Manager releases object if last connection, no table strong marshalings and no lo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Object Release - Step 1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7124760" y="449568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0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881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3" name=""/>
          <p:cNvSpPr txBox="1"/>
          <p:nvPr/>
        </p:nvSpPr>
        <p:spPr>
          <a:xfrm>
            <a:off x="7072200" y="52434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5467320" y="428616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 txBox="1"/>
          <p:nvPr/>
        </p:nvSpPr>
        <p:spPr>
          <a:xfrm>
            <a:off x="5510160" y="433548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887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9" name=""/>
          <p:cNvGrpSpPr/>
          <p:nvPr/>
        </p:nvGrpSpPr>
        <p:grpSpPr>
          <a:xfrm>
            <a:off x="6021360" y="3984480"/>
            <a:ext cx="98280" cy="289080"/>
            <a:chOff x="6021360" y="3984480"/>
            <a:chExt cx="98280" cy="289080"/>
          </a:xfrm>
        </p:grpSpPr>
        <p:sp>
          <p:nvSpPr>
            <p:cNvPr id="890" name=""/>
            <p:cNvSpPr/>
            <p:nvPr/>
          </p:nvSpPr>
          <p:spPr>
            <a:xfrm>
              <a:off x="6021360" y="3984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070680" y="406548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2" name=""/>
          <p:cNvSpPr/>
          <p:nvPr/>
        </p:nvSpPr>
        <p:spPr>
          <a:xfrm flipV="1">
            <a:off x="6572160" y="4210200"/>
            <a:ext cx="91440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5505480" y="3619440"/>
            <a:ext cx="571320" cy="362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6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897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9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 txBox="1"/>
          <p:nvPr/>
        </p:nvSpPr>
        <p:spPr>
          <a:xfrm>
            <a:off x="3790800" y="298764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 flipV="1">
            <a:off x="3314880" y="4149720"/>
            <a:ext cx="59040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3887640" y="3790800"/>
            <a:ext cx="98280" cy="365040"/>
            <a:chOff x="3887640" y="3790800"/>
            <a:chExt cx="98280" cy="365040"/>
          </a:xfrm>
        </p:grpSpPr>
        <p:sp>
          <p:nvSpPr>
            <p:cNvPr id="903" name=""/>
            <p:cNvSpPr/>
            <p:nvPr/>
          </p:nvSpPr>
          <p:spPr>
            <a:xfrm>
              <a:off x="3887640" y="4054320"/>
              <a:ext cx="98280" cy="10152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 flipV="1">
              <a:off x="3936960" y="3790800"/>
              <a:ext cx="0" cy="2635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5" name=""/>
          <p:cNvSpPr/>
          <p:nvPr/>
        </p:nvSpPr>
        <p:spPr>
          <a:xfrm>
            <a:off x="3629160" y="336852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9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910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913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7486560" y="952560"/>
            <a:ext cx="1562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 flipH="1">
            <a:off x="6496200" y="1257480"/>
            <a:ext cx="1143000" cy="190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Object Release - Step 2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7124760" y="449568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3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924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6" name=""/>
          <p:cNvSpPr txBox="1"/>
          <p:nvPr/>
        </p:nvSpPr>
        <p:spPr>
          <a:xfrm>
            <a:off x="7072200" y="52434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5467320" y="428616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 txBox="1"/>
          <p:nvPr/>
        </p:nvSpPr>
        <p:spPr>
          <a:xfrm>
            <a:off x="5510160" y="433548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9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930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2" name=""/>
          <p:cNvGrpSpPr/>
          <p:nvPr/>
        </p:nvGrpSpPr>
        <p:grpSpPr>
          <a:xfrm>
            <a:off x="6021360" y="3984480"/>
            <a:ext cx="98280" cy="289080"/>
            <a:chOff x="6021360" y="3984480"/>
            <a:chExt cx="98280" cy="289080"/>
          </a:xfrm>
        </p:grpSpPr>
        <p:sp>
          <p:nvSpPr>
            <p:cNvPr id="933" name=""/>
            <p:cNvSpPr/>
            <p:nvPr/>
          </p:nvSpPr>
          <p:spPr>
            <a:xfrm>
              <a:off x="6021360" y="3984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070680" y="406548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5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938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0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4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945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7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948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0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7486560" y="952560"/>
            <a:ext cx="1562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 flipH="1">
            <a:off x="6496200" y="1257480"/>
            <a:ext cx="1143000" cy="190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 flipV="1">
            <a:off x="6572160" y="4210200"/>
            <a:ext cx="914400" cy="4190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Object Release - Step 3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7124760" y="449568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9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960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2" name=""/>
          <p:cNvSpPr txBox="1"/>
          <p:nvPr/>
        </p:nvSpPr>
        <p:spPr>
          <a:xfrm>
            <a:off x="7072200" y="524340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5467320" y="428616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5510160" y="433548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5" name=""/>
          <p:cNvGrpSpPr/>
          <p:nvPr/>
        </p:nvGrpSpPr>
        <p:grpSpPr>
          <a:xfrm>
            <a:off x="7507440" y="4194000"/>
            <a:ext cx="98280" cy="289080"/>
            <a:chOff x="7507440" y="4194000"/>
            <a:chExt cx="98280" cy="289080"/>
          </a:xfrm>
        </p:grpSpPr>
        <p:sp>
          <p:nvSpPr>
            <p:cNvPr id="966" name=""/>
            <p:cNvSpPr/>
            <p:nvPr/>
          </p:nvSpPr>
          <p:spPr>
            <a:xfrm>
              <a:off x="7507440" y="419400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556400" y="427500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6021360" y="3984480"/>
            <a:ext cx="98280" cy="289080"/>
            <a:chOff x="6021360" y="3984480"/>
            <a:chExt cx="98280" cy="289080"/>
          </a:xfrm>
        </p:grpSpPr>
        <p:sp>
          <p:nvSpPr>
            <p:cNvPr id="969" name=""/>
            <p:cNvSpPr/>
            <p:nvPr/>
          </p:nvSpPr>
          <p:spPr>
            <a:xfrm>
              <a:off x="6021360" y="3984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070680" y="406548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1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974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981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83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984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6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7486560" y="952560"/>
            <a:ext cx="1562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 flipH="1">
            <a:off x="6496200" y="1257480"/>
            <a:ext cx="1143000" cy="190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Object Release - Step 4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5467320" y="428616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 txBox="1"/>
          <p:nvPr/>
        </p:nvSpPr>
        <p:spPr>
          <a:xfrm>
            <a:off x="5510160" y="433548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5" name=""/>
          <p:cNvGrpSpPr/>
          <p:nvPr/>
        </p:nvGrpSpPr>
        <p:grpSpPr>
          <a:xfrm>
            <a:off x="6021360" y="3984480"/>
            <a:ext cx="98280" cy="289080"/>
            <a:chOff x="6021360" y="3984480"/>
            <a:chExt cx="98280" cy="289080"/>
          </a:xfrm>
        </p:grpSpPr>
        <p:sp>
          <p:nvSpPr>
            <p:cNvPr id="996" name=""/>
            <p:cNvSpPr/>
            <p:nvPr/>
          </p:nvSpPr>
          <p:spPr>
            <a:xfrm>
              <a:off x="6021360" y="3984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070680" y="406548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8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0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1001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3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7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1008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0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1011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3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"/>
          <p:cNvSpPr txBox="1"/>
          <p:nvPr/>
        </p:nvSpPr>
        <p:spPr>
          <a:xfrm>
            <a:off x="7486560" y="952560"/>
            <a:ext cx="1562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 flipH="1">
            <a:off x="6496200" y="1257480"/>
            <a:ext cx="1143000" cy="190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Object Release - Step 5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2171880" y="428292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1938240" y="545004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oxyMana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2" name=""/>
          <p:cNvGrpSpPr/>
          <p:nvPr/>
        </p:nvGrpSpPr>
        <p:grpSpPr>
          <a:xfrm>
            <a:off x="1773360" y="4629240"/>
            <a:ext cx="441360" cy="98280"/>
            <a:chOff x="1773360" y="4629240"/>
            <a:chExt cx="441360" cy="98280"/>
          </a:xfrm>
        </p:grpSpPr>
        <p:sp>
          <p:nvSpPr>
            <p:cNvPr id="1023" name=""/>
            <p:cNvSpPr/>
            <p:nvPr/>
          </p:nvSpPr>
          <p:spPr>
            <a:xfrm>
              <a:off x="1773360" y="4629240"/>
              <a:ext cx="81000" cy="9828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854360" y="4678200"/>
              <a:ext cx="360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5" name=""/>
          <p:cNvSpPr txBox="1"/>
          <p:nvPr/>
        </p:nvSpPr>
        <p:spPr>
          <a:xfrm>
            <a:off x="2205000" y="4668840"/>
            <a:ext cx="1104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nd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9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1030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1033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5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"/>
          <p:cNvSpPr txBox="1"/>
          <p:nvPr/>
        </p:nvSpPr>
        <p:spPr>
          <a:xfrm>
            <a:off x="7486560" y="952560"/>
            <a:ext cx="1562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 flipH="1">
            <a:off x="6496200" y="1257480"/>
            <a:ext cx="1143000" cy="190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al Object Release - Step 6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4265640" y="162864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"/>
          <p:cNvSpPr txBox="1"/>
          <p:nvPr/>
        </p:nvSpPr>
        <p:spPr>
          <a:xfrm>
            <a:off x="0" y="320040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um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6153120" y="1752480"/>
            <a:ext cx="1238400" cy="6667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7283520" y="2647800"/>
            <a:ext cx="1847880" cy="64764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 txBox="1"/>
          <p:nvPr/>
        </p:nvSpPr>
        <p:spPr>
          <a:xfrm>
            <a:off x="6157800" y="176364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5" name=""/>
          <p:cNvGrpSpPr/>
          <p:nvPr/>
        </p:nvGrpSpPr>
        <p:grpSpPr>
          <a:xfrm>
            <a:off x="7666200" y="2346480"/>
            <a:ext cx="98280" cy="288720"/>
            <a:chOff x="7666200" y="2346480"/>
            <a:chExt cx="98280" cy="288720"/>
          </a:xfrm>
        </p:grpSpPr>
        <p:sp>
          <p:nvSpPr>
            <p:cNvPr id="1046" name=""/>
            <p:cNvSpPr/>
            <p:nvPr/>
          </p:nvSpPr>
          <p:spPr>
            <a:xfrm>
              <a:off x="7666200" y="23464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7715160" y="24271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48" name=""/>
          <p:cNvGrpSpPr/>
          <p:nvPr/>
        </p:nvGrpSpPr>
        <p:grpSpPr>
          <a:xfrm>
            <a:off x="6402240" y="1432080"/>
            <a:ext cx="98280" cy="288720"/>
            <a:chOff x="6402240" y="1432080"/>
            <a:chExt cx="98280" cy="288720"/>
          </a:xfrm>
        </p:grpSpPr>
        <p:sp>
          <p:nvSpPr>
            <p:cNvPr id="1049" name=""/>
            <p:cNvSpPr/>
            <p:nvPr/>
          </p:nvSpPr>
          <p:spPr>
            <a:xfrm>
              <a:off x="6402240" y="14320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451560" y="15127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1" name=""/>
          <p:cNvSpPr/>
          <p:nvPr/>
        </p:nvSpPr>
        <p:spPr>
          <a:xfrm>
            <a:off x="7201080" y="2305080"/>
            <a:ext cx="475920" cy="19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"/>
          <p:cNvSpPr txBox="1"/>
          <p:nvPr/>
        </p:nvSpPr>
        <p:spPr>
          <a:xfrm>
            <a:off x="7459560" y="2805120"/>
            <a:ext cx="14479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"/>
          <p:cNvSpPr txBox="1"/>
          <p:nvPr/>
        </p:nvSpPr>
        <p:spPr>
          <a:xfrm>
            <a:off x="7486560" y="952560"/>
            <a:ext cx="156204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 flipH="1">
            <a:off x="6496200" y="1257480"/>
            <a:ext cx="1143000" cy="1904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ration/Lock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"/>
          <p:cNvSpPr txBox="1"/>
          <p:nvPr/>
        </p:nvSpPr>
        <p:spPr>
          <a:xfrm>
            <a:off x="1568520" y="1200240"/>
            <a:ext cx="6008760" cy="53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make object available in other contex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control shutd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ak vs. str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RunningObjectTable::Register(..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erDragDr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erActive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egisterClassOb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ockObjectExter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SetContainedObject (less direc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ration/Locks - Diagra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3543480" y="3200400"/>
            <a:ext cx="1219320" cy="10857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5067360" y="4476600"/>
            <a:ext cx="1714680" cy="190512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2075040" y="1257480"/>
            <a:ext cx="614880" cy="4343760"/>
          </a:xfrm>
          <a:custGeom>
            <a:avLst/>
            <a:gdLst/>
            <a:ahLst/>
            <a:rect l="0" t="0" r="r" b="b"/>
            <a:pathLst>
              <a:path fill="none" w="1708" h="12066">
                <a:moveTo>
                  <a:pt x="834" y="0"/>
                </a:moveTo>
                <a:lnTo>
                  <a:pt x="238" y="1190"/>
                </a:lnTo>
                <a:lnTo>
                  <a:pt x="1629" y="2579"/>
                </a:lnTo>
                <a:lnTo>
                  <a:pt x="0" y="4484"/>
                </a:lnTo>
                <a:lnTo>
                  <a:pt x="1391" y="6827"/>
                </a:lnTo>
                <a:lnTo>
                  <a:pt x="516" y="8256"/>
                </a:lnTo>
                <a:lnTo>
                  <a:pt x="1708" y="10359"/>
                </a:lnTo>
                <a:lnTo>
                  <a:pt x="396" y="12066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"/>
          <p:cNvSpPr txBox="1"/>
          <p:nvPr/>
        </p:nvSpPr>
        <p:spPr>
          <a:xfrm>
            <a:off x="3586320" y="3268800"/>
            <a:ext cx="11430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3162240" y="2133720"/>
            <a:ext cx="609840" cy="704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3" name=""/>
          <p:cNvGrpSpPr/>
          <p:nvPr/>
        </p:nvGrpSpPr>
        <p:grpSpPr>
          <a:xfrm>
            <a:off x="5450040" y="4175280"/>
            <a:ext cx="98280" cy="288720"/>
            <a:chOff x="5450040" y="4175280"/>
            <a:chExt cx="98280" cy="288720"/>
          </a:xfrm>
        </p:grpSpPr>
        <p:sp>
          <p:nvSpPr>
            <p:cNvPr id="1064" name=""/>
            <p:cNvSpPr/>
            <p:nvPr/>
          </p:nvSpPr>
          <p:spPr>
            <a:xfrm>
              <a:off x="5450040" y="417528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499000" y="425592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6" name=""/>
          <p:cNvGrpSpPr/>
          <p:nvPr/>
        </p:nvGrpSpPr>
        <p:grpSpPr>
          <a:xfrm>
            <a:off x="3754440" y="2879640"/>
            <a:ext cx="98280" cy="289080"/>
            <a:chOff x="3754440" y="2879640"/>
            <a:chExt cx="98280" cy="289080"/>
          </a:xfrm>
        </p:grpSpPr>
        <p:sp>
          <p:nvSpPr>
            <p:cNvPr id="1067" name=""/>
            <p:cNvSpPr/>
            <p:nvPr/>
          </p:nvSpPr>
          <p:spPr>
            <a:xfrm>
              <a:off x="3754440" y="2879640"/>
              <a:ext cx="98280" cy="81000"/>
            </a:xfrm>
            <a:prstGeom prst="ellipse">
              <a:avLst/>
            </a:prstGeom>
            <a:solidFill>
              <a:srgbClr val="14d3c1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803760" y="2960640"/>
              <a:ext cx="0" cy="2080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9" name=""/>
          <p:cNvSpPr/>
          <p:nvPr/>
        </p:nvSpPr>
        <p:spPr>
          <a:xfrm>
            <a:off x="4514760" y="3886200"/>
            <a:ext cx="914400" cy="3049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"/>
          <p:cNvSpPr txBox="1"/>
          <p:nvPr/>
        </p:nvSpPr>
        <p:spPr>
          <a:xfrm>
            <a:off x="1562040" y="140976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"/>
          <p:cNvSpPr txBox="1"/>
          <p:nvPr/>
        </p:nvSpPr>
        <p:spPr>
          <a:xfrm>
            <a:off x="5014800" y="5224320"/>
            <a:ext cx="180972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Ob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"/>
          <p:cNvSpPr txBox="1"/>
          <p:nvPr/>
        </p:nvSpPr>
        <p:spPr>
          <a:xfrm>
            <a:off x="6724800" y="1314360"/>
            <a:ext cx="1638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 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 flipH="1">
            <a:off x="3848040" y="1657440"/>
            <a:ext cx="3581640" cy="12189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1400040" y="192420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1400040" y="322884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1400040" y="4743360"/>
            <a:ext cx="1962000" cy="399960"/>
          </a:xfrm>
          <a:prstGeom prst="rect">
            <a:avLst/>
          </a:prstGeom>
          <a:solidFill>
            <a:srgbClr val="14d3c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3067200" y="2876400"/>
            <a:ext cx="628920" cy="495720"/>
          </a:xfrm>
          <a:custGeom>
            <a:avLst/>
            <a:gdLst/>
            <a:ahLst/>
            <a:rect l="0" t="0" r="r" b="b"/>
            <a:pathLst>
              <a:path fill="none" w="1747" h="1377">
                <a:moveTo>
                  <a:pt x="0" y="1377"/>
                </a:moveTo>
                <a:lnTo>
                  <a:pt x="52" y="0"/>
                </a:lnTo>
                <a:lnTo>
                  <a:pt x="1747" y="52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3238560" y="2933640"/>
            <a:ext cx="514800" cy="1924560"/>
          </a:xfrm>
          <a:custGeom>
            <a:avLst/>
            <a:gdLst/>
            <a:ahLst/>
            <a:rect l="0" t="0" r="r" b="b"/>
            <a:pathLst>
              <a:path fill="none" w="1430" h="5346">
                <a:moveTo>
                  <a:pt x="0" y="5346"/>
                </a:moveTo>
                <a:lnTo>
                  <a:pt x="688" y="2911"/>
                </a:lnTo>
                <a:lnTo>
                  <a:pt x="688" y="476"/>
                </a:lnTo>
                <a:lnTo>
                  <a:pt x="1430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"/>
          <p:cNvSpPr txBox="1"/>
          <p:nvPr/>
        </p:nvSpPr>
        <p:spPr>
          <a:xfrm>
            <a:off x="7378560" y="2362320"/>
            <a:ext cx="175248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O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ragDr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ctiveOb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lass Ob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 flipH="1" flipV="1">
            <a:off x="7505640" y="1676520"/>
            <a:ext cx="266760" cy="6285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"/>
          <p:cNvSpPr txBox="1"/>
          <p:nvPr/>
        </p:nvSpPr>
        <p:spPr>
          <a:xfrm>
            <a:off x="6330960" y="3714840"/>
            <a:ext cx="1752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ock Exter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4495680" y="2952720"/>
            <a:ext cx="2267280" cy="705240"/>
          </a:xfrm>
          <a:custGeom>
            <a:avLst/>
            <a:gdLst/>
            <a:ahLst/>
            <a:rect l="0" t="0" r="r" b="b"/>
            <a:pathLst>
              <a:path fill="none" w="6298" h="1959">
                <a:moveTo>
                  <a:pt x="6298" y="1959"/>
                </a:moveTo>
                <a:lnTo>
                  <a:pt x="2857" y="158"/>
                </a:lnTo>
                <a:lnTo>
                  <a:pt x="0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"/>
          <p:cNvSpPr txBox="1"/>
          <p:nvPr/>
        </p:nvSpPr>
        <p:spPr>
          <a:xfrm>
            <a:off x="952560" y="6095880"/>
            <a:ext cx="2857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2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t Contained Ob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3448080" y="4457880"/>
            <a:ext cx="343440" cy="1486440"/>
          </a:xfrm>
          <a:custGeom>
            <a:avLst/>
            <a:gdLst/>
            <a:ahLst/>
            <a:rect l="0" t="0" r="r" b="b"/>
            <a:pathLst>
              <a:path fill="none" w="954" h="4129">
                <a:moveTo>
                  <a:pt x="0" y="4129"/>
                </a:moveTo>
                <a:lnTo>
                  <a:pt x="954" y="2329"/>
                </a:lnTo>
                <a:lnTo>
                  <a:pt x="848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nloading DLLs And EX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733320" y="1600200"/>
            <a:ext cx="7677000" cy="425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no more objects, can unlo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DLLs, via CoFreeUnusedLibrari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s pointers to class objects for D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s DllCanUnloadNow(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s FreeLibrary if allowed 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s can use global counter of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EXEs, PostQuitMessage, etc.; more detail in later ses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cremental Benefi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058760" y="1219320"/>
            <a:ext cx="7027920" cy="52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 with the minimum; add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form Data Trans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g and Dr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k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ound documents (embed/lin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place Acti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is better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"/>
          <p:cNvSpPr txBox="1"/>
          <p:nvPr/>
        </p:nvSpPr>
        <p:spPr>
          <a:xfrm>
            <a:off x="485640" y="23328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Future Enhancem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"/>
          <p:cNvSpPr txBox="1"/>
          <p:nvPr/>
        </p:nvSpPr>
        <p:spPr>
          <a:xfrm>
            <a:off x="1104840" y="1738440"/>
            <a:ext cx="693432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improv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work RP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CLSCTXs (class contex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MSHCTXs (marshal contex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bugger to understand RP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s to generate remoting pie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ponent Object Mode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"/>
          <p:cNvSpPr txBox="1"/>
          <p:nvPr/>
        </p:nvSpPr>
        <p:spPr>
          <a:xfrm>
            <a:off x="990720" y="2295360"/>
            <a:ext cx="716292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stion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cremental Cos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07960" y="1341360"/>
            <a:ext cx="812808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tual function calls - no compobj.d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 objects - small part of compobj.d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E objects - most of compobj.d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ter:  network RPC - under constr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itional overhead depending upon kind of objects (e.g., OLE objects which use the default handl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delay creation of some resources until needed (e.g., IDispatch suppor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inary Standar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66720" y="1424160"/>
            <a:ext cx="781056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bility via DLLs and EX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operability via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guage independent; C, C++ particularly well sui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languages will fol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a source standard; never required or encouraged to ship sou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ggregation for code reuse; inheritance not supported between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