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5578560" y="76320"/>
            <a:ext cx="3363840" cy="3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rk Igra(1) 93006 OLE 2.0 PDC 5/93 </a:t>
            </a:r>
            <a:fld id="{614D001A-B7CA-4FBA-A983-CF0B578CA3D8}" type="slidenum"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952560" y="824040"/>
            <a:ext cx="7238880" cy="43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mplementing Application Automation</a:t>
            </a:r>
            <a:br>
              <a:rPr sz="4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ark Igra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ogram Manager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 Corpor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Dispatch Defini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990720" y="1736640"/>
            <a:ext cx="7162920" cy="399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interface IDispatch : IUnknown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virtual HRESULT GetTypeInfoCount(UINT * pctinfo) = 0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virtual HRESULT GetTypeInfo(UINT itinfo, LCID lcid,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ITypeInfo ** pptinfo) = 0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virtual HRESULT GetIDsOfNames(REFIID riid, char *rgszNames[], UINT cNames,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LCID lcid, DISPID rgdispid[]) = 0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virtual HRESULT Invoke(LONG dispidMember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REFIID riid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LCID lcid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WORD wFlags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DISPPARAMS * pdispparams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VARIANTARG * pvargResult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EXCEPINFO * pexcepinfo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UINT * puArgErr) = 0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Dispatch::Invok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911160" y="1736640"/>
            <a:ext cx="7321680" cy="296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ispatch::Invoke Parame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 of method or property to be acces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assigns IDs for methods and proper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ray of arguments to fun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turn val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assing Argumen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1093680" y="1736640"/>
            <a:ext cx="6956280" cy="30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ch argument is a tagged union of type varia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ypes in union include string, date, object, and oth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atted data is passed using IData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ich Data In Varia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825480" y="1736640"/>
            <a:ext cx="749304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ataObject can hold multiple data representations like a clipboa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ed using the VT_UNKNOWN ta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perty set data format used for tagged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ch property set has a GU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ch property has a variant type tag, a 32-bit ID and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mplementation Out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571680" y="1736640"/>
            <a:ext cx="8001000" cy="28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er the cla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 CHello, the controlling IUnknow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 CHelloCF, hello’s class fact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lement the programmability interf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 the standard dispatch 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he Hello Objec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1738440" y="1736640"/>
            <a:ext cx="5667480" cy="303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interf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window with a “Say Hello” button and a text bo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grammer interf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“SayHello” meth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“HelloMessage” proper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reating Type Informa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500040" y="1736640"/>
            <a:ext cx="8143920" cy="29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be created using Object Definition Langu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kTypLib compiles OD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be created using DispCreateTypeInf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pCreateTypeInfo accepts a data structure as inp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kTypLib Inpu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80960" y="1271520"/>
            <a:ext cx="81835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[uuid(25D9EAC2-8B93-1068-9A4C-08002B2E143C), helpstring(“Hello world version 1.0”), version(0.100)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library hell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importlib("C:\\ole2\\beta\\debug\\stdole.tlb") 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[uuid(25D9EAC3-8B93-1068-9A4C-08002B2E143C)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interface _IHelloProgrammability : IUnknow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[helpstring(“Get or set the message used in SayHello”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propput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void HelloMessage ([in] BSTR newMessag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[propget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BSTR HelloMessage 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BSTR SayHello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[uuid(25D9EAC4-8B93-1068-9A4C-08002B2E143C)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coclass Hello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interface _IHelloProgrammability 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ispTypeInfo Inpu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949320" y="1114560"/>
            <a:ext cx="7245360" cy="55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static METHODDATA NEAR rgmdataHelloObj[] =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{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"HelloMessage",        // Human readable na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pdSetHelloMsg,         // Parameter da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IDMEMBER_HELLOMSG,     // Member ID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IMETH_SETHELLOMSG,     // Method inde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CC_CDECL,              // Calling conven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1,                     // Argument cou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DISPATCH_PROPERTYPUT,  // One of DISPATCH_*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VT_EMPTY               // Return 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}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{ "HelloMessage",        // Human readable na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NULL,                  // Parameter da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IDMEMBER_HELLOMSG,     // Member 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IMETH_GETHELLOMSG,     // Method inde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CC_CDECL,              // Calling convention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0,                     // Argument cou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DISPATCH_PROPERTYGET,  // One of DISPATCH_*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VT_BSTR                // Return 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}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Hello Declara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-23760" y="1392120"/>
            <a:ext cx="9191520" cy="50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CLASS CHello : public _IHelloProgrammabil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public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// Standard OLE stuff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STDMETHOD(QueryInterface)(REFIID riid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void FAR* FAR* ppv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STDMETHOD_(ULONG, AddRef)(void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STDMETHOD_(ULONG, Release)(void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/* _IHelloProgrammability methods *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STDMETHOD_(void, put_HelloMessage)(THIS_ BSTR Messag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STDMETHOD_(BSTR, get_HelloMessage)(THI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STDMETHOD_(BSTR, SayHello)(THI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HWND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m_hwnd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BSTR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m_bstrHelloMsg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utomation Us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1797120" y="1736640"/>
            <a:ext cx="5549760" cy="36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grating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ding and customizing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tail exten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-house custom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wer-user custom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ng end-user tas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Hello Implementa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357200" y="1104840"/>
            <a:ext cx="6429240" cy="55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void _export CDEC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CHello::put_HelloMessage(BSTR 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SysReAllocString(&amp;m_bstrHelloMsg, b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BSTR _export CDEC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CHello::get_HelloMessage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return SysAllocString(m_bstrHelloMsg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BSTR _export CDEC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CHello::SayHello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BSTR b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b = SysAllocString(m_bstrHelloMsg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SetDlgItemText(m_hwnd, IDC_HELLOAREA, b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return b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tandard Dispatch Objec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378000" y="1260360"/>
            <a:ext cx="8389800" cy="50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StdDispatch creates an IDispatch implemen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ou suppl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Unknown for reference cou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grammability interface poin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ypeInfo describing programmability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t retur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ispatch Implem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en client asks for IDispatch, return the standard dispatch ob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tandard Dispatch Objec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876240" y="1104840"/>
            <a:ext cx="73915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//Creating: During constru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hresult = LoadTypeLib("hellotyp.tlb", &amp;ptlib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//Check erro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hresult = ptlib-&gt;GetTypeInfoOfGuid(CLSID_CHelloTlb, &amp;ptinfo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hresult = CreateStdDispatch((IUnknown FAR *) phello,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(void FAR*)(_IHelloProgrammability FAR*) phello,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ptinfo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&amp;punkStdDisp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//Using: QueryInterf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if (riid == IID_IUnknow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*ppv = this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el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if (riid == IID_IDispatch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retur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m_punkStdDisp-&gt;QueryInterface(riid, ppv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ing DispTest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836720" y="1736640"/>
            <a:ext cx="54720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ing an Inst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ting an Active Inst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ling Metho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perty Ac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exed Proper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llection Ac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ispTest Limitations/Workaround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990720" y="1974960"/>
            <a:ext cx="7162920" cy="32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Array Sup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Indexed Proper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Collection Enumeration Sup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s manual ite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Named Parame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al parameters are suppor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38160" y="228600"/>
            <a:ext cx="90676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utomation Componen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155680" y="1736640"/>
            <a:ext cx="4834080" cy="337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 2.0 infrastru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sible interf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ispatch interf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ables scripting t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ype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952560" y="228600"/>
            <a:ext cx="72388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livery Schedul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828720" y="1346040"/>
            <a:ext cx="7486560" cy="470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OLE 2.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ispatch released and redistribut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2DISP.DLL, OLE2NLS.D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ype Libraries first be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YPELIB.DLL MkTypLib.EX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PTEST.EXE available as testing to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3 ‘9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lease Type Libra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YPELIB.DLL will be redistribut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79840" y="3382920"/>
            <a:ext cx="184320" cy="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utomation Mode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766800" y="1581120"/>
            <a:ext cx="761220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s manipulated via methods     and proper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tho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present actions (e.g., Print) or fun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ke arg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e as member functions on interfa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per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ypically set via assignment-like synta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Dispatch Interfa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723960" y="1736640"/>
            <a:ext cx="7697880" cy="31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ispatch is an OLE-defined interf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ows run-time-bound access to methods and proper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ows scripting languages to manipulate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a building block for system ser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Dispatch Servic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944640" y="1736640"/>
            <a:ext cx="7254720" cy="199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 a property, get a property, or call a method using IDispatch::Invok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ry object’s capabilities using IDispatch::GetTypeInf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Dispatch Vs. ITypeInfo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379520" y="1736640"/>
            <a:ext cx="6386400" cy="30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TypeInfo is used to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cribe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 class or typ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ke an .h 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ispatch is used to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ipulate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n inst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ispatch can return ITypeInf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190440" y="228600"/>
            <a:ext cx="8763120" cy="69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Dispatch And Custom Interfac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95360" y="1447920"/>
            <a:ext cx="8153280" cy="27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 custom interf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has “Automation”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IDispatch to expose interf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scripting tools and interproces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ype information can automate deleg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262320" y="4578480"/>
            <a:ext cx="5624640" cy="17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