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121360" y="76320"/>
            <a:ext cx="34783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 Martinez(2)93006 OLE 2.0 PDC 5/93 </a:t>
            </a:r>
            <a:fld id="{054DDD5C-FDBB-405B-80AA-E86495D673A1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774720"/>
            <a:ext cx="817236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ing Simple Containers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d Martinez</a:t>
            </a: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3046320" y="3424320"/>
            <a:ext cx="46512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645080" y="4859280"/>
            <a:ext cx="14508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08120" y="388800"/>
            <a:ext cx="1365120" cy="988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911240" y="565200"/>
            <a:ext cx="498600" cy="171360"/>
          </a:xfrm>
          <a:prstGeom prst="rect">
            <a:avLst/>
          </a:prstGeom>
          <a:solidFill>
            <a:srgbClr val="b760f9"/>
          </a:soli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lace do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28640" y="565200"/>
            <a:ext cx="1112760" cy="615960"/>
          </a:xfrm>
          <a:prstGeom prst="rect">
            <a:avLst/>
          </a:prstGeom>
          <a:noFill/>
          <a:ln w="50760">
            <a:solidFill>
              <a:srgbClr val="b760f9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lace docu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57280" y="1790640"/>
            <a:ext cx="62294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s activ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object can exist in multiple in-place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6465960" y="2760840"/>
            <a:ext cx="267192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13040" y="2751120"/>
            <a:ext cx="4449600" cy="2460600"/>
          </a:xfrm>
          <a:prstGeom prst="rect">
            <a:avLst/>
          </a:prstGeom>
          <a:noFill/>
          <a:ln w="50760">
            <a:solidFill>
              <a:srgbClr val="b760f9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932120" y="2970360"/>
            <a:ext cx="4255920" cy="2065320"/>
          </a:xfrm>
          <a:prstGeom prst="rect">
            <a:avLst/>
          </a:prstGeom>
          <a:noFill/>
          <a:ln w="50760">
            <a:solidFill>
              <a:srgbClr val="3365fb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16080" y="5092560"/>
            <a:ext cx="182412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lace si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06320" y="387360"/>
            <a:ext cx="1366920" cy="988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33320" y="619200"/>
            <a:ext cx="1063800" cy="515880"/>
          </a:xfrm>
          <a:prstGeom prst="rect">
            <a:avLst/>
          </a:prstGeom>
          <a:noFill/>
          <a:ln w="50760">
            <a:solidFill>
              <a:srgbClr val="3365fb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06320" y="1127160"/>
            <a:ext cx="493560" cy="171360"/>
          </a:xfrm>
          <a:prstGeom prst="rect">
            <a:avLst/>
          </a:prstGeom>
          <a:solidFill>
            <a:srgbClr val="b760f9"/>
          </a:solidFill>
          <a:ln w="2556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lace si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32120" y="2970360"/>
            <a:ext cx="4255920" cy="2065320"/>
          </a:xfrm>
          <a:prstGeom prst="rect">
            <a:avLst/>
          </a:prstGeom>
          <a:noFill/>
          <a:ln w="50760">
            <a:solidFill>
              <a:srgbClr val="3365fb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16080" y="5092560"/>
            <a:ext cx="182412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85640" y="23328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932120" y="2970360"/>
            <a:ext cx="4255920" cy="2065320"/>
          </a:xfrm>
          <a:prstGeom prst="rect">
            <a:avLst/>
          </a:prstGeom>
          <a:noFill/>
          <a:ln w="50760">
            <a:solidFill>
              <a:srgbClr val="3365fb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13040" y="2751120"/>
            <a:ext cx="4449600" cy="2460600"/>
          </a:xfrm>
          <a:prstGeom prst="rect">
            <a:avLst/>
          </a:prstGeom>
          <a:noFill/>
          <a:ln w="50760">
            <a:solidFill>
              <a:srgbClr val="b760f9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4120" y="1479600"/>
            <a:ext cx="216216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ffc66d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2041560"/>
            <a:ext cx="5460840" cy="3948120"/>
          </a:xfrm>
          <a:prstGeom prst="rect">
            <a:avLst/>
          </a:prstGeom>
          <a:noFill/>
          <a:ln w="50760">
            <a:solidFill>
              <a:srgbClr val="ffc66d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473880" y="2722680"/>
            <a:ext cx="267192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1600" y="5092560"/>
            <a:ext cx="182412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Container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heckli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05120" y="1733400"/>
            <a:ext cx="53341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ntiating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saving and lo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p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00240" y="1638360"/>
            <a:ext cx="674388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 to use both Compound File I/O and OpenFile I/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 your output streams and stor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object needs its own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85640" y="23328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3328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384120" y="1479600"/>
            <a:ext cx="216216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ffc66d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2041560"/>
            <a:ext cx="5460840" cy="3948120"/>
          </a:xfrm>
          <a:prstGeom prst="rect">
            <a:avLst/>
          </a:prstGeom>
          <a:noFill/>
          <a:ln w="50760">
            <a:solidFill>
              <a:srgbClr val="ffc66d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447920" y="1714680"/>
            <a:ext cx="624852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s MDI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s men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s current activ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s border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s menu status 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tes keyboard accel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76440" y="385920"/>
            <a:ext cx="1365120" cy="988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91960" y="222120"/>
            <a:ext cx="579600" cy="171360"/>
          </a:xfrm>
          <a:prstGeom prst="rect">
            <a:avLst/>
          </a:prstGeom>
          <a:solidFill>
            <a:srgbClr val="b760f9"/>
          </a:solidFill>
          <a:ln w="25560">
            <a:solidFill>
              <a:srgbClr val="ffc66d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lace fram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6440" y="385920"/>
            <a:ext cx="1365120" cy="987480"/>
          </a:xfrm>
          <a:prstGeom prst="rect">
            <a:avLst/>
          </a:prstGeom>
          <a:noFill/>
          <a:ln w="50760">
            <a:solidFill>
              <a:srgbClr val="ffc66d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lace fr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1733400"/>
            <a:ext cx="716292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 client must impleme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InPlaceFr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76440" y="385920"/>
            <a:ext cx="1365120" cy="988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291960" y="222120"/>
            <a:ext cx="579600" cy="171360"/>
          </a:xfrm>
          <a:prstGeom prst="rect">
            <a:avLst/>
          </a:prstGeom>
          <a:solidFill>
            <a:srgbClr val="b760f9"/>
          </a:solidFill>
          <a:ln w="25560">
            <a:solidFill>
              <a:srgbClr val="ffc66d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lace fram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6440" y="385920"/>
            <a:ext cx="1365120" cy="987480"/>
          </a:xfrm>
          <a:prstGeom prst="rect">
            <a:avLst/>
          </a:prstGeom>
          <a:noFill/>
          <a:ln w="50760">
            <a:solidFill>
              <a:srgbClr val="ffc66d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lace fr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22240" y="2870280"/>
            <a:ext cx="7475400" cy="371484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DECLARE_INTERFACE_(IOleInPlaceFrame, IOleInPlaceUIWindow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{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*** IUnknown methods ***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QueryInterface) (THIS_ REFIID riid, LPVOID FAR* ppvObj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AddRef) (THIS) 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Release) (THIS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*** IOleWindow methods ***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GetWindow) (THIS_ HWND FAR* lphwnd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ContextSensitiveHelp) (THIS_ BOOL fEnterMode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*** IOleInPlaceUIWindow methods ***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GetBorder) (THIS_ LPRECT lprectBorder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RequestBorderSpace) (THIS_ LPCBORDERWIDTHS lpborderwidths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SetBorderSpace) (THIS_ LPCBORDERWIDTHS lpborderwidths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SetActiveObject) (THIS_ LPOLEINPLACEACTIVEOBJECT lpActiveObject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LPCSTR lpszObjName) PURE;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*** IOleInPlaceFrame methods ***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InsertMenus) (THIS_ HMENU hmenuShared, LPOLEMENUGROUPWIDTHS lpMenuWidths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SetMenu) (THIS_ HMENU hmenuShared, HOLEMENU holemenu, HWND hwndActiveObject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RemoveMenus) (THIS_ HMENU hmenuShared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SetStatusText) (THIS_ LPCSTR lpszStatusText) PURE;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EnableModeless) (THIS_ BOOL fEnable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TranslateAccelerator) (THIS_ LPMSG lpmsg, WORD wID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3328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384120" y="1479600"/>
            <a:ext cx="216216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ffc66d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2041560"/>
            <a:ext cx="5460840" cy="3948120"/>
          </a:xfrm>
          <a:prstGeom prst="rect">
            <a:avLst/>
          </a:prstGeom>
          <a:noFill/>
          <a:ln w="50760">
            <a:solidFill>
              <a:srgbClr val="ffc66d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6523200" y="2760840"/>
            <a:ext cx="267192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13040" y="2751120"/>
            <a:ext cx="4449600" cy="2460600"/>
          </a:xfrm>
          <a:prstGeom prst="rect">
            <a:avLst/>
          </a:prstGeom>
          <a:noFill/>
          <a:ln w="50760">
            <a:solidFill>
              <a:srgbClr val="b760f9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