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56320" y="57240"/>
            <a:ext cx="3405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1st talk) 6/93 </a:t>
            </a:r>
            <a:fld id="{00A35382-EC20-46FE-AFAB-A0CFC75FB97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96960" y="987480"/>
            <a:ext cx="775188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hreaded Application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1800" y="1263600"/>
            <a:ext cx="5541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 I/O capability is very importa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Ex Calls Delayed Notification of IO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is via your choice of event or call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s underlying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79600" y="1628640"/>
            <a:ext cx="798516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exist to al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use of MP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ogramming paradig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tructured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on and scheduling occurs at the thread, not process,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“Lif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9280" y="2971800"/>
            <a:ext cx="1390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1581120"/>
            <a:ext cx="0" cy="3695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5276880"/>
            <a:ext cx="629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3880" y="3981600"/>
            <a:ext cx="1339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29000" y="2249640"/>
            <a:ext cx="104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776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86200" y="53071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38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53120" y="5307120"/>
            <a:ext cx="1114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4320" y="5691240"/>
            <a:ext cx="97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15120" y="2782800"/>
            <a:ext cx="1574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6172200"/>
            <a:ext cx="1028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35000" y="20239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1400" y="4229280"/>
            <a:ext cx="780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49720" y="3200400"/>
            <a:ext cx="0" cy="1009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081240"/>
            <a:ext cx="1904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24560" y="2249640"/>
            <a:ext cx="122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92720" y="2876400"/>
            <a:ext cx="304560" cy="4194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26320" y="3543480"/>
            <a:ext cx="209520" cy="3999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3552840"/>
            <a:ext cx="686160" cy="1724400"/>
          </a:xfrm>
          <a:custGeom>
            <a:avLst/>
            <a:gdLst/>
            <a:ahLst/>
            <a:rect l="0" t="0" r="r" b="b"/>
            <a:pathLst>
              <a:path w="1906" h="4790">
                <a:moveTo>
                  <a:pt x="0" y="0"/>
                </a:moveTo>
                <a:lnTo>
                  <a:pt x="1006" y="0"/>
                </a:lnTo>
                <a:lnTo>
                  <a:pt x="1006" y="635"/>
                </a:lnTo>
                <a:lnTo>
                  <a:pt x="1906" y="635"/>
                </a:lnTo>
                <a:lnTo>
                  <a:pt x="1906" y="4790"/>
                </a:lnTo>
                <a:lnTo>
                  <a:pt x="0" y="47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3995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1960" y="3085920"/>
            <a:ext cx="1095840" cy="2190960"/>
          </a:xfrm>
          <a:custGeom>
            <a:avLst/>
            <a:gdLst/>
            <a:ahLst/>
            <a:rect l="0" t="0" r="r" b="b"/>
            <a:pathLst>
              <a:path w="3044" h="6086">
                <a:moveTo>
                  <a:pt x="3044" y="2010"/>
                </a:moveTo>
                <a:lnTo>
                  <a:pt x="3044" y="6086"/>
                </a:lnTo>
                <a:lnTo>
                  <a:pt x="0" y="6086"/>
                </a:lnTo>
                <a:lnTo>
                  <a:pt x="0" y="0"/>
                </a:lnTo>
                <a:lnTo>
                  <a:pt x="1006" y="0"/>
                </a:lnTo>
                <a:lnTo>
                  <a:pt x="1006" y="1270"/>
                </a:lnTo>
                <a:lnTo>
                  <a:pt x="2011" y="1270"/>
                </a:lnTo>
                <a:lnTo>
                  <a:pt x="2011" y="2010"/>
                </a:lnTo>
                <a:lnTo>
                  <a:pt x="3044" y="2010"/>
                </a:lnTo>
                <a:close/>
              </a:path>
            </a:pathLst>
          </a:custGeom>
          <a:gradFill rotWithShape="0">
            <a:gsLst>
              <a:gs pos="0">
                <a:srgbClr val="997641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78720" y="3571920"/>
            <a:ext cx="1743480" cy="1705320"/>
          </a:xfrm>
          <a:custGeom>
            <a:avLst/>
            <a:gdLst/>
            <a:ahLst/>
            <a:rect l="0" t="0" r="r" b="b"/>
            <a:pathLst>
              <a:path w="4843" h="4737">
                <a:moveTo>
                  <a:pt x="0" y="4737"/>
                </a:moveTo>
                <a:lnTo>
                  <a:pt x="0" y="0"/>
                </a:lnTo>
                <a:lnTo>
                  <a:pt x="1005" y="0"/>
                </a:lnTo>
                <a:lnTo>
                  <a:pt x="1005" y="1058"/>
                </a:lnTo>
                <a:lnTo>
                  <a:pt x="2011" y="1058"/>
                </a:lnTo>
                <a:lnTo>
                  <a:pt x="2011" y="1825"/>
                </a:lnTo>
                <a:lnTo>
                  <a:pt x="4843" y="1825"/>
                </a:lnTo>
                <a:lnTo>
                  <a:pt x="4843" y="4737"/>
                </a:lnTo>
                <a:lnTo>
                  <a:pt x="0" y="4737"/>
                </a:lnTo>
                <a:close/>
              </a:path>
            </a:pathLst>
          </a:cu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32084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112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97160" y="1400040"/>
            <a:ext cx="63514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Alloc/TlsFree/TlsGet/Tl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1160" y="12114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8600" y="1311120"/>
            <a:ext cx="68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ynchronization via Wait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wait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,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chan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ny object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