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729400" y="12600"/>
            <a:ext cx="340200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ian Moran93101 Xhibition’93 (1st talk) 6/93 </a:t>
            </a:r>
            <a:fld id="{F5A5139D-8243-4CC0-B301-5315F6F9EB7B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885960" y="789120"/>
            <a:ext cx="7372440" cy="47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</a:t>
            </a:r>
            <a:r>
              <a:rPr b="1" lang="en-US" sz="3600" spc="-1" strike="noStrike" baseline="40000">
                <a:solidFill>
                  <a:srgbClr val="fafd00"/>
                </a:solidFill>
                <a:latin typeface="Times New Roman"/>
                <a:ea typeface="Times New Roman"/>
              </a:rPr>
              <a:t>®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Windows NT</a:t>
            </a:r>
            <a:r>
              <a:rPr b="1" lang="en-US" sz="3600" spc="-1" strike="noStrike" baseline="40000">
                <a:solidFill>
                  <a:srgbClr val="fafd00"/>
                </a:solidFill>
                <a:latin typeface="Times New Roman"/>
                <a:ea typeface="Times New Roman"/>
              </a:rPr>
              <a:t>™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For The UNIX</a:t>
            </a:r>
            <a:r>
              <a:rPr b="1" lang="en-US" sz="3600" spc="-1" strike="noStrike" baseline="40000">
                <a:solidFill>
                  <a:srgbClr val="fafd00"/>
                </a:solidFill>
                <a:latin typeface="Times New Roman"/>
                <a:ea typeface="Times New Roman"/>
              </a:rPr>
              <a:t>®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Familiar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rian Moran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eloper Relations Group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rianmo@microsoft.co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X Server Application Benefi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104920" y="1866960"/>
            <a:ext cx="49338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ource code chan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recompil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1619280" y="228600"/>
            <a:ext cx="59054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X Server Application Limit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209600" y="1987560"/>
            <a:ext cx="672480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doesn’t run on local mach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may have different look and fe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can’t take advantage of features like OLE and D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is not a          Microsoft Windows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p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152360" y="1657440"/>
            <a:ext cx="683892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feature-rich programming interface for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bine with ANSI C, C run-time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or GUI applications, or a hybrid of bo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142920" y="228600"/>
            <a:ext cx="885816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reas For Attention When Porting To Windows NT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247840" y="1841400"/>
            <a:ext cx="46483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gn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op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minal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ing/IP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orting Hints:  In Genera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154160" y="1365120"/>
            <a:ext cx="6837480" cy="47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ck the C run time FIRST to determine if your functionality is supported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applications move easily since C run times are similar; most “section 2” APIs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winhlp32.exe, msc.hlp contains online C run-time refer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ck for side effects:  e.g. signals, file descriptor inheritance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19320" y="3686040"/>
            <a:ext cx="6286680" cy="31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cess Model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295280" y="1447920"/>
            <a:ext cx="716292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ch process and thread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Process(...) almost == fork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ckground” processes are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ority control includes “real-time” priority cla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itForObject() can be used for pause() and waitpid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44360" y="228600"/>
            <a:ext cx="8854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xample - UNIX Fork And Exec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685880" y="1203480"/>
            <a:ext cx="5772240" cy="5153040"/>
          </a:xfrm>
          <a:prstGeom prst="rect">
            <a:avLst/>
          </a:prstGeom>
          <a:gradFill rotWithShape="0">
            <a:gsLst>
              <a:gs pos="0">
                <a:srgbClr val="001b6f"/>
              </a:gs>
              <a:gs pos="100000">
                <a:srgbClr val="00279f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* rudimentary fork example for Unix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 pid; /* process id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d = fork(); /* new  process created here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(pid&gt;0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it((int *)0); printf("Completed\n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t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se if  (0==pid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ecl("/bin/ls","ls","-l",(char *)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ror("execl failed!\n");exit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f("fork didn't work 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1305000" y="228600"/>
            <a:ext cx="65340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xample - Windows NT CreateProces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19040" y="1619280"/>
            <a:ext cx="8305920" cy="4981680"/>
          </a:xfrm>
          <a:prstGeom prst="rect">
            <a:avLst/>
          </a:prstGeom>
          <a:gradFill rotWithShape="0">
            <a:gsLst>
              <a:gs pos="0">
                <a:srgbClr val="001b6f"/>
              </a:gs>
              <a:gs pos="100000">
                <a:srgbClr val="00279f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#include &lt;windows.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#include &lt;stdio.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#define MAXNAMELEN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#define CMDLINE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/c dir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#define IMAGENAME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\\nt\\bin\\cmd.exe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#define WINTITLE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CreateProcess DEMO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n()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OL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Success,fExi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WORD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wExitCode,dw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UPINFO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_INFORMATION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Process,hThrea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.cb =sizeof(STARTUPINFO); SI.lpReserved = NULL;SI.lpDesktop=NUL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.lpTitle="CreateProcess DEMO";SI.cbReserved2=0;SI.lpReserved2=NUL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1228680" y="228600"/>
            <a:ext cx="66866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xample - Windows NT CreateProces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90600" y="1730520"/>
            <a:ext cx="8362800" cy="4513320"/>
          </a:xfrm>
          <a:prstGeom prst="rect">
            <a:avLst/>
          </a:prstGeom>
          <a:gradFill rotWithShape="0">
            <a:gsLst>
              <a:gs pos="0">
                <a:srgbClr val="001b6f"/>
              </a:gs>
              <a:gs pos="100000">
                <a:srgbClr val="00279f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Success = CreateProcess((LPTSTR)IMAGENAME, (LPTSTR)CMDLIN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1600" indent="-38880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LPSECURITY_ATTRIBUTES)NUL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1600" indent="-38880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LPSECURITY_ATTRIBUTES)NUL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1600" indent="-38880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BOOL)TRUE,(DWORD)0,NULL,NUL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1600" indent="-38880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LPSTARTUPINFO)&amp;SI,(LPPROCESS_INFORMATION)&amp;pi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(fSuccess) {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Process = pi.hProcess;    hThread = pi.hThrea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f("Process Id = %d\nThread Id = %d\n",pi.dwProcessId,pi.dwThreadI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w = WaitForSingleObject(hProcess, INFINITE)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(dw != 0xFFFFFFFF) { /* if we saw success ...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* pick up an exit code for the process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Exit = GetExitCodeProcess(hProcess, &amp;dwExitCode)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* close the process and thread object handles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oseHandle(hThread) ;    CloseHandle(hProcess)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f("COMPLETED!\n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se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f("Failed to CreateProcess\n")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igna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30200" y="1467000"/>
            <a:ext cx="82836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ven signal types supported:  SIGFPE, SIGILL, SIGSEGV, SIGINT, SIGBREAK,  SIGABRT, SIGTER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GABRT and SIGTERM signalled by raise(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ivered on thread that caused sign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other functionality, use asynchronous I/O structures (callbacks), or wait on handles   (e.g. SIGCHLD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structured exception handl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1962000" y="228600"/>
            <a:ext cx="52196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ifferent Aspect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2314440" y="1903320"/>
            <a:ext cx="45147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ming environment/por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ol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ile Oper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60240" y="1492200"/>
            <a:ext cx="78231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use standard C run time (fopen, fread, etc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provides 64-bit file access - SetFilePointer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you use non-blocking file I/O, use Win32 APIs CreateFile(), ReadFile(), WriteFile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concurrent access, consider using memory-mapped files, or LockFile() AP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ile Operations (2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90720" y="1397160"/>
            <a:ext cx="7162920" cy="454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make assumptions about file names (see File System informa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 run times will do “right thing” with ‘/’ file separa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assume descriptors 0, 1, 2 correspond to stdin, stdout, stderr (no number guarante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make inode assump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.st_ino is ze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ile System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28560" y="1479600"/>
            <a:ext cx="788688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-  accommodates different file system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T, HPFS, NTFS, network redirectors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code may have to  deal with case insensitivity, 8.3 file names, drive let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links in Win32, no mounts (Hint:  use POSIX subsystem to perform ln(), if you need it - only supported on NTFS!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ile Systems (2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34880" y="1752480"/>
            <a:ext cx="8273880" cy="2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has concept of “drive volumes” and current directory on each drive              (e.g. “a:\; c:\fubar;d:\NTFS_file_director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GetVolumeInformation() to find out about file systems/redire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erminal Handl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047600" y="1498680"/>
            <a:ext cx="704844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console functions, in general, to move character applications quick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rses functionality available on CompuServe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Inter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nData, Citrix will have “dumb” terminal cap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gruent can drive X terminals with their X client libra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it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152360" y="1428840"/>
            <a:ext cx="6838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objects in Windows NT have security access control lists (ACL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threads and processes have security IDs (SID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threads/processes execute at minimum level of permission, in gene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UID” accomplished through imperso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tworking/IPC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04720" y="1282680"/>
            <a:ext cx="8134200" cy="48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provides multiple redirector (file system) interfac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C:  pipes, named pipes, named shared memory, semaphores, mutexes, even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chronization objects can be nam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uplicateHandle “gives away” access to objec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kets exposed through WINSOCK API; moving socket code generally eas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EAMS used internally for protocol stack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tworking/IPC (2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95360" y="1130400"/>
            <a:ext cx="8153280" cy="53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Client utilities provided in Windows NT product -- FTP server too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me TCP/IP server utilities available via Internet and CompuServe (source form!) (e.g. NFS serv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FS, available from Sun, FTP Software, NetManage, Frontier, Beam and Whitesides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E connection-oriented RPC available in the box - ONC RPC available from third par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emory Mana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19040" y="1308240"/>
            <a:ext cx="830592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brk or sbrk - use standard memory management functions (malloc, free, etc.)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ify your code by using virtual and  heap allocation method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erve vs. commi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map and shm* functionality - see CreateFileMapping(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make assumptions about stack growth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raphics Compatibi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733320" y="1460520"/>
            <a:ext cx="76770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 functionality in general a superset of Xli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libnt.zip available on CompuServe and Internet - provides Xlib functionality on top of GD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GL - third parties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stest way to develop GUI applications with some of great tools from Blue Sky, Protoview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orting Tradeoffs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133640" y="1486080"/>
            <a:ext cx="6877080" cy="30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e for programmer vs. utility  for us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e and complexity of ap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cal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ell scrip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scellaneous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gramming Techniqu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209600" y="2039760"/>
            <a:ext cx="672480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ep information in registry vs. in separate text files; registry maintained remot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multiple threads - multiprocessing will be ubiquitous and CHEAP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Winhelp in your application - easy, very good for us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art II - Too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990720" y="1276200"/>
            <a:ext cx="71629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5 Windows NT programming tools shipping N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e tools section in catalo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ells - Hamilton, M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NU tools - Congruent, Hamilton, M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version Aids - DataFocus, Congruent, etc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anguag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800280" y="1733400"/>
            <a:ext cx="754380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, C++ - Watcom, Borland, Zortech, Silicon Valley Software, Microsoft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TRAN - Microsoft, Silicon Valley Software, DE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cal - Silicon Valley Softw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SE environments, specialty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nviron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52600" y="1727280"/>
            <a:ext cx="8039160" cy="19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News, UUCP, mail - help@kew.com, martin@iastate.ed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l client built in, SMTP connectivy pieces through 3rd par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art III - Resourc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863640" y="1390680"/>
            <a:ext cx="741852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uServe forum:  MSWIN3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newsgroups: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.windows.ms.programmer.win3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s:  CompuServe, Internet sites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.uu.net, ftp.cica.indiana.edu,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hino.microsoft.com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DN CD-R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Solutions Provi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ols catalog lis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umma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143000" y="1181160"/>
            <a:ext cx="685800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is NOT UNIX, but has the all of the characteristics required to support technical workstation and server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UNIX-familiar utilities, resources already on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else do you requir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eedback: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rianmo@microsoft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at Kind Of UNIX Programs Do You Have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181240" y="2228760"/>
            <a:ext cx="478152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cal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ell scrip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otential Porting Method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362320" y="1905120"/>
            <a:ext cx="441972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X sub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Server ap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OSIX On Windows 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380960" y="1809720"/>
            <a:ext cx="638172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PS 151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mited interaction with Windows NT advanced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OSIX Benefi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162080" y="1733400"/>
            <a:ext cx="6819840" cy="25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ick way to move POSIX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imizes POSIX source chan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tisfies government requirements for delivery platform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552680" y="228600"/>
            <a:ext cx="60390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OSIX Limit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380960" y="2266920"/>
            <a:ext cx="638172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PS 151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Win32 graphical API us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mited advanced feature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mited screen control/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X Server Applic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104840" y="1752480"/>
            <a:ext cx="6934320" cy="19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Server available from NCD, DEC, Hummingbird, oth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cs terminal on the Windows deskt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