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54600" y="0"/>
            <a:ext cx="3376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Tools93101 Xhibition ‘93  6/93 </a:t>
            </a:r>
            <a:fld id="{9844FB75-FF92-49E8-BD11-9E1E4AD9A817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22440" y="1046160"/>
            <a:ext cx="7899480" cy="29376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   E   C   H   N   I   C   A   L             I   N   F   O   R   M   A   T   I   O  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86040" y="173844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Profile Ed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71560" y="1581120"/>
            <a:ext cx="647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per-user environment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19280" y="2749680"/>
            <a:ext cx="4137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2880" y="39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4476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39680" y="2270160"/>
            <a:ext cx="391320" cy="464040"/>
            <a:chOff x="1039680" y="2270160"/>
            <a:chExt cx="391320" cy="464040"/>
          </a:xfrm>
        </p:grpSpPr>
        <p:sp>
          <p:nvSpPr>
            <p:cNvPr id="70" name=""/>
            <p:cNvSpPr/>
            <p:nvPr/>
          </p:nvSpPr>
          <p:spPr>
            <a:xfrm>
              <a:off x="107172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95520" y="2270160"/>
            <a:ext cx="390960" cy="464040"/>
            <a:chOff x="1595520" y="2270160"/>
            <a:chExt cx="390960" cy="464040"/>
          </a:xfrm>
        </p:grpSpPr>
        <p:sp>
          <p:nvSpPr>
            <p:cNvPr id="73" name=""/>
            <p:cNvSpPr/>
            <p:nvPr/>
          </p:nvSpPr>
          <p:spPr>
            <a:xfrm>
              <a:off x="162720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52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98800" y="2249640"/>
            <a:ext cx="390960" cy="465480"/>
            <a:chOff x="2098800" y="2249640"/>
            <a:chExt cx="390960" cy="465480"/>
          </a:xfrm>
        </p:grpSpPr>
        <p:sp>
          <p:nvSpPr>
            <p:cNvPr id="76" name=""/>
            <p:cNvSpPr/>
            <p:nvPr/>
          </p:nvSpPr>
          <p:spPr>
            <a:xfrm>
              <a:off x="213048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80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4800" y="1517760"/>
            <a:ext cx="482760" cy="344520"/>
            <a:chOff x="604800" y="1517760"/>
            <a:chExt cx="482760" cy="344520"/>
          </a:xfrm>
        </p:grpSpPr>
        <p:sp>
          <p:nvSpPr>
            <p:cNvPr id="79" name=""/>
            <p:cNvSpPr/>
            <p:nvPr/>
          </p:nvSpPr>
          <p:spPr>
            <a:xfrm>
              <a:off x="64152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80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8440" y="1238400"/>
            <a:ext cx="482760" cy="342720"/>
            <a:chOff x="1468440" y="1238400"/>
            <a:chExt cx="482760" cy="342720"/>
          </a:xfrm>
        </p:grpSpPr>
        <p:sp>
          <p:nvSpPr>
            <p:cNvPr id="82" name=""/>
            <p:cNvSpPr/>
            <p:nvPr/>
          </p:nvSpPr>
          <p:spPr>
            <a:xfrm>
              <a:off x="1503360" y="127620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8440" y="123840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2760" y="1565280"/>
            <a:ext cx="482760" cy="344520"/>
            <a:chOff x="2282760" y="1565280"/>
            <a:chExt cx="482760" cy="344520"/>
          </a:xfrm>
        </p:grpSpPr>
        <p:sp>
          <p:nvSpPr>
            <p:cNvPr id="85" name=""/>
            <p:cNvSpPr/>
            <p:nvPr/>
          </p:nvSpPr>
          <p:spPr>
            <a:xfrm>
              <a:off x="231768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276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5452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200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49840" y="2212920"/>
            <a:ext cx="390960" cy="464040"/>
            <a:chOff x="5649840" y="221292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568152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205680" y="2212920"/>
            <a:ext cx="390960" cy="464040"/>
            <a:chOff x="6205680" y="221292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623736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568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08600" y="2192400"/>
            <a:ext cx="391320" cy="465480"/>
            <a:chOff x="6708600" y="2192400"/>
            <a:chExt cx="391320" cy="465480"/>
          </a:xfrm>
        </p:grpSpPr>
        <p:sp>
          <p:nvSpPr>
            <p:cNvPr id="96" name=""/>
            <p:cNvSpPr/>
            <p:nvPr/>
          </p:nvSpPr>
          <p:spPr>
            <a:xfrm>
              <a:off x="674064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860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0360" y="1574640"/>
            <a:ext cx="482400" cy="344880"/>
            <a:chOff x="5310360" y="1574640"/>
            <a:chExt cx="482400" cy="344880"/>
          </a:xfrm>
        </p:grpSpPr>
        <p:sp>
          <p:nvSpPr>
            <p:cNvPr id="99" name=""/>
            <p:cNvSpPr/>
            <p:nvPr/>
          </p:nvSpPr>
          <p:spPr>
            <a:xfrm>
              <a:off x="534672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036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16760" y="1238400"/>
            <a:ext cx="482760" cy="342720"/>
            <a:chOff x="6116760" y="1238400"/>
            <a:chExt cx="482760" cy="342720"/>
          </a:xfrm>
        </p:grpSpPr>
        <p:sp>
          <p:nvSpPr>
            <p:cNvPr id="102" name=""/>
            <p:cNvSpPr/>
            <p:nvPr/>
          </p:nvSpPr>
          <p:spPr>
            <a:xfrm>
              <a:off x="6151680" y="127620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123840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50160" y="1469880"/>
            <a:ext cx="482760" cy="344880"/>
            <a:chOff x="6950160" y="1469880"/>
            <a:chExt cx="482760" cy="344880"/>
          </a:xfrm>
        </p:grpSpPr>
        <p:sp>
          <p:nvSpPr>
            <p:cNvPr id="105" name=""/>
            <p:cNvSpPr/>
            <p:nvPr/>
          </p:nvSpPr>
          <p:spPr>
            <a:xfrm>
              <a:off x="698508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19264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6756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nitor and control network serve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9600" y="179064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delete connections to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nd stop services on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irectory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 othe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99400" y="5470560"/>
            <a:ext cx="1233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2400" y="5586480"/>
            <a:ext cx="985680" cy="895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08160" y="228600"/>
            <a:ext cx="6729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790640"/>
            <a:ext cx="74692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 of system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” to notify on aler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going performanc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“remot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839000" y="5643720"/>
            <a:ext cx="843120" cy="782640"/>
            <a:chOff x="7839000" y="5643720"/>
            <a:chExt cx="843120" cy="782640"/>
          </a:xfrm>
        </p:grpSpPr>
        <p:sp>
          <p:nvSpPr>
            <p:cNvPr id="116" name=""/>
            <p:cNvSpPr/>
            <p:nvPr/>
          </p:nvSpPr>
          <p:spPr>
            <a:xfrm>
              <a:off x="7940520" y="6354720"/>
              <a:ext cx="623880" cy="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5840" y="6254640"/>
              <a:ext cx="643320" cy="157680"/>
            </a:xfrm>
            <a:custGeom>
              <a:avLst/>
              <a:gdLst/>
              <a:ahLst/>
              <a:rect l="0" t="0" r="r" b="b"/>
              <a:pathLst>
                <a:path w="1787" h="438">
                  <a:moveTo>
                    <a:pt x="0" y="438"/>
                  </a:moveTo>
                  <a:lnTo>
                    <a:pt x="1787" y="438"/>
                  </a:lnTo>
                  <a:lnTo>
                    <a:pt x="1787" y="345"/>
                  </a:lnTo>
                  <a:lnTo>
                    <a:pt x="1284" y="345"/>
                  </a:lnTo>
                  <a:lnTo>
                    <a:pt x="1284" y="0"/>
                  </a:lnTo>
                  <a:lnTo>
                    <a:pt x="343" y="39"/>
                  </a:lnTo>
                  <a:lnTo>
                    <a:pt x="343" y="332"/>
                  </a:lnTo>
                  <a:lnTo>
                    <a:pt x="0" y="332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cecece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320" y="6235560"/>
              <a:ext cx="538560" cy="190800"/>
            </a:xfrm>
            <a:custGeom>
              <a:avLst/>
              <a:gdLst/>
              <a:ahLst/>
              <a:rect l="0" t="0" r="r" b="b"/>
              <a:pathLst>
                <a:path w="1496" h="530">
                  <a:moveTo>
                    <a:pt x="0" y="0"/>
                  </a:moveTo>
                  <a:lnTo>
                    <a:pt x="1085" y="13"/>
                  </a:lnTo>
                  <a:lnTo>
                    <a:pt x="1085" y="211"/>
                  </a:lnTo>
                  <a:lnTo>
                    <a:pt x="993" y="211"/>
                  </a:lnTo>
                  <a:lnTo>
                    <a:pt x="993" y="358"/>
                  </a:lnTo>
                  <a:lnTo>
                    <a:pt x="1496" y="358"/>
                  </a:lnTo>
                  <a:lnTo>
                    <a:pt x="1496" y="530"/>
                  </a:lnTo>
                  <a:lnTo>
                    <a:pt x="609" y="530"/>
                  </a:lnTo>
                  <a:lnTo>
                    <a:pt x="609" y="3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768" y="292"/>
                  </a:lnTo>
                  <a:lnTo>
                    <a:pt x="768" y="224"/>
                  </a:lnTo>
                  <a:lnTo>
                    <a:pt x="0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9000" y="5643720"/>
              <a:ext cx="843120" cy="64296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9880" y="5668920"/>
              <a:ext cx="800280" cy="600120"/>
            </a:xfrm>
            <a:prstGeom prst="roundRect">
              <a:avLst/>
            </a:prstGeom>
            <a:noFill/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78600" y="5694480"/>
              <a:ext cx="762120" cy="539640"/>
            </a:xfrm>
            <a:prstGeom prst="roundRect">
              <a:avLst/>
            </a:prstGeom>
            <a:solidFill>
              <a:srgbClr val="3365fb"/>
            </a:solidFill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2720" y="5711760"/>
              <a:ext cx="714240" cy="504720"/>
            </a:xfrm>
            <a:prstGeom prst="roundRect">
              <a:avLst/>
            </a:prstGeom>
            <a:blipFill rotWithShape="0">
              <a:blip r:embed="rId1"/>
              <a:tile tx="0" ty="0" sx="133018" sy="133018" algn="ctr"/>
            </a:blipFill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1160" y="5802480"/>
              <a:ext cx="652680" cy="324360"/>
            </a:xfrm>
            <a:custGeom>
              <a:avLst/>
              <a:gdLst/>
              <a:ahLst/>
              <a:rect l="0" t="0" r="r" b="b"/>
              <a:pathLst>
                <a:path fill="none" w="1813" h="901">
                  <a:moveTo>
                    <a:pt x="0" y="305"/>
                  </a:moveTo>
                  <a:lnTo>
                    <a:pt x="185" y="397"/>
                  </a:lnTo>
                  <a:lnTo>
                    <a:pt x="449" y="66"/>
                  </a:lnTo>
                  <a:lnTo>
                    <a:pt x="714" y="901"/>
                  </a:lnTo>
                  <a:lnTo>
                    <a:pt x="1032" y="0"/>
                  </a:lnTo>
                  <a:lnTo>
                    <a:pt x="1218" y="543"/>
                  </a:lnTo>
                  <a:lnTo>
                    <a:pt x="1522" y="158"/>
                  </a:lnTo>
                  <a:lnTo>
                    <a:pt x="1813" y="450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26280" y="5735520"/>
              <a:ext cx="0" cy="457200"/>
            </a:xfrm>
            <a:prstGeom prst="line">
              <a:avLst/>
            </a:prstGeom>
            <a:ln w="2556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78720" y="6240600"/>
              <a:ext cx="71280" cy="3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87400" y="228600"/>
            <a:ext cx="737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Panel App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73240" y="1314360"/>
            <a:ext cx="6799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’s connected to what re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/Paus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and startup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perating system to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ttings (VMM, proce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21600" y="5900760"/>
            <a:ext cx="920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5200" y="304920"/>
            <a:ext cx="8515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Control Panel Applet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ation of computer network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7360" y="2209680"/>
            <a:ext cx="7829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network 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mputer name and specify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64600" y="5343480"/>
            <a:ext cx="1352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71760" y="268200"/>
            <a:ext cx="600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bust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623960"/>
            <a:ext cx="7550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bac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Manager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GUI+FDISK+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n Sets (a.k.a. Volume 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y Drive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nterrupted Power Supply (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8360" y="2090880"/>
            <a:ext cx="507960" cy="5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5240" y="618336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99000" y="1581120"/>
            <a:ext cx="5223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47040" y="5357880"/>
            <a:ext cx="522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6560" y="1620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tup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95480" y="1733400"/>
            <a:ext cx="69534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system configuration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 new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SCSI disk drives and tape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Windows N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 system with the repair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0240" y="1790640"/>
            <a:ext cx="6743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very similar to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 and new tools to manage increased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dmin tools are remo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ools have a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23920" y="1584360"/>
            <a:ext cx="6896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0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dministration Tools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You Will Lea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09640" y="1828800"/>
            <a:ext cx="7524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istratio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 Admi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84240" y="231840"/>
            <a:ext cx="5376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6720" y="1362240"/>
            <a:ext cx="7270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hell functionality the sam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Control Panel, Acces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r, Print Manager, Server Manager, Event Viewer, Control Panel Applets, Performance monitor, Backup, User Mana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She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1280" y="5595840"/>
            <a:ext cx="1036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1720" y="231840"/>
            <a:ext cx="7540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1440" y="1638360"/>
            <a:ext cx="86011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beyond Microsoft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with integrated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shared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provider brow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long and 8.3 file nam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2824200"/>
            <a:ext cx="7245360" cy="3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13600" y="5500800"/>
            <a:ext cx="6681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79600" y="371520"/>
            <a:ext cx="8099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int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560" y="1562040"/>
            <a:ext cx="81025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I features beyond Windows 3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shows entire network que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browser shows all printers on th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Viewers” enable remote administr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setup only required for locally connected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anager manages net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5120" y="2655720"/>
            <a:ext cx="7466040" cy="33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97760" y="5811840"/>
            <a:ext cx="825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228600"/>
            <a:ext cx="70102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and control event servic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905120"/>
            <a:ext cx="68580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acility for logging events by system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(3) log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, Security,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able view of event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event logs as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s logs on any server or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64560" y="5510160"/>
            <a:ext cx="93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28600"/>
            <a:ext cx="864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581120"/>
            <a:ext cx="71629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ct as a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ault-tolera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/Duplex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”, full-featured versions of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2556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“User-level” secur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4840" y="1828800"/>
            <a:ext cx="69343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users an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, modif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, account policy, 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 other domain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27840" y="5516640"/>
            <a:ext cx="11048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