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nimation in Wind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1103400" y="4108320"/>
            <a:ext cx="6735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veloper Networ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: nigelt@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userve: &gt;INTERNET:nigelt@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773440" y="2455920"/>
            <a:ext cx="3397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igel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ndering Spri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2160" y="17334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 the dirt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the 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 each sprite from the back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z-order to the fro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the scr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Initial St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21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086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he T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216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85920" y="824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tep 1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Copy Backgrou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216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859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tep 2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nder Back Spr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216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59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tep 3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nder Front Spr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216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592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tep 4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Update Scre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216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Final St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216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62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2160" y="17334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device-independent bitmaps (DIB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age rendering done directly to memory (no GDI ca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GDI (device driver level) call updates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ed as a set of C++ classes based on M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MFC Derived Clas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0160" y="1751040"/>
            <a:ext cx="728352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nimation in Window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216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C++ implementation of sprites based on the Microsoft Foundation Classes (MFC) to create fast character-based animation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tes are irregular shaped pictures that can be 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960" y="1239840"/>
            <a:ext cx="81853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ata Struc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66960" y="1363680"/>
            <a:ext cx="73152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5920" y="3952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ocument/View Commun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84400" y="2108160"/>
            <a:ext cx="6840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Z-Order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2160" y="17334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tes kept in z-ordered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sprites inserted in front of other sprites with same z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prite z value changes, it is repositioned in the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aints walk the list from back to front rendering the spr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Z-Order Manageme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4440" y="1701720"/>
            <a:ext cx="694692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irty Region Calc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2160" y="1733400"/>
            <a:ext cx="716292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code execution time is small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d to blt setup and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e GDI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ge overlapping dirty region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ewer b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irty Region Mer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4720" y="2038320"/>
            <a:ext cx="61167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5920" y="5396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Updating the Screen from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he Rendering Buff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90640" y="24336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 palette into D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ute rectangle to co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StretchDIBits with DIB_PAL_COL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elect old palet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5920" y="5396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tretchDIBits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(DIB_PAL_COLOR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77880" y="2502000"/>
            <a:ext cx="57880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5920" y="42552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tretchDIBits</a:t>
            </a:r>
            <a:br>
              <a:rPr sz="4800"/>
            </a:b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(DIB_PAL_COLOR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760" y="2071800"/>
            <a:ext cx="85186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quir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2160" y="17334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ful, detailed background im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rful, irregular-shaped spr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mage 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, flicker-free scree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able across all Windows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to c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 16 StretchDIB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982960" y="1825560"/>
            <a:ext cx="297828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5920" y="3826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indows NT 1.0 StretchDIB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55760" y="1830240"/>
            <a:ext cx="6507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5920" y="41112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Daytona/Chicago CreateDIBS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0160" y="1838160"/>
            <a:ext cx="66754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let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5680" y="1906560"/>
            <a:ext cx="608472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let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2160" y="173340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anages the physical pa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s create and use logical pal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cal palette is mapped to physical palette by GDI (palette mana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ve application gets first choice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ly, you get what you ask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let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53960" y="2720880"/>
            <a:ext cx="65419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lettes - One Size Fits 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2160" y="1733400"/>
            <a:ext cx="716292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DIB has its own color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ld create a palette for each D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rrible problems with sharing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 DIBs with a common pa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a common palette simplifies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Creating a Palette from a DI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2160" y="173340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cate memory for a LOGPALETTE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DIB color t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CreatePa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 LOGPALETT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 to be an identity pa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Creating an Identity Palet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2160" y="173340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Palette into a memory 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izePalette - map to 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ystemPaletteEntries - get system pa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PaletteEntries - update logical pa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 DIB bits to new palette ind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DIB color table to reflect new color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Palet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216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Ron Gery's articles in t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ty palette radically improves performance on Win16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 not on Windows NT 1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s with Daytona and Chic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85920" y="38268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You Can't Do That With Window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49480" y="2476440"/>
            <a:ext cx="71629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is too s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 won't let me at the video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is hard to code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ant to use a high-level language, not assemb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Chicago, Daytona and Beyo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2160" y="1733400"/>
            <a:ext cx="71629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DIBSection radically improve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apps are portable to Windows NT, Chicago, Windows 3.1 (under Win32s), and even the Macinto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implementation means OLE comes for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5920" y="3054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Questions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85920" y="41112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NOT !!!!!!!!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2160" y="173340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is fast, device-independent, and getiing faster with every rel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don't need direct hardware access - you can get the performance you need with Windows API c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pplications with Microsoft Visual C++ and the Microsoft Foundation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See for Your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70160" y="3027240"/>
            <a:ext cx="2608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 Ti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What You Just Sa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90640" y="173340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imation written in C++ using a set of classes that implement a sprit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ning on Windows NT (Daytona B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EXE runs on Windows NT, Chicago, and on Windows 3.1x under Win32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Topics To Be Cove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2160" y="1733400"/>
            <a:ext cx="716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te z-ord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ty reg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screen updates with StretchDI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le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71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e2b400"/>
                </a:solidFill>
                <a:latin typeface="Times New Roman"/>
                <a:ea typeface="Times New Roman"/>
              </a:rPr>
              <a:t>Rendering - What You Ne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2160" y="1733400"/>
            <a:ext cx="716292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ground image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ite imag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ndering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e2b4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ay to copy the rendering buffer to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